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5.png" ContentType="image/png"/>
  <Override PartName="/ppt/media/image6.gif" ContentType="image/gif"/>
  <Override PartName="/ppt/media/image7.png" ContentType="image/png"/>
  <Override PartName="/ppt/media/image9.png" ContentType="image/png"/>
  <Override PartName="/ppt/media/image10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24E4-8BD8-4EBF-88CE-A49975F98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328A-EE27-4D0D-9FEB-EF4EEFB7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5AAC-BA30-4CB3-AC00-95D85FED3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17A8-AB50-440B-880A-BE4025CBA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A2BC-E86F-424E-ADB7-BA004EB0B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1713-D4DE-4F9F-8146-C10575428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B278-BE00-45FC-BF91-E71062B10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2007-92BB-46EC-8425-A2DD231EF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451C-991B-4947-BBBA-A73F17D5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2DC1-2A47-4CE6-84FF-EDE23D11B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F9B-9DB2-4BA9-AF59-55FD75BF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AFBE-F6C8-40B8-991B-4981FC03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6159-498C-4C48-BD18-EB16ED261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4200" y="3200400"/>
            <a:ext cx="836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1000" spc="-1" strike="noStrike">
                <a:solidFill>
                  <a:srgbClr val="ff0066"/>
                </a:solidFill>
                <a:latin typeface="Times New Roman"/>
                <a:ea typeface="华文彩云"/>
              </a:rPr>
              <a:t>角  的  度  量</a:t>
            </a:r>
            <a:endParaRPr b="0" lang="en-US" sz="1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895400" y="2141640"/>
            <a:ext cx="546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Times New Roman"/>
              </a:rPr>
              <a:t>苏教版四年级数学上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23880" y="267012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638520" y="2465280"/>
            <a:ext cx="3340080" cy="3417840"/>
          </a:xfrm>
          <a:custGeom>
            <a:avLst/>
            <a:gdLst/>
            <a:ahLst/>
            <a:rect l="l" t="t" r="r" b="b"/>
            <a:pathLst>
              <a:path w="2104" h="2153">
                <a:moveTo>
                  <a:pt x="350" y="0"/>
                </a:moveTo>
                <a:lnTo>
                  <a:pt x="0" y="2153"/>
                </a:lnTo>
                <a:lnTo>
                  <a:pt x="2104" y="2153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“      ”或“      ”表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7529400" y="1324080"/>
            <a:ext cx="1121040" cy="9493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371840" y="1193760"/>
            <a:ext cx="252432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角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695760" y="5505480"/>
            <a:ext cx="352440" cy="390600"/>
          </a:xfrm>
          <a:custGeom>
            <a:avLst/>
            <a:gdLst/>
            <a:ahLst/>
            <a:rect l="l" t="t" r="r" b="b"/>
            <a:pathLst>
              <a:path w="222" h="246">
                <a:moveTo>
                  <a:pt x="0" y="0"/>
                </a:moveTo>
                <a:cubicBezTo>
                  <a:pt x="46" y="5"/>
                  <a:pt x="62" y="1"/>
                  <a:pt x="96" y="24"/>
                </a:cubicBezTo>
                <a:cubicBezTo>
                  <a:pt x="118" y="57"/>
                  <a:pt x="95" y="31"/>
                  <a:pt x="126" y="48"/>
                </a:cubicBezTo>
                <a:cubicBezTo>
                  <a:pt x="139" y="55"/>
                  <a:pt x="162" y="72"/>
                  <a:pt x="162" y="72"/>
                </a:cubicBezTo>
                <a:cubicBezTo>
                  <a:pt x="169" y="92"/>
                  <a:pt x="185" y="106"/>
                  <a:pt x="192" y="126"/>
                </a:cubicBezTo>
                <a:cubicBezTo>
                  <a:pt x="205" y="165"/>
                  <a:pt x="222" y="204"/>
                  <a:pt x="222" y="24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“      ”或“      ”表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43080" y="111924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76120" y="1092240"/>
            <a:ext cx="3081600" cy="3060720"/>
          </a:xfrm>
          <a:custGeom>
            <a:avLst/>
            <a:gdLst/>
            <a:ahLst/>
            <a:rect l="l" t="t" r="r" b="b"/>
            <a:pathLst>
              <a:path w="1941" h="1928">
                <a:moveTo>
                  <a:pt x="0" y="1928"/>
                </a:moveTo>
                <a:lnTo>
                  <a:pt x="1941" y="1916"/>
                </a:lnTo>
                <a:lnTo>
                  <a:pt x="1215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70480" y="459252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角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962440" y="3753000"/>
            <a:ext cx="247320" cy="390240"/>
          </a:xfrm>
          <a:custGeom>
            <a:avLst/>
            <a:gdLst/>
            <a:ahLst/>
            <a:rect l="l" t="t" r="r" b="b"/>
            <a:pathLst>
              <a:path w="156" h="246">
                <a:moveTo>
                  <a:pt x="156" y="0"/>
                </a:moveTo>
                <a:cubicBezTo>
                  <a:pt x="123" y="22"/>
                  <a:pt x="99" y="50"/>
                  <a:pt x="66" y="72"/>
                </a:cubicBezTo>
                <a:cubicBezTo>
                  <a:pt x="31" y="125"/>
                  <a:pt x="0" y="181"/>
                  <a:pt x="0" y="24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243920" y="4929120"/>
            <a:ext cx="1900080" cy="1928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96880" y="338040"/>
            <a:ext cx="735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判断（请用手势“      ”或“      ”表示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38440" y="417600"/>
            <a:ext cx="676440" cy="338040"/>
          </a:xfrm>
          <a:custGeom>
            <a:avLst/>
            <a:gdLst/>
            <a:ahLst/>
            <a:rect l="l" t="t" r="r" b="b"/>
            <a:pathLst>
              <a:path w="426" h="213">
                <a:moveTo>
                  <a:pt x="0" y="25"/>
                </a:moveTo>
                <a:lnTo>
                  <a:pt x="100" y="213"/>
                </a:lnTo>
                <a:lnTo>
                  <a:pt x="426" y="0"/>
                </a:lnTo>
              </a:path>
            </a:pathLst>
          </a:custGeom>
          <a:noFill/>
          <a:ln w="316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88120" y="438120"/>
            <a:ext cx="398160" cy="39708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5385960" y="477720"/>
            <a:ext cx="376200" cy="378000"/>
          </a:xfrm>
          <a:prstGeom prst="line">
            <a:avLst/>
          </a:prstGeom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641520" y="117936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657600" y="1947960"/>
            <a:ext cx="3121200" cy="2227320"/>
          </a:xfrm>
          <a:custGeom>
            <a:avLst/>
            <a:gdLst/>
            <a:ahLst/>
            <a:rect l="l" t="t" r="r" b="b"/>
            <a:pathLst>
              <a:path w="1966" h="1403">
                <a:moveTo>
                  <a:pt x="1966" y="1403"/>
                </a:moveTo>
                <a:lnTo>
                  <a:pt x="0" y="1403"/>
                </a:lnTo>
                <a:lnTo>
                  <a:pt x="1653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267680" y="5284800"/>
            <a:ext cx="1485720" cy="12571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4729320" y="4751280"/>
            <a:ext cx="2523960" cy="519120"/>
          </a:xfrm>
          <a:prstGeom prst="wedgeRoundRectCallout">
            <a:avLst>
              <a:gd name="adj1" fmla="val 54652"/>
              <a:gd name="adj2" fmla="val 97708"/>
              <a:gd name="adj3" fmla="val 16667"/>
            </a:avLst>
          </a:prstGeom>
          <a:noFill/>
          <a:ln w="255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角是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010040" y="3886200"/>
            <a:ext cx="114120" cy="295200"/>
          </a:xfrm>
          <a:custGeom>
            <a:avLst/>
            <a:gdLst/>
            <a:ahLst/>
            <a:rect l="l" t="t" r="r" b="b"/>
            <a:pathLst>
              <a:path w="72" h="186">
                <a:moveTo>
                  <a:pt x="0" y="0"/>
                </a:moveTo>
                <a:cubicBezTo>
                  <a:pt x="39" y="26"/>
                  <a:pt x="59" y="86"/>
                  <a:pt x="66" y="132"/>
                </a:cubicBezTo>
                <a:cubicBezTo>
                  <a:pt x="69" y="150"/>
                  <a:pt x="72" y="186"/>
                  <a:pt x="72" y="18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77720" y="398520"/>
            <a:ext cx="27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猜一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77720" y="1192320"/>
            <a:ext cx="81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能猜出这几个角的度数吗？并说明原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03200" y="1893960"/>
            <a:ext cx="5408640" cy="3425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100160" y="3919680"/>
            <a:ext cx="2047680" cy="971280"/>
          </a:xfrm>
          <a:custGeom>
            <a:avLst/>
            <a:gdLst/>
            <a:ahLst/>
            <a:rect l="l" t="t" r="r" b="b"/>
            <a:pathLst>
              <a:path w="1290" h="612">
                <a:moveTo>
                  <a:pt x="216" y="0"/>
                </a:moveTo>
                <a:lnTo>
                  <a:pt x="1290" y="612"/>
                </a:lnTo>
                <a:lnTo>
                  <a:pt x="0" y="60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90640" y="4662360"/>
            <a:ext cx="76320" cy="228600"/>
          </a:xfrm>
          <a:custGeom>
            <a:avLst/>
            <a:gdLst/>
            <a:ahLst/>
            <a:rect l="l" t="t" r="r" b="b"/>
            <a:pathLst>
              <a:path w="48" h="144">
                <a:moveTo>
                  <a:pt x="48" y="0"/>
                </a:moveTo>
                <a:cubicBezTo>
                  <a:pt x="19" y="44"/>
                  <a:pt x="0" y="91"/>
                  <a:pt x="0" y="144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54080" y="3836880"/>
            <a:ext cx="2390760" cy="1409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409760" y="1925640"/>
            <a:ext cx="5945040" cy="328788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383000" y="2714760"/>
            <a:ext cx="866880" cy="2047680"/>
          </a:xfrm>
          <a:custGeom>
            <a:avLst/>
            <a:gdLst/>
            <a:ahLst/>
            <a:rect l="l" t="t" r="r" b="b"/>
            <a:pathLst>
              <a:path w="546" h="1290">
                <a:moveTo>
                  <a:pt x="546" y="1284"/>
                </a:moveTo>
                <a:lnTo>
                  <a:pt x="0" y="1290"/>
                </a:lnTo>
                <a:lnTo>
                  <a:pt x="468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5240" y="4389480"/>
            <a:ext cx="209520" cy="361800"/>
          </a:xfrm>
          <a:custGeom>
            <a:avLst/>
            <a:gdLst/>
            <a:ahLst/>
            <a:rect l="l" t="t" r="r" b="b"/>
            <a:pathLst>
              <a:path w="132" h="228">
                <a:moveTo>
                  <a:pt x="0" y="0"/>
                </a:moveTo>
                <a:cubicBezTo>
                  <a:pt x="18" y="12"/>
                  <a:pt x="36" y="18"/>
                  <a:pt x="54" y="30"/>
                </a:cubicBezTo>
                <a:cubicBezTo>
                  <a:pt x="86" y="78"/>
                  <a:pt x="44" y="20"/>
                  <a:pt x="84" y="60"/>
                </a:cubicBezTo>
                <a:cubicBezTo>
                  <a:pt x="101" y="77"/>
                  <a:pt x="92" y="76"/>
                  <a:pt x="102" y="96"/>
                </a:cubicBezTo>
                <a:cubicBezTo>
                  <a:pt x="126" y="144"/>
                  <a:pt x="132" y="173"/>
                  <a:pt x="132" y="228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33840" y="3967200"/>
            <a:ext cx="2390760" cy="14097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课堂作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21337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画几个三角形，量出每个角的度数，算一算三个内角的和是多少？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通过操作、交流等活动，激发认识角的测量和计量单位的愿望，进而认识量角器和角的计量单位，学会用量角器量指定的角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初步感受三角形的内角和是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1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知道角的大小与边的长短无关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培养观察、比较能力以及动手操作能力，能积极地参与学习活动，获得愉快的情感体验。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度量工具——量角器的构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量角器中心的一点是量角器的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中心点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量角器上有两圈刻度，外圈刻度从左往右按顺时针方向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18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内圈刻度从右往左按逆时针方向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18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°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认识计量角的单位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755640" y="2421000"/>
            <a:ext cx="7488360" cy="124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“</a:t>
            </a: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度”是计量角的单位，用符号“。”表示。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464184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在量角器上观察，</a:t>
            </a:r>
            <a:r>
              <a:rPr b="1" lang="en-US" sz="4800" spc="-1" strike="noStrike">
                <a:solidFill>
                  <a:srgbClr val="006600"/>
                </a:solidFill>
                <a:latin typeface="Times New Roman"/>
              </a:rPr>
              <a:t>1°</a:t>
            </a:r>
            <a:r>
              <a:rPr b="1" lang="zh-CN" sz="4800" spc="-1" strike="noStrike">
                <a:solidFill>
                  <a:srgbClr val="006600"/>
                </a:solidFill>
                <a:latin typeface="Times New Roman"/>
              </a:rPr>
              <a:t>有多大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457200"/>
            <a:ext cx="7372440" cy="4226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29160" y="409428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97280" y="4113360"/>
            <a:ext cx="3338640" cy="0"/>
          </a:xfrm>
          <a:prstGeom prst="line">
            <a:avLst/>
          </a:prstGeom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98640" y="4038480"/>
            <a:ext cx="3321000" cy="77760"/>
          </a:xfrm>
          <a:prstGeom prst="line">
            <a:avLst/>
          </a:prstGeom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37360" y="2405160"/>
            <a:ext cx="2006640" cy="1093680"/>
          </a:xfrm>
          <a:prstGeom prst="cloudCallout">
            <a:avLst>
              <a:gd name="adj1" fmla="val -46439"/>
              <a:gd name="adj2" fmla="val 96736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度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3200" y="4908600"/>
            <a:ext cx="82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半圆分成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8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份，每一份所对的角叫做</a:t>
            </a:r>
            <a:r>
              <a:rPr b="0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记作 “    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695680" y="5407200"/>
            <a:ext cx="14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1  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  <a:ea typeface="黑体"/>
              </a:rPr>
              <a:t>度 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24560" y="548640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1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8678880" y="6392880"/>
            <a:ext cx="465120" cy="46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865080" y="1131840"/>
            <a:ext cx="7683480" cy="4410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672080" y="495000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4930920"/>
            <a:ext cx="117360" cy="1458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59480" y="4948200"/>
            <a:ext cx="117360" cy="108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82960" y="4964040"/>
            <a:ext cx="2590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780080" y="4965840"/>
            <a:ext cx="2570040" cy="1440"/>
          </a:xfrm>
          <a:prstGeom prst="line">
            <a:avLst/>
          </a:prstGeom>
          <a:ln w="47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94120" y="4978440"/>
            <a:ext cx="2610000" cy="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4959360"/>
            <a:ext cx="2887920" cy="144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60560" y="2270160"/>
            <a:ext cx="5464080" cy="2657520"/>
          </a:xfrm>
          <a:custGeom>
            <a:avLst/>
            <a:gdLst/>
            <a:ahLst/>
            <a:rect l="l" t="t" r="r" b="b"/>
            <a:pathLst>
              <a:path w="2178" h="1098">
                <a:moveTo>
                  <a:pt x="0" y="1098"/>
                </a:moveTo>
                <a:cubicBezTo>
                  <a:pt x="2" y="1028"/>
                  <a:pt x="1" y="958"/>
                  <a:pt x="6" y="888"/>
                </a:cubicBezTo>
                <a:cubicBezTo>
                  <a:pt x="7" y="875"/>
                  <a:pt x="16" y="864"/>
                  <a:pt x="18" y="852"/>
                </a:cubicBezTo>
                <a:cubicBezTo>
                  <a:pt x="27" y="798"/>
                  <a:pt x="44" y="751"/>
                  <a:pt x="66" y="702"/>
                </a:cubicBezTo>
                <a:cubicBezTo>
                  <a:pt x="84" y="662"/>
                  <a:pt x="94" y="617"/>
                  <a:pt x="108" y="576"/>
                </a:cubicBezTo>
                <a:cubicBezTo>
                  <a:pt x="108" y="576"/>
                  <a:pt x="138" y="531"/>
                  <a:pt x="144" y="522"/>
                </a:cubicBezTo>
                <a:cubicBezTo>
                  <a:pt x="162" y="496"/>
                  <a:pt x="179" y="455"/>
                  <a:pt x="204" y="438"/>
                </a:cubicBezTo>
                <a:cubicBezTo>
                  <a:pt x="219" y="393"/>
                  <a:pt x="197" y="447"/>
                  <a:pt x="228" y="408"/>
                </a:cubicBezTo>
                <a:cubicBezTo>
                  <a:pt x="248" y="384"/>
                  <a:pt x="237" y="361"/>
                  <a:pt x="276" y="348"/>
                </a:cubicBezTo>
                <a:cubicBezTo>
                  <a:pt x="304" y="306"/>
                  <a:pt x="348" y="280"/>
                  <a:pt x="390" y="252"/>
                </a:cubicBezTo>
                <a:cubicBezTo>
                  <a:pt x="402" y="244"/>
                  <a:pt x="414" y="236"/>
                  <a:pt x="426" y="228"/>
                </a:cubicBezTo>
                <a:cubicBezTo>
                  <a:pt x="432" y="224"/>
                  <a:pt x="444" y="216"/>
                  <a:pt x="444" y="216"/>
                </a:cubicBezTo>
                <a:cubicBezTo>
                  <a:pt x="458" y="194"/>
                  <a:pt x="471" y="194"/>
                  <a:pt x="492" y="180"/>
                </a:cubicBezTo>
                <a:cubicBezTo>
                  <a:pt x="509" y="155"/>
                  <a:pt x="532" y="152"/>
                  <a:pt x="558" y="138"/>
                </a:cubicBezTo>
                <a:cubicBezTo>
                  <a:pt x="596" y="117"/>
                  <a:pt x="608" y="103"/>
                  <a:pt x="648" y="90"/>
                </a:cubicBezTo>
                <a:cubicBezTo>
                  <a:pt x="714" y="68"/>
                  <a:pt x="779" y="40"/>
                  <a:pt x="846" y="18"/>
                </a:cubicBezTo>
                <a:cubicBezTo>
                  <a:pt x="880" y="7"/>
                  <a:pt x="989" y="3"/>
                  <a:pt x="1026" y="0"/>
                </a:cubicBezTo>
                <a:cubicBezTo>
                  <a:pt x="1126" y="6"/>
                  <a:pt x="1226" y="13"/>
                  <a:pt x="1326" y="24"/>
                </a:cubicBezTo>
                <a:cubicBezTo>
                  <a:pt x="1373" y="36"/>
                  <a:pt x="1415" y="53"/>
                  <a:pt x="1458" y="72"/>
                </a:cubicBezTo>
                <a:cubicBezTo>
                  <a:pt x="1512" y="96"/>
                  <a:pt x="1567" y="112"/>
                  <a:pt x="1620" y="138"/>
                </a:cubicBezTo>
                <a:cubicBezTo>
                  <a:pt x="1644" y="150"/>
                  <a:pt x="1669" y="161"/>
                  <a:pt x="1692" y="174"/>
                </a:cubicBezTo>
                <a:cubicBezTo>
                  <a:pt x="1705" y="181"/>
                  <a:pt x="1716" y="190"/>
                  <a:pt x="1728" y="198"/>
                </a:cubicBezTo>
                <a:cubicBezTo>
                  <a:pt x="1734" y="202"/>
                  <a:pt x="1746" y="210"/>
                  <a:pt x="1746" y="210"/>
                </a:cubicBezTo>
                <a:cubicBezTo>
                  <a:pt x="1750" y="216"/>
                  <a:pt x="1752" y="223"/>
                  <a:pt x="1758" y="228"/>
                </a:cubicBezTo>
                <a:cubicBezTo>
                  <a:pt x="1763" y="232"/>
                  <a:pt x="1772" y="230"/>
                  <a:pt x="1776" y="234"/>
                </a:cubicBezTo>
                <a:cubicBezTo>
                  <a:pt x="1808" y="266"/>
                  <a:pt x="1752" y="242"/>
                  <a:pt x="1800" y="258"/>
                </a:cubicBezTo>
                <a:cubicBezTo>
                  <a:pt x="1834" y="310"/>
                  <a:pt x="1789" y="249"/>
                  <a:pt x="1830" y="282"/>
                </a:cubicBezTo>
                <a:cubicBezTo>
                  <a:pt x="1836" y="287"/>
                  <a:pt x="1837" y="295"/>
                  <a:pt x="1842" y="300"/>
                </a:cubicBezTo>
                <a:cubicBezTo>
                  <a:pt x="1847" y="305"/>
                  <a:pt x="1854" y="308"/>
                  <a:pt x="1860" y="312"/>
                </a:cubicBezTo>
                <a:cubicBezTo>
                  <a:pt x="1876" y="360"/>
                  <a:pt x="1852" y="304"/>
                  <a:pt x="1884" y="336"/>
                </a:cubicBezTo>
                <a:cubicBezTo>
                  <a:pt x="1917" y="369"/>
                  <a:pt x="1930" y="431"/>
                  <a:pt x="1968" y="456"/>
                </a:cubicBezTo>
                <a:cubicBezTo>
                  <a:pt x="1978" y="487"/>
                  <a:pt x="2000" y="517"/>
                  <a:pt x="2016" y="546"/>
                </a:cubicBezTo>
                <a:cubicBezTo>
                  <a:pt x="2027" y="565"/>
                  <a:pt x="2045" y="579"/>
                  <a:pt x="2052" y="600"/>
                </a:cubicBezTo>
                <a:cubicBezTo>
                  <a:pt x="2068" y="648"/>
                  <a:pt x="2084" y="696"/>
                  <a:pt x="2100" y="744"/>
                </a:cubicBezTo>
                <a:cubicBezTo>
                  <a:pt x="2111" y="778"/>
                  <a:pt x="2133" y="802"/>
                  <a:pt x="2142" y="840"/>
                </a:cubicBezTo>
                <a:cubicBezTo>
                  <a:pt x="2150" y="925"/>
                  <a:pt x="2178" y="1007"/>
                  <a:pt x="2178" y="1092"/>
                </a:cubicBezTo>
              </a:path>
            </a:pathLst>
          </a:custGeom>
          <a:noFill/>
          <a:ln w="507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03520" y="1952640"/>
            <a:ext cx="6000480" cy="2968560"/>
          </a:xfrm>
          <a:custGeom>
            <a:avLst/>
            <a:gdLst/>
            <a:ahLst/>
            <a:rect l="l" t="t" r="r" b="b"/>
            <a:pathLst>
              <a:path w="2941" h="1482">
                <a:moveTo>
                  <a:pt x="0" y="1482"/>
                </a:moveTo>
                <a:cubicBezTo>
                  <a:pt x="11" y="1329"/>
                  <a:pt x="23" y="1173"/>
                  <a:pt x="72" y="1026"/>
                </a:cubicBezTo>
                <a:cubicBezTo>
                  <a:pt x="84" y="989"/>
                  <a:pt x="92" y="933"/>
                  <a:pt x="114" y="900"/>
                </a:cubicBezTo>
                <a:cubicBezTo>
                  <a:pt x="144" y="855"/>
                  <a:pt x="168" y="804"/>
                  <a:pt x="192" y="756"/>
                </a:cubicBezTo>
                <a:cubicBezTo>
                  <a:pt x="212" y="715"/>
                  <a:pt x="269" y="650"/>
                  <a:pt x="282" y="612"/>
                </a:cubicBezTo>
                <a:cubicBezTo>
                  <a:pt x="292" y="583"/>
                  <a:pt x="305" y="563"/>
                  <a:pt x="330" y="546"/>
                </a:cubicBezTo>
                <a:cubicBezTo>
                  <a:pt x="345" y="524"/>
                  <a:pt x="368" y="501"/>
                  <a:pt x="390" y="486"/>
                </a:cubicBezTo>
                <a:cubicBezTo>
                  <a:pt x="418" y="444"/>
                  <a:pt x="402" y="458"/>
                  <a:pt x="432" y="438"/>
                </a:cubicBezTo>
                <a:cubicBezTo>
                  <a:pt x="464" y="390"/>
                  <a:pt x="444" y="410"/>
                  <a:pt x="492" y="378"/>
                </a:cubicBezTo>
                <a:cubicBezTo>
                  <a:pt x="498" y="374"/>
                  <a:pt x="510" y="366"/>
                  <a:pt x="510" y="366"/>
                </a:cubicBezTo>
                <a:cubicBezTo>
                  <a:pt x="544" y="314"/>
                  <a:pt x="499" y="375"/>
                  <a:pt x="540" y="342"/>
                </a:cubicBezTo>
                <a:cubicBezTo>
                  <a:pt x="546" y="337"/>
                  <a:pt x="546" y="329"/>
                  <a:pt x="552" y="324"/>
                </a:cubicBezTo>
                <a:cubicBezTo>
                  <a:pt x="557" y="320"/>
                  <a:pt x="564" y="321"/>
                  <a:pt x="570" y="318"/>
                </a:cubicBezTo>
                <a:cubicBezTo>
                  <a:pt x="583" y="311"/>
                  <a:pt x="606" y="294"/>
                  <a:pt x="606" y="294"/>
                </a:cubicBezTo>
                <a:cubicBezTo>
                  <a:pt x="620" y="272"/>
                  <a:pt x="633" y="272"/>
                  <a:pt x="654" y="258"/>
                </a:cubicBezTo>
                <a:cubicBezTo>
                  <a:pt x="671" y="233"/>
                  <a:pt x="694" y="230"/>
                  <a:pt x="720" y="216"/>
                </a:cubicBezTo>
                <a:cubicBezTo>
                  <a:pt x="756" y="196"/>
                  <a:pt x="791" y="175"/>
                  <a:pt x="828" y="156"/>
                </a:cubicBezTo>
                <a:cubicBezTo>
                  <a:pt x="864" y="138"/>
                  <a:pt x="900" y="120"/>
                  <a:pt x="936" y="102"/>
                </a:cubicBezTo>
                <a:cubicBezTo>
                  <a:pt x="957" y="92"/>
                  <a:pt x="981" y="94"/>
                  <a:pt x="1002" y="84"/>
                </a:cubicBezTo>
                <a:cubicBezTo>
                  <a:pt x="1064" y="53"/>
                  <a:pt x="1161" y="21"/>
                  <a:pt x="1230" y="12"/>
                </a:cubicBezTo>
                <a:cubicBezTo>
                  <a:pt x="1260" y="8"/>
                  <a:pt x="1356" y="2"/>
                  <a:pt x="1380" y="0"/>
                </a:cubicBezTo>
                <a:cubicBezTo>
                  <a:pt x="1460" y="2"/>
                  <a:pt x="1540" y="2"/>
                  <a:pt x="1620" y="6"/>
                </a:cubicBezTo>
                <a:cubicBezTo>
                  <a:pt x="1712" y="10"/>
                  <a:pt x="1818" y="38"/>
                  <a:pt x="1908" y="60"/>
                </a:cubicBezTo>
                <a:cubicBezTo>
                  <a:pt x="1964" y="74"/>
                  <a:pt x="2018" y="97"/>
                  <a:pt x="2070" y="120"/>
                </a:cubicBezTo>
                <a:cubicBezTo>
                  <a:pt x="2070" y="120"/>
                  <a:pt x="2115" y="135"/>
                  <a:pt x="2124" y="138"/>
                </a:cubicBezTo>
                <a:cubicBezTo>
                  <a:pt x="2136" y="142"/>
                  <a:pt x="2160" y="150"/>
                  <a:pt x="2160" y="150"/>
                </a:cubicBezTo>
                <a:cubicBezTo>
                  <a:pt x="2179" y="178"/>
                  <a:pt x="2215" y="188"/>
                  <a:pt x="2244" y="204"/>
                </a:cubicBezTo>
                <a:cubicBezTo>
                  <a:pt x="2257" y="211"/>
                  <a:pt x="2280" y="228"/>
                  <a:pt x="2280" y="228"/>
                </a:cubicBezTo>
                <a:cubicBezTo>
                  <a:pt x="2284" y="234"/>
                  <a:pt x="2287" y="241"/>
                  <a:pt x="2292" y="246"/>
                </a:cubicBezTo>
                <a:cubicBezTo>
                  <a:pt x="2303" y="255"/>
                  <a:pt x="2328" y="270"/>
                  <a:pt x="2328" y="270"/>
                </a:cubicBezTo>
                <a:cubicBezTo>
                  <a:pt x="2350" y="303"/>
                  <a:pt x="2327" y="277"/>
                  <a:pt x="2358" y="294"/>
                </a:cubicBezTo>
                <a:cubicBezTo>
                  <a:pt x="2371" y="301"/>
                  <a:pt x="2394" y="318"/>
                  <a:pt x="2394" y="318"/>
                </a:cubicBezTo>
                <a:cubicBezTo>
                  <a:pt x="2428" y="370"/>
                  <a:pt x="2383" y="309"/>
                  <a:pt x="2424" y="342"/>
                </a:cubicBezTo>
                <a:cubicBezTo>
                  <a:pt x="2463" y="373"/>
                  <a:pt x="2409" y="351"/>
                  <a:pt x="2454" y="366"/>
                </a:cubicBezTo>
                <a:cubicBezTo>
                  <a:pt x="2469" y="388"/>
                  <a:pt x="2492" y="411"/>
                  <a:pt x="2514" y="426"/>
                </a:cubicBezTo>
                <a:cubicBezTo>
                  <a:pt x="2518" y="432"/>
                  <a:pt x="2521" y="439"/>
                  <a:pt x="2526" y="444"/>
                </a:cubicBezTo>
                <a:cubicBezTo>
                  <a:pt x="2531" y="449"/>
                  <a:pt x="2539" y="450"/>
                  <a:pt x="2544" y="456"/>
                </a:cubicBezTo>
                <a:cubicBezTo>
                  <a:pt x="2577" y="497"/>
                  <a:pt x="2516" y="452"/>
                  <a:pt x="2568" y="486"/>
                </a:cubicBezTo>
                <a:cubicBezTo>
                  <a:pt x="2582" y="527"/>
                  <a:pt x="2563" y="483"/>
                  <a:pt x="2592" y="516"/>
                </a:cubicBezTo>
                <a:cubicBezTo>
                  <a:pt x="2615" y="543"/>
                  <a:pt x="2618" y="563"/>
                  <a:pt x="2646" y="582"/>
                </a:cubicBezTo>
                <a:cubicBezTo>
                  <a:pt x="2654" y="606"/>
                  <a:pt x="2661" y="616"/>
                  <a:pt x="2682" y="630"/>
                </a:cubicBezTo>
                <a:cubicBezTo>
                  <a:pt x="2714" y="678"/>
                  <a:pt x="2743" y="733"/>
                  <a:pt x="2784" y="774"/>
                </a:cubicBezTo>
                <a:cubicBezTo>
                  <a:pt x="2795" y="806"/>
                  <a:pt x="2786" y="787"/>
                  <a:pt x="2814" y="828"/>
                </a:cubicBezTo>
                <a:cubicBezTo>
                  <a:pt x="2837" y="863"/>
                  <a:pt x="2852" y="913"/>
                  <a:pt x="2862" y="954"/>
                </a:cubicBezTo>
                <a:cubicBezTo>
                  <a:pt x="2871" y="990"/>
                  <a:pt x="2865" y="970"/>
                  <a:pt x="2880" y="1014"/>
                </a:cubicBezTo>
                <a:cubicBezTo>
                  <a:pt x="2884" y="1026"/>
                  <a:pt x="2892" y="1050"/>
                  <a:pt x="2892" y="1050"/>
                </a:cubicBezTo>
                <a:cubicBezTo>
                  <a:pt x="2904" y="1131"/>
                  <a:pt x="2891" y="1064"/>
                  <a:pt x="2904" y="1110"/>
                </a:cubicBezTo>
                <a:cubicBezTo>
                  <a:pt x="2908" y="1126"/>
                  <a:pt x="2916" y="1158"/>
                  <a:pt x="2916" y="1158"/>
                </a:cubicBezTo>
                <a:cubicBezTo>
                  <a:pt x="2920" y="1208"/>
                  <a:pt x="2928" y="1247"/>
                  <a:pt x="2934" y="1296"/>
                </a:cubicBezTo>
                <a:cubicBezTo>
                  <a:pt x="2941" y="1434"/>
                  <a:pt x="2940" y="1372"/>
                  <a:pt x="2940" y="1482"/>
                </a:cubicBezTo>
              </a:path>
            </a:pathLst>
          </a:custGeom>
          <a:noFill/>
          <a:ln w="507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46360" y="4971960"/>
            <a:ext cx="2887560" cy="1800"/>
          </a:xfrm>
          <a:prstGeom prst="line">
            <a:avLst/>
          </a:prstGeom>
          <a:ln w="442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38440" y="4965840"/>
            <a:ext cx="288756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 rot="5400000">
            <a:off x="7492680" y="4862520"/>
            <a:ext cx="114120" cy="1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0</a:t>
            </a:r>
            <a:endParaRPr b="0" lang="en-US" sz="20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73" name=""/>
          <p:cNvSpPr txBox="1"/>
          <p:nvPr/>
        </p:nvSpPr>
        <p:spPr>
          <a:xfrm rot="5400000">
            <a:off x="1488960" y="4900680"/>
            <a:ext cx="114480" cy="18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cc99"/>
                </a:solidFill>
                <a:latin typeface="宋体"/>
              </a:rPr>
              <a:t>0</a:t>
            </a:r>
            <a:endParaRPr b="0" lang="en-US" sz="2000" spc="-1" strike="noStrike">
              <a:ln w="9360">
                <a:solidFill>
                  <a:srgbClr val="00ff00"/>
                </a:solidFill>
                <a:miter/>
              </a:ln>
              <a:solidFill>
                <a:srgbClr val="00cc99"/>
              </a:solidFill>
              <a:latin typeface="宋体"/>
              <a:ea typeface="宋体"/>
            </a:endParaRPr>
          </a:p>
        </p:txBody>
      </p:sp>
      <p:sp>
        <p:nvSpPr>
          <p:cNvPr id="74" name=""/>
          <p:cNvSpPr txBox="1"/>
          <p:nvPr/>
        </p:nvSpPr>
        <p:spPr>
          <a:xfrm rot="5400000">
            <a:off x="7884720" y="4328280"/>
            <a:ext cx="49680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00cc99"/>
                </a:solidFill>
                <a:latin typeface="宋体"/>
              </a:rPr>
              <a:t>180</a:t>
            </a:r>
            <a:endParaRPr b="0" lang="en-US" sz="1200" spc="-1" strike="noStrike">
              <a:ln w="9360">
                <a:solidFill>
                  <a:srgbClr val="00ff00"/>
                </a:solidFill>
                <a:miter/>
              </a:ln>
              <a:solidFill>
                <a:srgbClr val="00cc99"/>
              </a:solidFill>
              <a:latin typeface="宋体"/>
              <a:ea typeface="宋体"/>
            </a:endParaRPr>
          </a:p>
        </p:txBody>
      </p:sp>
      <p:sp>
        <p:nvSpPr>
          <p:cNvPr id="75" name=""/>
          <p:cNvSpPr txBox="1"/>
          <p:nvPr/>
        </p:nvSpPr>
        <p:spPr>
          <a:xfrm rot="5400000">
            <a:off x="1847520" y="4554360"/>
            <a:ext cx="497160" cy="2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180</a:t>
            </a:r>
            <a:endParaRPr b="0" lang="en-US" sz="1200" spc="-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3456000" y="5562360"/>
            <a:ext cx="1509840" cy="834840"/>
          </a:xfrm>
          <a:prstGeom prst="cloudCallout">
            <a:avLst>
              <a:gd name="adj1" fmla="val -31180"/>
              <a:gd name="adj2" fmla="val 100759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中心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37320" y="5850000"/>
            <a:ext cx="1371600" cy="609480"/>
          </a:xfr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刻度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11080" y="5881680"/>
            <a:ext cx="1371600" cy="609480"/>
          </a:xfr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0”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刻度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580080" y="814320"/>
            <a:ext cx="2168640" cy="438120"/>
          </a:xfrm>
          <a:prstGeom prst="wedgeRoundRectCallout">
            <a:avLst>
              <a:gd name="adj1" fmla="val -52050"/>
              <a:gd name="adj2" fmla="val 342393"/>
              <a:gd name="adj3" fmla="val 16667"/>
            </a:avLst>
          </a:prstGeom>
          <a:solidFill>
            <a:srgbClr val="ffffff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外 圈 刻 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248480" y="885960"/>
            <a:ext cx="1946520" cy="438120"/>
          </a:xfrm>
          <a:prstGeom prst="wedgeRoundRectCallout">
            <a:avLst>
              <a:gd name="adj1" fmla="val -52777"/>
              <a:gd name="adj2" fmla="val 346736"/>
              <a:gd name="adj3" fmla="val 16667"/>
            </a:avLst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内  圈  刻  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8858160" y="65721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627200" y="812880"/>
            <a:ext cx="5829120" cy="38638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390920" y="1457280"/>
            <a:ext cx="2909880" cy="2446560"/>
          </a:xfrm>
          <a:custGeom>
            <a:avLst/>
            <a:gdLst/>
            <a:ahLst/>
            <a:rect l="l" t="t" r="r" b="b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7600" y="35712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用量角器量角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694400" y="3591000"/>
            <a:ext cx="176040" cy="284040"/>
          </a:xfrm>
          <a:custGeom>
            <a:avLst/>
            <a:gdLst/>
            <a:ahLst/>
            <a:rect l="l" t="t" r="r" b="b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987800" y="327816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8440" y="48117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量角器放在角的上面；使量角器的中心和角的顶点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52760" y="386712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52760" y="3857760"/>
            <a:ext cx="108000" cy="117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1920" y="539748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零度刻度线和角的一条边重合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500"/>
                            </p:stCondLst>
                            <p:childTnLst>
                              <p:par>
                                <p:cTn id="16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4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397160" y="900000"/>
            <a:ext cx="6048360" cy="346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410000" y="1438200"/>
            <a:ext cx="3048120" cy="2486160"/>
          </a:xfrm>
          <a:custGeom>
            <a:avLst/>
            <a:gdLst/>
            <a:ahLst/>
            <a:rect l="l" t="t" r="r" b="b"/>
            <a:pathLst>
              <a:path w="1920" h="1566">
                <a:moveTo>
                  <a:pt x="1290" y="0"/>
                </a:moveTo>
                <a:lnTo>
                  <a:pt x="0" y="1566"/>
                </a:lnTo>
                <a:lnTo>
                  <a:pt x="1920" y="1566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17600" y="357120"/>
            <a:ext cx="43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用量角器量角的步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33920" y="3651120"/>
            <a:ext cx="176040" cy="284400"/>
          </a:xfrm>
          <a:custGeom>
            <a:avLst/>
            <a:gdLst/>
            <a:ahLst/>
            <a:rect l="l" t="t" r="r" b="b"/>
            <a:pathLst>
              <a:path w="87" h="137">
                <a:moveTo>
                  <a:pt x="0" y="0"/>
                </a:moveTo>
                <a:cubicBezTo>
                  <a:pt x="12" y="4"/>
                  <a:pt x="27" y="4"/>
                  <a:pt x="37" y="12"/>
                </a:cubicBezTo>
                <a:cubicBezTo>
                  <a:pt x="65" y="34"/>
                  <a:pt x="87" y="103"/>
                  <a:pt x="87" y="137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3378240"/>
            <a:ext cx="43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8440" y="4811760"/>
            <a:ext cx="85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把量角器放在角的上面；使量角器的中心和角的顶点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31920" y="5397480"/>
            <a:ext cx="53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零度刻度线和角的一条边重合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97000" y="5921280"/>
            <a:ext cx="835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角的另一条边所对的量角器上的刻度，就是这个角的度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38800" y="3914640"/>
            <a:ext cx="3000240" cy="9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38800" y="3914640"/>
            <a:ext cx="300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38800" y="3905280"/>
            <a:ext cx="3009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48160" y="3895560"/>
            <a:ext cx="3019320" cy="9720"/>
          </a:xfrm>
          <a:prstGeom prst="line">
            <a:avLst/>
          </a:prstGeom>
          <a:ln w="442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57840" y="2247840"/>
            <a:ext cx="795240" cy="1657440"/>
          </a:xfrm>
          <a:custGeom>
            <a:avLst/>
            <a:gdLst/>
            <a:ahLst/>
            <a:rect l="l" t="t" r="r" b="b"/>
            <a:pathLst>
              <a:path w="485" h="1044">
                <a:moveTo>
                  <a:pt x="485" y="1044"/>
                </a:moveTo>
                <a:cubicBezTo>
                  <a:pt x="477" y="945"/>
                  <a:pt x="477" y="832"/>
                  <a:pt x="445" y="736"/>
                </a:cubicBezTo>
                <a:cubicBezTo>
                  <a:pt x="437" y="681"/>
                  <a:pt x="427" y="625"/>
                  <a:pt x="409" y="572"/>
                </a:cubicBezTo>
                <a:cubicBezTo>
                  <a:pt x="404" y="558"/>
                  <a:pt x="401" y="536"/>
                  <a:pt x="393" y="524"/>
                </a:cubicBezTo>
                <a:cubicBezTo>
                  <a:pt x="381" y="506"/>
                  <a:pt x="377" y="482"/>
                  <a:pt x="365" y="464"/>
                </a:cubicBezTo>
                <a:cubicBezTo>
                  <a:pt x="355" y="448"/>
                  <a:pt x="345" y="433"/>
                  <a:pt x="337" y="416"/>
                </a:cubicBezTo>
                <a:cubicBezTo>
                  <a:pt x="319" y="376"/>
                  <a:pt x="316" y="326"/>
                  <a:pt x="277" y="300"/>
                </a:cubicBezTo>
                <a:cubicBezTo>
                  <a:pt x="272" y="285"/>
                  <a:pt x="262" y="261"/>
                  <a:pt x="249" y="252"/>
                </a:cubicBezTo>
                <a:cubicBezTo>
                  <a:pt x="241" y="247"/>
                  <a:pt x="225" y="236"/>
                  <a:pt x="225" y="236"/>
                </a:cubicBezTo>
                <a:cubicBezTo>
                  <a:pt x="216" y="209"/>
                  <a:pt x="228" y="238"/>
                  <a:pt x="209" y="216"/>
                </a:cubicBezTo>
                <a:cubicBezTo>
                  <a:pt x="194" y="199"/>
                  <a:pt x="194" y="183"/>
                  <a:pt x="177" y="172"/>
                </a:cubicBezTo>
                <a:cubicBezTo>
                  <a:pt x="174" y="168"/>
                  <a:pt x="172" y="163"/>
                  <a:pt x="169" y="160"/>
                </a:cubicBezTo>
                <a:cubicBezTo>
                  <a:pt x="166" y="157"/>
                  <a:pt x="160" y="156"/>
                  <a:pt x="157" y="152"/>
                </a:cubicBezTo>
                <a:cubicBezTo>
                  <a:pt x="141" y="134"/>
                  <a:pt x="140" y="120"/>
                  <a:pt x="121" y="108"/>
                </a:cubicBezTo>
                <a:cubicBezTo>
                  <a:pt x="103" y="80"/>
                  <a:pt x="114" y="87"/>
                  <a:pt x="93" y="80"/>
                </a:cubicBezTo>
                <a:cubicBezTo>
                  <a:pt x="86" y="69"/>
                  <a:pt x="65" y="52"/>
                  <a:pt x="53" y="48"/>
                </a:cubicBezTo>
                <a:cubicBezTo>
                  <a:pt x="50" y="44"/>
                  <a:pt x="49" y="39"/>
                  <a:pt x="45" y="36"/>
                </a:cubicBezTo>
                <a:cubicBezTo>
                  <a:pt x="38" y="32"/>
                  <a:pt x="21" y="28"/>
                  <a:pt x="21" y="28"/>
                </a:cubicBezTo>
                <a:cubicBezTo>
                  <a:pt x="7" y="49"/>
                  <a:pt x="9" y="60"/>
                  <a:pt x="5" y="88"/>
                </a:cubicBezTo>
                <a:cubicBezTo>
                  <a:pt x="4" y="97"/>
                  <a:pt x="1" y="125"/>
                  <a:pt x="1" y="116"/>
                </a:cubicBezTo>
                <a:cubicBezTo>
                  <a:pt x="1" y="104"/>
                  <a:pt x="0" y="33"/>
                  <a:pt x="13" y="20"/>
                </a:cubicBezTo>
                <a:cubicBezTo>
                  <a:pt x="21" y="12"/>
                  <a:pt x="34" y="14"/>
                  <a:pt x="45" y="12"/>
                </a:cubicBezTo>
                <a:cubicBezTo>
                  <a:pt x="77" y="7"/>
                  <a:pt x="105" y="3"/>
                  <a:pt x="137" y="0"/>
                </a:cubicBezTo>
                <a:cubicBezTo>
                  <a:pt x="95" y="14"/>
                  <a:pt x="71" y="20"/>
                  <a:pt x="25" y="20"/>
                </a:cubicBezTo>
              </a:path>
            </a:pathLst>
          </a:custGeom>
          <a:noFill/>
          <a:ln w="38160">
            <a:solidFill>
              <a:srgbClr val="00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 rot="2100000">
            <a:off x="571464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08" name="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09" name=""/>
          <p:cNvSpPr txBox="1"/>
          <p:nvPr/>
        </p:nvSpPr>
        <p:spPr>
          <a:xfrm rot="2100000">
            <a:off x="571464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0" name=""/>
          <p:cNvSpPr txBox="1"/>
          <p:nvPr/>
        </p:nvSpPr>
        <p:spPr>
          <a:xfrm rot="2100000">
            <a:off x="5721120" y="207936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50</a:t>
            </a:r>
            <a:endParaRPr b="0" lang="en-US" sz="1800" spc="-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11" name=""/>
          <p:cNvSpPr txBox="1"/>
          <p:nvPr/>
        </p:nvSpPr>
        <p:spPr>
          <a:xfrm rot="2100000">
            <a:off x="5721120" y="2085480"/>
            <a:ext cx="2826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50</a:t>
            </a:r>
            <a:endParaRPr b="0" lang="en-US" sz="1800" spc="-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112" name=""/>
          <p:cNvSpPr txBox="1"/>
          <p:nvPr/>
        </p:nvSpPr>
        <p:spPr>
          <a:xfrm rot="5400000">
            <a:off x="6563880" y="3782880"/>
            <a:ext cx="133560" cy="2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</a:rPr>
              <a:t>0</a:t>
            </a:r>
            <a:endParaRPr b="0" lang="en-US" sz="2000" spc="-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宋体"/>
              <a:ea typeface="宋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500"/>
                            </p:stCondLst>
                            <p:childTnLst>
                              <p:par>
                                <p:cTn id="19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265720" y="1011240"/>
            <a:ext cx="3081240" cy="3060720"/>
          </a:xfrm>
          <a:custGeom>
            <a:avLst/>
            <a:gdLst/>
            <a:ahLst/>
            <a:rect l="l" t="t" r="r" b="b"/>
            <a:pathLst>
              <a:path w="1941" h="1928">
                <a:moveTo>
                  <a:pt x="0" y="1928"/>
                </a:moveTo>
                <a:lnTo>
                  <a:pt x="1941" y="1916"/>
                </a:lnTo>
                <a:lnTo>
                  <a:pt x="1215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14480" y="2384280"/>
            <a:ext cx="2266920" cy="1690920"/>
          </a:xfrm>
          <a:custGeom>
            <a:avLst/>
            <a:gdLst/>
            <a:ahLst/>
            <a:rect l="l" t="t" r="r" b="b"/>
            <a:pathLst>
              <a:path w="1966" h="1403">
                <a:moveTo>
                  <a:pt x="1966" y="1403"/>
                </a:moveTo>
                <a:lnTo>
                  <a:pt x="0" y="1403"/>
                </a:lnTo>
                <a:lnTo>
                  <a:pt x="1653" y="0"/>
                </a:ln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74600" y="501012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99320" y="508320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872480" y="3654360"/>
            <a:ext cx="247680" cy="390600"/>
          </a:xfrm>
          <a:custGeom>
            <a:avLst/>
            <a:gdLst/>
            <a:ahLst/>
            <a:rect l="l" t="t" r="r" b="b"/>
            <a:pathLst>
              <a:path w="156" h="246">
                <a:moveTo>
                  <a:pt x="156" y="0"/>
                </a:moveTo>
                <a:cubicBezTo>
                  <a:pt x="123" y="22"/>
                  <a:pt x="99" y="50"/>
                  <a:pt x="66" y="72"/>
                </a:cubicBezTo>
                <a:cubicBezTo>
                  <a:pt x="31" y="125"/>
                  <a:pt x="0" y="181"/>
                  <a:pt x="0" y="24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589040" y="3676680"/>
            <a:ext cx="352440" cy="390600"/>
          </a:xfrm>
          <a:custGeom>
            <a:avLst/>
            <a:gdLst/>
            <a:ahLst/>
            <a:rect l="l" t="t" r="r" b="b"/>
            <a:pathLst>
              <a:path w="222" h="246">
                <a:moveTo>
                  <a:pt x="0" y="0"/>
                </a:moveTo>
                <a:cubicBezTo>
                  <a:pt x="46" y="5"/>
                  <a:pt x="62" y="1"/>
                  <a:pt x="96" y="24"/>
                </a:cubicBezTo>
                <a:cubicBezTo>
                  <a:pt x="118" y="57"/>
                  <a:pt x="95" y="31"/>
                  <a:pt x="126" y="48"/>
                </a:cubicBezTo>
                <a:cubicBezTo>
                  <a:pt x="139" y="55"/>
                  <a:pt x="162" y="72"/>
                  <a:pt x="162" y="72"/>
                </a:cubicBezTo>
                <a:cubicBezTo>
                  <a:pt x="169" y="92"/>
                  <a:pt x="185" y="106"/>
                  <a:pt x="192" y="126"/>
                </a:cubicBezTo>
                <a:cubicBezTo>
                  <a:pt x="205" y="165"/>
                  <a:pt x="222" y="204"/>
                  <a:pt x="222" y="24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6360" y="258840"/>
            <a:ext cx="33606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猜 一 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        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华文彩云"/>
              </a:rPr>
              <a:t>量 一 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728120" y="290520"/>
            <a:ext cx="1120680" cy="94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更多免费教学资料www.05wang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7T02:58:36Z</dcterms:created>
  <dc:creator>Administrator</dc:creator>
  <dc:description/>
  <dc:language>en-US</dc:language>
  <cp:lastModifiedBy>微软用户</cp:lastModifiedBy>
  <dcterms:modified xsi:type="dcterms:W3CDTF">2015-10-22T02:57:15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