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E3D-45CB-4203-943F-BFA4BE01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0D7-3293-4C28-82EC-5426C260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785-592A-4333-A8FF-9DCAE41A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91F-ACB1-4527-8F2F-B7B226D1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33F-B0DE-47D9-9F8B-4D1D92D7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84F-2BAD-4278-9E54-AE9598E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18A-8340-4B6B-A70A-E1364531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495-C36F-411F-BF57-F91C0442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015-0764-4C91-9B24-1672406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CAA-E0B3-4A6A-BF7E-DC865AB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B29-C92D-4555-826E-1791D70C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316-ECA7-4072-BA76-CF4307D1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6E9-F05E-49F5-8112-0F863371F8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7y7.com/hufu/jiemian/" TargetMode="External"/><Relationship Id="rId3" Type="http://schemas.openxmlformats.org/officeDocument/2006/relationships/hyperlink" Target="http://www.7y7.com/hufu/shuangfushui/" TargetMode="External"/><Relationship Id="rId4" Type="http://schemas.openxmlformats.org/officeDocument/2006/relationships/hyperlink" Target="http://www.7y7.com/hufu/yanshuang/" TargetMode="External"/><Relationship Id="rId5" Type="http://schemas.openxmlformats.org/officeDocument/2006/relationships/hyperlink" Target="http://www.7y7.com/hufu/mianshuang/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你如何打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gela bab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致妆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1040" y="210600"/>
            <a:ext cx="5068800" cy="8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银幕前完美到无瑕，除了细腻的妆容外，日常保养也很重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护肤步骤：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洁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爽肤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眼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乳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面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为了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让眼睛呈现最佳状态，睡醒后可以用冰袋敷眼睛。完成这些步骤之后就能上妆了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828800" y="1371600"/>
            <a:ext cx="3333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4360" y="260640"/>
            <a:ext cx="385020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多人看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 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会觉得一个人的肌肤怎么能如此水润无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秘密就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底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和手法上。基本底妆应该是隔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粉底，隔离霜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量选择植物成分的，会减小肌肤的伤害。想要粉底液亲肤，不如学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 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粉底液里加入少许的保湿型乳液调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33336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9880" y="228960"/>
            <a:ext cx="529020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 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眼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自己的要求，尽量呈现出萌和亮。因此她的眼妆通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佩戴美瞳来“打底”，然后是通过棕色系眼影叠加的方法来突出棕色瞳孔。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睫毛和睫毛膏是眼妆必备单品，为了让睫毛更为纤长，私底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用睫毛增长液来刺激睫毛再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33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43840" y="304560"/>
            <a:ext cx="24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眉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说很重要，一个精致的妆容更加离不开好的眉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用修眉刀根据自己的脸型调整眉形，一般来说脸小的美眉眉毛尽量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脸部大小一般的美眉眉形可稍微粗一些。然后使用和自己发色一样的染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膏改变眉色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3333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86320" y="30492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女人的好气色全都体现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腮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，虽然说腮红一般都是粉色为主，但如何打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腮红可是一门学问。为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脸看上去永远粉嫩无比呢？关键在于亮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腮红的巧妙运用上，先在苹果机轻扫一层薄薄的亮粉，然后用大号的粉刷蘸取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量的腮红大面积在脸部晕开。然后再上一层薄薄的腮红，第二层的范围比第一层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范围要小。最后在完成好的腮红上在轻轻扫一层亮粉。有时候为了让人看上去更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纯可爱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常会在自己的下巴处也轻扫一层腮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62320" y="2200320"/>
            <a:ext cx="33336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41640" y="304560"/>
            <a:ext cx="37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于上镜很重要，人的脸部在电视上看通常是立体感不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巧妙运用高光粉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扫一遍就能让你的五官看上去精致且透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立体感自然也明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喜欢刷高光粉的地方就是，颧骨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、眉尾下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3336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0360" y="228960"/>
            <a:ext cx="4381560" cy="13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你没范冰冰那样小巧精致的五官，那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修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得尤为重要。通过绘画中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学原理来打造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脸根本不是问题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是很好的证明。为了让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上镜都达到完美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修容方面可是花了功夫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透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化妆师通常会在自己的腮帮两侧、鼻翼、太阳穴等地方扫一层修容粉。另外，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容粉时最好是斜刷的方式，这样比较好达到效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33339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48880" y="336960"/>
            <a:ext cx="571104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gela bab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次出镜都是精致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唇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很多人就纳闷了，怎样才能做到如此水润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，定期的唇部护理就很重要。唇部只有在最佳的状况下才能呈现最完美的妆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然也有临时急救的办法，使用温水蘸湿化妆棉敷在唇部，待五分钟后涂上厚厚的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唇膏。所有妆容化好后，可轻轻擦掉多余的油脂，然后上唇膏，唇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33339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8T02:44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