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73AE-F38A-4D8B-B2B7-EBF7FAF0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88D9-1E62-4845-B34C-B4343827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BE74-DA2C-40A7-8A62-9C10E3DA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F847-5EF2-4A68-960E-C2831630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3694-A3B0-46DF-8639-9898043E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19BA-D61F-4FC3-A3FC-0FA8AA24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9356-8C75-4049-8001-A5307637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2CC5-9FA9-4ACF-AA5D-6C12E665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3F9A-378E-4A72-8627-4DC0611C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9095-B86E-4749-8B15-64E28465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2300-89E5-44E7-8B7D-AACA674D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1671-A6A9-4C11-81A0-D75E2C8D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D58A-7D7D-4971-98BB-892E98DDD4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henghuo.xooob.com/shqsl/200812/361785_1036997.html" TargetMode="External"/><Relationship Id="rId2" Type="http://schemas.openxmlformats.org/officeDocument/2006/relationships/hyperlink" Target="http://shenghuo.xooob.com/shqsl/200812/361785_1036998.html" TargetMode="External"/><Relationship Id="rId3" Type="http://schemas.openxmlformats.org/officeDocument/2006/relationships/hyperlink" Target="http://shenghuo.xooob.com/shqsl/200812/361785_1036999.html" TargetMode="External"/><Relationship Id="rId4" Type="http://schemas.openxmlformats.org/officeDocument/2006/relationships/hyperlink" Target="http://shenghuo.xooob.com/shqsl/200812/361785_1037000.html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333399"/>
                </a:solidFill>
                <a:latin typeface="Arial"/>
              </a:rPr>
              <a:t>家校密切合作成就孩子未来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高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班家长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师生关系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是孩子走出家庭进入社会碰到的第一组人际关系。老师，是孩子“用小脑袋装大世界”的直接和主要指导者，可见这个角色很重要；古人说：“亲其师方能信其道”，又可见这组关系很重要（因为“亲不亲”影响着“信不信”）。所以家长要引导孩子把两个常见问题解决好：一是如何对待“你不喜欢的老师”？二是如何对待“不喜欢你的老师”？在这方面老师有责任，但主要是家长要把工作做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71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俗话说：“师傅领进门，修行在个人。”这个“领进门”非常关键。而“领进门”主要是指对不同学科的不同思维方式的把握。如果不能很好解决这个问题，孩子就可能长期都在“门”外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处理师生关系，也是处理领导与被领导关系的演练，直接影响孩子社会伦理意识的形成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关系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是学习环境的重要组成部分，对孩子个人成长和发展的“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催化剂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”和“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干扰素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”都包含在其中。处理同学关系，是将来处理同事关系的演练，直接影响孩子以后在社会生活中的生存状态。要引导孩子学会约束自己，尊重别人，学会理解宽容，学会求同存异，学会关爱，学会求助，学会辨别诤友和损友，最好能学会超凡脱俗，从人群中走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829152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亲缘关系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是人与生俱来的不可选择的基本关系，进入学龄期以后应该有一次本质上的升华，即逐步走出“特保环境”，完成“精神断奶”，体验安危冷暖，感受远近亲疏，明晰家人和外人的概念，理解长辈，学会感恩，觉察责任，学会担当，在日益懂事中走向自立和成熟。也就是说，要在社会关系大背景下对亲缘关系进行重新审视。这个过程如果进行不好，对亲情的理解就上不去，完善的家庭观念就很难形成。在这方面，父母负有重要责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“我”关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个孩子自身和谐的问题。人的心理结构分为三个部分：“本我”、“自我”和“超我”。“本我”是生理的、本能的，只是追求满足，无视社会价值；它是遗传下来的动物性本能，是一种原始动力机制，其目标是毫不掩饰地满足生物欲望，内部充满了非理性、反社会和破坏性的冲动，它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遵循的是快乐原则（爱咋做咋做，自己咋舒服咋做）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自我”是理性的、通达事理的，与激情的本我相对，是可以控制的；它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根据外部世界的需要来活动（该咋做咋做，咋符合要求咋做，自觉遵守“游戏规则”）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的任务是使“本我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与外界社会更好的协调，并采取某种方式转移不能被社会所接受的本能冲动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超我”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充满清规戒律和类似于良心的人格层面，是内在的道德检察官，它负有监督“本我”的使命，并为“自我”确立了好和坏的范本，它具有道德良心、负罪感，具有自我观察、为自我规划理想的功能（咋好咋做，讲究道德良心，追求高尚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一般情况下，“本我”、“自我”、“超我”三者处于平衡状态，而它们之间的关系失调就是人的一切行为失常的根源。在“三个我”发生冲突的时候，家长怎样巧妙介入？支持哪个方面？怎样进行有效支持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书关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实质就是学会“使用书”，书是靠人使用的。我们在“十大关系”中讲人与书的关系，主要是针对两种现象：一种是“不拿书当回事”，不重视读书和不会充分用书；另一种是“太拿书当回事”，把自己变成书的奴隶。在引导孩子正确处理人书关系中，家长和教师都要认真指导孩子正确使用教材。另外还有读课外书问题，读“为人生打底子的书”问题。书的概念现在已经扩大化。犹太先哲说：“读过很多书的人，如果他不会用书上的知识，也只是一只‘驮着书的骡子’。” 有的人存了很多书，也读了很多书，但一辈子啥事也没办明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用关系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，实质是过程、手段与目的的关系问题，毛泽东说得十分明了：“学习的目的全在于应用”。 美国人重视“让孩子尽早了解今日学习与明日职业的关系”，我们许多人还停留在只关注考试分数层面上，这就是差距。不管学啥，学多少，学到啥程度，归根结底是，最终体现是在为人处事上发挥了多大作用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博专关系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，是个掌握知识的深度和广度的问题，谁都知道学识越广越深越好，但时间和精力有限，所以要把握均衡度。孤陋寡闻，想问题时材料不够；一知半解，做事情没根儿；才疏学浅，谋略肯定不足。（这里很适用“全面协调可持续”发展的原则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劳逸关系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</a:rPr>
              <a:t>，处理劳逸关系的关注点，应该是大脑的最佳工作状态。时间和精力分配，不能单凭主观设定，应该讲究学习效果。（这里也适用“全面协调可持续”发展的原则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平时我们和孩子的交流的方式是什么样的呢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今天让我们换一种方式来进行吧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给孩子写一封信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没有责备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\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抱怨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只是真情的告白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爱的诉说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希望的寄托和父母的真诚的愿望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724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德、智、体</a:t>
            </a:r>
            <a:r>
              <a:rPr b="0" lang="zh-CN" sz="5400" spc="-1" strike="noStrike">
                <a:solidFill>
                  <a:srgbClr val="333399"/>
                </a:solidFill>
                <a:latin typeface="Arial"/>
              </a:rPr>
              <a:t>三者关系，这已经是个老掉牙的问题，但始终没有解决好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昨天、今天、明天三者关系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是个时间使用效率问题。人话百岁，总共才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365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多天。每个人正在过着的都是今天，后边刚过完的是昨天，前边即将过的是明天。正确的态度应该是“使用好今天，总结好昨天，谋划好明天”。“总结好昨天”，可使昨天不白过；“谋划好明天”，可使明天变为今天时不慌乱；但最关键的是“使用好今天”，其实，总结昨天和谋划明天，也都是今天的事。我想，如果我们能引导孩子学会这样过日子、想问题、办事情，他未来的日子应该会很充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这十个关系，大体分属四个层面：师生关系、同学关系、亲缘关系、我“我”关系属于人际关系层面；人书关系、学用关系、博专关系、劳逸关系属于学习活动层面；德、智、体三者关系属于个体本身心灵与肉体的整体层面；昨天、今天、明天三者关系则属于个体生命历程中的时间段层面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88640"/>
            <a:ext cx="8893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家长对孩子处理“学生时代十大关系”的指导，应该结合日常生活实际进行，在“一事当前怎么看、怎么办”上下功夫。此事贵在随时随地，要坚持戒勉结合。教育引导孩子，不一定需要花费太多的时间，但却需要时刻具有寻找教育时机的意识。为了孩子的一生，父母应该珍惜孩子的每一个重要教育时机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-360"/>
            <a:ext cx="84358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各尽其职，各负其责”，在这个基础上再强调“积极沟通，主动配合”。我劝大家不要只盯着孩子的考分，不要老叽咕鸡毛蒜皮，应该把注意力转移到对“十大关系”状态的关注上来。孩子在“十大关系”上的自觉、自控和自省程度，决定着他的未来发展，影响着他现实的生存状态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其他几点要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手机之祸猛于电脑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必须禁止带到学校避免陷入不良信息之中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注意情感的引导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多给孩子关爱避免陷入早恋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杜绝和社会不良青年来往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避免陷入不必要的麻烦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杜绝拉帮接派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打架斗殴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校讯通的事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各尽其职，各负其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衷心谢谢各位家长的光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理念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14200" spc="-1" strike="noStrike">
                <a:solidFill>
                  <a:srgbClr val="ff0000"/>
                </a:solidFill>
                <a:latin typeface="Arial"/>
              </a:rPr>
              <a:t>怎样做比做什么更重要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4365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0"/>
            <a:ext cx="8675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时代的变化和社会的影响使得家校合作就显得非常必要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而我们的做法更应该充满智慧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同时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迫使我们加强自身的学习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从而更好的引导孩子的成长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否则未来的时刻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我们会更担心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费心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伤心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那么用我们的行动来影响孩子吧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这不仅仅是我们的权利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更是我们的义务啊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0"/>
            <a:ext cx="8713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首先是了解孩子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然后再是引导孩子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是的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我们在忙于生计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但我们能不能把我们的成功继续让孩子传承下去哪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成功者的关键是态度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发现自己有弱点就要勇于克服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要学会靠自控力改变自己的坏习惯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要具备自我约束的能力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凡成功者无不懂得自律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真正地控制住自己才能控制别人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努力克服怠惰的不良习惯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避免因犯愚蠢的错误而自毁前程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树立积极的心态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要开始新的生活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着重处理好社会影响和家庭教育的关系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学校教育和家庭教育的关系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上学和假期的关系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做人和学习的关系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学习过程和学习结果的关系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;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现在和未来的关系</a:t>
            </a: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师生关系、同学关系、亲缘关系、我“我”关系，人书关系、学用关系、博专关系、劳逸关系，德智体三者关系和昨天今天明天三者关系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4T00:31:07Z</dcterms:created>
  <dc:creator/>
  <dc:description/>
  <dc:language>en-US</dc:language>
  <cp:lastModifiedBy>微软用户</cp:lastModifiedBy>
  <dcterms:modified xsi:type="dcterms:W3CDTF">2011-04-13T14:56:32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0000000000001024120</vt:lpwstr>
  </property>
</Properties>
</file>