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DF944-D3EB-4648-ACEE-A73611539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152280" y="762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E8FD-AC26-4395-B3CA-571E8D659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76449-5207-4D4B-AAAC-D57D1C280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15228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249696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484164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15228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249696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484164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10E0B-1A98-4DA8-8624-97783F2DA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300CC-251F-444F-8D67-10EB73DC9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152280" y="762120"/>
            <a:ext cx="693432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BFF8-5CF4-4F9F-AA9D-D1BABDB08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152280" y="762120"/>
            <a:ext cx="69343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326D0-AA43-4AAF-B100-C4EAB88D8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9126-F27D-45EF-BEA6-FA4CA1D8A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FC041-46BF-4EE8-90F6-F312C8CEA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75960"/>
            <a:ext cx="693432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2158D-61F2-4C29-BDCB-50750A9A6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6E0C9-C4BA-49DF-953F-422D5820B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152280" y="762120"/>
            <a:ext cx="693432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58C1-0D57-441C-B291-0A4D8A5BF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312DE-69F9-45B8-8810-063706013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5BC5-239B-46E7-A121-F82853136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152280" y="762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FFA32-7911-4654-9E20-A92E5F0B6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45F50-2675-4017-A11C-F30225ACC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15228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249696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484164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15228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249696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484164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66C2F-EAC5-4B5A-8157-2C502AB77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152280" y="762120"/>
            <a:ext cx="69343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75F8-4C28-4505-9570-93FFDAF1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79A48-3633-4F3F-9A3F-B243224EF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8174-76D6-4131-AF4C-40B09545A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75960"/>
            <a:ext cx="693432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EAE6-75B2-4920-970E-5B41DC736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26AD-85CC-4C90-B4A8-28B2D4557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F677-A61D-4C88-AD03-DCC259089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9FB2-FD15-466A-896E-970EBE85E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152280" y="762120"/>
            <a:ext cx="693432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BB71-F03C-4471-A6D7-978C15DB9AC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42" name="PlaceHolder 2"/>
          <p:cNvSpPr>
            <a:spLocks noGrp="1"/>
          </p:cNvSpPr>
          <p:nvPr>
            <p:ph type="body"/>
          </p:nvPr>
        </p:nvSpPr>
        <p:spPr>
          <a:xfrm>
            <a:off x="152280" y="762120"/>
            <a:ext cx="693432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810E-FDF3-43FD-BC72-32B442AFDB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8400" y="4343040"/>
            <a:ext cx="700884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Presentation Title</a:t>
            </a:r>
            <a:endParaRPr b="1" lang="en-US" sz="3600" spc="-1" strike="noStrike">
              <a:solidFill>
                <a:srgbClr val="ffffff"/>
              </a:solidFill>
              <a:latin typeface="Tahoma"/>
            </a:endParaRPr>
          </a:p>
        </p:txBody>
      </p:sp>
      <p:sp>
        <p:nvSpPr>
          <p:cNvPr id="83" name="PlaceHolder 2"/>
          <p:cNvSpPr>
            <a:spLocks noGrp="1"/>
          </p:cNvSpPr>
          <p:nvPr>
            <p:ph type="subTitle"/>
          </p:nvPr>
        </p:nvSpPr>
        <p:spPr>
          <a:xfrm>
            <a:off x="685800" y="5029200"/>
            <a:ext cx="4572000" cy="4572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Presentation Subtit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152280" y="762120"/>
            <a:ext cx="6934320" cy="5410080"/>
          </a:xfrm>
          <a:prstGeom prst="rect">
            <a:avLst/>
          </a:prstGeom>
          <a:noFill/>
          <a:ln w="0">
            <a:noFill/>
          </a:ln>
        </p:spPr>
        <p:txBody>
          <a:bodyPr lIns="90000" rIns="90000" tIns="46800" bIns="46800"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Your Text her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
        <p:nvSpPr>
          <p:cNvPr id="85"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lide Master</a:t>
            </a:r>
            <a:endParaRPr b="1"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09680" y="304560"/>
            <a:ext cx="647712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1919"/>
                </a:solidFill>
                <a:latin typeface="Tahoma"/>
              </a:rPr>
              <a:t>Print Master</a:t>
            </a:r>
            <a:endParaRPr b="1" lang="en-US" sz="3200" spc="-1" strike="noStrike">
              <a:solidFill>
                <a:srgbClr val="ffffff"/>
              </a:solidFill>
              <a:latin typeface="Tahoma"/>
            </a:endParaRPr>
          </a:p>
        </p:txBody>
      </p:sp>
      <p:sp>
        <p:nvSpPr>
          <p:cNvPr id="87" name=""/>
          <p:cNvSpPr txBox="1"/>
          <p:nvPr/>
        </p:nvSpPr>
        <p:spPr>
          <a:xfrm>
            <a:off x="2209680" y="1066320"/>
            <a:ext cx="647712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ffffff"/>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ffffff"/>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6:51:56Z</dcterms:created>
  <dc:creator>ismail - [2010]</dc:creator>
  <dc:description/>
  <dc:language>en-US</dc:language>
  <cp:lastModifiedBy>pc</cp:lastModifiedBy>
  <cp:lastPrinted>1899-12-30T00:00:00Z</cp:lastPrinted>
  <dcterms:modified xsi:type="dcterms:W3CDTF">2012-04-17T14:36:25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