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C6981-BAF0-49EC-A76A-639587548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6079A-0154-410D-8A9A-B02532EC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925DD-222B-43E9-9E32-F3E282EBE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81EBC-9460-45BD-B983-1FDE95E77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26A1-75AE-42A6-9C68-CD314472A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3A6E8-6C32-41A4-A466-AADB9AC1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D65BE-F8F0-4967-A478-54520EFC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DF8C-2021-4DD0-9F74-DECC1AAD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8D61-AA4E-4DCD-B17E-F7F49F18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735D7-0F59-4819-899D-2F19CF6F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8CE0-ADE1-474F-8F68-43F97F54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27DF7-A9D4-4134-A529-FC1C789E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969E-5978-41CF-A93F-6D8827FD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1F13-D2D5-4DA9-B0F5-1D0017FB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2E3D-C79E-44D5-BBF2-E1CBF02A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FDBC-804E-4AA3-BC9F-B1FB50811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09CD8-486E-4683-8D88-6DDEA9162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EB917-0B43-4DF2-B39F-54291863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B5B52-8590-4566-ABDB-FB7DF069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FE626-9E23-44E2-96A7-01F9BE6B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1C7C9-3200-4A42-B3A7-2FE93D8A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25507-ECCF-4B0F-A846-78D40214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6C7CB-BF3B-40DC-8576-A60775FB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7C341-209E-4B0E-BD90-961D9D21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33520" y="62481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F927-6B92-404B-9E66-5ADACC7ABDF8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3CFE-6FEE-45CA-B671-DD93D30D298A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1332000"/>
            <a:ext cx="8278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95353"/>
                </a:solidFill>
                <a:latin typeface="华文中宋"/>
                <a:ea typeface="华文中宋"/>
              </a:rPr>
              <a:t>职业经理人情绪管理技能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5181480"/>
            <a:ext cx="3352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一流的服务精神应具有一流的情绪控制；一流的管理人才更应具有一流的情绪管理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喜怒哀乐人皆有之，记住，喜与乐是你可以和每个人分享的；至于怒与哀就把它锁在家里，不要让它四处乱窜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628640" cy="4284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800600" y="152280"/>
            <a:ext cx="4343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TEL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0755-26162999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FAX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0755-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26160466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活在当下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让自己的生活变得明亮，是要采取渐进的方式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不要执着于过去：老和尚抱女人过河的故事…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不要忧虑未来： 生命的阶段目标…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活在当下：你看，狐狸在葡萄园内吃得多快乐呀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e5ff"/>
                </a:solidFill>
                <a:latin typeface="Garamond"/>
              </a:rPr>
              <a:t>未解决的情绪：自由基能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情绪会剌激中枢神经系统的电子化学反应相连的能量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如果情绪没有得到适当的处理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就会变成无法控制的能量形式，称 “自由基能量”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每当我们经历一次情绪波动，就有一股聚集的量子能量需要得到纾解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如果善于处理情绪的能量，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EQ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将得到极大的改进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628640" cy="4284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800600" y="152280"/>
            <a:ext cx="4343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TEL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0755-26162999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FAX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0755-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26160466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气在头上     越炒越热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一根火柴卖一块钱， 却可以摧毁一栋一千万的房子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要修养被尊重的人格需经长时间被信任， 但人格破产只需要做错一件事情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关系破裂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任何歉意都无法弥补伤口。 好像用钉子钉柳树， 拔除钉子后伤口仍存在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628640" cy="4284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800600" y="152280"/>
            <a:ext cx="4343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TEL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0755-26162999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FAX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0755-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26160466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e5ff"/>
                </a:solidFill>
                <a:latin typeface="Garamond"/>
              </a:rPr>
              <a:t>对策：且慢发作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感觉的蔓延速度比理性思考的速度快很多， 对策就是将感觉速度放慢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红色锦囊 “且慢发作”的故事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在口不择言，拍桌子大骂，甚至摔门离去前，从心里从十倒数， 深呼吸，让自己冷静下来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公式：情绪自觉</a:t>
            </a:r>
            <a:r>
              <a:rPr b="0" lang="zh-CN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情绪延缓</a:t>
            </a:r>
            <a:r>
              <a:rPr b="0" lang="zh-CN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后果评估</a:t>
            </a:r>
            <a:r>
              <a:rPr b="0" lang="zh-CN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导正情绪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152280"/>
            <a:ext cx="4343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TEL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0755-26162999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FAX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0755-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26160466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e5ff"/>
                </a:solidFill>
                <a:latin typeface="Garamond"/>
              </a:rPr>
              <a:t>令人窒息的压力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工作是一连串压力的组合。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压力来自于无法掌控的未来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要求完美的性格，要求快速效率，会比较容易产生高压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压力来自于自己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越是看重胜负成败，越是有压力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越是为他忧烦，忧愁未来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，烦恼越多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52280"/>
            <a:ext cx="4343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TEL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0755-26162999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FAX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0755-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26160466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消极对策：纾解压力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自我接纳、自我肯定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放轻松，如深呼吸动作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适当的休息可以让你更有充沛的活力去面对压力。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小鱼的故事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建康与均衡的身心生活，帮助您面对压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养成运动的好习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用心聆听音乐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152280"/>
            <a:ext cx="4343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TEL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0755-26162999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FAX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0755-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26160466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面对逆境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: 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泥土或星星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6920" y="233208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有一个美国年轻军官接到调动命令，人事令上将他调派到一处接近沙漠边缘的基地。新婚的妻子跟着他离开都会生活前往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该地夏天酷热难耐，风沙多且早晚温差变化大，更糟的是部落中的印地安人都不懂英语，连日常沟通交流都有问题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628640" cy="4284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800600" y="152280"/>
            <a:ext cx="4343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TEL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0755-26162999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FAX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0755-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26160466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过了几个月，妻子实在是无法忍受这样的生活，于是写了封信给她的母亲，除了诉说生活的艰苦难熬外，信末还说她准备回去繁华的都市生活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她的母亲回了封信跟她说：「有两个囚犯，他们住同一间牢房，往同一个窗外看，一个看到的是泥巴，另一个则看到星星。」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"/>
          <p:cNvSpPr/>
          <p:nvPr/>
        </p:nvSpPr>
        <p:spPr>
          <a:xfrm>
            <a:off x="4800600" y="152280"/>
            <a:ext cx="4343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TEL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0755-26162999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FAX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0755-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26160466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从此后她改变了生活态度，积极的走进印地安人的生活里，学习他们的编织和烧陶，并迷上了印地安文化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她还认真的研读许多关于星象天文的书籍，几年后出版了几本关于星星的研究书籍，成了星象天文方面的专家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628640" cy="4284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800600" y="152280"/>
            <a:ext cx="4343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TEL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0755-26162999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FAX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0755-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26160466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8920" y="691920"/>
            <a:ext cx="71992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情绪管理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8595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能力不好不一定会成功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但是情绪管理不好一定不会成功。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当我们把情绪毫无保留地发泄在我们周遭的人身上，那种和谐的关系无形中就被破坏掉了，就好像是被打破的水晶杯子一般， 就算接合后也是会有裂缝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所以我们一定要小心翼翼地处理自己的情绪。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e5e5ff"/>
                </a:solidFill>
                <a:latin typeface="Garamond"/>
                <a:ea typeface="华文琥珀"/>
              </a:rPr>
              <a:t>火  柴  棒  </a:t>
            </a:r>
            <a:br>
              <a:rPr sz="6600"/>
            </a:br>
            <a:r>
              <a:rPr b="1" lang="zh-CN" sz="6600" spc="-1" strike="noStrike">
                <a:solidFill>
                  <a:srgbClr val="e5e5ff"/>
                </a:solidFill>
                <a:latin typeface="Garamond"/>
                <a:ea typeface="华文琥珀"/>
              </a:rPr>
              <a:t>                的  威 力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628640" cy="4284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800600" y="152280"/>
            <a:ext cx="4343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TEL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0755-26162999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FAX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0755-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26160466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一根火柴棒价值不到一毛钱</a:t>
            </a: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一栋房子价值数百万元…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628640" cy="428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800600" y="152280"/>
            <a:ext cx="4343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TEL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0755-26162999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FAX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0755-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26160466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4360" y="1484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但是一根火柴棒却可以摧毁一栋房子</a:t>
            </a: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可见微不足道的潜在破坏力</a:t>
            </a: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一旦发作起来</a:t>
            </a: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其攻坚灭顶的力量</a:t>
            </a: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,</a:t>
            </a: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无物能御</a:t>
            </a: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628640" cy="4284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800600" y="152280"/>
            <a:ext cx="4343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TEL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0755-26162999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FAX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0755-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26160466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4360" y="141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要叠一百万张骨牌</a:t>
            </a: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,</a:t>
            </a: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需费时一个月</a:t>
            </a: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但倒骨牌却只消十几秒钟</a:t>
            </a: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要累积成功的实业</a:t>
            </a: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,</a:t>
            </a: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需耗时数十载</a:t>
            </a: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但要倒闭</a:t>
            </a: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,</a:t>
            </a: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却只需一个错误决策</a:t>
            </a: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628640" cy="4284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800600" y="152280"/>
            <a:ext cx="4343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TEL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0755-26162999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FAX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0755-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26160466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4360" y="155736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要修养被尊敬的人格</a:t>
            </a: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需经过长时间的被信任</a:t>
            </a: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但要人格破产却只需要做错一件事</a:t>
            </a: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628640" cy="4284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800600" y="152280"/>
            <a:ext cx="4343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TEL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0755-26162999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FAX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0755-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26160466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4360" y="155736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一根火柴棒</a:t>
            </a: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,</a:t>
            </a: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是什么东西呢</a:t>
            </a: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它就是下列四项</a:t>
            </a: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无法自我控制的情绪</a:t>
            </a: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不经理智判断的决策</a:t>
            </a: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顽固不冥的个性</a:t>
            </a: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狭隘无情的心胸</a:t>
            </a: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68000" y="1989000"/>
            <a:ext cx="77756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886e0"/>
                </a:solidFill>
                <a:latin typeface="华文细黑"/>
                <a:ea typeface="华文细黑"/>
              </a:rPr>
              <a:t>检查看看，我们随身携带几根火柴棒</a:t>
            </a:r>
            <a:r>
              <a:rPr b="0" lang="zh-CN" sz="4000" spc="-1" strike="noStrike">
                <a:solidFill>
                  <a:srgbClr val="a886e0"/>
                </a:solidFill>
                <a:latin typeface="华文细黑"/>
                <a:ea typeface="华文细黑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628640" cy="4284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800600" y="152280"/>
            <a:ext cx="4343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TEL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0755-26162999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FAX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0755-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26160466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e5e5ff"/>
                </a:solidFill>
                <a:latin typeface="Garamond"/>
                <a:ea typeface="华文琥珀"/>
              </a:rPr>
              <a:t>闹 钟 的 启 示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628640" cy="4284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800600" y="152280"/>
            <a:ext cx="4343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TEL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0755-26162999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FAX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0755-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26160466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5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886e0"/>
                </a:solidFill>
                <a:latin typeface="Garamond"/>
                <a:ea typeface="华文细黑"/>
              </a:rPr>
              <a:t>我常常不知道自己该做些什么。幼时的梦想越走越远，风霜的磨砺和肩上的重担时时让我不知所措，我不知道接下来该怎么办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755280" y="2060280"/>
            <a:ext cx="7777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有一个</a:t>
            </a: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3</a:t>
            </a: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只钟的故事总在这时候给我启迪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628640" cy="4284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800600" y="152280"/>
            <a:ext cx="4343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TEL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0755-26162999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FAX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0755-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26160466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情绪的呈现程度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640" y="2349000"/>
            <a:ext cx="756144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情绪的呈现程度： 一个人内在的情绪表现在外（表情、声音、 动作、脾气）的程度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一个情绪呈现程度很显性的人， 是喜怒形于颜色； 反之则都看不出他在想什么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"/>
          <p:cNvSpPr/>
          <p:nvPr/>
        </p:nvSpPr>
        <p:spPr>
          <a:xfrm>
            <a:off x="4800600" y="152280"/>
            <a:ext cx="4343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TEL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0755-26162999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FAX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0755-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26160466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755640" y="134100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一只新组装好的小钟放在了两只旧钟当中。两只旧钟“滴答”、“滴答”一分一秒地走着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其中一只旧钟对小钟说：“来吧，你也该工作了。可是我有点担心，你走完三千二百万</a:t>
            </a: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3</a:t>
            </a: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次以后，恐怕便吃不消了。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“</a:t>
            </a: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天哪！三千二百万次。”小钟吃惊不已。“要我做这么大的事？办不到，办不到。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628640" cy="4284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800600" y="152280"/>
            <a:ext cx="4343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TEL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0755-26162999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FAX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0755-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26160466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4000" y="1600200"/>
            <a:ext cx="734364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886e0"/>
                </a:solidFill>
                <a:latin typeface="Garamond"/>
                <a:ea typeface="华文细黑"/>
              </a:rPr>
              <a:t>另一只旧钟说：“别听他胡说八道。不用害怕，你只要每秒滴答摆一下就行了。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886e0"/>
                </a:solidFill>
                <a:latin typeface="Garamond"/>
                <a:ea typeface="华文细黑"/>
              </a:rPr>
              <a:t>“</a:t>
            </a:r>
            <a:r>
              <a:rPr b="0" lang="zh-CN" sz="3200" spc="-1" strike="noStrike">
                <a:solidFill>
                  <a:srgbClr val="a886e0"/>
                </a:solidFill>
                <a:latin typeface="Garamond"/>
                <a:ea typeface="华文细黑"/>
              </a:rPr>
              <a:t>天下哪有这样简单的事情。”小钟将信将疑。“如果这样，我就试试吧。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628640" cy="4284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800600" y="152280"/>
            <a:ext cx="4343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TEL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0755-26162999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FAX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0755-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26160466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39280" y="2060640"/>
            <a:ext cx="814716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886e0"/>
                </a:solidFill>
                <a:latin typeface="Garamond"/>
                <a:ea typeface="华文细黑"/>
              </a:rPr>
              <a:t>小钟很轻松地每秒钟“滴答”摆一下，不知不觉中，一年过去了，它摆了三千二百万次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628640" cy="428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800600" y="152280"/>
            <a:ext cx="4343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TEL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0755-26162999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FAX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0755-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26160466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886e0"/>
                </a:solidFill>
                <a:latin typeface="Garamond"/>
                <a:ea typeface="华文细黑"/>
              </a:rPr>
              <a:t>每个人都希望梦想成真，成功却似乎远在天边遥不可及，倦怠和不自信让我们怀疑自己的能力，放弃努力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886e0"/>
                </a:solidFill>
                <a:latin typeface="Garamond"/>
                <a:ea typeface="华文细黑"/>
              </a:rPr>
              <a:t>其实，我们不必想以后的事，一年、甚至一月之后的事，只要想着今天我要作些什么，明天我该作些什么，然后努力去完成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886e0"/>
                </a:solidFill>
                <a:latin typeface="Garamond"/>
                <a:ea typeface="华文细黑"/>
              </a:rPr>
              <a:t>就象那只钟一样，每秒“滴答”摆一下，成功的喜悦就会慢慢浸润我们的生命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e5e5ff"/>
                </a:solidFill>
                <a:latin typeface="华文琥珀"/>
                <a:ea typeface="华文琥珀"/>
              </a:rPr>
              <a:t>消     气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"/>
          <p:cNvSpPr/>
          <p:nvPr/>
        </p:nvSpPr>
        <p:spPr>
          <a:xfrm>
            <a:off x="4800600" y="152280"/>
            <a:ext cx="4343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TEL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0755-26162999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FAX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0755-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26160466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755640" y="1699920"/>
            <a:ext cx="748656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古时有一个妇人，特别喜欢为一些琐碎的小事生气。她也知道自己这样不好，便去求一位高僧为自己谈禅说道，开阔心胸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高僧听了她的讲述，一言不发地把她领到一座禅房中，落锁而去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62864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826920" y="148392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妇人气得跳脚大骂。骂了许久，高僧也不理会。妇人又开始哀求，高僧仍置若罔闻。妇人终于沉默了。高僧来到门 外，问她：“你还生气吗？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妇人说：“我只为我自己生气，我怎么会到这地方来受这份罪。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“</a:t>
            </a: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连自己都不原谅的人怎么能心如止水？”高僧拂袖而去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"/>
          <p:cNvSpPr/>
          <p:nvPr/>
        </p:nvSpPr>
        <p:spPr>
          <a:xfrm>
            <a:off x="4800600" y="152280"/>
            <a:ext cx="4343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TEL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0755-26162999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FAX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0755-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26160466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755640" y="1267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过了一会儿，高僧又问她：“还生气吗？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“</a:t>
            </a: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不生气了。”妇人说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 “</a:t>
            </a: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为什么？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“</a:t>
            </a: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气也没有办法呀。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“</a:t>
            </a:r>
            <a:r>
              <a:rPr b="0" lang="zh-CN" sz="3200" spc="-1" strike="noStrike">
                <a:solidFill>
                  <a:srgbClr val="a886e0"/>
                </a:solidFill>
                <a:latin typeface="华文细黑"/>
                <a:ea typeface="华文细黑"/>
              </a:rPr>
              <a:t>你的气并未消逝，还压在心里，爆发后将会更加剧烈。”高僧又离开了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"/>
          <p:cNvSpPr/>
          <p:nvPr/>
        </p:nvSpPr>
        <p:spPr>
          <a:xfrm>
            <a:off x="4800600" y="152280"/>
            <a:ext cx="4343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TEL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0755-26162999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FAX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0755-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26160466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886e0"/>
                </a:solidFill>
                <a:latin typeface="Garamond"/>
                <a:ea typeface="华文细黑"/>
              </a:rPr>
              <a:t>高僧第三次来到门前，妇人告诉他：“我不生气了，因为不值得气。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886e0"/>
                </a:solidFill>
                <a:latin typeface="Garamond"/>
                <a:ea typeface="华文细黑"/>
              </a:rPr>
              <a:t>“</a:t>
            </a:r>
            <a:r>
              <a:rPr b="0" lang="zh-CN" sz="2800" spc="-1" strike="noStrike">
                <a:solidFill>
                  <a:srgbClr val="a886e0"/>
                </a:solidFill>
                <a:latin typeface="Garamond"/>
                <a:ea typeface="华文细黑"/>
              </a:rPr>
              <a:t>还知道值不值得，可见心中还有衡量，还是有气根。”高僧笑道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886e0"/>
                </a:solidFill>
                <a:latin typeface="Garamond"/>
                <a:ea typeface="华文细黑"/>
              </a:rPr>
              <a:t>当高僧的身影迎着夕阳立在门外时，妇人问高僧：“大师，什么是气？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886e0"/>
                </a:solidFill>
                <a:latin typeface="Garamond"/>
                <a:ea typeface="华文细黑"/>
              </a:rPr>
              <a:t>高僧将手中的茶水倾洒于地。妇人视之良久，顿悟。叩谢而去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"/>
          <p:cNvSpPr/>
          <p:nvPr/>
        </p:nvSpPr>
        <p:spPr>
          <a:xfrm>
            <a:off x="4800600" y="152280"/>
            <a:ext cx="4343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TEL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0755-26162999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FAX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0755-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26160466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84360" y="134136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886e0"/>
                </a:solidFill>
                <a:latin typeface="Garamond"/>
                <a:ea typeface="华文细黑"/>
              </a:rPr>
              <a:t>何苦要气？气便是别人吐出而你却接到口里的那种东西，你吞下便会反胃，你不看他时，他便会消散了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886e0"/>
                </a:solidFill>
                <a:latin typeface="Garamond"/>
                <a:ea typeface="华文细黑"/>
              </a:rPr>
              <a:t>气是用别人的过错来惩罚自己的蠢行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886e0"/>
                </a:solidFill>
                <a:latin typeface="Garamond"/>
                <a:ea typeface="华文细黑"/>
              </a:rPr>
              <a:t>夕阳如金，皎月如银，人生的幸福和快乐尚且享受不尽，哪里还有时间去气呢？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"/>
          <p:cNvSpPr/>
          <p:nvPr/>
        </p:nvSpPr>
        <p:spPr>
          <a:xfrm>
            <a:off x="4800600" y="152280"/>
            <a:ext cx="4343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TEL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0755-26162999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FAX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0755-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26160466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e5ff"/>
                </a:solidFill>
                <a:latin typeface="Garamond"/>
              </a:rPr>
              <a:t>情绪的处理能力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情绪处理能力：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一个人如何面对其内在的情绪的起伏并且如何管理这些情绪。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随着时间增长及人生历练的增加，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情绪控制能力亦会随之而改善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情绪人人皆有，先要有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control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，才有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management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纽约饭店曾有一句名言：“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When you come to hotel, please lock your emotion at home”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当你来饭店工作时，请将你的情绪锁在家里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"/>
          <p:cNvSpPr/>
          <p:nvPr/>
        </p:nvSpPr>
        <p:spPr>
          <a:xfrm>
            <a:off x="4800600" y="152280"/>
            <a:ext cx="4343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TEL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0755-26162999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FAX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0755-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26160466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在纽约饭店业中很流行一句话是“如果你想让一家饭店或餐厅关门，最有效的方法就是放几个臭脸的柜台。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628640" cy="428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800600" y="152280"/>
            <a:ext cx="4343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TEL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0755-26162999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FAX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0755-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26160466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71280" y="2349360"/>
            <a:ext cx="7210440" cy="10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低</a:t>
            </a: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EQ</a:t>
            </a: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者，注定悲观无望！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628640" cy="4284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800600" y="152280"/>
            <a:ext cx="4343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TEL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0755-26162999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FAX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0755-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26160466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e5ff"/>
                </a:solidFill>
                <a:latin typeface="Garamond"/>
              </a:rPr>
              <a:t>EQ </a:t>
            </a:r>
            <a:r>
              <a:rPr b="0" lang="zh-CN" sz="4400" spc="-1" strike="noStrike">
                <a:solidFill>
                  <a:srgbClr val="e5e5ff"/>
                </a:solidFill>
                <a:latin typeface="Garamond"/>
              </a:rPr>
              <a:t>高手的特质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良好的内在修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均衡的处世态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真诚待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幽默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热忱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628640" cy="428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800600" y="152280"/>
            <a:ext cx="4343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TEL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0755-26162999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FAX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0755-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26160466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e5ff"/>
                </a:solidFill>
                <a:latin typeface="Garamond"/>
              </a:rPr>
              <a:t>EQ</a:t>
            </a:r>
            <a:r>
              <a:rPr b="0" lang="zh-CN" sz="4400" spc="-1" strike="noStrike">
                <a:solidFill>
                  <a:srgbClr val="e5e5ff"/>
                </a:solidFill>
                <a:latin typeface="Garamond"/>
              </a:rPr>
              <a:t>管理技能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且慢发作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纾解压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面对逆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面对心情低潮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包容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00:42:54Z</dcterms:created>
  <dc:creator>fd</dc:creator>
  <dc:description/>
  <dc:language>en-US</dc:language>
  <cp:lastModifiedBy>Sky123.Org</cp:lastModifiedBy>
  <dcterms:modified xsi:type="dcterms:W3CDTF">2015-08-28T08:42:59Z</dcterms:modified>
  <cp:revision>46</cp:revision>
  <dc:subject/>
  <dc:title> 管理者应有的情绪管理能力</dc:title>
</cp:coreProperties>
</file>