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7.gif" ContentType="image/gif"/>
  <Override PartName="/ppt/media/image5.jpeg" ContentType="image/jpeg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jpeg" ContentType="image/jpeg"/>
  <Override PartName="/ppt/media/image1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076-2EE8-482B-8CD5-C2548D1E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A5B-F7BE-41BA-AC00-F0AA6CE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333-C15A-43C7-9F79-D95F448B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E80-10A2-4D5B-914F-63BEA5E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F07F-CFFA-4B9E-98F7-2C36DBC2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A4C-8239-4C34-A35A-B5E9710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12EA-69ED-4BC2-8B2B-7A98F73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0984-C096-4B58-B0A7-B95DFDE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81A-28C7-4228-A177-299C40B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234-12F0-4425-858A-9E5031C5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1786-2862-44A3-9EA0-6A70F02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C7A-55FF-4E60-BED1-26AE6861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9899-1080-454F-ACF9-FECD968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081D-90B6-4108-87B1-D312F0D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3306-2278-4D42-AC6C-D572107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2434-A268-436E-BBE3-EF399A3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8C77-EFB0-4B12-B36F-F20CB6E1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68E8-8F5F-4E13-9D5A-45FD1ECA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EE43-F89F-4966-A3A9-A461A579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DBD2-5D05-486B-91AD-0B8BDEF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F6B9-0709-46ED-9844-20F88D28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637F-10C3-4774-98B0-0F49ACB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4D1-8235-40E9-A11C-B2FC716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0D47-FFF2-40B3-B4CC-76E6DB35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60F3-8AC9-4272-9520-DBB99A9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4951-62D4-4E82-BAF6-D40950B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6944-099F-426C-A0E3-A7DBEFF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94F3-B2D9-45B3-B4DC-C2391C4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DDDD-D18E-468F-87C7-71A5D081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487A-316E-4867-BACC-8F7D88BF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1E99-67A2-4C50-B226-1C25C4B4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0B28-759F-46D6-8301-5B7A8FC8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987C-1D94-4B94-8573-290CD43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5A2-8ED2-4A2B-BE66-D5A39B19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94DE-3F70-4FF1-BC47-437F3B9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1F60-49F4-40A7-965C-609D5257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9B6E-1B13-4FAC-8FB1-81654BC3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8C76-8DF4-4B7E-8971-9ABCADC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99CE-9322-473B-AA02-C351AD2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A979-A157-424E-BD2A-91711E9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9709-3FD0-4172-B06D-D7989C4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4359-9302-4285-84B5-827C9FA4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318B-67E8-4A0B-8DF9-563ABB1A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09DF-DEDA-4BC4-AFBB-93AAD284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C91-8B1F-49BB-BE6F-116C168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9E02-EBC9-4B6C-9846-42FD713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F575-3A9C-45B2-BB67-121A435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0BDE-9360-4E42-A56B-F939560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F5BB-E3EA-495A-839F-D374D0C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5996-FADF-43A4-A7BA-D528FFD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029A2-F6FA-4AEF-A27E-2A87EBF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2F43-7AC3-486D-8A29-9899100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8E79-8FB1-45F1-A00C-3617DA8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F6F55-A043-4039-B69D-4FCBDA5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8E41-2AB9-4676-9474-9FC97A53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871-C1D4-4A24-B8D2-CAF5C43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F998-AA87-4D79-9B70-597E6CE0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1CE-4074-4310-95BD-9F278D77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DD1-9D09-414D-88DE-B0DB7E4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9BC-0C3C-46F7-9DB7-5C665143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2ED2-5667-45B3-9F85-367632F9386E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18D-F400-4A31-B56D-B5ECFA6260C0}" type="slidenum">
              <a: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8BB0-7C1E-4622-B705-03833DA46793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764-9D5A-4D83-AE5A-D61665FEF185}" type="slidenum">
              <a: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886-0B13-4EF4-9751-F45A982BEA5D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9.xml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6840" y="1609200"/>
            <a:ext cx="353844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杜甫（公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712—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公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770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），汉族，河南巩县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今巩义市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人。字子美，自号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少陵野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，盛唐、中唐诗人，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伟大的现实主义诗人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。世称杜拾遗、杜工部。代表作有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“三吏”“三别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。他忧国忧民，人格高尚，诗艺精湛，被后世尊为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“诗圣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，其诗被称为</a:t>
            </a: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“诗史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图片 3" descr="杜甫02.jpg"/>
          <p:cNvPicPr/>
          <p:nvPr/>
        </p:nvPicPr>
        <p:blipFill>
          <a:blip r:embed="rId1"/>
          <a:stretch/>
        </p:blipFill>
        <p:spPr>
          <a:xfrm>
            <a:off x="4500720" y="1700280"/>
            <a:ext cx="3160440" cy="4176720"/>
          </a:xfrm>
          <a:prstGeom prst="rect">
            <a:avLst/>
          </a:prstGeom>
          <a:ln w="0">
            <a:noFill/>
          </a:ln>
        </p:spPr>
      </p:pic>
      <p:pic>
        <p:nvPicPr>
          <p:cNvPr id="222" name="标题 4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" descr="返回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玄宗天宝十四载（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55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年）十一月，平卢、范阳、河东三镇节度使安禄山诡称奉密诏讨杨国忠，在范阳起兵叛唐，很快便攻下洛阳。第二年正月称雄武皇帝，国号燕，占领长安。同时使其部将史思明占有河北十三郡地。玄宗逃往蜀郡，肃宗在灵武即位。叛军所至，残暴异常，人民纷起反抗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57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年，安禄山在洛阳为其子安庆绪所杀，长安、洛阳相继为唐将郭子仪等所收复，安庆绪退守邺郡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59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年，史思明杀安庆绪，回范阳自称应天皇帝，并再度攻下洛阳。两年后史思明为其子史朝义所杀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63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年，史朝义战败，走投无路，自缢而死，叛乱平定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0720" y="317520"/>
            <a:ext cx="7255080" cy="1150920"/>
            <a:chOff x="450720" y="317520"/>
            <a:chExt cx="7255080" cy="1150920"/>
          </a:xfrm>
        </p:grpSpPr>
        <p:pic>
          <p:nvPicPr>
            <p:cNvPr id="278" name="标题 1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55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 txBox="1"/>
            <p:nvPr/>
          </p:nvSpPr>
          <p:spPr>
            <a:xfrm>
              <a:off x="450720" y="317520"/>
              <a:ext cx="725508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0" name="图片 5" descr="返回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3" descr="2010-12-02_093837.jpg"/>
          <p:cNvPicPr/>
          <p:nvPr/>
        </p:nvPicPr>
        <p:blipFill>
          <a:blip r:embed="rId1"/>
          <a:stretch/>
        </p:blipFill>
        <p:spPr>
          <a:xfrm>
            <a:off x="684360" y="1125360"/>
            <a:ext cx="6879960" cy="2016360"/>
          </a:xfrm>
          <a:prstGeom prst="rect">
            <a:avLst/>
          </a:prstGeom>
          <a:ln w="0">
            <a:noFill/>
          </a:ln>
        </p:spPr>
      </p:pic>
      <p:pic>
        <p:nvPicPr>
          <p:cNvPr id="282" name="标题 8" descr=""/>
          <p:cNvPicPr/>
          <p:nvPr/>
        </p:nvPicPr>
        <p:blipFill>
          <a:blip r:embed="rId2"/>
          <a:stretch/>
        </p:blipFill>
        <p:spPr>
          <a:xfrm>
            <a:off x="536400" y="109440"/>
            <a:ext cx="7248600" cy="79848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6" descr="返回.gif"/>
          <p:cNvPicPr/>
          <p:nvPr/>
        </p:nvPicPr>
        <p:blipFill>
          <a:blip r:embed="rId3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450720" y="317520"/>
            <a:ext cx="7255080" cy="1150920"/>
            <a:chOff x="450720" y="317520"/>
            <a:chExt cx="7255080" cy="1150920"/>
          </a:xfrm>
        </p:grpSpPr>
        <p:pic>
          <p:nvPicPr>
            <p:cNvPr id="285" name="标题 1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55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450720" y="317520"/>
              <a:ext cx="725508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456840" y="1609200"/>
            <a:ext cx="7427880" cy="48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盛唐诗歌的另一转变时期是天宝年间。这时社会繁荣富庶似乎已达到了它的顶点，上层统治阶级、阶层的相互勾结、杀戮、争夺权力、掠取财物，以及种种腐朽现象，正以长安为中心，日益发展。社会矛盾已到达了饱和点，安史之乱是这种矛盾发展的结果。这也是杜甫诗歌风格逐步形成的时期。这时，我们可以看到，高适、岑参正来往于西北的烽火边塞；王维已满足于他取得的社会地位和文艺成就，定居在长安郊区美丽别墅写他的田园诗；李颀、王昌龄等人忙碌于做他们的地方官，不时发出不平之鸣，大诗人李白正继续在南北各地游历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…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杜甫则正在长安这一政治斗争的中心，锤炼他的诗风。（陈贻焮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杜甫评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直接连接符 4"/>
          <p:cNvSpPr/>
          <p:nvPr/>
        </p:nvSpPr>
        <p:spPr>
          <a:xfrm>
            <a:off x="4716360" y="4149720"/>
            <a:ext cx="288000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971640" y="4508640"/>
            <a:ext cx="6624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971640" y="4869000"/>
            <a:ext cx="6624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"/>
          <p:cNvSpPr/>
          <p:nvPr/>
        </p:nvSpPr>
        <p:spPr>
          <a:xfrm>
            <a:off x="971640" y="5229360"/>
            <a:ext cx="6624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9"/>
          <p:cNvSpPr/>
          <p:nvPr/>
        </p:nvSpPr>
        <p:spPr>
          <a:xfrm>
            <a:off x="971640" y="5589720"/>
            <a:ext cx="6624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0"/>
          <p:cNvSpPr/>
          <p:nvPr/>
        </p:nvSpPr>
        <p:spPr>
          <a:xfrm>
            <a:off x="971640" y="5950080"/>
            <a:ext cx="6624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1"/>
          <p:cNvSpPr/>
          <p:nvPr/>
        </p:nvSpPr>
        <p:spPr>
          <a:xfrm>
            <a:off x="900000" y="6308640"/>
            <a:ext cx="295128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2" descr="返回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03360" y="255600"/>
            <a:ext cx="7254720" cy="1182600"/>
            <a:chOff x="603360" y="255600"/>
            <a:chExt cx="7254720" cy="1182600"/>
          </a:xfrm>
        </p:grpSpPr>
        <p:pic>
          <p:nvPicPr>
            <p:cNvPr id="297" name="标题 1" descr=""/>
            <p:cNvPicPr/>
            <p:nvPr/>
          </p:nvPicPr>
          <p:blipFill>
            <a:blip r:embed="rId1"/>
            <a:stretch/>
          </p:blipFill>
          <p:spPr>
            <a:xfrm>
              <a:off x="603360" y="255600"/>
              <a:ext cx="7254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 txBox="1"/>
            <p:nvPr/>
          </p:nvSpPr>
          <p:spPr>
            <a:xfrm>
              <a:off x="603360" y="255600"/>
              <a:ext cx="7254720" cy="11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456840" y="1609200"/>
            <a:ext cx="7427880" cy="4843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杜甫，字子美，本襄阳人，后徙河南巩县。曾祖依艺，位终巩令。祖审言，位终膳部员外郎，自有传。父闲，终奉天令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甫天宝初应进士不第。天宝末，献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三大礼赋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。玄宗奇之，召试文章，授京兆府兵曹参军。十五载，禄山陷京师，肃宗征兵灵武。甫自京师宵遁赴河西，谒肃宗于彭原郡，拜右拾遗。房琯布衣时与甫善，时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琯（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guǎn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为宰相，请自帅师讨贼，帝许之。其年十月，琯兵败于陈淘斜。明年春，琯罢相。甫上疏言琯有才，不宜罢免。肃宗怒，贬琯为刺史，出甫为华州司功参军。时关畿乱离，谷食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踊贵（踊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yǒng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贵：物价上涨），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甫寓居成州同谷县，自负薪采梠，儿女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饿殍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殍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piǎo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：饿死，饿死的人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者数人。久之，召补京兆府功曹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7192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图片 3" descr="继续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23640" y="404280"/>
            <a:ext cx="7777080" cy="626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上元二年冬，黄门侍郎、郑国公严武镇成都，奏为节度参谋、检校尚书工部员外郎，赐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绯鱼袋（指绯衣与鱼符袋。旧时朝官的服饰。唐制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五品以上佩鱼符袋，宋因之。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。武与甫世旧，待遇甚隆。甫性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褊躁（褊躁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biǎn zào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：气量狭小，急躁），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无器度，恃恩放恣。尝凭醉登武之床，瞪视武曰：“严挺之乃有此儿！”武虽急暴，不以为忤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甫于成都浣花里种竹植树，结庐枕江，纵酒啸咏，与田畯野老相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狎（亲近而态度不庄重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荡，无拘检。严武过之，有时不冠，其傲诞如此。永泰元年夏，武卒，甫无所依。及郭英乂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（乂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yì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代武镇成都，英乂武人粗暴，无能刺谒，乃游东蜀依高适。既至而适卒。是岁，崔宁杀英乂，杨子琳攻西川，蜀中大乱。甫以其家避乱荆、楚，扁舟下峡，未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维舟（系船停泊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而江陵乱，乃溯沿湘流，游衡山，寓居耒阳。甫尝游岳庙，为暴水所阻，旬日不得食。耒阳县令知之，自棹舟迎甫而还。永泰二年，啖牛肉白酒，一夕而卒于耒阳，时年五十九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子宗武，流落湖、湘而卒。元和中，宗武子嗣业，自来阳迁甫之柩，归葬于偃师县西北首阳山之前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647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图片 3" descr="继续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536400" y="328680"/>
            <a:ext cx="7248600" cy="1152360"/>
            <a:chOff x="536400" y="328680"/>
            <a:chExt cx="7248600" cy="1152360"/>
          </a:xfrm>
        </p:grpSpPr>
        <p:pic>
          <p:nvPicPr>
            <p:cNvPr id="304" name="标题 1" descr=""/>
            <p:cNvPicPr/>
            <p:nvPr/>
          </p:nvPicPr>
          <p:blipFill>
            <a:blip r:embed="rId1"/>
            <a:stretch/>
          </p:blipFill>
          <p:spPr>
            <a:xfrm>
              <a:off x="536400" y="328680"/>
              <a:ext cx="7248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 txBox="1"/>
            <p:nvPr/>
          </p:nvSpPr>
          <p:spPr>
            <a:xfrm>
              <a:off x="536400" y="328680"/>
              <a:ext cx="724860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甫，字子美，京兆人。审言生闲，闲生甫。少贫不自振，客吴越、齐赵间。李邕奇其材，先往见之。举进士不中第，困长安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天宝十载，玄宗朝献太清宫、飨庙及郊，甫奏赋三篇，帝奇之，使待诏集贤院，命宰相试文章。擢河西尉，不拜，改右卫率府胄曹参军。数上赋颂，高自称道，且言：“先臣恕、预以来，承儒守官十一世，迨审言以文章显。臣赖绪业，自七岁属辞，且四十年，然衣不盖体，常寄食于人，窃恐转死沟壑，伏惟天子哀怜之。若令执先臣故事，拔泥涂久辱，则臣之述作，虽不足鼓吹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（宣传，宣扬）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六经，先鸣数子，至沉郁顿挫，随时</a:t>
            </a: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敏给（敏捷），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扬雄、枚皋，可企及也。有臣如此，陛下其忍弃之！”会禄山乱，天子入蜀，甫避走三川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7192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图片 3" descr="继续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50920" y="259920"/>
            <a:ext cx="7634160" cy="61930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肃宗立，自鄜州羸服（穿破旧的衣服）欲奔行在，为贼所得。至德二年，亡走凤翔，上谒，拜左拾遗。与房琯为布衣交，琯时败兵，又以琴客董廷兰之故罢相，甫上疏言：“罪细，不宜免大臣。”帝怒，诏三司杂问。宰相张镐曰：“甫若抵罪，绝言者路。”帝解，不复问。时所在寇夺，甫家寓鄜，弥年艰窭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ù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贫穷，贫寒），孺弱至饿死，因许甫自往省视。徙还京师，出为华州司功参军。关辅饥，辄弃官去。客秦州，负薪拾橡栗自给。流落剑南，营草堂成都西郭浣花溪。召补京兆功曹参军，不至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会严武节度剑南西川，往依焉。武再帅剑南，表为参谋，检校工部员外郎。武以世旧，待甫甚善，亲诣其家。甫见之，或时不巾，而性褊躁傲诞，常醉登武床，瞪视曰：“严挺之乃有此儿！”武中衔之。一日，欲杀甫，集吏于门，武将出，冠钩于帘者三，左右走报其母，力救得止。崔旰等乱，甫往来梓、夔间。大历中，出瞿塘，溯沅、湘以登衡山。因客耒阳，游岳祠，大水暴至，涉旬不得食，县令具舟迎之，乃得还，为设牛炙白酒，大醉，一昔卒，年五十九。甫放旷不自检，好论天下大事，高而不切也。与李白齐名，时号“李杜”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7192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图片 3" descr="返回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标题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354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读了本篇人物传记，结合你对杜甫的学习和了解，谈谈你的杜甫印象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图片 3" descr="学习照片 260.jpg"/>
          <p:cNvPicPr/>
          <p:nvPr/>
        </p:nvPicPr>
        <p:blipFill>
          <a:blip r:embed="rId2"/>
          <a:stretch/>
        </p:blipFill>
        <p:spPr>
          <a:xfrm>
            <a:off x="684360" y="2492280"/>
            <a:ext cx="6696000" cy="4213440"/>
          </a:xfrm>
          <a:prstGeom prst="rect">
            <a:avLst/>
          </a:prstGeom>
          <a:ln w="0">
            <a:noFill/>
          </a:ln>
        </p:spPr>
      </p:pic>
      <p:sp>
        <p:nvSpPr>
          <p:cNvPr id="313" name="圆角矩形标注 4"/>
          <p:cNvSpPr/>
          <p:nvPr/>
        </p:nvSpPr>
        <p:spPr>
          <a:xfrm>
            <a:off x="6875640" y="620640"/>
            <a:ext cx="2268360" cy="1368360"/>
          </a:xfrm>
          <a:prstGeom prst="wedgeRoundRectCallout">
            <a:avLst>
              <a:gd name="adj1" fmla="val -117925"/>
              <a:gd name="adj2" fmla="val 8981"/>
              <a:gd name="adj3" fmla="val 16667"/>
            </a:avLst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Trebuchet MS"/>
                <a:ea typeface="华文新魏"/>
              </a:rPr>
              <a:t>探究性学习：</a:t>
            </a: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华文新魏"/>
              </a:rPr>
              <a:t>写一篇不少于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华文新魏"/>
              </a:rPr>
              <a:t>500</a:t>
            </a: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华文新魏"/>
              </a:rPr>
              <a:t>字的文章，从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华文新魏"/>
              </a:rPr>
              <a:t>2~3</a:t>
            </a: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华文新魏"/>
              </a:rPr>
              <a:t>个方面评述杜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5" descr="返回.gif"/>
          <p:cNvPicPr/>
          <p:nvPr/>
        </p:nvPicPr>
        <p:blipFill>
          <a:blip r:embed="rId3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10920" y="178272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琥珀"/>
                <a:ea typeface="华文琥珀"/>
              </a:rPr>
              <a:t>绝句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迟日江山丽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春风花草香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泥融飞燕子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沙暖睡鸳鸯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6400" y="182520"/>
            <a:ext cx="7248600" cy="1152720"/>
            <a:chOff x="536400" y="182520"/>
            <a:chExt cx="7248600" cy="1152720"/>
          </a:xfrm>
        </p:grpSpPr>
        <p:pic>
          <p:nvPicPr>
            <p:cNvPr id="317" name="标题 1" descr=""/>
            <p:cNvPicPr/>
            <p:nvPr/>
          </p:nvPicPr>
          <p:blipFill>
            <a:blip r:embed="rId1"/>
            <a:stretch/>
          </p:blipFill>
          <p:spPr>
            <a:xfrm>
              <a:off x="536400" y="182520"/>
              <a:ext cx="72486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 txBox="1"/>
            <p:nvPr/>
          </p:nvSpPr>
          <p:spPr>
            <a:xfrm>
              <a:off x="536400" y="182520"/>
              <a:ext cx="724860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9" name="内容占位符 2"/>
          <p:cNvSpPr/>
          <p:nvPr/>
        </p:nvSpPr>
        <p:spPr>
          <a:xfrm>
            <a:off x="5580000" y="1782720"/>
            <a:ext cx="23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2060"/>
                </a:solidFill>
                <a:latin typeface="华文琥珀"/>
                <a:ea typeface="华文琥珀"/>
              </a:rPr>
              <a:t>登岳阳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昔闻洞庭水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今上岳阳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吴楚东南坼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乾坤日夜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亲朋无一字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老病有孤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戎马关山北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凭轩涕泗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6" descr="继续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321" name="矩形 6"/>
          <p:cNvSpPr/>
          <p:nvPr/>
        </p:nvSpPr>
        <p:spPr>
          <a:xfrm>
            <a:off x="2862360" y="1782720"/>
            <a:ext cx="2646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琥珀"/>
                <a:ea typeface="华文琥珀"/>
              </a:rPr>
              <a:t>春夜喜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好雨知时节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当春乃发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随风潜入夜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润物细无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野径云俱黑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江船火独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晓看红湿处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华文新魏"/>
              </a:rPr>
              <a:t>花重锦官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内容占位符 2"/>
          <p:cNvSpPr/>
          <p:nvPr/>
        </p:nvSpPr>
        <p:spPr>
          <a:xfrm>
            <a:off x="539640" y="907920"/>
            <a:ext cx="24480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望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岱宗夫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齐鲁青未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造化钟神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阴阳割昏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荡胸生层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决眦入归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会当凌绝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览众山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6" descr="继续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2833200" y="90792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月夜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夜鄜州月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闺中只独看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怜小儿女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未解忆长安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香雾云鬟湿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清辉玉臂寒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何时倚虚幌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照泪痕干？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内容占位符 2"/>
          <p:cNvSpPr/>
          <p:nvPr/>
        </p:nvSpPr>
        <p:spPr>
          <a:xfrm>
            <a:off x="5291280" y="907920"/>
            <a:ext cx="2736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月夜忆舍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戍鼓断人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边秋一雁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露从今夜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是故乡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弟皆分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家问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寄书长不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况乃未休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标题 1" descr=""/>
          <p:cNvPicPr/>
          <p:nvPr/>
        </p:nvPicPr>
        <p:blipFill>
          <a:blip r:embed="rId2"/>
          <a:stretch/>
        </p:blipFill>
        <p:spPr>
          <a:xfrm>
            <a:off x="0" y="0"/>
            <a:ext cx="2638440" cy="1224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杜甫01.jpg"/>
          <p:cNvPicPr/>
          <p:nvPr/>
        </p:nvPicPr>
        <p:blipFill>
          <a:blip r:embed="rId3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"/>
          <p:cNvSpPr/>
          <p:nvPr/>
        </p:nvSpPr>
        <p:spPr>
          <a:xfrm>
            <a:off x="250920" y="1557360"/>
            <a:ext cx="2197080" cy="489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此意竟萧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行歌非隐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骑驴十三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旅食京华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朝扣富儿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暮随肥马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残杯与冷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Trebuchet MS"/>
                <a:ea typeface="华文新魏"/>
              </a:rPr>
              <a:t>到处潜悲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奉赠韦左丞丈二十二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6" descr="继续.gif"/>
          <p:cNvPicPr/>
          <p:nvPr/>
        </p:nvPicPr>
        <p:blipFill>
          <a:blip r:embed="rId5"/>
          <a:stretch/>
        </p:blipFill>
        <p:spPr>
          <a:xfrm>
            <a:off x="8156520" y="6313320"/>
            <a:ext cx="952560" cy="571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内容占位符 2"/>
          <p:cNvSpPr/>
          <p:nvPr/>
        </p:nvSpPr>
        <p:spPr>
          <a:xfrm>
            <a:off x="468360" y="907920"/>
            <a:ext cx="2519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华文琥珀"/>
                <a:ea typeface="华文琥珀"/>
              </a:rPr>
              <a:t>旅夜书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细草微风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危樯独夜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星垂平野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涌大江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岂文章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官应老病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飘飘何所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地一沙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5" descr="继续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773080" y="907920"/>
            <a:ext cx="242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春望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破山河在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城春草木深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时花溅泪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恨别鸟惊心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烽火连三月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书抵万金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头搔更短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浑欲不胜簪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内容占位符 2"/>
          <p:cNvSpPr/>
          <p:nvPr/>
        </p:nvSpPr>
        <p:spPr>
          <a:xfrm>
            <a:off x="5148360" y="907920"/>
            <a:ext cx="2736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登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急天高猿啸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渚清沙白鸟飞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边落木萧萧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尽长江滚滚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万里悲秋常作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百年多病独登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艰难苦恨繁霜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潦倒新停浊酒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6"/>
          <p:cNvSpPr/>
          <p:nvPr/>
        </p:nvSpPr>
        <p:spPr>
          <a:xfrm>
            <a:off x="817560" y="1125360"/>
            <a:ext cx="25923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蜀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丞相祠堂何处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锦官城外柏森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映阶碧草自春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隔叶黄鹂空好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顾频烦天下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朝开济老臣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师未捷身先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长使英雄泪满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" descr="继续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129200" y="1125360"/>
            <a:ext cx="3682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客</a:t>
            </a:r>
            <a:r>
              <a:rPr b="0" lang="en-US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  </a:t>
            </a: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舍南舍北皆春水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但见群鸥日日来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花径不曾缘客扫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蓬门今始为君开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盘飧市远无兼味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樽酒家贫只旧醅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肯与邻翁相对饮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隔篱呼取尽余杯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5" descr="返回.gif"/>
          <p:cNvPicPr/>
          <p:nvPr/>
        </p:nvPicPr>
        <p:blipFill>
          <a:blip r:embed="rId1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334" name="矩形 6"/>
          <p:cNvSpPr/>
          <p:nvPr/>
        </p:nvSpPr>
        <p:spPr>
          <a:xfrm>
            <a:off x="611280" y="1052640"/>
            <a:ext cx="36352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琥珀"/>
                <a:ea typeface="华文琥珀"/>
              </a:rPr>
              <a:t>闻官军收河南河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剑外忽传收蓟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闻涕泪满衣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却看妻子愁何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漫卷诗书喜欲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日放歌须纵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春作伴好还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从巴峡穿巫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便下襄阳向洛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99920"/>
            <a:ext cx="7570800" cy="475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纨袴不饿死，儒冠多误身。丈人试静听，贱子请具陈：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甫昔少年日，早充观国宾。读书破万卷，下笔如有神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赋料扬雄敌，诗看子建亲。李邕求识面，王翰愿卜邻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自谓颇挺出，立登要路津。致君尧舜上，再使风俗淳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rebuchet MS"/>
              </a:rPr>
              <a:t>此意竟萧条，行歌非隐沦。骑驴十三载，旅食京华春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rebuchet MS"/>
              </a:rPr>
              <a:t>朝扣富儿门，暮随肥马尘。残杯与冷炙，到处潜悲辛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主上顷见征，歘然欲求伸。青冥却垂翅，蹭蹬无纵鳞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甚愧丈人厚，甚知丈人真。每于百僚上，猥诵佳句新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窃效贡公喜，难甘原宪贫。焉能心怏怏？只是走踆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今欲东入海，即将西去秦。尚怜终南山，回首清渭滨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常拟报一饭，况怀辞大臣。白鸥没浩荡，万里谁能驯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直接连接符 6"/>
          <p:cNvSpPr/>
          <p:nvPr/>
        </p:nvSpPr>
        <p:spPr>
          <a:xfrm>
            <a:off x="4356000" y="2492280"/>
            <a:ext cx="3168720" cy="0"/>
          </a:xfrm>
          <a:prstGeom prst="line">
            <a:avLst/>
          </a:prstGeom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"/>
          <p:cNvSpPr/>
          <p:nvPr/>
        </p:nvSpPr>
        <p:spPr>
          <a:xfrm>
            <a:off x="4356000" y="3284640"/>
            <a:ext cx="3168720" cy="0"/>
          </a:xfrm>
          <a:prstGeom prst="line">
            <a:avLst/>
          </a:prstGeom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5" descr="返回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标题 1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b0f0"/>
                </a:solidFill>
                <a:latin typeface="Trebuchet MS"/>
              </a:rPr>
              <a:t>致君尧舜上，再使风俗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穷年忧黎元，叹息肠内热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万里悲秋常作客，百年多病独登台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丛菊两开他日泪，孤舟一系故园心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线形标注 1 3"/>
          <p:cNvSpPr/>
          <p:nvPr/>
        </p:nvSpPr>
        <p:spPr>
          <a:xfrm>
            <a:off x="5435640" y="1916280"/>
            <a:ext cx="2305080" cy="649080"/>
          </a:xfrm>
          <a:prstGeom prst="borderCallout1">
            <a:avLst>
              <a:gd name="adj1" fmla="val 18750"/>
              <a:gd name="adj2" fmla="val -8333"/>
              <a:gd name="adj3" fmla="val 41953"/>
              <a:gd name="adj4" fmla="val -4665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rebuchet MS"/>
                <a:ea typeface="华文新魏"/>
              </a:rPr>
              <a:t>少有凌云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线形标注 1 4"/>
          <p:cNvSpPr/>
          <p:nvPr/>
        </p:nvSpPr>
        <p:spPr>
          <a:xfrm>
            <a:off x="5651640" y="2781360"/>
            <a:ext cx="2089080" cy="647640"/>
          </a:xfrm>
          <a:prstGeom prst="borderCallout1">
            <a:avLst>
              <a:gd name="adj1" fmla="val 18750"/>
              <a:gd name="adj2" fmla="val -8333"/>
              <a:gd name="adj3" fmla="val 41953"/>
              <a:gd name="adj4" fmla="val -4665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rebuchet MS"/>
                <a:ea typeface="华文新魏"/>
              </a:rPr>
              <a:t>忧国忧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线形标注 1 7"/>
          <p:cNvSpPr/>
          <p:nvPr/>
        </p:nvSpPr>
        <p:spPr>
          <a:xfrm>
            <a:off x="6084720" y="3645000"/>
            <a:ext cx="2087640" cy="647640"/>
          </a:xfrm>
          <a:prstGeom prst="borderCallout1">
            <a:avLst>
              <a:gd name="adj1" fmla="val 18750"/>
              <a:gd name="adj2" fmla="val -8333"/>
              <a:gd name="adj3" fmla="val 44226"/>
              <a:gd name="adj4" fmla="val -922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rebuchet MS"/>
                <a:ea typeface="华文新魏"/>
              </a:rPr>
              <a:t>穷困潦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线形标注 1 8"/>
          <p:cNvSpPr/>
          <p:nvPr/>
        </p:nvSpPr>
        <p:spPr>
          <a:xfrm>
            <a:off x="6084720" y="4508640"/>
            <a:ext cx="2087640" cy="649080"/>
          </a:xfrm>
          <a:prstGeom prst="borderCallout1">
            <a:avLst>
              <a:gd name="adj1" fmla="val 18750"/>
              <a:gd name="adj2" fmla="val -8333"/>
              <a:gd name="adj3" fmla="val 41953"/>
              <a:gd name="adj4" fmla="val -78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rebuchet MS"/>
                <a:ea typeface="华文新魏"/>
              </a:rPr>
              <a:t>颠沛流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9" descr="返回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中的三个选题部分对应了杜甫人生中的哪三个重要的阶段？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rebuchet MS"/>
              </a:rPr>
              <a:t>长安十年</a:t>
            </a:r>
            <a:r>
              <a:rPr b="1" lang="en-US" sz="2600" spc="-1" strike="noStrike">
                <a:solidFill>
                  <a:srgbClr val="0000ff"/>
                </a:solidFill>
                <a:latin typeface="Trebuchet MS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rebuchet MS"/>
              </a:rPr>
              <a:t>流亡</a:t>
            </a:r>
            <a:r>
              <a:rPr b="1" lang="en-US" sz="2600" spc="-1" strike="noStrike">
                <a:solidFill>
                  <a:srgbClr val="0000ff"/>
                </a:solidFill>
                <a:latin typeface="Trebuchet MS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rebuchet MS"/>
              </a:rPr>
              <a:t>侍奉皇帝与走向人民</a:t>
            </a:r>
            <a:r>
              <a:rPr b="1" lang="en-US" sz="2600" spc="-1" strike="noStrike">
                <a:solidFill>
                  <a:srgbClr val="0000ff"/>
                </a:solidFill>
                <a:latin typeface="Trebuchet MS"/>
              </a:rPr>
              <a:t>——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圆角矩形 3"/>
          <p:cNvSpPr/>
          <p:nvPr/>
        </p:nvSpPr>
        <p:spPr>
          <a:xfrm>
            <a:off x="2411280" y="2421000"/>
            <a:ext cx="5256360" cy="936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追求功名，希望能“承儒守官”，“致君尧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4"/>
          <p:cNvSpPr/>
          <p:nvPr/>
        </p:nvSpPr>
        <p:spPr>
          <a:xfrm>
            <a:off x="2411280" y="3573360"/>
            <a:ext cx="5689800" cy="9352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安史之乱，玄宗西窜，杜甫“走避三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5"/>
          <p:cNvSpPr/>
          <p:nvPr/>
        </p:nvSpPr>
        <p:spPr>
          <a:xfrm>
            <a:off x="3995640" y="5013360"/>
            <a:ext cx="3745080" cy="1339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从追求功名转向关注人民，关心百姓疾苦。以“三吏”“三别”为代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7" descr="继续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标题 1" descr=""/>
          <p:cNvPicPr/>
          <p:nvPr/>
        </p:nvPicPr>
        <p:blipFill>
          <a:blip r:embed="rId1"/>
          <a:stretch/>
        </p:blipFill>
        <p:spPr>
          <a:xfrm>
            <a:off x="250920" y="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5280" y="1267920"/>
            <a:ext cx="7238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杜甫生活在一个怎样的社会背景之下？他个人的命运与国家的命运有怎样的联系？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下箭头标注 3"/>
          <p:cNvSpPr/>
          <p:nvPr/>
        </p:nvSpPr>
        <p:spPr>
          <a:xfrm>
            <a:off x="1042920" y="2133720"/>
            <a:ext cx="5832720" cy="1079280"/>
          </a:xfrm>
          <a:prstGeom prst="downArrowCallout">
            <a:avLst>
              <a:gd name="adj1" fmla="val 25022"/>
              <a:gd name="adj2" fmla="val 24995"/>
              <a:gd name="adj3" fmla="val 25000"/>
              <a:gd name="adj4" fmla="val 6497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唐王朝由极盛走向衰落：盛唐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华文新魏"/>
              </a:rPr>
              <a:t>中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双大括号 5"/>
          <p:cNvSpPr/>
          <p:nvPr/>
        </p:nvSpPr>
        <p:spPr>
          <a:xfrm>
            <a:off x="179280" y="3284640"/>
            <a:ext cx="8101080" cy="2952720"/>
          </a:xfrm>
          <a:prstGeom prst="bracePair">
            <a:avLst>
              <a:gd name="adj" fmla="val 8333"/>
            </a:avLst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懒于朝政，任用奸相李林甫，炮制了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野无遗贤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的科场弊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迷信道教，寻求方士，神仙，希望长生不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贪于杨玉环的美色，荒淫无度。奸臣杨国忠也有机会乘隙而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好大喜功，穷兵黩武，不断发动侵略战争，开疆拓土，劳民伤财，生灵涂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轻信安禄山的花言巧语，委以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三镇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，养虎为患，为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安史之乱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的爆发埋下了祸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8" descr="链接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4581360"/>
            <a:ext cx="719280" cy="4320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链接.gif"/>
          <p:cNvPicPr/>
          <p:nvPr/>
        </p:nvPicPr>
        <p:blipFill>
          <a:blip r:embed="rId4"/>
          <a:stretch/>
        </p:blipFill>
        <p:spPr>
          <a:xfrm>
            <a:off x="7308720" y="5805360"/>
            <a:ext cx="719280" cy="4320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7" descr="继续.gif"/>
          <p:cNvPicPr/>
          <p:nvPr/>
        </p:nvPicPr>
        <p:blipFill>
          <a:blip r:embed="rId5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38120" y="738360"/>
            <a:ext cx="4786200" cy="755640"/>
            <a:chOff x="438120" y="738360"/>
            <a:chExt cx="4786200" cy="755640"/>
          </a:xfrm>
        </p:grpSpPr>
        <p:pic>
          <p:nvPicPr>
            <p:cNvPr id="254" name="标题 1" descr=""/>
            <p:cNvPicPr/>
            <p:nvPr/>
          </p:nvPicPr>
          <p:blipFill>
            <a:blip r:embed="rId1"/>
            <a:stretch/>
          </p:blipFill>
          <p:spPr>
            <a:xfrm>
              <a:off x="438120" y="738360"/>
              <a:ext cx="4786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438120" y="738360"/>
              <a:ext cx="4786200" cy="7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6" name=""/>
          <p:cNvSpPr txBox="1"/>
          <p:nvPr/>
        </p:nvSpPr>
        <p:spPr>
          <a:xfrm>
            <a:off x="539640" y="177336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选文记叙了诗人杜甫哪些主要的社会交往？这些交往对唐代诗歌的繁荣有怎样的积极影响？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双大括号 3"/>
          <p:cNvSpPr/>
          <p:nvPr/>
        </p:nvSpPr>
        <p:spPr>
          <a:xfrm>
            <a:off x="900000" y="3068640"/>
            <a:ext cx="6551640" cy="2305080"/>
          </a:xfrm>
          <a:prstGeom prst="bracePair">
            <a:avLst>
              <a:gd name="adj" fmla="val 8333"/>
            </a:avLst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华文新魏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汝阳王李琎和附马郑潜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尚书左丞韦济。（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748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年迁入京都，比杜甫晚一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友人王倚、高适、岑参、郑虔、苏源明、孙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华文新魏"/>
              </a:rPr>
              <a:t>好友兼宰相房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7" descr="链接.gif"/>
          <p:cNvPicPr/>
          <p:nvPr/>
        </p:nvPicPr>
        <p:blipFill>
          <a:blip r:embed="rId2"/>
          <a:stretch/>
        </p:blipFill>
        <p:spPr>
          <a:xfrm>
            <a:off x="8191440" y="3429000"/>
            <a:ext cx="952560" cy="5716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5" descr="链接.gif"/>
          <p:cNvPicPr/>
          <p:nvPr/>
        </p:nvPicPr>
        <p:blipFill>
          <a:blip r:embed="rId3"/>
          <a:stretch/>
        </p:blipFill>
        <p:spPr>
          <a:xfrm>
            <a:off x="8172360" y="415296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6" descr="继续.gif"/>
          <p:cNvPicPr/>
          <p:nvPr/>
        </p:nvPicPr>
        <p:blipFill>
          <a:blip r:embed="rId4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标题 1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493040" cy="781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267920"/>
            <a:ext cx="70675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通过本文的阅读，你觉得传记文学的写作应该注意哪些方面？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矩形 3"/>
          <p:cNvSpPr/>
          <p:nvPr/>
        </p:nvSpPr>
        <p:spPr>
          <a:xfrm>
            <a:off x="250920" y="213372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记载人物经历的作品称传记，其中文学性较强的作品即是传记文学。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传记文学的基本特征是以历史上或现实生活中的人物为描写对象，所写的主要人物和事件必须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rebuchet MS"/>
                <a:ea typeface="华文新魏"/>
              </a:rPr>
              <a:t>符合史实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，不允许虚构。在局部细节和次要人物上则可以运用想象或夸张作一定的艺术加工，但这种加工也必须符合人物性格和生活的特定逻辑。</a:t>
            </a: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在这一点上它有别于以虚构为主的小说。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所写的人物生平经历必须具有相当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rebuchet MS"/>
                <a:ea typeface="华文新魏"/>
              </a:rPr>
              <a:t>完整性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。</a:t>
            </a: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在这一点上它有别于只写人物一事数事，突出性格某一方面的报告文学、人物特写等。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它必须写出较鲜明的人物形像，较生动的情节和语言，具有一定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rebuchet MS"/>
                <a:ea typeface="华文新魏"/>
              </a:rPr>
              <a:t>艺术感染力</a:t>
            </a: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。在这一点上它有别于普通的人物传。</a:t>
            </a:r>
            <a:r>
              <a:rPr b="1" lang="zh-CN" sz="2400" spc="-1" strike="noStrike" u="sng">
                <a:solidFill>
                  <a:srgbClr val="0070c0"/>
                </a:solidFill>
                <a:uFillTx/>
                <a:latin typeface="Trebuchet MS"/>
                <a:ea typeface="华文新魏"/>
              </a:rPr>
              <a:t>传记文学一般采用散文的形式和手法，有的和小说接近</a:t>
            </a:r>
            <a:r>
              <a:rPr b="1" lang="zh-CN" sz="2400" spc="-1" strike="noStrike">
                <a:solidFill>
                  <a:srgbClr val="0070c0"/>
                </a:solidFill>
                <a:latin typeface="Trebuchet MS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4" descr="返回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标题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82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609200"/>
            <a:ext cx="7427880" cy="48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汉皇重色思倾国，御宇多年求不得。杨家有女初长成，养在深闺人未识。天生丽质难自弃，一朝选在君王侧。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回眸一笑百媚生，六宫粉黛无颜色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。春寒赐浴华清池，温泉水滑洗凝脂。侍儿扶起娇无力，始是新承恩泽时。云鬓花颜金步摇，芙蓉帐暖度春宵。春宵苦短日高起，从此君王不早朝。承欢侍宴无闲暇，春从春游夜专夜。后宫佳丽三千人，三千宠爱在一身。金屋妆成娇侍夜，玉楼宴罢醉和春。姊妹弟兄皆列土，可怜光彩生门户。遂令天下父母心，不重生男重生女。骊宫高处入青云，仙乐风飘处处闻。缓歌漫舞凝丝竹，尽日君王看不足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直接连接符 4"/>
          <p:cNvSpPr/>
          <p:nvPr/>
        </p:nvSpPr>
        <p:spPr>
          <a:xfrm>
            <a:off x="4500720" y="3429000"/>
            <a:ext cx="31669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6"/>
          <p:cNvSpPr/>
          <p:nvPr/>
        </p:nvSpPr>
        <p:spPr>
          <a:xfrm>
            <a:off x="900000" y="378936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8"/>
          <p:cNvSpPr/>
          <p:nvPr/>
        </p:nvSpPr>
        <p:spPr>
          <a:xfrm>
            <a:off x="900000" y="414972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9"/>
          <p:cNvSpPr/>
          <p:nvPr/>
        </p:nvSpPr>
        <p:spPr>
          <a:xfrm>
            <a:off x="900000" y="450864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0"/>
          <p:cNvSpPr/>
          <p:nvPr/>
        </p:nvSpPr>
        <p:spPr>
          <a:xfrm>
            <a:off x="900000" y="486900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1"/>
          <p:cNvSpPr/>
          <p:nvPr/>
        </p:nvSpPr>
        <p:spPr>
          <a:xfrm>
            <a:off x="900000" y="522936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2"/>
          <p:cNvSpPr/>
          <p:nvPr/>
        </p:nvSpPr>
        <p:spPr>
          <a:xfrm>
            <a:off x="900000" y="5589720"/>
            <a:ext cx="684072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3"/>
          <p:cNvSpPr/>
          <p:nvPr/>
        </p:nvSpPr>
        <p:spPr>
          <a:xfrm>
            <a:off x="826920" y="6021360"/>
            <a:ext cx="2521080" cy="0"/>
          </a:xfrm>
          <a:prstGeom prst="line">
            <a:avLst/>
          </a:prstGeom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14" descr="返回.gif"/>
          <p:cNvPicPr/>
          <p:nvPr/>
        </p:nvPicPr>
        <p:blipFill>
          <a:blip r:embed="rId2"/>
          <a:stretch/>
        </p:blipFill>
        <p:spPr>
          <a:xfrm>
            <a:off x="8191440" y="628668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8:10:14Z</dcterms:created>
  <dc:creator>ZGC</dc:creator>
  <dc:description/>
  <cp:keywords/>
  <dc:language>en-US</dc:language>
  <cp:lastModifiedBy>t</cp:lastModifiedBy>
  <cp:lastPrinted>1899-12-30T00:00:00Z</cp:lastPrinted>
  <dcterms:modified xsi:type="dcterms:W3CDTF">2012-06-13T09:12:30Z</dcterms:modified>
  <cp:revision>171</cp:revision>
  <dc:subject/>
  <dc:title>杜甫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