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2EFE-4C95-487B-853D-814FBB33B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38736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705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CCA8-D51B-4513-B6D4-666C639C9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24000" y="38736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4121-90FE-4D3E-BC70-F02CC0FD2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24000" y="38736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705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705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705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37C5-5800-4310-B87A-FDB4BF128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76519-FF3F-4005-8F8A-CC1C665BC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24000" y="38736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38E12-F11F-4AE9-A274-09B2007C1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24000" y="38736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09225-7CD6-421F-9EDB-0777E083F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4000" y="38736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D0060-A3EB-4A88-85BD-920B923A1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38736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59DA1-90CD-4CE1-8E69-6921EF41E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24000" y="417600"/>
            <a:ext cx="5976720" cy="227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FFEBF-598E-4291-A2EE-83091A500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4000" y="38736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30BDD-A3DE-498D-85C1-A17683F0F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24000" y="38736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1D8F-6B8C-443B-9142-BCAB324EE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24000" y="38736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9B65A-C443-4A34-BE75-390AF79CF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24000" y="38736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705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B6DB1-7B3A-4142-8087-6DECD837A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38736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705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145AC-175D-4EA8-8E87-AFACF7981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24000" y="38736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D6423-1260-4AAC-BA68-55673A0D2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4000" y="38736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705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705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705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2FBB4-1908-46DD-8417-46F532C15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C10CBE-4C90-428C-9E8C-F44F79712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38736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03CE26-8369-4CD0-ACF7-34425A615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24000" y="38736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421B18-999F-4A64-ABC4-37DDDE2B0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24000" y="38736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BB295B-986D-479B-9CFE-404CB43AC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4000" y="38736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694A5F-4657-42E3-8A8B-F74AA79F6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24000" y="38736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7CBF-0D31-49BE-8323-87BBB0714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324000" y="417600"/>
            <a:ext cx="5976720" cy="227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9688E9-6E3C-4EB4-B81A-7BE5F6F1F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24000" y="38736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A1F783-6415-4B0D-962E-E2A9B9C54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24000" y="38736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C28CA5-328D-4A4D-8CD2-ED0A6BCEC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4000" y="38736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705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04B112-15EB-4C39-9EB6-D76C684CE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24000" y="38736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705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A886E3-0495-41CF-98BA-817520778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24000" y="38736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7CFF61-0ED2-400F-A018-B4169138E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4000" y="38736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705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705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705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CF88EC-1E21-41EC-98DB-FED147261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38736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E2CE-9FE7-47B8-82D5-053C05D89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4000" y="38736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B0B2-DF4D-4524-9E45-183457553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24000" y="417600"/>
            <a:ext cx="5976720" cy="227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3843-9A5B-437B-9F64-2D7055D46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4000" y="38736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0805-D5F8-43E1-8348-64E302260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38736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BBD1-EC90-461F-813B-2C2A6E0A8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38736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705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505D-772A-47A2-8D0B-9067059A5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3" descr="서브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B35B0-BB7E-4D45-9103-D71DC46E5F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324000" y="419040"/>
            <a:ext cx="597672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Gulim"/>
              </a:rPr>
              <a:t>Click to edit the title text format</a:t>
            </a:r>
            <a:endParaRPr b="1" i="1" lang="en-US" sz="30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4" descr="메인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ulim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ulim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ulim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ulim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ulim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ulim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ulim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324000" y="417600"/>
            <a:ext cx="597672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Gulim"/>
              </a:rPr>
              <a:t>Click to edit the title text format</a:t>
            </a: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C959F-D311-4518-9ED4-856E89266F1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38" descr="서브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ulim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ulim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ulim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ulim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ulim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ulim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ulim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324000" y="417600"/>
            <a:ext cx="597672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Gulim"/>
              </a:rPr>
              <a:t>Click to edit the title text format</a:t>
            </a: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5CE15-4A5A-4768-916E-B2BC4B217EA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24000" y="419040"/>
            <a:ext cx="597672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Gulim"/>
              </a:rPr>
              <a:t>Click To Edit Title Style</a:t>
            </a:r>
            <a:endParaRPr b="1" i="1" lang="en-US" sz="2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24000" y="417600"/>
            <a:ext cx="597672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Gulim"/>
              </a:rPr>
              <a:t>Click To Edit Title Style</a:t>
            </a:r>
            <a:endParaRPr b="1" i="1" lang="en-US" sz="2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5T06:36:06Z</dcterms:created>
  <dc:creator/>
  <dc:description/>
  <dc:language>en-US</dc:language>
  <cp:lastModifiedBy>king</cp:lastModifiedBy>
  <dcterms:modified xsi:type="dcterms:W3CDTF">2015-08-13T00:56:46Z</dcterms:modified>
  <cp:revision>9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