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436-AAD4-4971-B611-C8509FEC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31C-DC71-489D-8529-01D76047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8945-D299-46CA-876C-7D60ED66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9A6-5118-4D87-948B-BB9C612E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F45-4628-4167-BBD3-AB8978C6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906-18E4-484B-B226-766BC7B0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8F0-1C0F-4A5A-AA8A-130D07B4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1EF-7C82-4245-8E37-D8BBBE2A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D52-C45E-4152-909E-C80C2F59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50B-519E-4D2E-9723-72D6BE74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0DD-DEA5-40E4-8F14-F9ACE974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CE7-6124-4AA7-9536-2AF0AF41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1AA3-A72E-4FE2-9A78-BC5644CFBC4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36F9-B076-482C-AA32-A4CC35394EC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858000" y="928800"/>
            <a:ext cx="101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184080" y="350676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6715080" y="928800"/>
            <a:ext cx="708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29788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515520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222660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515520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-6912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79784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369600" y="1643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79808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4071960" y="1643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22266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336960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65516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-6912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494100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144072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342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690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72688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36916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386964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194076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65516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194076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451260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a</cp:lastModifiedBy>
  <dcterms:modified xsi:type="dcterms:W3CDTF">2015-06-26T03:16:01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