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A1D2-A798-4850-A98B-C84881FD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602-7767-4F4D-9F43-F787207E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1223-6424-45EC-9040-983DF396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BC72-DF90-47F8-956F-385C1731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149D-CF9E-4738-B7D4-3CF664E3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55F8-DBCC-4D45-B390-6CC774C9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11D2-B194-4FA4-A406-75248385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A31C-46B5-40C0-A7FE-E4F97B5F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7CC7-EB5D-4A97-9BB3-01AD4043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6553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27BF-D0F4-4081-856D-988C5EAB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6AF3-9DDF-4080-AD7B-1F5532C0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EF1-BF6A-4919-AEC6-69E1CA52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5EDF-C029-4430-AA23-3AB8CBB1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853D-AB45-4CDF-97E1-7FEE071D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3928-EACE-48F5-9344-967AAA41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56F2-C62A-4025-A78E-036D5EB2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433B-91D1-4250-959B-F29FDC4C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337E-DDE0-4797-9FA7-A08197C0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8CFD-676D-4D2F-9FC5-523A36ED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4ED3-3101-4A63-8BE7-F2EBB63C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6553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57C6-7005-4F7A-8ADE-15C4E953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D812-1FC5-4476-BC10-51BBE5B8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AE75-2AEB-4004-BB36-6A3FC2C7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EA2A-4035-4578-B886-B1317B51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P_SHOLI_TXT_Leprechaun_Ha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6440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86B1-CDD9-4F24-AC92-7152D7196307}" type="slidenum"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PP_SHOLI_TLE_Leprechaun_Ha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2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76440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DEEB-B335-435A-9210-BEE02A51DFB2}" type="slidenum"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模板标题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目录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谢谢观赏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9:02:16Z</dcterms:created>
  <dc:creator>张岩</dc:creator>
  <dc:description/>
  <dc:language>en-US</dc:language>
  <cp:lastModifiedBy>微软用户</cp:lastModifiedBy>
  <dcterms:modified xsi:type="dcterms:W3CDTF">2015-08-04T06:27:19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