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7B6-B137-4FA9-9197-4D7373BB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DE5-9916-40A3-A346-F8A8966D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B56-A33F-423A-8F2B-65D49FAF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1E7-28B5-4571-BDDF-AA15AE1A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5E5-21AA-4BE0-B343-69675871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E3E-4335-4F2D-9F6D-C9EA7D60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E69-EE15-48C6-B5E9-21A83A17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012-69B2-4547-86E9-8C1DA4E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128-C2EE-4FCC-A214-58675136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86F-DE37-4FF7-A73A-4D596ED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6C7-CC17-4C99-A856-F1087EC6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67C-72A1-4A93-A267-08B78D5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37F7-2217-4C86-BA8A-C543EAF5C5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cap="rnd" w="8892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cap="rnd" w="7632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副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63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63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461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63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63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63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666880" y="1905120"/>
            <a:ext cx="4310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7:16:05Z</dcterms:created>
  <dc:creator>Administrator</dc:creator>
  <dc:description/>
  <dc:language>en-US</dc:language>
  <cp:lastModifiedBy>蒋小琪</cp:lastModifiedBy>
  <dcterms:modified xsi:type="dcterms:W3CDTF">2012-05-07T21:30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