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3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37.gif" ContentType="image/gif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png" ContentType="image/png"/>
  <Override PartName="/ppt/media/image5.jpeg" ContentType="image/jpeg"/>
  <Override PartName="/ppt/media/image36.gif" ContentType="image/gif"/>
  <Override PartName="/ppt/media/image22.jpeg" ContentType="image/jpeg"/>
  <Override PartName="/ppt/media/image39.png" ContentType="image/png"/>
  <Override PartName="/ppt/media/image34.png" ContentType="image/png"/>
  <Override PartName="/ppt/media/image41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D9D1-36EC-4D8F-AB21-36B8B74F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F89-4F08-4A51-B7EF-990464D3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B94-5814-436A-A666-1BEF1D2A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2DF-7ED0-4895-AD08-65D9D520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4C3-EA57-4261-A3D3-F1065177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8906-3CA9-4533-9240-4F20CBB1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F6B-61BA-453D-B8AD-57DC77CB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586-EA67-4709-9015-FA285A5A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60D-E3E7-439A-8BA7-A0ACCC9B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803-BAF0-4C62-B80E-0DF46806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A40-08A4-4BFA-9F37-552F152D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4E9-59BF-4605-84F8-E23D52D5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3986-5E0C-491D-9541-F5018AA95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cn.netor.com/m/box200011/pic/m3175&#26753;&#21551;&#36229;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.baidu.com/i?ct=503316480&amp;z=16608900&amp;tn=baiduimagedetail&amp;word=&#20044;&#32433;&#24125;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.baidu.com/i?ct=503316480&amp;z=540310951&amp;tn=baiduimagedetail&amp;word=&#28436;&#21592;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image.baidu.com/i?ct=503316480&amp;z=814236400&amp;tn=baiduimagedetail&amp;word=&#21307;&#29983;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imgnews.baidu.com/ir?u=http://www.hlj.xinhuanet.com/uploadFile/20040831625390404.gif&amp;f=http://www.hlj.xinhuanet.com/news/detail_news.asp?dataid=hljWeb_news_1000065735&amp;c=baidu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http://image.baidu.com/i?ct=503316480&amp;z=520131700&amp;tn=baiduimagedetail&amp;word=&#20891;&#20154;" TargetMode="External"/><Relationship Id="rId11" Type="http://schemas.openxmlformats.org/officeDocument/2006/relationships/image" Target="../media/image17.jpeg"/><Relationship Id="rId12" Type="http://schemas.openxmlformats.org/officeDocument/2006/relationships/hyperlink" Target="http://image.baidu.com/i?ct=503316480&amp;z=624908551&amp;tn=baiduimagedetail&amp;word=&#24459;&#24072;" TargetMode="External"/><Relationship Id="rId13" Type="http://schemas.openxmlformats.org/officeDocument/2006/relationships/image" Target="../media/image18.jpeg"/><Relationship Id="rId14" Type="http://schemas.openxmlformats.org/officeDocument/2006/relationships/hyperlink" Target="http://image.baidu.com/i?ct=503316480&amp;z=852133001&amp;tn=baiduimagedetail&amp;word=&#20462;&#38795;&#21280;" TargetMode="External"/><Relationship Id="rId15" Type="http://schemas.openxmlformats.org/officeDocument/2006/relationships/image" Target="../media/image19.jpeg"/><Relationship Id="rId16" Type="http://schemas.openxmlformats.org/officeDocument/2006/relationships/hyperlink" Target="http://image.baidu.com/i?ct=503316480&amp;z=497600801&amp;tn=baiduimagedetail&amp;word=&#28165;&#27905;&#24037;&#20154;" TargetMode="External"/><Relationship Id="rId17" Type="http://schemas.openxmlformats.org/officeDocument/2006/relationships/image" Target="../media/image20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5066640" y="2705040"/>
            <a:ext cx="571500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00"/>
                  </a:outerShdw>
                </a:effectLst>
                <a:latin typeface="华文琥珀"/>
              </a:rPr>
              <a:t>敬业与乐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3" name=""/>
          <p:cNvSpPr/>
          <p:nvPr/>
        </p:nvSpPr>
        <p:spPr>
          <a:xfrm>
            <a:off x="5657760" y="4648320"/>
            <a:ext cx="152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梁启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23720" y="380880"/>
            <a:ext cx="1094760" cy="586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　真正的光明在我们的心里，该点燃的是我们的心灯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819520" y="533520"/>
            <a:ext cx="3657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新魏"/>
              </a:rPr>
              <a:t>教学目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905120"/>
            <a:ext cx="8686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理解“敬业与乐业”的主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经典语句、格言的积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“举例子”和“讲道理”两种论证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初步学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演讲和口语特色的体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提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演讲的基本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作品字词音形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思考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、作者先后谈论了哪几个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、你认为这几个问题的关系怎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、找出本文的中心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作者是怎样分析”有业之必要”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举了哪些例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作者是怎样论述“敬业”的必要性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3480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演讲的基本知识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演讲是以口语表达的方式面对听众，就某一问题发表自己观点，阐述某一事理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演讲不仅是宣传和动员群众的手段，而且还是阐明理论观点、发表学术见解的一种手段，同时又是锻炼和培养青年口才的一种手段。演讲时应注意以下几方面要求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①认清对象，确立主旨。既要有针对性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演讲是直接面对听众交流思想和感情的，所以必须了解听众对象，认清环境场合，明确演讲的主旨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②思路清晰，节奏明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③感情充沛，例证动人。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　　④语言准确，形象生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160" y="909720"/>
            <a:ext cx="89996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_x000b_"/>
                <a:ea typeface="楷体_GB2312"/>
              </a:rPr>
              <a:t>旁</a:t>
            </a:r>
            <a:r>
              <a:rPr b="1" lang="zh-CN" sz="4000" spc="-1" strike="noStrike">
                <a:solidFill>
                  <a:srgbClr val="ff0000"/>
                </a:solidFill>
                <a:latin typeface="_x000b_"/>
                <a:ea typeface="楷体_GB2312"/>
              </a:rPr>
              <a:t>骛</a:t>
            </a:r>
            <a:r>
              <a:rPr b="1" lang="zh-CN" sz="3600" spc="-1" strike="noStrike">
                <a:solidFill>
                  <a:srgbClr val="ff0000"/>
                </a:solidFill>
                <a:latin typeface="_x000b_"/>
                <a:ea typeface="楷体_GB2312"/>
              </a:rPr>
              <a:t>　　          </a:t>
            </a:r>
            <a:r>
              <a:rPr b="1" lang="zh-CN" sz="4000" spc="-1" strike="noStrike">
                <a:solidFill>
                  <a:srgbClr val="ff0000"/>
                </a:solidFill>
                <a:latin typeface="_x000b_"/>
                <a:ea typeface="楷体_GB2312"/>
              </a:rPr>
              <a:t>佝偻</a:t>
            </a:r>
            <a:r>
              <a:rPr b="1" lang="zh-CN" sz="3600" spc="-1" strike="noStrike">
                <a:solidFill>
                  <a:srgbClr val="000000"/>
                </a:solidFill>
                <a:latin typeface="_x000b_"/>
                <a:ea typeface="楷体_GB2312"/>
              </a:rPr>
              <a:t>　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_x000b_"/>
                <a:ea typeface="楷体_GB2312"/>
              </a:rPr>
              <a:t>承</a:t>
            </a:r>
            <a:r>
              <a:rPr b="1" lang="zh-CN" sz="4000" spc="-1" strike="noStrike">
                <a:solidFill>
                  <a:srgbClr val="ff0000"/>
                </a:solidFill>
                <a:latin typeface="_x000b_"/>
                <a:ea typeface="楷体_GB2312"/>
              </a:rPr>
              <a:t>蜩                亵渎</a:t>
            </a:r>
            <a:r>
              <a:rPr b="1" lang="zh-CN" sz="3600" spc="-1" strike="noStrike">
                <a:solidFill>
                  <a:srgbClr val="000000"/>
                </a:solidFill>
                <a:latin typeface="_x000b_"/>
                <a:ea typeface="楷体_GB2312"/>
              </a:rPr>
              <a:t>　　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_x000b_"/>
                <a:ea typeface="楷体_GB2312"/>
              </a:rPr>
              <a:t>骈</a:t>
            </a:r>
            <a:r>
              <a:rPr b="1" lang="zh-CN" sz="4000" spc="-1" strike="noStrike">
                <a:solidFill>
                  <a:srgbClr val="000000"/>
                </a:solidFill>
                <a:latin typeface="_x000b_"/>
                <a:ea typeface="楷体_GB2312"/>
              </a:rPr>
              <a:t>进</a:t>
            </a:r>
            <a:r>
              <a:rPr b="1" lang="zh-CN" sz="3600" spc="-1" strike="noStrike">
                <a:solidFill>
                  <a:srgbClr val="000000"/>
                </a:solidFill>
                <a:latin typeface="_x000b_"/>
                <a:ea typeface="楷体_GB2312"/>
              </a:rPr>
              <a:t>　　           </a:t>
            </a:r>
            <a:r>
              <a:rPr b="1" lang="zh-CN" sz="4000" spc="-1" strike="noStrike">
                <a:solidFill>
                  <a:srgbClr val="ff0000"/>
                </a:solidFill>
                <a:latin typeface="_x000b_"/>
                <a:ea typeface="楷体_GB2312"/>
              </a:rPr>
              <a:t>强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78520" y="4610160"/>
            <a:ext cx="28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g gu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6320" y="3213000"/>
            <a:ext cx="17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iá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2760" y="4581360"/>
            <a:ext cx="22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iá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50800" y="1746360"/>
            <a:ext cx="26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ōu  lóu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4200" y="3213000"/>
            <a:ext cx="18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iè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5680" y="1766880"/>
            <a:ext cx="192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ù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333360"/>
            <a:ext cx="2286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掌握字词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380880"/>
            <a:ext cx="464832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　　　亵渎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　　　骈进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断章取义：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安居乐业：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心无旁骛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强聒不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27082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不顾全篇内容，只是根据自己需要孤立地取其中一段或一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8098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使人民安定生活，快乐劳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480060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心中没有正业以外的任何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57913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硬要啰唆个不停。聒，喧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6858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轻慢，不尊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1676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并进，一起前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 rot="5400000">
            <a:off x="7429320" y="49500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华文新魏"/>
              </a:rPr>
              <a:t>词语解释</a:t>
            </a:r>
            <a:endParaRPr b="0" i="1" lang="en-US" sz="1800" spc="-1" strike="noStrike">
              <a:ln w="9360">
                <a:solidFill>
                  <a:srgbClr val="ff33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407664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找出本文的中心论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12536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作者先后谈论了哪几个问题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916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有业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;  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敬业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;  3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乐业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49228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你认为这几个问题的关系怎样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28464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有业是前提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敬业是基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乐业才是最高境界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486900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cc3300"/>
                </a:solidFill>
                <a:latin typeface="Arial"/>
                <a:ea typeface="方正舒体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华文行楷"/>
              </a:rPr>
              <a:t>我确信“敬业乐业”四个字，是人类生活的不二法门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00000" y="404640"/>
            <a:ext cx="18288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研究问题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80880" y="0"/>
            <a:ext cx="5639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文章结构归纳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2" name=""/>
          <p:cNvSpPr/>
          <p:nvPr/>
        </p:nvSpPr>
        <p:spPr>
          <a:xfrm>
            <a:off x="309240" y="1523880"/>
            <a:ext cx="911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敬业与乐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1600200"/>
            <a:ext cx="304920" cy="4267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2952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提出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2004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分析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2578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解决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1447920"/>
            <a:ext cx="15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3429000"/>
            <a:ext cx="22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—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5486400"/>
            <a:ext cx="191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137160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揭示全文论述的中心—敬业与乐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1240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论述敬业、乐业的重要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52578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总结全文，勉励人敬业乐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24680" y="14479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01000" y="32767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2578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2514600"/>
            <a:ext cx="0" cy="762120"/>
          </a:xfrm>
          <a:prstGeom prst="line">
            <a:avLst/>
          </a:prstGeom>
          <a:ln w="120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4419720"/>
            <a:ext cx="0" cy="761760"/>
          </a:xfrm>
          <a:prstGeom prst="line">
            <a:avLst/>
          </a:prstGeom>
          <a:ln w="120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34520" y="2743200"/>
            <a:ext cx="0" cy="762120"/>
          </a:xfrm>
          <a:prstGeom prst="line">
            <a:avLst/>
          </a:prstGeom>
          <a:ln w="120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4419720"/>
            <a:ext cx="0" cy="761760"/>
          </a:xfrm>
          <a:prstGeom prst="line">
            <a:avLst/>
          </a:prstGeom>
          <a:ln w="120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分论点一：论述</a:t>
            </a:r>
            <a:r>
              <a:rPr b="1" lang="en-US" sz="3100" spc="-1" strike="noStrike">
                <a:solidFill>
                  <a:srgbClr val="009999"/>
                </a:solidFill>
                <a:latin typeface="Arial"/>
                <a:ea typeface="华文楷体"/>
              </a:rPr>
              <a:t>“要敬业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分论点二：论述</a:t>
            </a:r>
            <a:r>
              <a:rPr b="1" lang="en-US" sz="3100" spc="-1" strike="noStrike">
                <a:solidFill>
                  <a:srgbClr val="009999"/>
                </a:solidFill>
                <a:latin typeface="Arial"/>
                <a:ea typeface="华文楷体"/>
              </a:rPr>
              <a:t>“要乐业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501336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17360" y="464832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宋体"/>
              </a:rPr>
              <a:t>驳斥做工“苦”，指出“做”不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74160" y="5867280"/>
            <a:ext cx="29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宋体"/>
              </a:rPr>
              <a:t>做“必产生乐趣，陈述四项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278136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85720" y="2565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宋体"/>
              </a:rPr>
              <a:t>职业神圣，要做圆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35640" y="3645000"/>
            <a:ext cx="29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宋体"/>
              </a:rPr>
              <a:t>要做圆满，必须敬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20640"/>
            <a:ext cx="6804000" cy="1197000"/>
          </a:xfrm>
          <a:prstGeom prst="rightArrowCallout">
            <a:avLst>
              <a:gd name="adj1" fmla="val 24919"/>
              <a:gd name="adj2" fmla="val 13597"/>
              <a:gd name="adj3" fmla="val 41132"/>
              <a:gd name="adj4" fmla="val 70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礼记》：敬业乐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老子》：安其居，乐其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32720" y="692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敬业乐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人生法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4046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、作者是怎样分析”有业之必要”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举了哪些例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50846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用百丈禅师做事实论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19890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先谈有业的原因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：有业是敬业的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720" y="342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无业的害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87840" y="285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429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用孔子的话做理论论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360" y="342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面论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8360" y="5084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业的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2360" y="50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面论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关于议论文的常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    什么是议论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议论文亦称说理文、论说文，就是讲道理、论是非。作者通过事实 材料和逻辑推理来阐明自己的观点，表明赞成什么或反对什么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    议论文的三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议论文的三要素：论点、论据和论证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鲜明的论点，确凿的论据，严密的论证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95280" y="69228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作者是怎样论述“敬业”的必要性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21337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、什么叫敬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3284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、为什么要敬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72428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、怎样才能做到敬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60000" y="2205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引用朱子的话做理论论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54560" y="3284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列举两个地位悬殊的职业作事例论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472428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引用《庄子》、曾文正和孔子的论述做理论论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11400" cy="228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286000" y="685800"/>
            <a:ext cx="5943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333399"/>
                  </a:outerShdw>
                </a:effectLst>
                <a:latin typeface="华文新魏"/>
              </a:rPr>
              <a:t>什么是“敬业”？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99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40186" dir="1096358" blurRad="0" rotWithShape="0">
                  <a:srgbClr val="3333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708280"/>
            <a:ext cx="86421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主一无适便是敬。　　　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朱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886200"/>
            <a:ext cx="6705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用志不分，乃凝于神。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　　　　　　　　　　　　　　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——庄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573408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华文隶书"/>
              </a:rPr>
              <a:t>素其位而行，不愿乎其外。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——孔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3364200" cy="3733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343400" y="228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57200" y="4191120"/>
            <a:ext cx="3429000" cy="2388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4343400" y="3733920"/>
            <a:ext cx="4572000" cy="2949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55640" y="2205000"/>
            <a:ext cx="7920000" cy="1008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因自己的才能、境地，做一种劳作做到圆满，便是天地间第一等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228600"/>
            <a:ext cx="3200400" cy="20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琥珀"/>
              </a:rPr>
              <a:t>敬业</a:t>
            </a:r>
            <a:endParaRPr b="0" i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琥珀"/>
              <a:ea typeface="华文琥珀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829320" cy="5105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914640" cy="5105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38080" y="571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热情的乘务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快乐的邮递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19720" y="3429000"/>
            <a:ext cx="4495680" cy="3209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410080" y="18288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湖南电视台著名节目主持人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——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李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562720" y="60948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华文行楷"/>
              </a:rPr>
              <a:t>农民朋友就是我的兄弟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5029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五星级的擦鞋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12952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066680"/>
            <a:ext cx="843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作者是怎样论述“乐业”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79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  <a:ea typeface="幼圆"/>
              </a:rPr>
              <a:t>明确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35280" y="2133720"/>
            <a:ext cx="677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33cc"/>
                </a:solidFill>
                <a:latin typeface="隶书"/>
                <a:ea typeface="隶书"/>
              </a:rPr>
              <a:t>、“从劳苦中找出快乐来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3860640"/>
            <a:ext cx="167652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2924280"/>
            <a:ext cx="1828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Times New Roman"/>
                <a:ea typeface="黑体"/>
              </a:rPr>
              <a:t>乐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48690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33cc"/>
                </a:solidFill>
                <a:latin typeface="隶书"/>
                <a:ea typeface="隶书"/>
              </a:rPr>
              <a:t>、“凡职业都是有趣味的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981080" cy="1663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2843280" y="549360"/>
            <a:ext cx="5224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0066ff"/>
                  </a:outerShdw>
                </a:effectLst>
                <a:latin typeface="华文新魏"/>
              </a:rPr>
              <a:t>怎样“乐业”？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0066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941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华文新魏"/>
              </a:rPr>
              <a:t>知之者不如好之者，好之者不如乐之者。——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2060640"/>
            <a:ext cx="8280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一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身入其中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在工作中寻找快乐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二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奋斗前去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在奋斗中感受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三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：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比较骈进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在竞争中体味快乐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四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：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省却烦闷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在投入中享受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16000" y="1890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议论文常识简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9079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隶书"/>
              </a:rPr>
              <a:t>三要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184464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论  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2708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论  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2000" y="3500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论  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5640" y="9810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cc"/>
                </a:solidFill>
                <a:latin typeface="Times New Roman"/>
                <a:ea typeface="隶书"/>
              </a:rPr>
              <a:t>结  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1916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提出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95640" y="3716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95640" y="285264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分析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362320" y="4952880"/>
            <a:ext cx="6019560" cy="1238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391520" y="2125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6720" y="249228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76720" y="33577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242100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24720" y="342900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59640" y="285264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本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19162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（引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6720" y="378936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（结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0"/>
            <a:ext cx="5639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文章结构归纳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5" name=""/>
          <p:cNvSpPr/>
          <p:nvPr/>
        </p:nvSpPr>
        <p:spPr>
          <a:xfrm>
            <a:off x="309240" y="1523880"/>
            <a:ext cx="911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敬业与乐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1600200"/>
            <a:ext cx="304920" cy="4267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12952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提出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32004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分析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52578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解决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1447920"/>
            <a:ext cx="15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3429000"/>
            <a:ext cx="22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—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5486400"/>
            <a:ext cx="191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137160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揭示全文论述的中心—敬业与乐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31240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论述敬业、乐业的重要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52578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总结全文，勉励人敬业乐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924680" y="14479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001000" y="32767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48720" y="52578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2514600"/>
            <a:ext cx="0" cy="762120"/>
          </a:xfrm>
          <a:prstGeom prst="line">
            <a:avLst/>
          </a:prstGeom>
          <a:ln w="120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4419720"/>
            <a:ext cx="0" cy="761760"/>
          </a:xfrm>
          <a:prstGeom prst="line">
            <a:avLst/>
          </a:prstGeom>
          <a:ln w="120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534520" y="2743200"/>
            <a:ext cx="0" cy="762120"/>
          </a:xfrm>
          <a:prstGeom prst="line">
            <a:avLst/>
          </a:prstGeom>
          <a:ln w="120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534520" y="4419720"/>
            <a:ext cx="0" cy="761760"/>
          </a:xfrm>
          <a:prstGeom prst="line">
            <a:avLst/>
          </a:prstGeom>
          <a:ln w="120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981080" y="1371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一：揭示中心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敬业乐业</a:t>
            </a: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”。 （</a:t>
            </a: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124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二：论述敬业和乐业的重要性。（</a:t>
            </a: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5486400"/>
            <a:ext cx="66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三：用“责任心”和“趣味”勉励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敬业乐业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。                  （</a:t>
            </a: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24382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论述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有业</a:t>
            </a: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”的重要性。（</a:t>
            </a: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2-5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35053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论述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敬业</a:t>
            </a: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”的重要性。（</a:t>
            </a: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4572000"/>
            <a:ext cx="57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论述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乐业</a:t>
            </a: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”的重要性。（</a:t>
            </a: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590920"/>
            <a:ext cx="380880" cy="2286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1523880"/>
            <a:ext cx="838440" cy="1371600"/>
          </a:xfrm>
          <a:custGeom>
            <a:avLst/>
            <a:gdLst>
              <a:gd name="textAreaLeft" fmla="*/ 0 w 838440"/>
              <a:gd name="textAreaRight" fmla="*/ 838800 w 8384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135" stAng="10800000" swAng="5400000"/>
                <a:lnTo>
                  <a:pt x="15586" y="5025"/>
                </a:lnTo>
                <a:lnTo>
                  <a:pt x="15586" y="0"/>
                </a:lnTo>
                <a:lnTo>
                  <a:pt x="21600" y="6079"/>
                </a:lnTo>
                <a:lnTo>
                  <a:pt x="15586" y="12158"/>
                </a:lnTo>
                <a:lnTo>
                  <a:pt x="15586" y="7133"/>
                </a:lnTo>
                <a:lnTo>
                  <a:pt x="12427" y="7133"/>
                </a:lnTo>
                <a:arcTo wR="10319" hR="5027" stAng="16200000" swAng="-5400000"/>
                <a:lnTo>
                  <a:pt x="2108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066680" y="5028480"/>
            <a:ext cx="990720" cy="1143000"/>
          </a:xfrm>
          <a:custGeom>
            <a:avLst/>
            <a:gdLst>
              <a:gd name="textAreaLeft" fmla="*/ 0 w 990720"/>
              <a:gd name="textAreaRight" fmla="*/ 991080 w 99072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675" stAng="10800000" swAng="5400000"/>
                <a:lnTo>
                  <a:pt x="15910" y="5485"/>
                </a:lnTo>
                <a:lnTo>
                  <a:pt x="15910" y="0"/>
                </a:lnTo>
                <a:lnTo>
                  <a:pt x="21600" y="6079"/>
                </a:lnTo>
                <a:lnTo>
                  <a:pt x="15910" y="12158"/>
                </a:lnTo>
                <a:lnTo>
                  <a:pt x="15910" y="6673"/>
                </a:lnTo>
                <a:lnTo>
                  <a:pt x="12427" y="6673"/>
                </a:lnTo>
                <a:arcTo wR="11239" hR="5487" stAng="16200000" swAng="-5400000"/>
                <a:lnTo>
                  <a:pt x="1188" y="216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743200" y="228600"/>
            <a:ext cx="3809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文章结构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    关于论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论点的特点：①正确②鲜明 归纳论点的方法：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、标题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、文章开头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、结尾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、中间： ①通过归纳总结论据的共同点来推断出论点 ②总结性的词体现中心论点的句子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例如：由此可见；我认为；总之……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) ③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先找出文章的论题，然后依据论题在文中找出反复出现的类似的论断性的话，合并同类项，最后归纳。 注意：归纳论点的句子必须是完整而鲜明的肯定性的论断的句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     关于论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事实论据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如现实事件、历史事实、统计材料、具体数字等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 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理论论据：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包括人们公认的原理、公式、定义、法则、规律、名言警句等。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 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归纳论据的要点：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××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人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怎么做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与论点密切相关的方面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+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结果 注意：在引用中可能有些不是名言，而是具体的事实，那是事实论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145240" y="177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16520" y="357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敬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45240" y="537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乐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2421000"/>
            <a:ext cx="485640" cy="1152360"/>
          </a:xfrm>
          <a:prstGeom prst="downArrow">
            <a:avLst>
              <a:gd name="adj1" fmla="val 50000"/>
              <a:gd name="adj2" fmla="val 593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8360" y="429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1320" y="76500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提出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64000" y="76500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分析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72240" y="83664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08000" y="836640"/>
            <a:ext cx="1656000" cy="485640"/>
          </a:xfrm>
          <a:prstGeom prst="rightArrow">
            <a:avLst>
              <a:gd name="adj1" fmla="val 50000"/>
              <a:gd name="adj2" fmla="val 852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08720" y="836640"/>
            <a:ext cx="1800000" cy="485640"/>
          </a:xfrm>
          <a:prstGeom prst="rightArrow">
            <a:avLst>
              <a:gd name="adj1" fmla="val 50000"/>
              <a:gd name="adj2" fmla="val 926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59280" y="155736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孔子   百丈禅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（ 摆事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2924280"/>
            <a:ext cx="295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什么叫敬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为什么该敬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怎样敬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（讲道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59280" y="3357720"/>
            <a:ext cx="223560" cy="1081080"/>
          </a:xfrm>
          <a:custGeom>
            <a:avLst/>
            <a:gdLst>
              <a:gd name="textAreaLeft" fmla="*/ 142920 w 223560"/>
              <a:gd name="textAreaRight" fmla="*/ 223920 w 2235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70840" y="544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四个理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95280" y="1916280"/>
            <a:ext cx="1512720" cy="3097080"/>
            <a:chOff x="395280" y="1916280"/>
            <a:chExt cx="1512720" cy="3097080"/>
          </a:xfrm>
        </p:grpSpPr>
        <p:sp>
          <p:nvSpPr>
            <p:cNvPr id="249" name=""/>
            <p:cNvSpPr/>
            <p:nvPr/>
          </p:nvSpPr>
          <p:spPr>
            <a:xfrm>
              <a:off x="395280" y="1916280"/>
              <a:ext cx="1512720" cy="3097080"/>
            </a:xfrm>
            <a:prstGeom prst="rightArrowCallout">
              <a:avLst>
                <a:gd name="adj1" fmla="val 51188"/>
                <a:gd name="adj2" fmla="val 51184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1280" y="2060640"/>
              <a:ext cx="64764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588000" y="2060640"/>
            <a:ext cx="1584360" cy="2881080"/>
            <a:chOff x="6588000" y="2060640"/>
            <a:chExt cx="1584360" cy="2881080"/>
          </a:xfrm>
        </p:grpSpPr>
        <p:sp>
          <p:nvSpPr>
            <p:cNvPr id="252" name=""/>
            <p:cNvSpPr/>
            <p:nvPr/>
          </p:nvSpPr>
          <p:spPr>
            <a:xfrm>
              <a:off x="6588000" y="2060640"/>
              <a:ext cx="1584360" cy="2881080"/>
            </a:xfrm>
            <a:prstGeom prst="leftArrowCallout">
              <a:avLst>
                <a:gd name="adj1" fmla="val 24955"/>
                <a:gd name="adj2" fmla="val 54679"/>
                <a:gd name="adj3" fmla="val 24148"/>
                <a:gd name="adj4" fmla="val 562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80000" y="2276280"/>
              <a:ext cx="61128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心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 txBox="1"/>
          <p:nvPr/>
        </p:nvSpPr>
        <p:spPr>
          <a:xfrm rot="564000">
            <a:off x="514440" y="-93600"/>
            <a:ext cx="2271600" cy="93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ff"/>
                </a:solidFill>
                <a:latin typeface="华文新魏"/>
              </a:rPr>
              <a:t>文章脉络</a:t>
            </a:r>
            <a:endParaRPr b="1" lang="en-US" sz="1800" spc="-1" strike="noStrike">
              <a:ln w="0">
                <a:noFill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6094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、梁启超先生在演讲结尾说道：“我深信人类合理的生活总该如此”，结合自身实际，用自己的话说说你认为怎样才能“合理的生活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198900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有业 — 敬业 — 乐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95280" y="4941720"/>
            <a:ext cx="1758960" cy="1606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556000" y="4332240"/>
            <a:ext cx="63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业：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并不局限于狭义的谋生职业，它同样可以指生活中任何一件有价值的事情；不只限于成人的工作，也可以包括学生的学习。正如作者所言：“凡可以名为一件事的，其性质都是可敬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4360" y="29624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有一份正当的职业，对于所作的事情要生出敬意，从而认真的做好，并在做事中发现乐趣，而不是一味地发牢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 rot="564000">
            <a:off x="0" y="-309240"/>
            <a:ext cx="228600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ff"/>
                </a:solidFill>
                <a:latin typeface="华文新魏"/>
              </a:rPr>
              <a:t>思考研讨</a:t>
            </a:r>
            <a:endParaRPr b="1" lang="en-US" sz="1800" spc="-1" strike="noStrike">
              <a:ln w="0">
                <a:noFill/>
              </a:ln>
              <a:solidFill>
                <a:srgbClr val="ff00ff"/>
              </a:solidFill>
              <a:latin typeface="华文新魏"/>
              <a:ea typeface="华文新魏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31840" y="35244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怎样深入理解“敬业”精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732720" y="652464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2101680"/>
            <a:ext cx="876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可以结合中国传统文化的特定背景，来深入领会梁启超提倡“敬业与乐业”的良苦用心。中国传统文化是一种有等级色彩的文化，中国人的职业观向来是“万般皆下品，唯有读书高”，人们的读书目的又是“学而优则仕”，“朝为田舍郎，暮登天子堂”。这种官本位的文化，极度蔑视普通职业，尤其是体力劳动，人们纷纷以出人头地，显亲扬名为人生价值的实现。因此，梁氏的“敬业”说，虽有其局限性，但在当时却有着矫正世风、改良国民性的积极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94788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敬业，就是要热爱自己的事业，要干一行，爱一行，不能蔑视普通职业，尤其体力劳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52280" y="228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、文中谈到“有业之必要”时，举了孔子和百丈禅师两个例子加以说明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（举例子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；谈到“凡职业都是有趣味的”时，列举了四个原因加以说明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（讲道理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。参照两种写法，试着为“有业之必要”列举几条理由或为“凡学习都是有趣味的”提供几个例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432560" y="4653000"/>
            <a:ext cx="1635120" cy="18241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50920" y="2063880"/>
            <a:ext cx="8424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例如：“有业之必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经济独立，人格自尊的需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身心安顿，避免无所事事、烦闷无聊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生活起居规律，健康养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从业中的挫折磨练意志品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事业的小小成功均能带来自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创造性的成就是对生命价值的最高肯定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907920"/>
            <a:ext cx="882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《礼记》：敬业乐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《老子》：安其居，乐其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《论语》：饱食终日，无所用心，难矣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朱子：主一无适便是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《庄子》：佝偻丈人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06200"/>
            <a:ext cx="96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课文多处引用古代典籍的论述想想它们的意思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692280"/>
            <a:ext cx="142560" cy="1079280"/>
          </a:xfrm>
          <a:custGeom>
            <a:avLst/>
            <a:gdLst>
              <a:gd name="textAreaLeft" fmla="*/ 0 w 142560"/>
              <a:gd name="textAreaRight" fmla="*/ 100080 w 142560"/>
              <a:gd name="textAreaTop" fmla="*/ 44640 h 1079280"/>
              <a:gd name="textAreaBottom" fmla="*/ 1034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27440" y="907920"/>
            <a:ext cx="24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</a:rPr>
              <a:t>提出”敬业乐业“的论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565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</a:rPr>
              <a:t>意思是无所事事的人难以培养，从反面论证说明无业的害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94040" y="4221000"/>
            <a:ext cx="15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</a:rPr>
              <a:t>意思是专一于某一件事，就是敬。为我们解说什么是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74920" y="566100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</a:rPr>
              <a:t>说明做事专心，就可以达到目的的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 rot="564000">
            <a:off x="371520" y="41040"/>
            <a:ext cx="244296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99"/>
                </a:solidFill>
                <a:latin typeface="华文新魏"/>
              </a:rPr>
              <a:t>语言特色</a:t>
            </a:r>
            <a:endParaRPr b="1" lang="en-US" sz="1800" spc="-1" strike="noStrike">
              <a:ln w="0">
                <a:noFill/>
              </a:ln>
              <a:solidFill>
                <a:srgbClr val="000099"/>
              </a:solidFill>
              <a:latin typeface="华文新魏"/>
              <a:ea typeface="华文新魏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14130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内容论证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587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【请同学们在写演讲稿的时候特别注意演讲的语言特色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16440" y="4149720"/>
            <a:ext cx="4341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引用古籍名言时，用通俗的口语进行解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语言通俗，如话家常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结合演讲时的情境，注意和听众现场交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4960" y="3213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演讲语言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35040" y="981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大量引用经典、格言，增强说服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90880" y="3141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口语特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09560" y="1628640"/>
            <a:ext cx="2527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举例子证明自己的观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：孔子、朱熹、曾国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260280"/>
            <a:ext cx="91440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Verdana"/>
              </a:rPr>
              <a:t>探究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思考：作者在文章中提出了许多有关敬业和乐业的观点（找出并做好记号），你最信服的是哪一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你有没有不同意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说说你持这种意见的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 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敬业乐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四个字，是人类生活的不二法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人类一面为生活而劳动，一面也是为劳动而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凡职业没有不是神圣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凡职业没有不是可敬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人生在世，是要天天劳作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劳作便是功德，不劳作便是罪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因自己的才能、境地，做一种劳作做到圆满，便是天地间第一等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79280" y="404640"/>
            <a:ext cx="8666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凡做一件事，便把这件事看作我的生命，无论别的什么好处，到底不肯牺牲我现在做的事来和他交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敬业主义，于人生最为必要，又于人生最为有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从劳苦中找出快乐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凡职业都是有趣味的，只要你肯继续做下去，趣味自然会发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每一职业之成就，离不了奋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因为每一职业之成就，离不了奋斗；一步一步的奋斗前去，从刻苦中将快乐的分量加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人生能从自己职业中领略出趣味，生活才有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敬业即是责任心，乐业即是趣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课后研讨第四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219320"/>
            <a:ext cx="800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838080"/>
            <a:ext cx="8153640" cy="2588400"/>
          </a:xfrm>
          <a:prstGeom prst="rect">
            <a:avLst/>
          </a:prstGeom>
          <a:noFill/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参考意见：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课文中，作者认为任何职业不分高下，是劝告那些“坐这山，望那山，一事无成”的人，要脚踏实地、勤恳敬业，才有可能把事情做好，进而体会职业的乐趣和人生的价值。只有这样，才能安身立命、获得心灵的宁静与充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而拿破仑的名言则是为了激励人们树立远大抱负，努力挖掘自身潜能，勇于向命运发出挑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447920" y="4876920"/>
            <a:ext cx="6476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华文新魏"/>
              </a:rPr>
              <a:t>立场不同，建议不同。</a:t>
            </a:r>
            <a:endParaRPr b="1" lang="en-US" sz="1800" spc="-1" strike="noStrike">
              <a:ln w="0">
                <a:noFill/>
              </a:ln>
              <a:solidFill>
                <a:srgbClr val="ff33cc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cc00"/>
                </a:solidFill>
                <a:latin typeface="Arial"/>
                <a:ea typeface="华文彩云"/>
              </a:rPr>
              <a:t>谈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华文彩云"/>
              </a:rPr>
              <a:t>“敬学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150560" y="4076640"/>
            <a:ext cx="79930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99cc00"/>
                </a:solidFill>
                <a:latin typeface="华文彩云"/>
                <a:ea typeface="华文彩云"/>
              </a:rPr>
              <a:t>谈 </a:t>
            </a:r>
            <a:r>
              <a:rPr b="1" i="1" lang="en-US" sz="5400" spc="-1" strike="noStrike">
                <a:solidFill>
                  <a:srgbClr val="000000"/>
                </a:solidFill>
                <a:latin typeface="华文彩云"/>
                <a:ea typeface="华文彩云"/>
              </a:rPr>
              <a:t>“善学”</a:t>
            </a:r>
            <a:r>
              <a:rPr b="1" lang="en-US" sz="3200" spc="-1" strike="noStrike">
                <a:solidFill>
                  <a:srgbClr val="000000"/>
                </a:solidFill>
                <a:latin typeface="华文彩云"/>
                <a:ea typeface="华文彩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35920" y="3789360"/>
            <a:ext cx="196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cc00"/>
                </a:solidFill>
                <a:latin typeface="华文彩云"/>
                <a:ea typeface="华文彩云"/>
              </a:rPr>
              <a:t>谈 </a:t>
            </a:r>
            <a:r>
              <a:rPr b="1" i="1" lang="en-US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“勤学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24360" y="306864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cc00"/>
                </a:solidFill>
                <a:latin typeface="华文彩云"/>
                <a:ea typeface="华文彩云"/>
              </a:rPr>
              <a:t>谈 </a:t>
            </a:r>
            <a:r>
              <a:rPr b="1" i="1" lang="en-US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“乐学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80360" cy="6881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457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     论证方法及其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举例论证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事例论证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引用论证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道理论证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比喻论证、对比论证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正反对比论证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。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例证法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摆事实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：具体典型而且充分地证明了某一论点。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引证法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讲道理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：引用了什么论证了某一论点，使论证具有说服力。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喻证法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讲道理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：形象生动地阐述了某一论点，使说理更通俗易懂。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对比法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讲道理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：通过对比，突出强调了某一论点，使说理更鲜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六     议论文的表达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、议论文中的记叙，往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性很强，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作用：用事实证明某一观点或主张。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、议论文中时而有生动形象的描写，作用：更鲜明生动地证明了某一观点。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、议论中的抒情，会使议论更有感染力，更深入人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七      议论文的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严密、准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八     论证方式：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立论和驳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九      论证结构：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提出问题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引论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)—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分析问题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本论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)—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解决问题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结论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04920"/>
            <a:ext cx="2432160" cy="321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00400" y="6094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梁启超（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873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929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中国近代维新派代表人物，学者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“戊戌变法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领袖之一。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字卓如，号任公，别号饮冰室主人。广东新会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9625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他兴趣广泛，学识渊博，在文学、史学、哲学、佛学等诸多领域，都有较深的造诣。他一生著述宏富，所遗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《饮冰室合集》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计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48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卷，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余万字。</a:t>
            </a:r>
            <a:r>
              <a:rPr b="1" lang="en-US" sz="2800" spc="-1" strike="noStrike">
                <a:solidFill>
                  <a:srgbClr val="66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304920"/>
            <a:ext cx="4267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华文行楷"/>
              </a:rPr>
              <a:t>背景资料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1523880"/>
            <a:ext cx="5333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敬业与乐业》是梁启超先生于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年前在上海中华职业学校为学生所作的</a:t>
            </a: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演讲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对学生进行职业道德启蒙教育，有很强的针对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2895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2000" y="609480"/>
            <a:ext cx="28616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人各有志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那你的志向是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2286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你会选择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53280" y="533520"/>
            <a:ext cx="838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048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官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914400"/>
            <a:ext cx="1428480" cy="2057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66880" y="30481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演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62320" y="914400"/>
            <a:ext cx="146844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197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医 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67080" y="914400"/>
            <a:ext cx="1543320" cy="2057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24480" y="3048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教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72200" y="91440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5308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军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172200" y="3809880"/>
            <a:ext cx="174456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144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律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480" y="3809880"/>
            <a:ext cx="144792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14600" y="6278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修鞋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362320" y="3809880"/>
            <a:ext cx="154764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1972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清洁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267080" y="3809880"/>
            <a:ext cx="1600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40:36Z</dcterms:created>
  <dc:creator>USER</dc:creator>
  <dc:description/>
  <dc:language>en-US</dc:language>
  <cp:lastModifiedBy>ibm</cp:lastModifiedBy>
  <dcterms:modified xsi:type="dcterms:W3CDTF">2012-10-08T12:34:24Z</dcterms:modified>
  <cp:revision>11</cp:revision>
  <dc:subject/>
  <dc:title>   敬业与乐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