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BC5-FBFB-4649-9F18-8410F1EB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76D-9763-4C02-A644-8003B9DF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1F1B-C784-4698-8993-71D3F0C9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065-8E99-4193-A9D6-849C50AD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779-D530-4DAE-B254-7AFEA77F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CE0B-6CF7-40DE-8146-1492C455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504-F1E7-4FB7-844A-750CB927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F8C-37B0-463C-9743-A7DB917D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AFC-FBB0-475E-93A7-EF3F2143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1526-9CEC-47F0-9381-74FDA898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8698-49CC-4415-9EAC-3FAC1A89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455-6066-433A-9B26-D7300E63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E628-5D32-4F73-8F46-EB58C836EC1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857160" y="3571920"/>
            <a:ext cx="52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857160" y="428616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5-27T02:10:45Z</dcterms:modified>
  <cp:revision>77</cp:revision>
  <dc:subject/>
  <dc:title>幻灯片 1</dc:title>
</cp:coreProperties>
</file>