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EEBE-8BC7-4671-A3BE-C629B3F9A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8E84-5758-45F8-A48B-499DF6BF0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AAF5-7665-4259-9DAF-564212CE9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FD91-4DFE-487E-A7F5-F4C6CAE6C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85EC-FC21-4FB9-8119-194CEB11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0D87-46C0-4B36-AB87-E2736D6BB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6F5F-E55E-404E-96F8-B679B3409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14FF0-0C38-446A-9633-002BB38F7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27D8-7602-4F42-BCBE-D1625DFD9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AF66-D57E-4AAA-A515-4D4EE79BC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E25-15DE-4AAE-BB14-048ACEB76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DD7E-DE0F-42B0-B54A-DC5843C3B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10E6-5B25-4336-8A41-A4F09DF8BBD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929120" y="4286160"/>
            <a:ext cx="4143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929200" y="512136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3-27T07:45:29Z</dcterms:modified>
  <cp:revision>77</cp:revision>
  <dc:subject/>
  <dc:title>幻灯片 1</dc:title>
</cp:coreProperties>
</file>