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8CD1-F0D5-43C6-A350-10013FC7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C0AF-2574-425B-BB51-3E31ED60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FBAE-956E-4D05-A592-FFDE24CF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50B9-F057-406C-88E2-66FDEA6F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AE3F-D2E1-4CE6-803D-2D89E152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EA40-CC3C-47F5-890E-F2247253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36A-3D93-4C20-AC54-13D5529E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DE9-2C34-4DE8-A650-C174B10D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F001-B1A2-4EEB-B90F-59B0C4C4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9EF0-8D01-48DE-B627-54981A2B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D48-62A4-423E-8C71-362B0C2F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CC38-4C1A-48C3-8049-D1723916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C51B-85EC-438E-B386-453DF9F972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214960" y="695160"/>
            <a:ext cx="4857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人生哲理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5286240" y="119556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剪去单角的矩形 10"/>
          <p:cNvSpPr/>
          <p:nvPr/>
        </p:nvSpPr>
        <p:spPr>
          <a:xfrm>
            <a:off x="785880" y="1928880"/>
            <a:ext cx="3786120" cy="3643200"/>
          </a:xfrm>
          <a:custGeom>
            <a:avLst/>
            <a:gdLst>
              <a:gd name="textAreaLeft" fmla="*/ 0 w 3786120"/>
              <a:gd name="textAreaRight" fmla="*/ 3482640 w 3786120"/>
              <a:gd name="textAreaTop" fmla="*/ 303480 h 3643200"/>
              <a:gd name="textAreaBottom" fmla="*/ 3643560 h 3643200"/>
            </a:gdLst>
            <a:ahLst/>
            <a:rect l="textAreaLeft" t="textAreaTop" r="textAreaRight" b="textAreaBottom"/>
            <a:pathLst>
              <a:path w="3786187" h="3643312">
                <a:moveTo>
                  <a:pt x="0" y="0"/>
                </a:moveTo>
                <a:lnTo>
                  <a:pt x="3178956" y="0"/>
                </a:lnTo>
                <a:lnTo>
                  <a:pt x="3786187" y="607231"/>
                </a:lnTo>
                <a:lnTo>
                  <a:pt x="3786187" y="3643312"/>
                </a:lnTo>
                <a:lnTo>
                  <a:pt x="0" y="3643312"/>
                </a:lnTo>
                <a:close/>
              </a:path>
            </a:pathLst>
          </a:custGeom>
          <a:solidFill>
            <a:srgbClr val="0072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剪去单角的矩形 11"/>
          <p:cNvSpPr/>
          <p:nvPr/>
        </p:nvSpPr>
        <p:spPr>
          <a:xfrm flipH="1">
            <a:off x="4786200" y="1928880"/>
            <a:ext cx="3786480" cy="3643200"/>
          </a:xfrm>
          <a:custGeom>
            <a:avLst/>
            <a:gdLst>
              <a:gd name="textAreaLeft" fmla="*/ 360 w 3786480"/>
              <a:gd name="textAreaRight" fmla="*/ 3483360 w 3786480"/>
              <a:gd name="textAreaTop" fmla="*/ 303480 h 3643200"/>
              <a:gd name="textAreaBottom" fmla="*/ 3643560 h 3643200"/>
            </a:gdLst>
            <a:ahLst/>
            <a:rect l="textAreaLeft" t="textAreaTop" r="textAreaRight" b="textAreaBottom"/>
            <a:pathLst>
              <a:path w="3786187" h="3643312">
                <a:moveTo>
                  <a:pt x="0" y="0"/>
                </a:moveTo>
                <a:lnTo>
                  <a:pt x="3178956" y="0"/>
                </a:lnTo>
                <a:lnTo>
                  <a:pt x="3786187" y="607231"/>
                </a:lnTo>
                <a:lnTo>
                  <a:pt x="3786187" y="3643312"/>
                </a:lnTo>
                <a:lnTo>
                  <a:pt x="0" y="3643312"/>
                </a:lnTo>
                <a:close/>
              </a:path>
            </a:pathLst>
          </a:custGeom>
          <a:solidFill>
            <a:srgbClr val="c1b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3"/>
          <p:cNvSpPr/>
          <p:nvPr/>
        </p:nvSpPr>
        <p:spPr>
          <a:xfrm>
            <a:off x="6212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4"/>
          <p:cNvSpPr/>
          <p:nvPr/>
        </p:nvSpPr>
        <p:spPr>
          <a:xfrm>
            <a:off x="2068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9"/>
          <p:cNvGrpSpPr/>
          <p:nvPr/>
        </p:nvGrpSpPr>
        <p:grpSpPr>
          <a:xfrm>
            <a:off x="2714760" y="1500120"/>
            <a:ext cx="4254120" cy="650880"/>
            <a:chOff x="2714760" y="1500120"/>
            <a:chExt cx="4254120" cy="650880"/>
          </a:xfrm>
        </p:grpSpPr>
        <p:sp>
          <p:nvSpPr>
            <p:cNvPr id="45" name="圆角矩形 10"/>
            <p:cNvSpPr/>
            <p:nvPr/>
          </p:nvSpPr>
          <p:spPr>
            <a:xfrm flipH="1">
              <a:off x="2851920" y="1558800"/>
              <a:ext cx="4116600" cy="551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1b7a0"/>
                </a:gs>
                <a:gs pos="100000">
                  <a:srgbClr val="e0e0e0"/>
                </a:gs>
              </a:gsLst>
              <a:lin ang="5400000"/>
            </a:gradFill>
            <a:ln w="0">
              <a:noFill/>
            </a:ln>
            <a:effectLst>
              <a:outerShdw dist="254049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组合 6"/>
            <p:cNvGrpSpPr/>
            <p:nvPr/>
          </p:nvGrpSpPr>
          <p:grpSpPr>
            <a:xfrm>
              <a:off x="2714760" y="1500120"/>
              <a:ext cx="650160" cy="650880"/>
              <a:chOff x="2714760" y="1500120"/>
              <a:chExt cx="650160" cy="650880"/>
            </a:xfrm>
          </p:grpSpPr>
          <p:grpSp>
            <p:nvGrpSpPr>
              <p:cNvPr id="47" name="组合 4"/>
              <p:cNvGrpSpPr/>
              <p:nvPr/>
            </p:nvGrpSpPr>
            <p:grpSpPr>
              <a:xfrm>
                <a:off x="2714760" y="1500120"/>
                <a:ext cx="650160" cy="650880"/>
                <a:chOff x="2714760" y="1500120"/>
                <a:chExt cx="650160" cy="650880"/>
              </a:xfrm>
            </p:grpSpPr>
            <p:sp>
              <p:nvSpPr>
                <p:cNvPr id="48" name="椭圆 16"/>
                <p:cNvSpPr/>
                <p:nvPr/>
              </p:nvSpPr>
              <p:spPr>
                <a:xfrm>
                  <a:off x="2714760" y="1500120"/>
                  <a:ext cx="650160" cy="65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0e0e0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254049" dir="81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椭圆 17"/>
                <p:cNvSpPr/>
                <p:nvPr/>
              </p:nvSpPr>
              <p:spPr>
                <a:xfrm>
                  <a:off x="2730600" y="1515960"/>
                  <a:ext cx="618480" cy="61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e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椭圆 15"/>
              <p:cNvGrpSpPr/>
              <p:nvPr/>
            </p:nvGrpSpPr>
            <p:grpSpPr>
              <a:xfrm>
                <a:off x="2767680" y="1554120"/>
                <a:ext cx="542520" cy="542520"/>
                <a:chOff x="2767680" y="1554120"/>
                <a:chExt cx="542520" cy="542520"/>
              </a:xfrm>
            </p:grpSpPr>
            <p:pic>
              <p:nvPicPr>
                <p:cNvPr id="51" name="椭圆 1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767680" y="1554120"/>
                  <a:ext cx="542520" cy="54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" name=""/>
                <p:cNvSpPr/>
                <p:nvPr/>
              </p:nvSpPr>
              <p:spPr>
                <a:xfrm>
                  <a:off x="2853720" y="1638720"/>
                  <a:ext cx="3722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组合 18"/>
          <p:cNvGrpSpPr/>
          <p:nvPr/>
        </p:nvGrpSpPr>
        <p:grpSpPr>
          <a:xfrm>
            <a:off x="2714760" y="2421000"/>
            <a:ext cx="4254120" cy="650880"/>
            <a:chOff x="2714760" y="2421000"/>
            <a:chExt cx="4254120" cy="650880"/>
          </a:xfrm>
        </p:grpSpPr>
        <p:sp>
          <p:nvSpPr>
            <p:cNvPr id="54" name="圆角矩形 19"/>
            <p:cNvSpPr/>
            <p:nvPr/>
          </p:nvSpPr>
          <p:spPr>
            <a:xfrm flipH="1">
              <a:off x="2851920" y="2479680"/>
              <a:ext cx="4116600" cy="551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1b7a0"/>
                </a:gs>
                <a:gs pos="100000">
                  <a:srgbClr val="e0e0e0"/>
                </a:gs>
              </a:gsLst>
              <a:lin ang="5400000"/>
            </a:gradFill>
            <a:ln w="0">
              <a:noFill/>
            </a:ln>
            <a:effectLst>
              <a:outerShdw dist="254049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组合 6"/>
            <p:cNvGrpSpPr/>
            <p:nvPr/>
          </p:nvGrpSpPr>
          <p:grpSpPr>
            <a:xfrm>
              <a:off x="2714760" y="2421000"/>
              <a:ext cx="650160" cy="650880"/>
              <a:chOff x="2714760" y="2421000"/>
              <a:chExt cx="650160" cy="650880"/>
            </a:xfrm>
          </p:grpSpPr>
          <p:grpSp>
            <p:nvGrpSpPr>
              <p:cNvPr id="56" name="组合 21"/>
              <p:cNvGrpSpPr/>
              <p:nvPr/>
            </p:nvGrpSpPr>
            <p:grpSpPr>
              <a:xfrm>
                <a:off x="2714760" y="2421000"/>
                <a:ext cx="650160" cy="650880"/>
                <a:chOff x="2714760" y="2421000"/>
                <a:chExt cx="650160" cy="650880"/>
              </a:xfrm>
            </p:grpSpPr>
            <p:sp>
              <p:nvSpPr>
                <p:cNvPr id="57" name="椭圆 23"/>
                <p:cNvSpPr/>
                <p:nvPr/>
              </p:nvSpPr>
              <p:spPr>
                <a:xfrm>
                  <a:off x="2714760" y="2421000"/>
                  <a:ext cx="650160" cy="65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0e0e0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254049" dir="81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椭圆 24"/>
                <p:cNvSpPr/>
                <p:nvPr/>
              </p:nvSpPr>
              <p:spPr>
                <a:xfrm>
                  <a:off x="2730600" y="2436840"/>
                  <a:ext cx="618480" cy="61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e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椭圆 22"/>
              <p:cNvGrpSpPr/>
              <p:nvPr/>
            </p:nvGrpSpPr>
            <p:grpSpPr>
              <a:xfrm>
                <a:off x="2767680" y="2475000"/>
                <a:ext cx="542520" cy="542520"/>
                <a:chOff x="2767680" y="2475000"/>
                <a:chExt cx="542520" cy="542520"/>
              </a:xfrm>
            </p:grpSpPr>
            <p:pic>
              <p:nvPicPr>
                <p:cNvPr id="60" name="椭圆 2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767680" y="2475000"/>
                  <a:ext cx="542520" cy="54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" name=""/>
                <p:cNvSpPr/>
                <p:nvPr/>
              </p:nvSpPr>
              <p:spPr>
                <a:xfrm>
                  <a:off x="2853720" y="2559960"/>
                  <a:ext cx="3722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2" name="组合 25"/>
          <p:cNvGrpSpPr/>
          <p:nvPr/>
        </p:nvGrpSpPr>
        <p:grpSpPr>
          <a:xfrm>
            <a:off x="2714760" y="3286080"/>
            <a:ext cx="4254120" cy="650880"/>
            <a:chOff x="2714760" y="3286080"/>
            <a:chExt cx="4254120" cy="650880"/>
          </a:xfrm>
        </p:grpSpPr>
        <p:sp>
          <p:nvSpPr>
            <p:cNvPr id="63" name="圆角矩形 26"/>
            <p:cNvSpPr/>
            <p:nvPr/>
          </p:nvSpPr>
          <p:spPr>
            <a:xfrm flipH="1">
              <a:off x="2851920" y="3344760"/>
              <a:ext cx="4116600" cy="551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1b7a0"/>
                </a:gs>
                <a:gs pos="100000">
                  <a:srgbClr val="e0e0e0"/>
                </a:gs>
              </a:gsLst>
              <a:lin ang="5400000"/>
            </a:gradFill>
            <a:ln w="0">
              <a:noFill/>
            </a:ln>
            <a:effectLst>
              <a:outerShdw dist="254049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组合 6"/>
            <p:cNvGrpSpPr/>
            <p:nvPr/>
          </p:nvGrpSpPr>
          <p:grpSpPr>
            <a:xfrm>
              <a:off x="2714760" y="3286080"/>
              <a:ext cx="650160" cy="650880"/>
              <a:chOff x="2714760" y="3286080"/>
              <a:chExt cx="650160" cy="650880"/>
            </a:xfrm>
          </p:grpSpPr>
          <p:grpSp>
            <p:nvGrpSpPr>
              <p:cNvPr id="65" name="组合 28"/>
              <p:cNvGrpSpPr/>
              <p:nvPr/>
            </p:nvGrpSpPr>
            <p:grpSpPr>
              <a:xfrm>
                <a:off x="2714760" y="3286080"/>
                <a:ext cx="650160" cy="650880"/>
                <a:chOff x="2714760" y="3286080"/>
                <a:chExt cx="650160" cy="650880"/>
              </a:xfrm>
            </p:grpSpPr>
            <p:sp>
              <p:nvSpPr>
                <p:cNvPr id="66" name="椭圆 30"/>
                <p:cNvSpPr/>
                <p:nvPr/>
              </p:nvSpPr>
              <p:spPr>
                <a:xfrm>
                  <a:off x="2714760" y="3286080"/>
                  <a:ext cx="650160" cy="65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0e0e0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254049" dir="81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椭圆 31"/>
                <p:cNvSpPr/>
                <p:nvPr/>
              </p:nvSpPr>
              <p:spPr>
                <a:xfrm>
                  <a:off x="2730600" y="3301920"/>
                  <a:ext cx="618480" cy="61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e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椭圆 29"/>
              <p:cNvGrpSpPr/>
              <p:nvPr/>
            </p:nvGrpSpPr>
            <p:grpSpPr>
              <a:xfrm>
                <a:off x="2767680" y="3340440"/>
                <a:ext cx="542520" cy="542520"/>
                <a:chOff x="2767680" y="3340440"/>
                <a:chExt cx="542520" cy="542520"/>
              </a:xfrm>
            </p:grpSpPr>
            <p:pic>
              <p:nvPicPr>
                <p:cNvPr id="69" name="椭圆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767680" y="3340440"/>
                  <a:ext cx="542520" cy="54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" name=""/>
                <p:cNvSpPr/>
                <p:nvPr/>
              </p:nvSpPr>
              <p:spPr>
                <a:xfrm>
                  <a:off x="2853720" y="3425040"/>
                  <a:ext cx="3722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1" name="组合 32"/>
          <p:cNvGrpSpPr/>
          <p:nvPr/>
        </p:nvGrpSpPr>
        <p:grpSpPr>
          <a:xfrm>
            <a:off x="2714760" y="4206960"/>
            <a:ext cx="4254120" cy="650880"/>
            <a:chOff x="2714760" y="4206960"/>
            <a:chExt cx="4254120" cy="650880"/>
          </a:xfrm>
        </p:grpSpPr>
        <p:sp>
          <p:nvSpPr>
            <p:cNvPr id="72" name="圆角矩形 33"/>
            <p:cNvSpPr/>
            <p:nvPr/>
          </p:nvSpPr>
          <p:spPr>
            <a:xfrm flipH="1">
              <a:off x="2851920" y="4265640"/>
              <a:ext cx="4116600" cy="551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1b7a0"/>
                </a:gs>
                <a:gs pos="100000">
                  <a:srgbClr val="e0e0e0"/>
                </a:gs>
              </a:gsLst>
              <a:lin ang="5400000"/>
            </a:gradFill>
            <a:ln w="0">
              <a:noFill/>
            </a:ln>
            <a:effectLst>
              <a:outerShdw dist="254049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组合 6"/>
            <p:cNvGrpSpPr/>
            <p:nvPr/>
          </p:nvGrpSpPr>
          <p:grpSpPr>
            <a:xfrm>
              <a:off x="2714760" y="4206960"/>
              <a:ext cx="650160" cy="650880"/>
              <a:chOff x="2714760" y="4206960"/>
              <a:chExt cx="650160" cy="650880"/>
            </a:xfrm>
          </p:grpSpPr>
          <p:grpSp>
            <p:nvGrpSpPr>
              <p:cNvPr id="74" name="组合 21"/>
              <p:cNvGrpSpPr/>
              <p:nvPr/>
            </p:nvGrpSpPr>
            <p:grpSpPr>
              <a:xfrm>
                <a:off x="2714760" y="4206960"/>
                <a:ext cx="650160" cy="650880"/>
                <a:chOff x="2714760" y="4206960"/>
                <a:chExt cx="650160" cy="650880"/>
              </a:xfrm>
            </p:grpSpPr>
            <p:sp>
              <p:nvSpPr>
                <p:cNvPr id="75" name="椭圆 37"/>
                <p:cNvSpPr/>
                <p:nvPr/>
              </p:nvSpPr>
              <p:spPr>
                <a:xfrm>
                  <a:off x="2714760" y="4206960"/>
                  <a:ext cx="650160" cy="65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0e0e0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254049" dir="81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椭圆 38"/>
                <p:cNvSpPr/>
                <p:nvPr/>
              </p:nvSpPr>
              <p:spPr>
                <a:xfrm>
                  <a:off x="2730600" y="4222800"/>
                  <a:ext cx="618480" cy="61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e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椭圆 36"/>
              <p:cNvGrpSpPr/>
              <p:nvPr/>
            </p:nvGrpSpPr>
            <p:grpSpPr>
              <a:xfrm>
                <a:off x="2767680" y="4260960"/>
                <a:ext cx="542520" cy="542520"/>
                <a:chOff x="2767680" y="4260960"/>
                <a:chExt cx="542520" cy="542520"/>
              </a:xfrm>
            </p:grpSpPr>
            <p:pic>
              <p:nvPicPr>
                <p:cNvPr id="78" name="椭圆 3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767680" y="4260960"/>
                  <a:ext cx="542520" cy="54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" name=""/>
                <p:cNvSpPr/>
                <p:nvPr/>
              </p:nvSpPr>
              <p:spPr>
                <a:xfrm>
                  <a:off x="2853720" y="4345560"/>
                  <a:ext cx="3722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0"/>
          <p:cNvSpPr/>
          <p:nvPr/>
        </p:nvSpPr>
        <p:spPr>
          <a:xfrm>
            <a:off x="44978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1"/>
          <p:cNvSpPr/>
          <p:nvPr/>
        </p:nvSpPr>
        <p:spPr>
          <a:xfrm>
            <a:off x="44978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2"/>
          <p:cNvSpPr/>
          <p:nvPr/>
        </p:nvSpPr>
        <p:spPr>
          <a:xfrm>
            <a:off x="44280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2"/>
          <p:cNvSpPr/>
          <p:nvPr/>
        </p:nvSpPr>
        <p:spPr>
          <a:xfrm>
            <a:off x="44978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23"/>
          <p:cNvGrpSpPr/>
          <p:nvPr/>
        </p:nvGrpSpPr>
        <p:grpSpPr>
          <a:xfrm>
            <a:off x="1930320" y="1000080"/>
            <a:ext cx="5438880" cy="5162760"/>
            <a:chOff x="1930320" y="1000080"/>
            <a:chExt cx="5438880" cy="5162760"/>
          </a:xfrm>
        </p:grpSpPr>
        <p:grpSp>
          <p:nvGrpSpPr>
            <p:cNvPr id="90" name="组合 10"/>
            <p:cNvGrpSpPr/>
            <p:nvPr/>
          </p:nvGrpSpPr>
          <p:grpSpPr>
            <a:xfrm>
              <a:off x="2459880" y="1792800"/>
              <a:ext cx="4306320" cy="3309480"/>
              <a:chOff x="2459880" y="1792800"/>
              <a:chExt cx="4306320" cy="3309480"/>
            </a:xfrm>
          </p:grpSpPr>
          <p:grpSp>
            <p:nvGrpSpPr>
              <p:cNvPr id="91" name="空心弧 2"/>
              <p:cNvGrpSpPr/>
              <p:nvPr/>
            </p:nvGrpSpPr>
            <p:grpSpPr>
              <a:xfrm>
                <a:off x="4728240" y="1792800"/>
                <a:ext cx="1310760" cy="1304280"/>
                <a:chOff x="4728240" y="1792800"/>
                <a:chExt cx="1310760" cy="1304280"/>
              </a:xfrm>
            </p:grpSpPr>
            <p:pic>
              <p:nvPicPr>
                <p:cNvPr id="92" name="空心弧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728240" y="1792800"/>
                  <a:ext cx="1310760" cy="1304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>
                  <a:off x="4737960" y="1805400"/>
                  <a:ext cx="1282680" cy="127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空心弧 2"/>
              <p:cNvGrpSpPr/>
              <p:nvPr/>
            </p:nvGrpSpPr>
            <p:grpSpPr>
              <a:xfrm>
                <a:off x="3203280" y="1792800"/>
                <a:ext cx="1310760" cy="1304280"/>
                <a:chOff x="3203280" y="1792800"/>
                <a:chExt cx="1310760" cy="1304280"/>
              </a:xfrm>
            </p:grpSpPr>
            <p:pic>
              <p:nvPicPr>
                <p:cNvPr id="95" name="空心弧 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203280" y="1792800"/>
                  <a:ext cx="1310760" cy="1304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>
                  <a:off x="3214800" y="1805400"/>
                  <a:ext cx="1282680" cy="127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空心弧 2"/>
              <p:cNvGrpSpPr/>
              <p:nvPr/>
            </p:nvGrpSpPr>
            <p:grpSpPr>
              <a:xfrm>
                <a:off x="2459880" y="2692440"/>
                <a:ext cx="1748880" cy="1703160"/>
                <a:chOff x="2459880" y="2692440"/>
                <a:chExt cx="1748880" cy="1703160"/>
              </a:xfrm>
            </p:grpSpPr>
            <p:pic>
              <p:nvPicPr>
                <p:cNvPr id="98" name="空心弧 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670480" y="2692440"/>
                  <a:ext cx="1420920" cy="140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" name=""/>
                <p:cNvSpPr/>
                <p:nvPr/>
              </p:nvSpPr>
              <p:spPr>
                <a:xfrm rot="18030000">
                  <a:off x="2737080" y="2881080"/>
                  <a:ext cx="1194120" cy="13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空心弧 2"/>
              <p:cNvGrpSpPr/>
              <p:nvPr/>
            </p:nvGrpSpPr>
            <p:grpSpPr>
              <a:xfrm>
                <a:off x="5032080" y="2692440"/>
                <a:ext cx="1734120" cy="1699200"/>
                <a:chOff x="5032080" y="2692440"/>
                <a:chExt cx="1734120" cy="1699200"/>
              </a:xfrm>
            </p:grpSpPr>
            <p:pic>
              <p:nvPicPr>
                <p:cNvPr id="101" name="空心弧 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150880" y="2692440"/>
                  <a:ext cx="1384200" cy="140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3569400">
                  <a:off x="5302080" y="2890080"/>
                  <a:ext cx="1194120" cy="130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空心弧 2"/>
              <p:cNvGrpSpPr/>
              <p:nvPr/>
            </p:nvGrpSpPr>
            <p:grpSpPr>
              <a:xfrm>
                <a:off x="4728240" y="3803760"/>
                <a:ext cx="1310760" cy="1298520"/>
                <a:chOff x="4728240" y="3803760"/>
                <a:chExt cx="1310760" cy="1298520"/>
              </a:xfrm>
            </p:grpSpPr>
            <p:pic>
              <p:nvPicPr>
                <p:cNvPr id="104" name="空心弧 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728240" y="3803760"/>
                  <a:ext cx="1310760" cy="1298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0800000">
                  <a:off x="4737600" y="3812400"/>
                  <a:ext cx="1282680" cy="127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空心弧 2"/>
              <p:cNvGrpSpPr/>
              <p:nvPr/>
            </p:nvGrpSpPr>
            <p:grpSpPr>
              <a:xfrm>
                <a:off x="3203280" y="3803760"/>
                <a:ext cx="1310760" cy="1298520"/>
                <a:chOff x="3203280" y="3803760"/>
                <a:chExt cx="1310760" cy="1298520"/>
              </a:xfrm>
            </p:grpSpPr>
            <p:pic>
              <p:nvPicPr>
                <p:cNvPr id="107" name="空心弧 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203280" y="3803760"/>
                  <a:ext cx="1310760" cy="1298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" name=""/>
                <p:cNvSpPr/>
                <p:nvPr/>
              </p:nvSpPr>
              <p:spPr>
                <a:xfrm rot="10800000">
                  <a:off x="3214440" y="3812400"/>
                  <a:ext cx="1282680" cy="127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" name="直接连接符 17"/>
            <p:cNvSpPr/>
            <p:nvPr/>
          </p:nvSpPr>
          <p:spPr>
            <a:xfrm>
              <a:off x="1930320" y="1992240"/>
              <a:ext cx="5405760" cy="2995920"/>
            </a:xfrm>
            <a:prstGeom prst="line">
              <a:avLst/>
            </a:prstGeom>
            <a:ln w="12600">
              <a:solidFill>
                <a:srgbClr val="0033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18"/>
            <p:cNvSpPr/>
            <p:nvPr/>
          </p:nvSpPr>
          <p:spPr>
            <a:xfrm flipV="1">
              <a:off x="1979280" y="1936440"/>
              <a:ext cx="5389920" cy="2963880"/>
            </a:xfrm>
            <a:prstGeom prst="line">
              <a:avLst/>
            </a:prstGeom>
            <a:ln w="12600">
              <a:solidFill>
                <a:srgbClr val="0033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19"/>
            <p:cNvSpPr/>
            <p:nvPr/>
          </p:nvSpPr>
          <p:spPr>
            <a:xfrm flipH="1">
              <a:off x="4587480" y="1000080"/>
              <a:ext cx="14040" cy="5162760"/>
            </a:xfrm>
            <a:prstGeom prst="line">
              <a:avLst/>
            </a:prstGeom>
            <a:ln w="12600">
              <a:solidFill>
                <a:srgbClr val="0033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组合 20"/>
            <p:cNvGrpSpPr/>
            <p:nvPr/>
          </p:nvGrpSpPr>
          <p:grpSpPr>
            <a:xfrm>
              <a:off x="4139640" y="2968560"/>
              <a:ext cx="921600" cy="921600"/>
              <a:chOff x="4139640" y="2968560"/>
              <a:chExt cx="921600" cy="921600"/>
            </a:xfrm>
          </p:grpSpPr>
          <p:grpSp>
            <p:nvGrpSpPr>
              <p:cNvPr id="113" name="椭圆 21"/>
              <p:cNvGrpSpPr/>
              <p:nvPr/>
            </p:nvGrpSpPr>
            <p:grpSpPr>
              <a:xfrm>
                <a:off x="4139640" y="2968560"/>
                <a:ext cx="921600" cy="921600"/>
                <a:chOff x="4139640" y="2968560"/>
                <a:chExt cx="921600" cy="921600"/>
              </a:xfrm>
            </p:grpSpPr>
            <p:pic>
              <p:nvPicPr>
                <p:cNvPr id="114" name="椭圆 2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139640" y="2968560"/>
                  <a:ext cx="921600" cy="92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" name=""/>
                <p:cNvSpPr/>
                <p:nvPr/>
              </p:nvSpPr>
              <p:spPr>
                <a:xfrm>
                  <a:off x="4452840" y="3169440"/>
                  <a:ext cx="41220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椭圆 22"/>
              <p:cNvSpPr/>
              <p:nvPr/>
            </p:nvSpPr>
            <p:spPr>
              <a:xfrm>
                <a:off x="4449960" y="3150360"/>
                <a:ext cx="431640" cy="431640"/>
              </a:xfrm>
              <a:prstGeom prst="ellipse">
                <a:avLst/>
              </a:prstGeom>
              <a:solidFill>
                <a:srgbClr val="0072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1356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3"/>
          <p:cNvSpPr/>
          <p:nvPr/>
        </p:nvSpPr>
        <p:spPr>
          <a:xfrm>
            <a:off x="68569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4"/>
          <p:cNvSpPr/>
          <p:nvPr/>
        </p:nvSpPr>
        <p:spPr>
          <a:xfrm>
            <a:off x="535680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5"/>
          <p:cNvSpPr/>
          <p:nvPr/>
        </p:nvSpPr>
        <p:spPr>
          <a:xfrm>
            <a:off x="271368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549972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285624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组合 38"/>
          <p:cNvGrpSpPr/>
          <p:nvPr/>
        </p:nvGrpSpPr>
        <p:grpSpPr>
          <a:xfrm>
            <a:off x="1103400" y="1643040"/>
            <a:ext cx="7183440" cy="3857760"/>
            <a:chOff x="1103400" y="1643040"/>
            <a:chExt cx="7183440" cy="3857760"/>
          </a:xfrm>
        </p:grpSpPr>
        <p:grpSp>
          <p:nvGrpSpPr>
            <p:cNvPr id="129" name="组合 28"/>
            <p:cNvGrpSpPr/>
            <p:nvPr/>
          </p:nvGrpSpPr>
          <p:grpSpPr>
            <a:xfrm>
              <a:off x="1103400" y="1643040"/>
              <a:ext cx="3416040" cy="3857760"/>
              <a:chOff x="1103400" y="1643040"/>
              <a:chExt cx="3416040" cy="3857760"/>
            </a:xfrm>
          </p:grpSpPr>
          <p:sp>
            <p:nvSpPr>
              <p:cNvPr id="130" name="MH_Other_1"/>
              <p:cNvSpPr/>
              <p:nvPr/>
            </p:nvSpPr>
            <p:spPr>
              <a:xfrm>
                <a:off x="2579760" y="2361960"/>
                <a:ext cx="487080" cy="438120"/>
              </a:xfrm>
              <a:custGeom>
                <a:avLst/>
                <a:gdLst/>
                <a:ahLst/>
                <a:rect l="l" t="t" r="r" b="b"/>
                <a:pathLst>
                  <a:path w="387596" h="348240">
                    <a:moveTo>
                      <a:pt x="181098" y="66889"/>
                    </a:moveTo>
                    <a:cubicBezTo>
                      <a:pt x="109743" y="66889"/>
                      <a:pt x="51899" y="114898"/>
                      <a:pt x="51899" y="174120"/>
                    </a:cubicBezTo>
                    <a:cubicBezTo>
                      <a:pt x="51899" y="233342"/>
                      <a:pt x="109743" y="281351"/>
                      <a:pt x="181098" y="281351"/>
                    </a:cubicBezTo>
                    <a:cubicBezTo>
                      <a:pt x="252453" y="281351"/>
                      <a:pt x="310297" y="233342"/>
                      <a:pt x="310297" y="174120"/>
                    </a:cubicBezTo>
                    <a:cubicBezTo>
                      <a:pt x="310297" y="114898"/>
                      <a:pt x="252453" y="66889"/>
                      <a:pt x="181098" y="66889"/>
                    </a:cubicBezTo>
                    <a:close/>
                    <a:moveTo>
                      <a:pt x="193798" y="0"/>
                    </a:moveTo>
                    <a:cubicBezTo>
                      <a:pt x="300830" y="0"/>
                      <a:pt x="387596" y="77956"/>
                      <a:pt x="387596" y="174120"/>
                    </a:cubicBezTo>
                    <a:cubicBezTo>
                      <a:pt x="387596" y="270284"/>
                      <a:pt x="300830" y="348240"/>
                      <a:pt x="193798" y="348240"/>
                    </a:cubicBezTo>
                    <a:cubicBezTo>
                      <a:pt x="86766" y="348240"/>
                      <a:pt x="0" y="270284"/>
                      <a:pt x="0" y="174120"/>
                    </a:cubicBezTo>
                    <a:cubicBezTo>
                      <a:pt x="0" y="77956"/>
                      <a:pt x="86766" y="0"/>
                      <a:pt x="193798" y="0"/>
                    </a:cubicBezTo>
                    <a:close/>
                  </a:path>
                </a:pathLst>
              </a:custGeom>
              <a:solidFill>
                <a:srgbClr val="0072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MH_Other_2"/>
              <p:cNvSpPr/>
              <p:nvPr/>
            </p:nvSpPr>
            <p:spPr>
              <a:xfrm>
                <a:off x="2732040" y="2463840"/>
                <a:ext cx="190440" cy="1918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a3a3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MH_Other_3"/>
              <p:cNvSpPr/>
              <p:nvPr/>
            </p:nvSpPr>
            <p:spPr>
              <a:xfrm rot="5440800">
                <a:off x="2752920" y="2482200"/>
                <a:ext cx="139680" cy="118800"/>
              </a:xfrm>
              <a:prstGeom prst="ellipse">
                <a:avLst/>
              </a:prstGeom>
              <a:solidFill>
                <a:srgbClr val="0072b1"/>
              </a:solidFill>
              <a:ln w="12600">
                <a:solidFill>
                  <a:srgbClr val="a3a3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MH_Other_4"/>
              <p:cNvSpPr/>
              <p:nvPr/>
            </p:nvSpPr>
            <p:spPr>
              <a:xfrm rot="5440800">
                <a:off x="2443680" y="2156040"/>
                <a:ext cx="758880" cy="7128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MH_Other_5"/>
              <p:cNvSpPr/>
              <p:nvPr/>
            </p:nvSpPr>
            <p:spPr>
              <a:xfrm>
                <a:off x="2649600" y="1643040"/>
                <a:ext cx="347400" cy="345960"/>
              </a:xfrm>
              <a:prstGeom prst="ellipse">
                <a:avLst/>
              </a:prstGeom>
              <a:solidFill>
                <a:srgbClr val="d9d9d9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2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MH_Other_6"/>
              <p:cNvSpPr/>
              <p:nvPr/>
            </p:nvSpPr>
            <p:spPr>
              <a:xfrm>
                <a:off x="2695680" y="1688760"/>
                <a:ext cx="255240" cy="253800"/>
              </a:xfrm>
              <a:prstGeom prst="ellipse">
                <a:avLst/>
              </a:prstGeom>
              <a:solidFill>
                <a:srgbClr val="0072b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MH_Other_7"/>
              <p:cNvSpPr/>
              <p:nvPr/>
            </p:nvSpPr>
            <p:spPr>
              <a:xfrm>
                <a:off x="1103400" y="2678040"/>
                <a:ext cx="3416040" cy="2822760"/>
              </a:xfrm>
              <a:prstGeom prst="roundRect">
                <a:avLst>
                  <a:gd name="adj" fmla="val 6144"/>
                </a:avLst>
              </a:prstGeom>
              <a:solidFill>
                <a:srgbClr val="0072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MH_Text_1"/>
              <p:cNvSpPr/>
              <p:nvPr/>
            </p:nvSpPr>
            <p:spPr>
              <a:xfrm>
                <a:off x="1287360" y="2843280"/>
                <a:ext cx="3047760" cy="2524320"/>
              </a:xfrm>
              <a:prstGeom prst="roundRect">
                <a:avLst>
                  <a:gd name="adj" fmla="val 6144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1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组合 29"/>
            <p:cNvGrpSpPr/>
            <p:nvPr/>
          </p:nvGrpSpPr>
          <p:grpSpPr>
            <a:xfrm>
              <a:off x="4870800" y="1643040"/>
              <a:ext cx="3416040" cy="3857760"/>
              <a:chOff x="4870800" y="1643040"/>
              <a:chExt cx="3416040" cy="3857760"/>
            </a:xfrm>
          </p:grpSpPr>
          <p:sp>
            <p:nvSpPr>
              <p:cNvPr id="139" name="MH_Other_1"/>
              <p:cNvSpPr/>
              <p:nvPr/>
            </p:nvSpPr>
            <p:spPr>
              <a:xfrm>
                <a:off x="6347160" y="2361960"/>
                <a:ext cx="487080" cy="438120"/>
              </a:xfrm>
              <a:custGeom>
                <a:avLst/>
                <a:gdLst/>
                <a:ahLst/>
                <a:rect l="l" t="t" r="r" b="b"/>
                <a:pathLst>
                  <a:path w="387596" h="348240">
                    <a:moveTo>
                      <a:pt x="181098" y="66889"/>
                    </a:moveTo>
                    <a:cubicBezTo>
                      <a:pt x="109743" y="66889"/>
                      <a:pt x="51899" y="114898"/>
                      <a:pt x="51899" y="174120"/>
                    </a:cubicBezTo>
                    <a:cubicBezTo>
                      <a:pt x="51899" y="233342"/>
                      <a:pt x="109743" y="281351"/>
                      <a:pt x="181098" y="281351"/>
                    </a:cubicBezTo>
                    <a:cubicBezTo>
                      <a:pt x="252453" y="281351"/>
                      <a:pt x="310297" y="233342"/>
                      <a:pt x="310297" y="174120"/>
                    </a:cubicBezTo>
                    <a:cubicBezTo>
                      <a:pt x="310297" y="114898"/>
                      <a:pt x="252453" y="66889"/>
                      <a:pt x="181098" y="66889"/>
                    </a:cubicBezTo>
                    <a:close/>
                    <a:moveTo>
                      <a:pt x="193798" y="0"/>
                    </a:moveTo>
                    <a:cubicBezTo>
                      <a:pt x="300830" y="0"/>
                      <a:pt x="387596" y="77956"/>
                      <a:pt x="387596" y="174120"/>
                    </a:cubicBezTo>
                    <a:cubicBezTo>
                      <a:pt x="387596" y="270284"/>
                      <a:pt x="300830" y="348240"/>
                      <a:pt x="193798" y="348240"/>
                    </a:cubicBezTo>
                    <a:cubicBezTo>
                      <a:pt x="86766" y="348240"/>
                      <a:pt x="0" y="270284"/>
                      <a:pt x="0" y="174120"/>
                    </a:cubicBezTo>
                    <a:cubicBezTo>
                      <a:pt x="0" y="77956"/>
                      <a:pt x="86766" y="0"/>
                      <a:pt x="193798" y="0"/>
                    </a:cubicBezTo>
                    <a:close/>
                  </a:path>
                </a:pathLst>
              </a:custGeom>
              <a:solidFill>
                <a:srgbClr val="c1b7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MH_Other_2"/>
              <p:cNvSpPr/>
              <p:nvPr/>
            </p:nvSpPr>
            <p:spPr>
              <a:xfrm>
                <a:off x="6499440" y="2463840"/>
                <a:ext cx="190440" cy="1918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a3a3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MH_Other_3"/>
              <p:cNvSpPr/>
              <p:nvPr/>
            </p:nvSpPr>
            <p:spPr>
              <a:xfrm rot="5440800">
                <a:off x="6520320" y="2482200"/>
                <a:ext cx="139680" cy="118800"/>
              </a:xfrm>
              <a:prstGeom prst="ellipse">
                <a:avLst/>
              </a:prstGeom>
              <a:solidFill>
                <a:srgbClr val="c1b7a0"/>
              </a:solidFill>
              <a:ln w="12600">
                <a:solidFill>
                  <a:srgbClr val="a3a3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MH_Other_4"/>
              <p:cNvSpPr/>
              <p:nvPr/>
            </p:nvSpPr>
            <p:spPr>
              <a:xfrm rot="5440800">
                <a:off x="6211080" y="2156040"/>
                <a:ext cx="758880" cy="7128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MH_Other_5"/>
              <p:cNvSpPr/>
              <p:nvPr/>
            </p:nvSpPr>
            <p:spPr>
              <a:xfrm>
                <a:off x="6417000" y="1643040"/>
                <a:ext cx="347400" cy="345960"/>
              </a:xfrm>
              <a:prstGeom prst="ellipse">
                <a:avLst/>
              </a:prstGeom>
              <a:solidFill>
                <a:srgbClr val="d9d9d9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2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MH_Other_6"/>
              <p:cNvSpPr/>
              <p:nvPr/>
            </p:nvSpPr>
            <p:spPr>
              <a:xfrm>
                <a:off x="6463080" y="1688760"/>
                <a:ext cx="255240" cy="253800"/>
              </a:xfrm>
              <a:prstGeom prst="ellipse">
                <a:avLst/>
              </a:prstGeom>
              <a:solidFill>
                <a:srgbClr val="c1b7a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MH_Other_7"/>
              <p:cNvSpPr/>
              <p:nvPr/>
            </p:nvSpPr>
            <p:spPr>
              <a:xfrm>
                <a:off x="4870800" y="2678040"/>
                <a:ext cx="3416040" cy="2822760"/>
              </a:xfrm>
              <a:prstGeom prst="roundRect">
                <a:avLst>
                  <a:gd name="adj" fmla="val 6144"/>
                </a:avLst>
              </a:prstGeom>
              <a:solidFill>
                <a:srgbClr val="c1b7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MH_Text_1"/>
              <p:cNvSpPr/>
              <p:nvPr/>
            </p:nvSpPr>
            <p:spPr>
              <a:xfrm>
                <a:off x="5054760" y="2843280"/>
                <a:ext cx="3047760" cy="2524320"/>
              </a:xfrm>
              <a:prstGeom prst="roundRect">
                <a:avLst>
                  <a:gd name="adj" fmla="val 6144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1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3"/>
          <p:cNvSpPr/>
          <p:nvPr/>
        </p:nvSpPr>
        <p:spPr>
          <a:xfrm>
            <a:off x="61408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4"/>
          <p:cNvSpPr/>
          <p:nvPr/>
        </p:nvSpPr>
        <p:spPr>
          <a:xfrm>
            <a:off x="22831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组合 14"/>
          <p:cNvGrpSpPr/>
          <p:nvPr/>
        </p:nvGrpSpPr>
        <p:grpSpPr>
          <a:xfrm>
            <a:off x="2149560" y="852840"/>
            <a:ext cx="5183280" cy="5175360"/>
            <a:chOff x="2149560" y="852840"/>
            <a:chExt cx="5183280" cy="5175360"/>
          </a:xfrm>
        </p:grpSpPr>
        <p:grpSp>
          <p:nvGrpSpPr>
            <p:cNvPr id="155" name="椭圆 4"/>
            <p:cNvGrpSpPr/>
            <p:nvPr/>
          </p:nvGrpSpPr>
          <p:grpSpPr>
            <a:xfrm>
              <a:off x="2149560" y="852840"/>
              <a:ext cx="5183280" cy="5175360"/>
              <a:chOff x="2149560" y="852840"/>
              <a:chExt cx="5183280" cy="5175360"/>
            </a:xfrm>
          </p:grpSpPr>
          <p:pic>
            <p:nvPicPr>
              <p:cNvPr id="156" name="椭圆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304000" y="922320"/>
                <a:ext cx="4926960" cy="500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 rot="197400">
                <a:off x="2286000" y="989640"/>
                <a:ext cx="4910040" cy="49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组合 89"/>
            <p:cNvGrpSpPr/>
            <p:nvPr/>
          </p:nvGrpSpPr>
          <p:grpSpPr>
            <a:xfrm>
              <a:off x="5058720" y="1996560"/>
              <a:ext cx="2016360" cy="1980720"/>
              <a:chOff x="5058720" y="1996560"/>
              <a:chExt cx="2016360" cy="1980720"/>
            </a:xfrm>
          </p:grpSpPr>
          <p:sp>
            <p:nvSpPr>
              <p:cNvPr id="159" name="椭圆 43"/>
              <p:cNvSpPr/>
              <p:nvPr/>
            </p:nvSpPr>
            <p:spPr>
              <a:xfrm>
                <a:off x="5058720" y="1996560"/>
                <a:ext cx="2016360" cy="198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  <a:effectLst>
                <a:outerShdw dist="25404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椭圆 44"/>
              <p:cNvSpPr/>
              <p:nvPr/>
            </p:nvSpPr>
            <p:spPr>
              <a:xfrm>
                <a:off x="5105880" y="2043000"/>
                <a:ext cx="1921680" cy="1887840"/>
              </a:xfrm>
              <a:prstGeom prst="ellipse">
                <a:avLst/>
              </a:prstGeom>
              <a:solidFill>
                <a:srgbClr val="c1b7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组合 109"/>
            <p:cNvGrpSpPr/>
            <p:nvPr/>
          </p:nvGrpSpPr>
          <p:grpSpPr>
            <a:xfrm>
              <a:off x="3356280" y="1056240"/>
              <a:ext cx="853920" cy="839160"/>
              <a:chOff x="3356280" y="1056240"/>
              <a:chExt cx="853920" cy="839160"/>
            </a:xfrm>
          </p:grpSpPr>
          <p:sp>
            <p:nvSpPr>
              <p:cNvPr id="162" name="椭圆 39"/>
              <p:cNvSpPr/>
              <p:nvPr/>
            </p:nvSpPr>
            <p:spPr>
              <a:xfrm>
                <a:off x="3356280" y="1056240"/>
                <a:ext cx="853920" cy="83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  <a:effectLst>
                <a:outerShdw dist="25404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椭圆 40"/>
              <p:cNvSpPr/>
              <p:nvPr/>
            </p:nvSpPr>
            <p:spPr>
              <a:xfrm>
                <a:off x="3376800" y="1076400"/>
                <a:ext cx="812880" cy="798840"/>
              </a:xfrm>
              <a:prstGeom prst="ellipse">
                <a:avLst/>
              </a:prstGeom>
              <a:solidFill>
                <a:srgbClr val="0072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组合 123"/>
            <p:cNvGrpSpPr/>
            <p:nvPr/>
          </p:nvGrpSpPr>
          <p:grpSpPr>
            <a:xfrm>
              <a:off x="2441160" y="2453400"/>
              <a:ext cx="853920" cy="839160"/>
              <a:chOff x="2441160" y="2453400"/>
              <a:chExt cx="853920" cy="839160"/>
            </a:xfrm>
          </p:grpSpPr>
          <p:sp>
            <p:nvSpPr>
              <p:cNvPr id="165" name="椭圆 34"/>
              <p:cNvSpPr/>
              <p:nvPr/>
            </p:nvSpPr>
            <p:spPr>
              <a:xfrm>
                <a:off x="2441160" y="2453400"/>
                <a:ext cx="853920" cy="83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  <a:effectLst>
                <a:outerShdw dist="25404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椭圆 35"/>
              <p:cNvSpPr/>
              <p:nvPr/>
            </p:nvSpPr>
            <p:spPr>
              <a:xfrm>
                <a:off x="2461680" y="2473560"/>
                <a:ext cx="812880" cy="798840"/>
              </a:xfrm>
              <a:prstGeom prst="ellipse">
                <a:avLst/>
              </a:prstGeom>
              <a:solidFill>
                <a:srgbClr val="0072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组合 129"/>
            <p:cNvGrpSpPr/>
            <p:nvPr/>
          </p:nvGrpSpPr>
          <p:grpSpPr>
            <a:xfrm>
              <a:off x="2969640" y="4210560"/>
              <a:ext cx="853920" cy="839160"/>
              <a:chOff x="2969640" y="4210560"/>
              <a:chExt cx="853920" cy="839160"/>
            </a:xfrm>
          </p:grpSpPr>
          <p:sp>
            <p:nvSpPr>
              <p:cNvPr id="168" name="椭圆 29"/>
              <p:cNvSpPr/>
              <p:nvPr/>
            </p:nvSpPr>
            <p:spPr>
              <a:xfrm>
                <a:off x="2969640" y="4210560"/>
                <a:ext cx="853920" cy="83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  <a:effectLst>
                <a:outerShdw dist="25404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椭圆 30"/>
              <p:cNvSpPr/>
              <p:nvPr/>
            </p:nvSpPr>
            <p:spPr>
              <a:xfrm>
                <a:off x="2990160" y="4230720"/>
                <a:ext cx="812880" cy="798840"/>
              </a:xfrm>
              <a:prstGeom prst="ellipse">
                <a:avLst/>
              </a:prstGeom>
              <a:solidFill>
                <a:srgbClr val="0072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组合 135"/>
            <p:cNvGrpSpPr/>
            <p:nvPr/>
          </p:nvGrpSpPr>
          <p:grpSpPr>
            <a:xfrm>
              <a:off x="4807800" y="4954320"/>
              <a:ext cx="853920" cy="839160"/>
              <a:chOff x="4807800" y="4954320"/>
              <a:chExt cx="853920" cy="839160"/>
            </a:xfrm>
          </p:grpSpPr>
          <p:sp>
            <p:nvSpPr>
              <p:cNvPr id="171" name="椭圆 24"/>
              <p:cNvSpPr/>
              <p:nvPr/>
            </p:nvSpPr>
            <p:spPr>
              <a:xfrm>
                <a:off x="4807800" y="4954320"/>
                <a:ext cx="853920" cy="83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  <a:effectLst>
                <a:outerShdw dist="25404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椭圆 25"/>
              <p:cNvSpPr/>
              <p:nvPr/>
            </p:nvSpPr>
            <p:spPr>
              <a:xfrm>
                <a:off x="4828320" y="4974480"/>
                <a:ext cx="812880" cy="798840"/>
              </a:xfrm>
              <a:prstGeom prst="ellipse">
                <a:avLst/>
              </a:prstGeom>
              <a:solidFill>
                <a:srgbClr val="0072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2"/>
          <p:cNvSpPr/>
          <p:nvPr/>
        </p:nvSpPr>
        <p:spPr>
          <a:xfrm>
            <a:off x="3354840" y="121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3"/>
          <p:cNvSpPr/>
          <p:nvPr/>
        </p:nvSpPr>
        <p:spPr>
          <a:xfrm>
            <a:off x="55695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471204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5"/>
          <p:cNvSpPr/>
          <p:nvPr/>
        </p:nvSpPr>
        <p:spPr>
          <a:xfrm>
            <a:off x="23547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5"/>
          <p:cNvSpPr/>
          <p:nvPr/>
        </p:nvSpPr>
        <p:spPr>
          <a:xfrm>
            <a:off x="27835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组合 12"/>
          <p:cNvGrpSpPr/>
          <p:nvPr/>
        </p:nvGrpSpPr>
        <p:grpSpPr>
          <a:xfrm>
            <a:off x="1143000" y="1357200"/>
            <a:ext cx="1627200" cy="4124520"/>
            <a:chOff x="1143000" y="1357200"/>
            <a:chExt cx="1627200" cy="4124520"/>
          </a:xfrm>
        </p:grpSpPr>
        <p:sp>
          <p:nvSpPr>
            <p:cNvPr id="184" name="任意多边形 10"/>
            <p:cNvSpPr/>
            <p:nvPr/>
          </p:nvSpPr>
          <p:spPr>
            <a:xfrm>
              <a:off x="1143000" y="2503440"/>
              <a:ext cx="1627200" cy="2978280"/>
            </a:xfrm>
            <a:custGeom>
              <a:avLst/>
              <a:gdLst/>
              <a:ahLst/>
              <a:rect l="l" t="t" r="r" b="b"/>
              <a:pathLst>
                <a:path w="1627734" h="2978738">
                  <a:moveTo>
                    <a:pt x="85610" y="0"/>
                  </a:moveTo>
                  <a:lnTo>
                    <a:pt x="1542124" y="0"/>
                  </a:lnTo>
                  <a:lnTo>
                    <a:pt x="1563776" y="113888"/>
                  </a:lnTo>
                  <a:cubicBezTo>
                    <a:pt x="1604960" y="360602"/>
                    <a:pt x="1627734" y="631850"/>
                    <a:pt x="1627734" y="916575"/>
                  </a:cubicBezTo>
                  <a:cubicBezTo>
                    <a:pt x="1627734" y="2055476"/>
                    <a:pt x="1263353" y="2978738"/>
                    <a:pt x="813867" y="2978738"/>
                  </a:cubicBezTo>
                  <a:cubicBezTo>
                    <a:pt x="364381" y="2978738"/>
                    <a:pt x="0" y="2055476"/>
                    <a:pt x="0" y="916575"/>
                  </a:cubicBezTo>
                  <a:cubicBezTo>
                    <a:pt x="0" y="631850"/>
                    <a:pt x="22774" y="360602"/>
                    <a:pt x="63958" y="113888"/>
                  </a:cubicBezTo>
                  <a:lnTo>
                    <a:pt x="85610" y="0"/>
                  </a:lnTo>
                  <a:close/>
                </a:path>
              </a:pathLst>
            </a:custGeom>
            <a:solidFill>
              <a:srgbClr val="c1b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11"/>
            <p:cNvSpPr/>
            <p:nvPr/>
          </p:nvSpPr>
          <p:spPr>
            <a:xfrm>
              <a:off x="1228680" y="1357200"/>
              <a:ext cx="1455840" cy="1146240"/>
            </a:xfrm>
            <a:custGeom>
              <a:avLst/>
              <a:gdLst/>
              <a:ahLst/>
              <a:rect l="l" t="t" r="r" b="b"/>
              <a:pathLst>
                <a:path w="1456514" h="1145588">
                  <a:moveTo>
                    <a:pt x="728257" y="0"/>
                  </a:moveTo>
                  <a:cubicBezTo>
                    <a:pt x="1037279" y="0"/>
                    <a:pt x="1306075" y="436386"/>
                    <a:pt x="1443895" y="1079214"/>
                  </a:cubicBezTo>
                  <a:lnTo>
                    <a:pt x="1456514" y="1145588"/>
                  </a:lnTo>
                  <a:lnTo>
                    <a:pt x="0" y="1145588"/>
                  </a:lnTo>
                  <a:lnTo>
                    <a:pt x="12619" y="1079214"/>
                  </a:lnTo>
                  <a:cubicBezTo>
                    <a:pt x="150439" y="436386"/>
                    <a:pt x="419236" y="0"/>
                    <a:pt x="728257" y="0"/>
                  </a:cubicBezTo>
                  <a:close/>
                </a:path>
              </a:pathLst>
            </a:custGeom>
            <a:solidFill>
              <a:srgbClr val="0072b1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9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13"/>
          <p:cNvGrpSpPr/>
          <p:nvPr/>
        </p:nvGrpSpPr>
        <p:grpSpPr>
          <a:xfrm>
            <a:off x="2944800" y="1357200"/>
            <a:ext cx="1627200" cy="4124520"/>
            <a:chOff x="2944800" y="1357200"/>
            <a:chExt cx="1627200" cy="4124520"/>
          </a:xfrm>
        </p:grpSpPr>
        <p:sp>
          <p:nvSpPr>
            <p:cNvPr id="187" name="任意多边形 14"/>
            <p:cNvSpPr/>
            <p:nvPr/>
          </p:nvSpPr>
          <p:spPr>
            <a:xfrm>
              <a:off x="2944800" y="2503440"/>
              <a:ext cx="1627200" cy="2978280"/>
            </a:xfrm>
            <a:custGeom>
              <a:avLst/>
              <a:gdLst/>
              <a:ahLst/>
              <a:rect l="l" t="t" r="r" b="b"/>
              <a:pathLst>
                <a:path w="1627734" h="2978738">
                  <a:moveTo>
                    <a:pt x="85610" y="0"/>
                  </a:moveTo>
                  <a:lnTo>
                    <a:pt x="1542124" y="0"/>
                  </a:lnTo>
                  <a:lnTo>
                    <a:pt x="1563776" y="113888"/>
                  </a:lnTo>
                  <a:cubicBezTo>
                    <a:pt x="1604960" y="360602"/>
                    <a:pt x="1627734" y="631850"/>
                    <a:pt x="1627734" y="916575"/>
                  </a:cubicBezTo>
                  <a:cubicBezTo>
                    <a:pt x="1627734" y="2055476"/>
                    <a:pt x="1263353" y="2978738"/>
                    <a:pt x="813867" y="2978738"/>
                  </a:cubicBezTo>
                  <a:cubicBezTo>
                    <a:pt x="364381" y="2978738"/>
                    <a:pt x="0" y="2055476"/>
                    <a:pt x="0" y="916575"/>
                  </a:cubicBezTo>
                  <a:cubicBezTo>
                    <a:pt x="0" y="631850"/>
                    <a:pt x="22774" y="360602"/>
                    <a:pt x="63958" y="113888"/>
                  </a:cubicBezTo>
                  <a:lnTo>
                    <a:pt x="85610" y="0"/>
                  </a:lnTo>
                  <a:close/>
                </a:path>
              </a:pathLst>
            </a:custGeom>
            <a:solidFill>
              <a:srgbClr val="c1b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任意多边形 15"/>
            <p:cNvSpPr/>
            <p:nvPr/>
          </p:nvSpPr>
          <p:spPr>
            <a:xfrm>
              <a:off x="3030480" y="1357200"/>
              <a:ext cx="1455840" cy="1146240"/>
            </a:xfrm>
            <a:custGeom>
              <a:avLst/>
              <a:gdLst/>
              <a:ahLst/>
              <a:rect l="l" t="t" r="r" b="b"/>
              <a:pathLst>
                <a:path w="1456514" h="1145588">
                  <a:moveTo>
                    <a:pt x="728257" y="0"/>
                  </a:moveTo>
                  <a:cubicBezTo>
                    <a:pt x="1037279" y="0"/>
                    <a:pt x="1306075" y="436386"/>
                    <a:pt x="1443895" y="1079214"/>
                  </a:cubicBezTo>
                  <a:lnTo>
                    <a:pt x="1456514" y="1145588"/>
                  </a:lnTo>
                  <a:lnTo>
                    <a:pt x="0" y="1145588"/>
                  </a:lnTo>
                  <a:lnTo>
                    <a:pt x="12619" y="1079214"/>
                  </a:lnTo>
                  <a:cubicBezTo>
                    <a:pt x="150439" y="436386"/>
                    <a:pt x="419236" y="0"/>
                    <a:pt x="728257" y="0"/>
                  </a:cubicBezTo>
                  <a:close/>
                </a:path>
              </a:pathLst>
            </a:custGeom>
            <a:solidFill>
              <a:srgbClr val="0072b1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9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16"/>
          <p:cNvGrpSpPr/>
          <p:nvPr/>
        </p:nvGrpSpPr>
        <p:grpSpPr>
          <a:xfrm>
            <a:off x="4786200" y="1357200"/>
            <a:ext cx="1627200" cy="4124520"/>
            <a:chOff x="4786200" y="1357200"/>
            <a:chExt cx="1627200" cy="4124520"/>
          </a:xfrm>
        </p:grpSpPr>
        <p:sp>
          <p:nvSpPr>
            <p:cNvPr id="190" name="任意多边形 17"/>
            <p:cNvSpPr/>
            <p:nvPr/>
          </p:nvSpPr>
          <p:spPr>
            <a:xfrm>
              <a:off x="4786200" y="2503440"/>
              <a:ext cx="1627200" cy="2978280"/>
            </a:xfrm>
            <a:custGeom>
              <a:avLst/>
              <a:gdLst/>
              <a:ahLst/>
              <a:rect l="l" t="t" r="r" b="b"/>
              <a:pathLst>
                <a:path w="1627734" h="2978738">
                  <a:moveTo>
                    <a:pt x="85610" y="0"/>
                  </a:moveTo>
                  <a:lnTo>
                    <a:pt x="1542124" y="0"/>
                  </a:lnTo>
                  <a:lnTo>
                    <a:pt x="1563776" y="113888"/>
                  </a:lnTo>
                  <a:cubicBezTo>
                    <a:pt x="1604960" y="360602"/>
                    <a:pt x="1627734" y="631850"/>
                    <a:pt x="1627734" y="916575"/>
                  </a:cubicBezTo>
                  <a:cubicBezTo>
                    <a:pt x="1627734" y="2055476"/>
                    <a:pt x="1263353" y="2978738"/>
                    <a:pt x="813867" y="2978738"/>
                  </a:cubicBezTo>
                  <a:cubicBezTo>
                    <a:pt x="364381" y="2978738"/>
                    <a:pt x="0" y="2055476"/>
                    <a:pt x="0" y="916575"/>
                  </a:cubicBezTo>
                  <a:cubicBezTo>
                    <a:pt x="0" y="631850"/>
                    <a:pt x="22774" y="360602"/>
                    <a:pt x="63958" y="113888"/>
                  </a:cubicBezTo>
                  <a:lnTo>
                    <a:pt x="85610" y="0"/>
                  </a:lnTo>
                  <a:close/>
                </a:path>
              </a:pathLst>
            </a:custGeom>
            <a:solidFill>
              <a:srgbClr val="c1b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18"/>
            <p:cNvSpPr/>
            <p:nvPr/>
          </p:nvSpPr>
          <p:spPr>
            <a:xfrm>
              <a:off x="4871880" y="1357200"/>
              <a:ext cx="1455840" cy="1146240"/>
            </a:xfrm>
            <a:custGeom>
              <a:avLst/>
              <a:gdLst/>
              <a:ahLst/>
              <a:rect l="l" t="t" r="r" b="b"/>
              <a:pathLst>
                <a:path w="1456514" h="1145588">
                  <a:moveTo>
                    <a:pt x="728257" y="0"/>
                  </a:moveTo>
                  <a:cubicBezTo>
                    <a:pt x="1037279" y="0"/>
                    <a:pt x="1306075" y="436386"/>
                    <a:pt x="1443895" y="1079214"/>
                  </a:cubicBezTo>
                  <a:lnTo>
                    <a:pt x="1456514" y="1145588"/>
                  </a:lnTo>
                  <a:lnTo>
                    <a:pt x="0" y="1145588"/>
                  </a:lnTo>
                  <a:lnTo>
                    <a:pt x="12619" y="1079214"/>
                  </a:lnTo>
                  <a:cubicBezTo>
                    <a:pt x="150439" y="436386"/>
                    <a:pt x="419236" y="0"/>
                    <a:pt x="728257" y="0"/>
                  </a:cubicBezTo>
                  <a:close/>
                </a:path>
              </a:pathLst>
            </a:custGeom>
            <a:solidFill>
              <a:srgbClr val="0072b1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9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19"/>
          <p:cNvGrpSpPr/>
          <p:nvPr/>
        </p:nvGrpSpPr>
        <p:grpSpPr>
          <a:xfrm>
            <a:off x="6588000" y="1357200"/>
            <a:ext cx="1627200" cy="4124520"/>
            <a:chOff x="6588000" y="1357200"/>
            <a:chExt cx="1627200" cy="4124520"/>
          </a:xfrm>
        </p:grpSpPr>
        <p:sp>
          <p:nvSpPr>
            <p:cNvPr id="193" name="任意多边形 20"/>
            <p:cNvSpPr/>
            <p:nvPr/>
          </p:nvSpPr>
          <p:spPr>
            <a:xfrm>
              <a:off x="6588000" y="2503440"/>
              <a:ext cx="1627200" cy="2978280"/>
            </a:xfrm>
            <a:custGeom>
              <a:avLst/>
              <a:gdLst/>
              <a:ahLst/>
              <a:rect l="l" t="t" r="r" b="b"/>
              <a:pathLst>
                <a:path w="1627734" h="2978738">
                  <a:moveTo>
                    <a:pt x="85610" y="0"/>
                  </a:moveTo>
                  <a:lnTo>
                    <a:pt x="1542124" y="0"/>
                  </a:lnTo>
                  <a:lnTo>
                    <a:pt x="1563776" y="113888"/>
                  </a:lnTo>
                  <a:cubicBezTo>
                    <a:pt x="1604960" y="360602"/>
                    <a:pt x="1627734" y="631850"/>
                    <a:pt x="1627734" y="916575"/>
                  </a:cubicBezTo>
                  <a:cubicBezTo>
                    <a:pt x="1627734" y="2055476"/>
                    <a:pt x="1263353" y="2978738"/>
                    <a:pt x="813867" y="2978738"/>
                  </a:cubicBezTo>
                  <a:cubicBezTo>
                    <a:pt x="364381" y="2978738"/>
                    <a:pt x="0" y="2055476"/>
                    <a:pt x="0" y="916575"/>
                  </a:cubicBezTo>
                  <a:cubicBezTo>
                    <a:pt x="0" y="631850"/>
                    <a:pt x="22774" y="360602"/>
                    <a:pt x="63958" y="113888"/>
                  </a:cubicBezTo>
                  <a:lnTo>
                    <a:pt x="85610" y="0"/>
                  </a:lnTo>
                  <a:close/>
                </a:path>
              </a:pathLst>
            </a:custGeom>
            <a:solidFill>
              <a:srgbClr val="c1b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21"/>
            <p:cNvSpPr/>
            <p:nvPr/>
          </p:nvSpPr>
          <p:spPr>
            <a:xfrm>
              <a:off x="6673680" y="1357200"/>
              <a:ext cx="1455840" cy="1146240"/>
            </a:xfrm>
            <a:custGeom>
              <a:avLst/>
              <a:gdLst/>
              <a:ahLst/>
              <a:rect l="l" t="t" r="r" b="b"/>
              <a:pathLst>
                <a:path w="1456514" h="1145588">
                  <a:moveTo>
                    <a:pt x="728257" y="0"/>
                  </a:moveTo>
                  <a:cubicBezTo>
                    <a:pt x="1037279" y="0"/>
                    <a:pt x="1306075" y="436386"/>
                    <a:pt x="1443895" y="1079214"/>
                  </a:cubicBezTo>
                  <a:lnTo>
                    <a:pt x="1456514" y="1145588"/>
                  </a:lnTo>
                  <a:lnTo>
                    <a:pt x="0" y="1145588"/>
                  </a:lnTo>
                  <a:lnTo>
                    <a:pt x="12619" y="1079214"/>
                  </a:lnTo>
                  <a:cubicBezTo>
                    <a:pt x="150439" y="436386"/>
                    <a:pt x="419236" y="0"/>
                    <a:pt x="728257" y="0"/>
                  </a:cubicBezTo>
                  <a:close/>
                </a:path>
              </a:pathLst>
            </a:custGeom>
            <a:solidFill>
              <a:srgbClr val="0072b1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9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32835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6926760" y="3416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52138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14976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MH_SubTitle_1"/>
          <p:cNvSpPr/>
          <p:nvPr/>
        </p:nvSpPr>
        <p:spPr>
          <a:xfrm>
            <a:off x="500040" y="1614600"/>
            <a:ext cx="2608200" cy="281448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11713" h="12650">
                <a:moveTo>
                  <a:pt x="10716" y="5568"/>
                </a:moveTo>
                <a:lnTo>
                  <a:pt x="10716" y="5568"/>
                </a:lnTo>
                <a:lnTo>
                  <a:pt x="10759" y="5528"/>
                </a:lnTo>
                <a:lnTo>
                  <a:pt x="10801" y="5487"/>
                </a:lnTo>
                <a:lnTo>
                  <a:pt x="10843" y="5446"/>
                </a:lnTo>
                <a:lnTo>
                  <a:pt x="10884" y="5402"/>
                </a:lnTo>
                <a:lnTo>
                  <a:pt x="10924" y="5358"/>
                </a:lnTo>
                <a:lnTo>
                  <a:pt x="10962" y="5314"/>
                </a:lnTo>
                <a:lnTo>
                  <a:pt x="10999" y="5268"/>
                </a:lnTo>
                <a:lnTo>
                  <a:pt x="11035" y="5221"/>
                </a:lnTo>
                <a:lnTo>
                  <a:pt x="11070" y="5173"/>
                </a:lnTo>
                <a:lnTo>
                  <a:pt x="11103" y="5125"/>
                </a:lnTo>
                <a:lnTo>
                  <a:pt x="11136" y="5076"/>
                </a:lnTo>
                <a:lnTo>
                  <a:pt x="11167" y="5026"/>
                </a:lnTo>
                <a:lnTo>
                  <a:pt x="11196" y="4975"/>
                </a:lnTo>
                <a:lnTo>
                  <a:pt x="11224" y="4922"/>
                </a:lnTo>
                <a:lnTo>
                  <a:pt x="11251" y="4870"/>
                </a:lnTo>
                <a:lnTo>
                  <a:pt x="11278" y="4817"/>
                </a:lnTo>
                <a:lnTo>
                  <a:pt x="11302" y="4763"/>
                </a:lnTo>
                <a:lnTo>
                  <a:pt x="11325" y="4708"/>
                </a:lnTo>
                <a:lnTo>
                  <a:pt x="11346" y="4653"/>
                </a:lnTo>
                <a:lnTo>
                  <a:pt x="11366" y="4597"/>
                </a:lnTo>
                <a:lnTo>
                  <a:pt x="11385" y="4540"/>
                </a:lnTo>
                <a:lnTo>
                  <a:pt x="11402" y="4483"/>
                </a:lnTo>
                <a:lnTo>
                  <a:pt x="11417" y="4425"/>
                </a:lnTo>
                <a:lnTo>
                  <a:pt x="11431" y="4366"/>
                </a:lnTo>
                <a:lnTo>
                  <a:pt x="11444" y="4307"/>
                </a:lnTo>
                <a:lnTo>
                  <a:pt x="11454" y="4248"/>
                </a:lnTo>
                <a:lnTo>
                  <a:pt x="11463" y="4187"/>
                </a:lnTo>
                <a:lnTo>
                  <a:pt x="11471" y="4127"/>
                </a:lnTo>
                <a:lnTo>
                  <a:pt x="11477" y="4066"/>
                </a:lnTo>
                <a:lnTo>
                  <a:pt x="11481" y="4004"/>
                </a:lnTo>
                <a:lnTo>
                  <a:pt x="11484" y="3942"/>
                </a:lnTo>
                <a:lnTo>
                  <a:pt x="11484" y="3879"/>
                </a:lnTo>
                <a:lnTo>
                  <a:pt x="11484" y="3821"/>
                </a:lnTo>
                <a:lnTo>
                  <a:pt x="11482" y="3761"/>
                </a:lnTo>
                <a:lnTo>
                  <a:pt x="11478" y="3704"/>
                </a:lnTo>
                <a:lnTo>
                  <a:pt x="11473" y="3645"/>
                </a:lnTo>
                <a:lnTo>
                  <a:pt x="11466" y="3588"/>
                </a:lnTo>
                <a:lnTo>
                  <a:pt x="11457" y="3530"/>
                </a:lnTo>
                <a:lnTo>
                  <a:pt x="11448" y="3474"/>
                </a:lnTo>
                <a:lnTo>
                  <a:pt x="11436" y="3417"/>
                </a:lnTo>
                <a:lnTo>
                  <a:pt x="11424" y="3362"/>
                </a:lnTo>
                <a:lnTo>
                  <a:pt x="11410" y="3307"/>
                </a:lnTo>
                <a:lnTo>
                  <a:pt x="11394" y="3252"/>
                </a:lnTo>
                <a:lnTo>
                  <a:pt x="11378" y="3198"/>
                </a:lnTo>
                <a:lnTo>
                  <a:pt x="11360" y="3145"/>
                </a:lnTo>
                <a:lnTo>
                  <a:pt x="11340" y="3092"/>
                </a:lnTo>
                <a:lnTo>
                  <a:pt x="11320" y="3039"/>
                </a:lnTo>
                <a:lnTo>
                  <a:pt x="11298" y="2987"/>
                </a:lnTo>
                <a:lnTo>
                  <a:pt x="11275" y="2936"/>
                </a:lnTo>
                <a:lnTo>
                  <a:pt x="11250" y="2886"/>
                </a:lnTo>
                <a:lnTo>
                  <a:pt x="11225" y="2836"/>
                </a:lnTo>
                <a:lnTo>
                  <a:pt x="11198" y="2788"/>
                </a:lnTo>
                <a:lnTo>
                  <a:pt x="11170" y="2739"/>
                </a:lnTo>
                <a:lnTo>
                  <a:pt x="11141" y="2692"/>
                </a:lnTo>
                <a:lnTo>
                  <a:pt x="11110" y="2645"/>
                </a:lnTo>
                <a:lnTo>
                  <a:pt x="11079" y="2599"/>
                </a:lnTo>
                <a:lnTo>
                  <a:pt x="11047" y="2553"/>
                </a:lnTo>
                <a:lnTo>
                  <a:pt x="11013" y="2509"/>
                </a:lnTo>
                <a:lnTo>
                  <a:pt x="10978" y="2465"/>
                </a:lnTo>
                <a:lnTo>
                  <a:pt x="10942" y="2422"/>
                </a:lnTo>
                <a:lnTo>
                  <a:pt x="10906" y="2379"/>
                </a:lnTo>
                <a:lnTo>
                  <a:pt x="10868" y="2339"/>
                </a:lnTo>
                <a:lnTo>
                  <a:pt x="10828" y="2299"/>
                </a:lnTo>
                <a:lnTo>
                  <a:pt x="10789" y="2259"/>
                </a:lnTo>
                <a:lnTo>
                  <a:pt x="10748" y="2221"/>
                </a:lnTo>
                <a:lnTo>
                  <a:pt x="10706" y="2183"/>
                </a:lnTo>
                <a:lnTo>
                  <a:pt x="10664" y="2146"/>
                </a:lnTo>
                <a:lnTo>
                  <a:pt x="10621" y="2111"/>
                </a:lnTo>
                <a:lnTo>
                  <a:pt x="10576" y="2076"/>
                </a:lnTo>
                <a:lnTo>
                  <a:pt x="10531" y="2043"/>
                </a:lnTo>
                <a:lnTo>
                  <a:pt x="10485" y="2011"/>
                </a:lnTo>
                <a:lnTo>
                  <a:pt x="10438" y="1979"/>
                </a:lnTo>
                <a:lnTo>
                  <a:pt x="10390" y="1949"/>
                </a:lnTo>
                <a:lnTo>
                  <a:pt x="10341" y="1920"/>
                </a:lnTo>
                <a:lnTo>
                  <a:pt x="10292" y="1892"/>
                </a:lnTo>
                <a:lnTo>
                  <a:pt x="10242" y="1864"/>
                </a:lnTo>
                <a:lnTo>
                  <a:pt x="10190" y="1838"/>
                </a:lnTo>
                <a:lnTo>
                  <a:pt x="10139" y="1814"/>
                </a:lnTo>
                <a:lnTo>
                  <a:pt x="10087" y="1790"/>
                </a:lnTo>
                <a:lnTo>
                  <a:pt x="10034" y="1768"/>
                </a:lnTo>
                <a:lnTo>
                  <a:pt x="9981" y="1746"/>
                </a:lnTo>
                <a:lnTo>
                  <a:pt x="9926" y="1727"/>
                </a:lnTo>
                <a:lnTo>
                  <a:pt x="9871" y="1709"/>
                </a:lnTo>
                <a:lnTo>
                  <a:pt x="9816" y="1691"/>
                </a:lnTo>
                <a:lnTo>
                  <a:pt x="9759" y="1674"/>
                </a:lnTo>
                <a:lnTo>
                  <a:pt x="9703" y="1660"/>
                </a:lnTo>
                <a:lnTo>
                  <a:pt x="9645" y="1646"/>
                </a:lnTo>
                <a:lnTo>
                  <a:pt x="9588" y="1635"/>
                </a:lnTo>
                <a:lnTo>
                  <a:pt x="9529" y="1624"/>
                </a:lnTo>
                <a:lnTo>
                  <a:pt x="9471" y="1615"/>
                </a:lnTo>
                <a:lnTo>
                  <a:pt x="9411" y="1606"/>
                </a:lnTo>
                <a:lnTo>
                  <a:pt x="9352" y="1600"/>
                </a:lnTo>
                <a:lnTo>
                  <a:pt x="9292" y="1595"/>
                </a:lnTo>
                <a:lnTo>
                  <a:pt x="9232" y="1591"/>
                </a:lnTo>
                <a:lnTo>
                  <a:pt x="9170" y="1589"/>
                </a:lnTo>
                <a:lnTo>
                  <a:pt x="9110" y="1588"/>
                </a:lnTo>
                <a:lnTo>
                  <a:pt x="9044" y="1589"/>
                </a:lnTo>
                <a:lnTo>
                  <a:pt x="8979" y="1592"/>
                </a:lnTo>
                <a:lnTo>
                  <a:pt x="8915" y="1596"/>
                </a:lnTo>
                <a:lnTo>
                  <a:pt x="8852" y="1601"/>
                </a:lnTo>
                <a:lnTo>
                  <a:pt x="8788" y="1609"/>
                </a:lnTo>
                <a:lnTo>
                  <a:pt x="8725" y="1618"/>
                </a:lnTo>
                <a:lnTo>
                  <a:pt x="8664" y="1628"/>
                </a:lnTo>
                <a:lnTo>
                  <a:pt x="8602" y="1641"/>
                </a:lnTo>
                <a:lnTo>
                  <a:pt x="8570" y="1595"/>
                </a:lnTo>
                <a:lnTo>
                  <a:pt x="8537" y="1549"/>
                </a:lnTo>
                <a:lnTo>
                  <a:pt x="8505" y="1504"/>
                </a:lnTo>
                <a:lnTo>
                  <a:pt x="8471" y="1460"/>
                </a:lnTo>
                <a:lnTo>
                  <a:pt x="8437" y="1415"/>
                </a:lnTo>
                <a:lnTo>
                  <a:pt x="8402" y="1373"/>
                </a:lnTo>
                <a:lnTo>
                  <a:pt x="8366" y="1330"/>
                </a:lnTo>
                <a:lnTo>
                  <a:pt x="8330" y="1287"/>
                </a:lnTo>
                <a:lnTo>
                  <a:pt x="8292" y="1245"/>
                </a:lnTo>
                <a:lnTo>
                  <a:pt x="8254" y="1203"/>
                </a:lnTo>
                <a:lnTo>
                  <a:pt x="8217" y="1163"/>
                </a:lnTo>
                <a:lnTo>
                  <a:pt x="8177" y="1123"/>
                </a:lnTo>
                <a:lnTo>
                  <a:pt x="8137" y="1083"/>
                </a:lnTo>
                <a:lnTo>
                  <a:pt x="8098" y="1045"/>
                </a:lnTo>
                <a:lnTo>
                  <a:pt x="8057" y="1006"/>
                </a:lnTo>
                <a:lnTo>
                  <a:pt x="8015" y="968"/>
                </a:lnTo>
                <a:lnTo>
                  <a:pt x="7973" y="931"/>
                </a:lnTo>
                <a:lnTo>
                  <a:pt x="7931" y="894"/>
                </a:lnTo>
                <a:lnTo>
                  <a:pt x="7888" y="859"/>
                </a:lnTo>
                <a:lnTo>
                  <a:pt x="7844" y="823"/>
                </a:lnTo>
                <a:lnTo>
                  <a:pt x="7799" y="788"/>
                </a:lnTo>
                <a:lnTo>
                  <a:pt x="7754" y="754"/>
                </a:lnTo>
                <a:lnTo>
                  <a:pt x="7709" y="721"/>
                </a:lnTo>
                <a:lnTo>
                  <a:pt x="7663" y="687"/>
                </a:lnTo>
                <a:lnTo>
                  <a:pt x="7616" y="656"/>
                </a:lnTo>
                <a:lnTo>
                  <a:pt x="7569" y="625"/>
                </a:lnTo>
                <a:lnTo>
                  <a:pt x="7522" y="593"/>
                </a:lnTo>
                <a:lnTo>
                  <a:pt x="7474" y="563"/>
                </a:lnTo>
                <a:lnTo>
                  <a:pt x="7425" y="534"/>
                </a:lnTo>
                <a:lnTo>
                  <a:pt x="7376" y="506"/>
                </a:lnTo>
                <a:lnTo>
                  <a:pt x="7327" y="477"/>
                </a:lnTo>
                <a:lnTo>
                  <a:pt x="7277" y="450"/>
                </a:lnTo>
                <a:lnTo>
                  <a:pt x="7227" y="424"/>
                </a:lnTo>
                <a:lnTo>
                  <a:pt x="7176" y="398"/>
                </a:lnTo>
                <a:lnTo>
                  <a:pt x="7124" y="373"/>
                </a:lnTo>
                <a:lnTo>
                  <a:pt x="7072" y="349"/>
                </a:lnTo>
                <a:lnTo>
                  <a:pt x="7020" y="325"/>
                </a:lnTo>
                <a:lnTo>
                  <a:pt x="6968" y="302"/>
                </a:lnTo>
                <a:lnTo>
                  <a:pt x="6915" y="280"/>
                </a:lnTo>
                <a:lnTo>
                  <a:pt x="6860" y="259"/>
                </a:lnTo>
                <a:lnTo>
                  <a:pt x="6807" y="238"/>
                </a:lnTo>
                <a:lnTo>
                  <a:pt x="6753" y="218"/>
                </a:lnTo>
                <a:lnTo>
                  <a:pt x="6697" y="200"/>
                </a:lnTo>
                <a:lnTo>
                  <a:pt x="6642" y="182"/>
                </a:lnTo>
                <a:lnTo>
                  <a:pt x="6587" y="164"/>
                </a:lnTo>
                <a:lnTo>
                  <a:pt x="6531" y="148"/>
                </a:lnTo>
                <a:lnTo>
                  <a:pt x="6475" y="133"/>
                </a:lnTo>
                <a:lnTo>
                  <a:pt x="6417" y="117"/>
                </a:lnTo>
                <a:lnTo>
                  <a:pt x="6361" y="104"/>
                </a:lnTo>
                <a:lnTo>
                  <a:pt x="6304" y="91"/>
                </a:lnTo>
                <a:lnTo>
                  <a:pt x="6246" y="79"/>
                </a:lnTo>
                <a:lnTo>
                  <a:pt x="6188" y="67"/>
                </a:lnTo>
                <a:lnTo>
                  <a:pt x="6129" y="57"/>
                </a:lnTo>
                <a:lnTo>
                  <a:pt x="6071" y="47"/>
                </a:lnTo>
                <a:lnTo>
                  <a:pt x="6011" y="38"/>
                </a:lnTo>
                <a:lnTo>
                  <a:pt x="5953" y="30"/>
                </a:lnTo>
                <a:lnTo>
                  <a:pt x="5893" y="23"/>
                </a:lnTo>
                <a:lnTo>
                  <a:pt x="5833" y="17"/>
                </a:lnTo>
                <a:lnTo>
                  <a:pt x="5773" y="12"/>
                </a:lnTo>
                <a:lnTo>
                  <a:pt x="5713" y="7"/>
                </a:lnTo>
                <a:lnTo>
                  <a:pt x="5652" y="4"/>
                </a:lnTo>
                <a:lnTo>
                  <a:pt x="5590" y="2"/>
                </a:lnTo>
                <a:lnTo>
                  <a:pt x="5530" y="0"/>
                </a:lnTo>
                <a:lnTo>
                  <a:pt x="5468" y="0"/>
                </a:lnTo>
                <a:lnTo>
                  <a:pt x="5372" y="1"/>
                </a:lnTo>
                <a:lnTo>
                  <a:pt x="5276" y="4"/>
                </a:lnTo>
                <a:lnTo>
                  <a:pt x="5181" y="11"/>
                </a:lnTo>
                <a:lnTo>
                  <a:pt x="5086" y="19"/>
                </a:lnTo>
                <a:lnTo>
                  <a:pt x="4992" y="29"/>
                </a:lnTo>
                <a:lnTo>
                  <a:pt x="4899" y="42"/>
                </a:lnTo>
                <a:lnTo>
                  <a:pt x="4806" y="57"/>
                </a:lnTo>
                <a:lnTo>
                  <a:pt x="4715" y="73"/>
                </a:lnTo>
                <a:lnTo>
                  <a:pt x="4624" y="92"/>
                </a:lnTo>
                <a:lnTo>
                  <a:pt x="4534" y="114"/>
                </a:lnTo>
                <a:lnTo>
                  <a:pt x="4445" y="137"/>
                </a:lnTo>
                <a:lnTo>
                  <a:pt x="4357" y="162"/>
                </a:lnTo>
                <a:lnTo>
                  <a:pt x="4269" y="189"/>
                </a:lnTo>
                <a:lnTo>
                  <a:pt x="4183" y="218"/>
                </a:lnTo>
                <a:lnTo>
                  <a:pt x="4097" y="250"/>
                </a:lnTo>
                <a:lnTo>
                  <a:pt x="4014" y="283"/>
                </a:lnTo>
                <a:lnTo>
                  <a:pt x="3930" y="319"/>
                </a:lnTo>
                <a:lnTo>
                  <a:pt x="3848" y="355"/>
                </a:lnTo>
                <a:lnTo>
                  <a:pt x="3766" y="395"/>
                </a:lnTo>
                <a:lnTo>
                  <a:pt x="3687" y="436"/>
                </a:lnTo>
                <a:lnTo>
                  <a:pt x="3607" y="477"/>
                </a:lnTo>
                <a:lnTo>
                  <a:pt x="3530" y="522"/>
                </a:lnTo>
                <a:lnTo>
                  <a:pt x="3454" y="568"/>
                </a:lnTo>
                <a:lnTo>
                  <a:pt x="3379" y="616"/>
                </a:lnTo>
                <a:lnTo>
                  <a:pt x="3304" y="665"/>
                </a:lnTo>
                <a:lnTo>
                  <a:pt x="3231" y="717"/>
                </a:lnTo>
                <a:lnTo>
                  <a:pt x="3160" y="769"/>
                </a:lnTo>
                <a:lnTo>
                  <a:pt x="3090" y="823"/>
                </a:lnTo>
                <a:lnTo>
                  <a:pt x="3022" y="880"/>
                </a:lnTo>
                <a:lnTo>
                  <a:pt x="2955" y="937"/>
                </a:lnTo>
                <a:lnTo>
                  <a:pt x="2889" y="996"/>
                </a:lnTo>
                <a:lnTo>
                  <a:pt x="2825" y="1056"/>
                </a:lnTo>
                <a:lnTo>
                  <a:pt x="2763" y="1119"/>
                </a:lnTo>
                <a:lnTo>
                  <a:pt x="2701" y="1181"/>
                </a:lnTo>
                <a:lnTo>
                  <a:pt x="2641" y="1246"/>
                </a:lnTo>
                <a:lnTo>
                  <a:pt x="2584" y="1313"/>
                </a:lnTo>
                <a:lnTo>
                  <a:pt x="2528" y="1380"/>
                </a:lnTo>
                <a:lnTo>
                  <a:pt x="2473" y="1449"/>
                </a:lnTo>
                <a:lnTo>
                  <a:pt x="2420" y="1519"/>
                </a:lnTo>
                <a:lnTo>
                  <a:pt x="2369" y="1590"/>
                </a:lnTo>
                <a:lnTo>
                  <a:pt x="2319" y="1663"/>
                </a:lnTo>
                <a:lnTo>
                  <a:pt x="2272" y="1737"/>
                </a:lnTo>
                <a:lnTo>
                  <a:pt x="2226" y="1811"/>
                </a:lnTo>
                <a:lnTo>
                  <a:pt x="2181" y="1887"/>
                </a:lnTo>
                <a:lnTo>
                  <a:pt x="2139" y="1965"/>
                </a:lnTo>
                <a:lnTo>
                  <a:pt x="2098" y="2043"/>
                </a:lnTo>
                <a:lnTo>
                  <a:pt x="2061" y="2122"/>
                </a:lnTo>
                <a:lnTo>
                  <a:pt x="2024" y="2203"/>
                </a:lnTo>
                <a:lnTo>
                  <a:pt x="1990" y="2284"/>
                </a:lnTo>
                <a:lnTo>
                  <a:pt x="1957" y="2367"/>
                </a:lnTo>
                <a:lnTo>
                  <a:pt x="1926" y="2450"/>
                </a:lnTo>
                <a:lnTo>
                  <a:pt x="1898" y="2534"/>
                </a:lnTo>
                <a:lnTo>
                  <a:pt x="1872" y="2620"/>
                </a:lnTo>
                <a:lnTo>
                  <a:pt x="1848" y="2705"/>
                </a:lnTo>
                <a:lnTo>
                  <a:pt x="1826" y="2792"/>
                </a:lnTo>
                <a:lnTo>
                  <a:pt x="1806" y="2880"/>
                </a:lnTo>
                <a:lnTo>
                  <a:pt x="1788" y="2968"/>
                </a:lnTo>
                <a:lnTo>
                  <a:pt x="1774" y="3057"/>
                </a:lnTo>
                <a:lnTo>
                  <a:pt x="1760" y="3147"/>
                </a:lnTo>
                <a:lnTo>
                  <a:pt x="1750" y="3238"/>
                </a:lnTo>
                <a:lnTo>
                  <a:pt x="1741" y="3330"/>
                </a:lnTo>
                <a:lnTo>
                  <a:pt x="1735" y="3422"/>
                </a:lnTo>
                <a:lnTo>
                  <a:pt x="1732" y="3514"/>
                </a:lnTo>
                <a:lnTo>
                  <a:pt x="1730" y="3607"/>
                </a:lnTo>
                <a:lnTo>
                  <a:pt x="1731" y="3681"/>
                </a:lnTo>
                <a:lnTo>
                  <a:pt x="1733" y="3755"/>
                </a:lnTo>
                <a:lnTo>
                  <a:pt x="1737" y="3828"/>
                </a:lnTo>
                <a:lnTo>
                  <a:pt x="1742" y="3901"/>
                </a:lnTo>
                <a:lnTo>
                  <a:pt x="1750" y="3973"/>
                </a:lnTo>
                <a:lnTo>
                  <a:pt x="1758" y="4045"/>
                </a:lnTo>
                <a:lnTo>
                  <a:pt x="1768" y="4117"/>
                </a:lnTo>
                <a:lnTo>
                  <a:pt x="1779" y="4188"/>
                </a:lnTo>
                <a:lnTo>
                  <a:pt x="1730" y="4217"/>
                </a:lnTo>
                <a:lnTo>
                  <a:pt x="1681" y="4248"/>
                </a:lnTo>
                <a:lnTo>
                  <a:pt x="1632" y="4278"/>
                </a:lnTo>
                <a:lnTo>
                  <a:pt x="1584" y="4309"/>
                </a:lnTo>
                <a:lnTo>
                  <a:pt x="1537" y="4342"/>
                </a:lnTo>
                <a:lnTo>
                  <a:pt x="1490" y="4374"/>
                </a:lnTo>
                <a:lnTo>
                  <a:pt x="1443" y="4409"/>
                </a:lnTo>
                <a:lnTo>
                  <a:pt x="1397" y="4442"/>
                </a:lnTo>
                <a:lnTo>
                  <a:pt x="1352" y="4478"/>
                </a:lnTo>
                <a:lnTo>
                  <a:pt x="1307" y="4513"/>
                </a:lnTo>
                <a:lnTo>
                  <a:pt x="1263" y="4549"/>
                </a:lnTo>
                <a:lnTo>
                  <a:pt x="1219" y="4586"/>
                </a:lnTo>
                <a:lnTo>
                  <a:pt x="1176" y="4624"/>
                </a:lnTo>
                <a:lnTo>
                  <a:pt x="1134" y="4661"/>
                </a:lnTo>
                <a:lnTo>
                  <a:pt x="1093" y="4700"/>
                </a:lnTo>
                <a:lnTo>
                  <a:pt x="1052" y="4740"/>
                </a:lnTo>
                <a:lnTo>
                  <a:pt x="1011" y="4780"/>
                </a:lnTo>
                <a:lnTo>
                  <a:pt x="972" y="4821"/>
                </a:lnTo>
                <a:lnTo>
                  <a:pt x="933" y="4862"/>
                </a:lnTo>
                <a:lnTo>
                  <a:pt x="894" y="4904"/>
                </a:lnTo>
                <a:lnTo>
                  <a:pt x="857" y="4946"/>
                </a:lnTo>
                <a:lnTo>
                  <a:pt x="820" y="4989"/>
                </a:lnTo>
                <a:lnTo>
                  <a:pt x="784" y="5033"/>
                </a:lnTo>
                <a:lnTo>
                  <a:pt x="748" y="5077"/>
                </a:lnTo>
                <a:lnTo>
                  <a:pt x="714" y="5122"/>
                </a:lnTo>
                <a:lnTo>
                  <a:pt x="679" y="5167"/>
                </a:lnTo>
                <a:lnTo>
                  <a:pt x="646" y="5213"/>
                </a:lnTo>
                <a:lnTo>
                  <a:pt x="613" y="5259"/>
                </a:lnTo>
                <a:lnTo>
                  <a:pt x="581" y="5306"/>
                </a:lnTo>
                <a:lnTo>
                  <a:pt x="550" y="5354"/>
                </a:lnTo>
                <a:lnTo>
                  <a:pt x="519" y="5402"/>
                </a:lnTo>
                <a:lnTo>
                  <a:pt x="490" y="5450"/>
                </a:lnTo>
                <a:lnTo>
                  <a:pt x="461" y="5499"/>
                </a:lnTo>
                <a:lnTo>
                  <a:pt x="434" y="5548"/>
                </a:lnTo>
                <a:lnTo>
                  <a:pt x="406" y="5598"/>
                </a:lnTo>
                <a:lnTo>
                  <a:pt x="379" y="5648"/>
                </a:lnTo>
                <a:lnTo>
                  <a:pt x="354" y="5698"/>
                </a:lnTo>
                <a:lnTo>
                  <a:pt x="329" y="5750"/>
                </a:lnTo>
                <a:lnTo>
                  <a:pt x="305" y="5802"/>
                </a:lnTo>
                <a:lnTo>
                  <a:pt x="282" y="5854"/>
                </a:lnTo>
                <a:lnTo>
                  <a:pt x="259" y="5906"/>
                </a:lnTo>
                <a:lnTo>
                  <a:pt x="239" y="5960"/>
                </a:lnTo>
                <a:lnTo>
                  <a:pt x="218" y="6013"/>
                </a:lnTo>
                <a:lnTo>
                  <a:pt x="198" y="6066"/>
                </a:lnTo>
                <a:lnTo>
                  <a:pt x="179" y="6120"/>
                </a:lnTo>
                <a:lnTo>
                  <a:pt x="161" y="6175"/>
                </a:lnTo>
                <a:lnTo>
                  <a:pt x="145" y="6230"/>
                </a:lnTo>
                <a:lnTo>
                  <a:pt x="128" y="6285"/>
                </a:lnTo>
                <a:lnTo>
                  <a:pt x="113" y="6341"/>
                </a:lnTo>
                <a:lnTo>
                  <a:pt x="99" y="6397"/>
                </a:lnTo>
                <a:lnTo>
                  <a:pt x="85" y="6454"/>
                </a:lnTo>
                <a:lnTo>
                  <a:pt x="74" y="6510"/>
                </a:lnTo>
                <a:lnTo>
                  <a:pt x="62" y="6566"/>
                </a:lnTo>
                <a:lnTo>
                  <a:pt x="51" y="6624"/>
                </a:lnTo>
                <a:lnTo>
                  <a:pt x="41" y="6681"/>
                </a:lnTo>
                <a:lnTo>
                  <a:pt x="33" y="6740"/>
                </a:lnTo>
                <a:lnTo>
                  <a:pt x="25" y="6798"/>
                </a:lnTo>
                <a:lnTo>
                  <a:pt x="18" y="6857"/>
                </a:lnTo>
                <a:lnTo>
                  <a:pt x="13" y="6915"/>
                </a:lnTo>
                <a:lnTo>
                  <a:pt x="9" y="6975"/>
                </a:lnTo>
                <a:lnTo>
                  <a:pt x="5" y="7034"/>
                </a:lnTo>
                <a:lnTo>
                  <a:pt x="3" y="7094"/>
                </a:lnTo>
                <a:lnTo>
                  <a:pt x="0" y="7153"/>
                </a:lnTo>
                <a:lnTo>
                  <a:pt x="0" y="7214"/>
                </a:lnTo>
                <a:lnTo>
                  <a:pt x="1" y="7295"/>
                </a:lnTo>
                <a:lnTo>
                  <a:pt x="4" y="7377"/>
                </a:lnTo>
                <a:lnTo>
                  <a:pt x="9" y="7457"/>
                </a:lnTo>
                <a:lnTo>
                  <a:pt x="15" y="7538"/>
                </a:lnTo>
                <a:lnTo>
                  <a:pt x="23" y="7618"/>
                </a:lnTo>
                <a:lnTo>
                  <a:pt x="34" y="7697"/>
                </a:lnTo>
                <a:lnTo>
                  <a:pt x="46" y="7776"/>
                </a:lnTo>
                <a:lnTo>
                  <a:pt x="60" y="7854"/>
                </a:lnTo>
                <a:lnTo>
                  <a:pt x="77" y="7932"/>
                </a:lnTo>
                <a:lnTo>
                  <a:pt x="93" y="8010"/>
                </a:lnTo>
                <a:lnTo>
                  <a:pt x="113" y="8086"/>
                </a:lnTo>
                <a:lnTo>
                  <a:pt x="134" y="8161"/>
                </a:lnTo>
                <a:lnTo>
                  <a:pt x="156" y="8236"/>
                </a:lnTo>
                <a:lnTo>
                  <a:pt x="181" y="8311"/>
                </a:lnTo>
                <a:lnTo>
                  <a:pt x="206" y="8385"/>
                </a:lnTo>
                <a:lnTo>
                  <a:pt x="234" y="8458"/>
                </a:lnTo>
                <a:lnTo>
                  <a:pt x="264" y="8530"/>
                </a:lnTo>
                <a:lnTo>
                  <a:pt x="294" y="8601"/>
                </a:lnTo>
                <a:lnTo>
                  <a:pt x="326" y="8671"/>
                </a:lnTo>
                <a:lnTo>
                  <a:pt x="361" y="8741"/>
                </a:lnTo>
                <a:lnTo>
                  <a:pt x="395" y="8810"/>
                </a:lnTo>
                <a:lnTo>
                  <a:pt x="433" y="8878"/>
                </a:lnTo>
                <a:lnTo>
                  <a:pt x="471" y="8946"/>
                </a:lnTo>
                <a:lnTo>
                  <a:pt x="511" y="9011"/>
                </a:lnTo>
                <a:lnTo>
                  <a:pt x="552" y="9077"/>
                </a:lnTo>
                <a:lnTo>
                  <a:pt x="595" y="9141"/>
                </a:lnTo>
                <a:lnTo>
                  <a:pt x="638" y="9205"/>
                </a:lnTo>
                <a:lnTo>
                  <a:pt x="684" y="9267"/>
                </a:lnTo>
                <a:lnTo>
                  <a:pt x="731" y="9329"/>
                </a:lnTo>
                <a:lnTo>
                  <a:pt x="779" y="9388"/>
                </a:lnTo>
                <a:lnTo>
                  <a:pt x="829" y="9448"/>
                </a:lnTo>
                <a:lnTo>
                  <a:pt x="880" y="9506"/>
                </a:lnTo>
                <a:lnTo>
                  <a:pt x="931" y="9564"/>
                </a:lnTo>
                <a:lnTo>
                  <a:pt x="984" y="9620"/>
                </a:lnTo>
                <a:lnTo>
                  <a:pt x="1039" y="9674"/>
                </a:lnTo>
                <a:lnTo>
                  <a:pt x="1095" y="9729"/>
                </a:lnTo>
                <a:lnTo>
                  <a:pt x="1151" y="9781"/>
                </a:lnTo>
                <a:lnTo>
                  <a:pt x="1210" y="9833"/>
                </a:lnTo>
                <a:lnTo>
                  <a:pt x="1269" y="9883"/>
                </a:lnTo>
                <a:lnTo>
                  <a:pt x="1329" y="9932"/>
                </a:lnTo>
                <a:lnTo>
                  <a:pt x="1390" y="9981"/>
                </a:lnTo>
                <a:lnTo>
                  <a:pt x="1453" y="10026"/>
                </a:lnTo>
                <a:lnTo>
                  <a:pt x="1517" y="10072"/>
                </a:lnTo>
                <a:lnTo>
                  <a:pt x="1581" y="10116"/>
                </a:lnTo>
                <a:lnTo>
                  <a:pt x="1647" y="10159"/>
                </a:lnTo>
                <a:lnTo>
                  <a:pt x="1714" y="10200"/>
                </a:lnTo>
                <a:lnTo>
                  <a:pt x="1781" y="10240"/>
                </a:lnTo>
                <a:lnTo>
                  <a:pt x="1850" y="10278"/>
                </a:lnTo>
                <a:lnTo>
                  <a:pt x="1919" y="10316"/>
                </a:lnTo>
                <a:lnTo>
                  <a:pt x="1990" y="10351"/>
                </a:lnTo>
                <a:lnTo>
                  <a:pt x="2061" y="10386"/>
                </a:lnTo>
                <a:lnTo>
                  <a:pt x="2133" y="10418"/>
                </a:lnTo>
                <a:lnTo>
                  <a:pt x="2206" y="10449"/>
                </a:lnTo>
                <a:lnTo>
                  <a:pt x="2280" y="10480"/>
                </a:lnTo>
                <a:lnTo>
                  <a:pt x="2354" y="10508"/>
                </a:lnTo>
                <a:lnTo>
                  <a:pt x="2430" y="10535"/>
                </a:lnTo>
                <a:lnTo>
                  <a:pt x="2507" y="10560"/>
                </a:lnTo>
                <a:lnTo>
                  <a:pt x="2583" y="10583"/>
                </a:lnTo>
                <a:lnTo>
                  <a:pt x="2661" y="10605"/>
                </a:lnTo>
                <a:lnTo>
                  <a:pt x="2740" y="10626"/>
                </a:lnTo>
                <a:lnTo>
                  <a:pt x="2819" y="10645"/>
                </a:lnTo>
                <a:lnTo>
                  <a:pt x="2898" y="10661"/>
                </a:lnTo>
                <a:lnTo>
                  <a:pt x="2979" y="10677"/>
                </a:lnTo>
                <a:lnTo>
                  <a:pt x="3060" y="10691"/>
                </a:lnTo>
                <a:lnTo>
                  <a:pt x="3079" y="10697"/>
                </a:lnTo>
                <a:lnTo>
                  <a:pt x="3099" y="10704"/>
                </a:lnTo>
                <a:lnTo>
                  <a:pt x="3120" y="10713"/>
                </a:lnTo>
                <a:lnTo>
                  <a:pt x="3141" y="10723"/>
                </a:lnTo>
                <a:lnTo>
                  <a:pt x="3162" y="10736"/>
                </a:lnTo>
                <a:lnTo>
                  <a:pt x="3185" y="10752"/>
                </a:lnTo>
                <a:lnTo>
                  <a:pt x="3211" y="10772"/>
                </a:lnTo>
                <a:lnTo>
                  <a:pt x="3238" y="10796"/>
                </a:lnTo>
                <a:lnTo>
                  <a:pt x="3266" y="10826"/>
                </a:lnTo>
                <a:lnTo>
                  <a:pt x="3297" y="10861"/>
                </a:lnTo>
                <a:lnTo>
                  <a:pt x="3331" y="10902"/>
                </a:lnTo>
                <a:lnTo>
                  <a:pt x="3367" y="10950"/>
                </a:lnTo>
                <a:lnTo>
                  <a:pt x="3406" y="11005"/>
                </a:lnTo>
                <a:lnTo>
                  <a:pt x="3448" y="11068"/>
                </a:lnTo>
                <a:lnTo>
                  <a:pt x="3494" y="11140"/>
                </a:lnTo>
                <a:lnTo>
                  <a:pt x="3543" y="11220"/>
                </a:lnTo>
                <a:lnTo>
                  <a:pt x="3567" y="11263"/>
                </a:lnTo>
                <a:lnTo>
                  <a:pt x="3593" y="11305"/>
                </a:lnTo>
                <a:lnTo>
                  <a:pt x="3619" y="11346"/>
                </a:lnTo>
                <a:lnTo>
                  <a:pt x="3645" y="11387"/>
                </a:lnTo>
                <a:lnTo>
                  <a:pt x="3672" y="11427"/>
                </a:lnTo>
                <a:lnTo>
                  <a:pt x="3700" y="11467"/>
                </a:lnTo>
                <a:lnTo>
                  <a:pt x="3730" y="11506"/>
                </a:lnTo>
                <a:lnTo>
                  <a:pt x="3759" y="11545"/>
                </a:lnTo>
                <a:lnTo>
                  <a:pt x="3789" y="11583"/>
                </a:lnTo>
                <a:lnTo>
                  <a:pt x="3820" y="11620"/>
                </a:lnTo>
                <a:lnTo>
                  <a:pt x="3852" y="11658"/>
                </a:lnTo>
                <a:lnTo>
                  <a:pt x="3883" y="11694"/>
                </a:lnTo>
                <a:lnTo>
                  <a:pt x="3916" y="11730"/>
                </a:lnTo>
                <a:lnTo>
                  <a:pt x="3950" y="11765"/>
                </a:lnTo>
                <a:lnTo>
                  <a:pt x="3983" y="11800"/>
                </a:lnTo>
                <a:lnTo>
                  <a:pt x="4018" y="11834"/>
                </a:lnTo>
                <a:lnTo>
                  <a:pt x="4053" y="11868"/>
                </a:lnTo>
                <a:lnTo>
                  <a:pt x="4089" y="11901"/>
                </a:lnTo>
                <a:lnTo>
                  <a:pt x="4125" y="11934"/>
                </a:lnTo>
                <a:lnTo>
                  <a:pt x="4162" y="11965"/>
                </a:lnTo>
                <a:lnTo>
                  <a:pt x="4199" y="11996"/>
                </a:lnTo>
                <a:lnTo>
                  <a:pt x="4237" y="12026"/>
                </a:lnTo>
                <a:lnTo>
                  <a:pt x="4276" y="12057"/>
                </a:lnTo>
                <a:lnTo>
                  <a:pt x="4314" y="12086"/>
                </a:lnTo>
                <a:lnTo>
                  <a:pt x="4353" y="12114"/>
                </a:lnTo>
                <a:lnTo>
                  <a:pt x="4393" y="12142"/>
                </a:lnTo>
                <a:lnTo>
                  <a:pt x="4433" y="12170"/>
                </a:lnTo>
                <a:lnTo>
                  <a:pt x="4474" y="12196"/>
                </a:lnTo>
                <a:lnTo>
                  <a:pt x="4515" y="12222"/>
                </a:lnTo>
                <a:lnTo>
                  <a:pt x="4557" y="12247"/>
                </a:lnTo>
                <a:lnTo>
                  <a:pt x="4598" y="12272"/>
                </a:lnTo>
                <a:lnTo>
                  <a:pt x="4640" y="12295"/>
                </a:lnTo>
                <a:lnTo>
                  <a:pt x="4683" y="12319"/>
                </a:lnTo>
                <a:lnTo>
                  <a:pt x="4726" y="12341"/>
                </a:lnTo>
                <a:lnTo>
                  <a:pt x="4770" y="12363"/>
                </a:lnTo>
                <a:lnTo>
                  <a:pt x="4813" y="12384"/>
                </a:lnTo>
                <a:lnTo>
                  <a:pt x="4857" y="12404"/>
                </a:lnTo>
                <a:lnTo>
                  <a:pt x="4902" y="12423"/>
                </a:lnTo>
                <a:lnTo>
                  <a:pt x="4946" y="12442"/>
                </a:lnTo>
                <a:lnTo>
                  <a:pt x="4992" y="12460"/>
                </a:lnTo>
                <a:lnTo>
                  <a:pt x="5037" y="12477"/>
                </a:lnTo>
                <a:lnTo>
                  <a:pt x="5083" y="12493"/>
                </a:lnTo>
                <a:lnTo>
                  <a:pt x="5128" y="12509"/>
                </a:lnTo>
                <a:lnTo>
                  <a:pt x="5175" y="12524"/>
                </a:lnTo>
                <a:lnTo>
                  <a:pt x="5221" y="12538"/>
                </a:lnTo>
                <a:lnTo>
                  <a:pt x="5268" y="12552"/>
                </a:lnTo>
                <a:lnTo>
                  <a:pt x="5314" y="12564"/>
                </a:lnTo>
                <a:lnTo>
                  <a:pt x="5361" y="12576"/>
                </a:lnTo>
                <a:lnTo>
                  <a:pt x="5409" y="12586"/>
                </a:lnTo>
                <a:lnTo>
                  <a:pt x="5456" y="12597"/>
                </a:lnTo>
                <a:lnTo>
                  <a:pt x="5503" y="12606"/>
                </a:lnTo>
                <a:lnTo>
                  <a:pt x="5551" y="12614"/>
                </a:lnTo>
                <a:lnTo>
                  <a:pt x="5599" y="12622"/>
                </a:lnTo>
                <a:lnTo>
                  <a:pt x="5647" y="12628"/>
                </a:lnTo>
                <a:lnTo>
                  <a:pt x="5695" y="12634"/>
                </a:lnTo>
                <a:lnTo>
                  <a:pt x="5743" y="12639"/>
                </a:lnTo>
                <a:lnTo>
                  <a:pt x="5791" y="12643"/>
                </a:lnTo>
                <a:lnTo>
                  <a:pt x="5839" y="12646"/>
                </a:lnTo>
                <a:lnTo>
                  <a:pt x="5888" y="12649"/>
                </a:lnTo>
                <a:lnTo>
                  <a:pt x="5936" y="12650"/>
                </a:lnTo>
                <a:lnTo>
                  <a:pt x="5985" y="12650"/>
                </a:lnTo>
                <a:lnTo>
                  <a:pt x="6033" y="12650"/>
                </a:lnTo>
                <a:lnTo>
                  <a:pt x="6082" y="12649"/>
                </a:lnTo>
                <a:lnTo>
                  <a:pt x="6130" y="12647"/>
                </a:lnTo>
                <a:lnTo>
                  <a:pt x="6174" y="12641"/>
                </a:lnTo>
                <a:lnTo>
                  <a:pt x="6217" y="12634"/>
                </a:lnTo>
                <a:lnTo>
                  <a:pt x="6260" y="12627"/>
                </a:lnTo>
                <a:lnTo>
                  <a:pt x="6303" y="12620"/>
                </a:lnTo>
                <a:lnTo>
                  <a:pt x="6345" y="12611"/>
                </a:lnTo>
                <a:lnTo>
                  <a:pt x="6388" y="12602"/>
                </a:lnTo>
                <a:lnTo>
                  <a:pt x="6430" y="12593"/>
                </a:lnTo>
                <a:lnTo>
                  <a:pt x="6473" y="12582"/>
                </a:lnTo>
                <a:lnTo>
                  <a:pt x="6515" y="12571"/>
                </a:lnTo>
                <a:lnTo>
                  <a:pt x="6556" y="12559"/>
                </a:lnTo>
                <a:lnTo>
                  <a:pt x="6598" y="12548"/>
                </a:lnTo>
                <a:lnTo>
                  <a:pt x="6640" y="12534"/>
                </a:lnTo>
                <a:lnTo>
                  <a:pt x="6682" y="12520"/>
                </a:lnTo>
                <a:lnTo>
                  <a:pt x="6722" y="12507"/>
                </a:lnTo>
                <a:lnTo>
                  <a:pt x="6763" y="12492"/>
                </a:lnTo>
                <a:lnTo>
                  <a:pt x="6804" y="12477"/>
                </a:lnTo>
                <a:lnTo>
                  <a:pt x="6845" y="12461"/>
                </a:lnTo>
                <a:lnTo>
                  <a:pt x="6884" y="12444"/>
                </a:lnTo>
                <a:lnTo>
                  <a:pt x="6924" y="12426"/>
                </a:lnTo>
                <a:lnTo>
                  <a:pt x="6964" y="12409"/>
                </a:lnTo>
                <a:lnTo>
                  <a:pt x="7003" y="12390"/>
                </a:lnTo>
                <a:lnTo>
                  <a:pt x="7042" y="12371"/>
                </a:lnTo>
                <a:lnTo>
                  <a:pt x="7081" y="12351"/>
                </a:lnTo>
                <a:lnTo>
                  <a:pt x="7119" y="12331"/>
                </a:lnTo>
                <a:lnTo>
                  <a:pt x="7157" y="12311"/>
                </a:lnTo>
                <a:lnTo>
                  <a:pt x="7194" y="12290"/>
                </a:lnTo>
                <a:lnTo>
                  <a:pt x="7232" y="12268"/>
                </a:lnTo>
                <a:lnTo>
                  <a:pt x="7269" y="12245"/>
                </a:lnTo>
                <a:lnTo>
                  <a:pt x="7305" y="12222"/>
                </a:lnTo>
                <a:lnTo>
                  <a:pt x="7342" y="12199"/>
                </a:lnTo>
                <a:lnTo>
                  <a:pt x="7377" y="12175"/>
                </a:lnTo>
                <a:lnTo>
                  <a:pt x="7413" y="12150"/>
                </a:lnTo>
                <a:lnTo>
                  <a:pt x="7447" y="12125"/>
                </a:lnTo>
                <a:lnTo>
                  <a:pt x="7482" y="12099"/>
                </a:lnTo>
                <a:lnTo>
                  <a:pt x="7516" y="12072"/>
                </a:lnTo>
                <a:lnTo>
                  <a:pt x="7549" y="12045"/>
                </a:lnTo>
                <a:lnTo>
                  <a:pt x="7582" y="12018"/>
                </a:lnTo>
                <a:lnTo>
                  <a:pt x="7615" y="11990"/>
                </a:lnTo>
                <a:lnTo>
                  <a:pt x="7647" y="11962"/>
                </a:lnTo>
                <a:lnTo>
                  <a:pt x="7679" y="11932"/>
                </a:lnTo>
                <a:lnTo>
                  <a:pt x="7709" y="11903"/>
                </a:lnTo>
                <a:lnTo>
                  <a:pt x="7741" y="11873"/>
                </a:lnTo>
                <a:lnTo>
                  <a:pt x="7771" y="11843"/>
                </a:lnTo>
                <a:lnTo>
                  <a:pt x="7800" y="11811"/>
                </a:lnTo>
                <a:lnTo>
                  <a:pt x="7829" y="11780"/>
                </a:lnTo>
                <a:lnTo>
                  <a:pt x="7858" y="11748"/>
                </a:lnTo>
                <a:lnTo>
                  <a:pt x="7886" y="11715"/>
                </a:lnTo>
                <a:lnTo>
                  <a:pt x="7913" y="11683"/>
                </a:lnTo>
                <a:lnTo>
                  <a:pt x="7939" y="11649"/>
                </a:lnTo>
                <a:lnTo>
                  <a:pt x="7965" y="11615"/>
                </a:lnTo>
                <a:lnTo>
                  <a:pt x="7991" y="11581"/>
                </a:lnTo>
                <a:lnTo>
                  <a:pt x="8016" y="11546"/>
                </a:lnTo>
                <a:lnTo>
                  <a:pt x="8040" y="11511"/>
                </a:lnTo>
                <a:lnTo>
                  <a:pt x="8063" y="11474"/>
                </a:lnTo>
                <a:lnTo>
                  <a:pt x="8086" y="11438"/>
                </a:lnTo>
                <a:lnTo>
                  <a:pt x="8109" y="11401"/>
                </a:lnTo>
                <a:lnTo>
                  <a:pt x="8130" y="11364"/>
                </a:lnTo>
                <a:lnTo>
                  <a:pt x="8151" y="11327"/>
                </a:lnTo>
                <a:lnTo>
                  <a:pt x="8172" y="11288"/>
                </a:lnTo>
                <a:lnTo>
                  <a:pt x="8191" y="11249"/>
                </a:lnTo>
                <a:lnTo>
                  <a:pt x="8209" y="11211"/>
                </a:lnTo>
                <a:lnTo>
                  <a:pt x="8228" y="11171"/>
                </a:lnTo>
                <a:lnTo>
                  <a:pt x="8245" y="11131"/>
                </a:lnTo>
                <a:lnTo>
                  <a:pt x="8262" y="11091"/>
                </a:lnTo>
                <a:lnTo>
                  <a:pt x="8288" y="11021"/>
                </a:lnTo>
                <a:lnTo>
                  <a:pt x="8312" y="10950"/>
                </a:lnTo>
                <a:lnTo>
                  <a:pt x="8334" y="10879"/>
                </a:lnTo>
                <a:lnTo>
                  <a:pt x="8354" y="10808"/>
                </a:lnTo>
                <a:lnTo>
                  <a:pt x="8371" y="10737"/>
                </a:lnTo>
                <a:lnTo>
                  <a:pt x="8387" y="10665"/>
                </a:lnTo>
                <a:lnTo>
                  <a:pt x="8401" y="10594"/>
                </a:lnTo>
                <a:lnTo>
                  <a:pt x="8412" y="10522"/>
                </a:lnTo>
                <a:lnTo>
                  <a:pt x="8421" y="10449"/>
                </a:lnTo>
                <a:lnTo>
                  <a:pt x="8429" y="10377"/>
                </a:lnTo>
                <a:lnTo>
                  <a:pt x="8434" y="10305"/>
                </a:lnTo>
                <a:lnTo>
                  <a:pt x="8437" y="10233"/>
                </a:lnTo>
                <a:lnTo>
                  <a:pt x="8438" y="10161"/>
                </a:lnTo>
                <a:lnTo>
                  <a:pt x="8437" y="10089"/>
                </a:lnTo>
                <a:lnTo>
                  <a:pt x="8433" y="10017"/>
                </a:lnTo>
                <a:lnTo>
                  <a:pt x="8428" y="9946"/>
                </a:lnTo>
                <a:lnTo>
                  <a:pt x="8419" y="9874"/>
                </a:lnTo>
                <a:lnTo>
                  <a:pt x="8410" y="9803"/>
                </a:lnTo>
                <a:lnTo>
                  <a:pt x="8397" y="9732"/>
                </a:lnTo>
                <a:lnTo>
                  <a:pt x="8383" y="9661"/>
                </a:lnTo>
                <a:lnTo>
                  <a:pt x="8366" y="9591"/>
                </a:lnTo>
                <a:lnTo>
                  <a:pt x="8347" y="9521"/>
                </a:lnTo>
                <a:lnTo>
                  <a:pt x="8326" y="9451"/>
                </a:lnTo>
                <a:lnTo>
                  <a:pt x="8302" y="9381"/>
                </a:lnTo>
                <a:lnTo>
                  <a:pt x="8276" y="9312"/>
                </a:lnTo>
                <a:lnTo>
                  <a:pt x="8249" y="9244"/>
                </a:lnTo>
                <a:lnTo>
                  <a:pt x="8218" y="9176"/>
                </a:lnTo>
                <a:lnTo>
                  <a:pt x="8185" y="9108"/>
                </a:lnTo>
                <a:lnTo>
                  <a:pt x="8151" y="9042"/>
                </a:lnTo>
                <a:lnTo>
                  <a:pt x="8113" y="8975"/>
                </a:lnTo>
                <a:lnTo>
                  <a:pt x="8074" y="8909"/>
                </a:lnTo>
                <a:lnTo>
                  <a:pt x="8032" y="8844"/>
                </a:lnTo>
                <a:lnTo>
                  <a:pt x="8002" y="8803"/>
                </a:lnTo>
                <a:lnTo>
                  <a:pt x="7970" y="8765"/>
                </a:lnTo>
                <a:lnTo>
                  <a:pt x="7939" y="8726"/>
                </a:lnTo>
                <a:lnTo>
                  <a:pt x="7908" y="8689"/>
                </a:lnTo>
                <a:lnTo>
                  <a:pt x="7875" y="8652"/>
                </a:lnTo>
                <a:lnTo>
                  <a:pt x="7842" y="8617"/>
                </a:lnTo>
                <a:lnTo>
                  <a:pt x="7807" y="8581"/>
                </a:lnTo>
                <a:lnTo>
                  <a:pt x="7774" y="8548"/>
                </a:lnTo>
                <a:lnTo>
                  <a:pt x="7738" y="8514"/>
                </a:lnTo>
                <a:lnTo>
                  <a:pt x="7703" y="8482"/>
                </a:lnTo>
                <a:lnTo>
                  <a:pt x="7667" y="8450"/>
                </a:lnTo>
                <a:lnTo>
                  <a:pt x="7631" y="8420"/>
                </a:lnTo>
                <a:lnTo>
                  <a:pt x="7593" y="8390"/>
                </a:lnTo>
                <a:lnTo>
                  <a:pt x="7556" y="8362"/>
                </a:lnTo>
                <a:lnTo>
                  <a:pt x="7518" y="8333"/>
                </a:lnTo>
                <a:lnTo>
                  <a:pt x="7480" y="8306"/>
                </a:lnTo>
                <a:lnTo>
                  <a:pt x="7441" y="8280"/>
                </a:lnTo>
                <a:lnTo>
                  <a:pt x="7401" y="8255"/>
                </a:lnTo>
                <a:lnTo>
                  <a:pt x="7362" y="8231"/>
                </a:lnTo>
                <a:lnTo>
                  <a:pt x="7322" y="8208"/>
                </a:lnTo>
                <a:lnTo>
                  <a:pt x="7281" y="8185"/>
                </a:lnTo>
                <a:lnTo>
                  <a:pt x="7240" y="8164"/>
                </a:lnTo>
                <a:lnTo>
                  <a:pt x="7200" y="8143"/>
                </a:lnTo>
                <a:lnTo>
                  <a:pt x="7158" y="8124"/>
                </a:lnTo>
                <a:lnTo>
                  <a:pt x="7116" y="8105"/>
                </a:lnTo>
                <a:lnTo>
                  <a:pt x="7073" y="8087"/>
                </a:lnTo>
                <a:lnTo>
                  <a:pt x="7032" y="8070"/>
                </a:lnTo>
                <a:lnTo>
                  <a:pt x="6989" y="8055"/>
                </a:lnTo>
                <a:lnTo>
                  <a:pt x="6945" y="8040"/>
                </a:lnTo>
                <a:lnTo>
                  <a:pt x="6902" y="8026"/>
                </a:lnTo>
                <a:lnTo>
                  <a:pt x="6858" y="8013"/>
                </a:lnTo>
                <a:lnTo>
                  <a:pt x="6814" y="8001"/>
                </a:lnTo>
                <a:lnTo>
                  <a:pt x="6770" y="7990"/>
                </a:lnTo>
                <a:lnTo>
                  <a:pt x="6727" y="7980"/>
                </a:lnTo>
                <a:lnTo>
                  <a:pt x="6682" y="7971"/>
                </a:lnTo>
                <a:lnTo>
                  <a:pt x="6638" y="7964"/>
                </a:lnTo>
                <a:lnTo>
                  <a:pt x="6593" y="7956"/>
                </a:lnTo>
                <a:lnTo>
                  <a:pt x="6548" y="7950"/>
                </a:lnTo>
                <a:lnTo>
                  <a:pt x="6503" y="7945"/>
                </a:lnTo>
                <a:lnTo>
                  <a:pt x="6458" y="7941"/>
                </a:lnTo>
                <a:lnTo>
                  <a:pt x="6413" y="7938"/>
                </a:lnTo>
                <a:lnTo>
                  <a:pt x="6367" y="7936"/>
                </a:lnTo>
                <a:lnTo>
                  <a:pt x="6322" y="7935"/>
                </a:lnTo>
                <a:lnTo>
                  <a:pt x="6277" y="7935"/>
                </a:lnTo>
                <a:lnTo>
                  <a:pt x="6232" y="7936"/>
                </a:lnTo>
                <a:lnTo>
                  <a:pt x="6187" y="7938"/>
                </a:lnTo>
                <a:lnTo>
                  <a:pt x="6141" y="7941"/>
                </a:lnTo>
                <a:lnTo>
                  <a:pt x="6096" y="7945"/>
                </a:lnTo>
                <a:lnTo>
                  <a:pt x="6050" y="7950"/>
                </a:lnTo>
                <a:lnTo>
                  <a:pt x="6005" y="7955"/>
                </a:lnTo>
                <a:lnTo>
                  <a:pt x="5959" y="7963"/>
                </a:lnTo>
                <a:lnTo>
                  <a:pt x="5914" y="7971"/>
                </a:lnTo>
                <a:lnTo>
                  <a:pt x="5869" y="7980"/>
                </a:lnTo>
                <a:lnTo>
                  <a:pt x="5824" y="7991"/>
                </a:lnTo>
                <a:lnTo>
                  <a:pt x="5779" y="8002"/>
                </a:lnTo>
                <a:lnTo>
                  <a:pt x="5735" y="8015"/>
                </a:lnTo>
                <a:lnTo>
                  <a:pt x="5690" y="8029"/>
                </a:lnTo>
                <a:lnTo>
                  <a:pt x="5645" y="8042"/>
                </a:lnTo>
                <a:lnTo>
                  <a:pt x="5601" y="8058"/>
                </a:lnTo>
                <a:lnTo>
                  <a:pt x="5556" y="8074"/>
                </a:lnTo>
                <a:lnTo>
                  <a:pt x="5512" y="8092"/>
                </a:lnTo>
                <a:lnTo>
                  <a:pt x="5468" y="8112"/>
                </a:lnTo>
                <a:lnTo>
                  <a:pt x="5425" y="8132"/>
                </a:lnTo>
                <a:lnTo>
                  <a:pt x="5382" y="8153"/>
                </a:lnTo>
                <a:lnTo>
                  <a:pt x="5344" y="8172"/>
                </a:lnTo>
                <a:lnTo>
                  <a:pt x="5307" y="8192"/>
                </a:lnTo>
                <a:lnTo>
                  <a:pt x="5271" y="8213"/>
                </a:lnTo>
                <a:lnTo>
                  <a:pt x="5234" y="8235"/>
                </a:lnTo>
                <a:lnTo>
                  <a:pt x="5199" y="8258"/>
                </a:lnTo>
                <a:lnTo>
                  <a:pt x="5164" y="8282"/>
                </a:lnTo>
                <a:lnTo>
                  <a:pt x="5130" y="8306"/>
                </a:lnTo>
                <a:lnTo>
                  <a:pt x="5096" y="8332"/>
                </a:lnTo>
                <a:lnTo>
                  <a:pt x="5063" y="8359"/>
                </a:lnTo>
                <a:lnTo>
                  <a:pt x="5031" y="8385"/>
                </a:lnTo>
                <a:lnTo>
                  <a:pt x="4998" y="8413"/>
                </a:lnTo>
                <a:lnTo>
                  <a:pt x="4967" y="8441"/>
                </a:lnTo>
                <a:lnTo>
                  <a:pt x="4937" y="8470"/>
                </a:lnTo>
                <a:lnTo>
                  <a:pt x="4906" y="8500"/>
                </a:lnTo>
                <a:lnTo>
                  <a:pt x="4877" y="8530"/>
                </a:lnTo>
                <a:lnTo>
                  <a:pt x="4849" y="8561"/>
                </a:lnTo>
                <a:lnTo>
                  <a:pt x="4821" y="8594"/>
                </a:lnTo>
                <a:lnTo>
                  <a:pt x="4794" y="8625"/>
                </a:lnTo>
                <a:lnTo>
                  <a:pt x="4766" y="8658"/>
                </a:lnTo>
                <a:lnTo>
                  <a:pt x="4740" y="8692"/>
                </a:lnTo>
                <a:lnTo>
                  <a:pt x="4715" y="8726"/>
                </a:lnTo>
                <a:lnTo>
                  <a:pt x="4691" y="8761"/>
                </a:lnTo>
                <a:lnTo>
                  <a:pt x="4667" y="8795"/>
                </a:lnTo>
                <a:lnTo>
                  <a:pt x="4644" y="8832"/>
                </a:lnTo>
                <a:lnTo>
                  <a:pt x="4622" y="8867"/>
                </a:lnTo>
                <a:lnTo>
                  <a:pt x="4600" y="8904"/>
                </a:lnTo>
                <a:lnTo>
                  <a:pt x="4580" y="8941"/>
                </a:lnTo>
                <a:lnTo>
                  <a:pt x="4560" y="8978"/>
                </a:lnTo>
                <a:lnTo>
                  <a:pt x="4541" y="9017"/>
                </a:lnTo>
                <a:lnTo>
                  <a:pt x="4523" y="9054"/>
                </a:lnTo>
                <a:lnTo>
                  <a:pt x="4505" y="9093"/>
                </a:lnTo>
                <a:lnTo>
                  <a:pt x="4489" y="9132"/>
                </a:lnTo>
                <a:lnTo>
                  <a:pt x="4473" y="9171"/>
                </a:lnTo>
                <a:lnTo>
                  <a:pt x="4458" y="9211"/>
                </a:lnTo>
                <a:lnTo>
                  <a:pt x="4444" y="9250"/>
                </a:lnTo>
                <a:lnTo>
                  <a:pt x="4430" y="9291"/>
                </a:lnTo>
                <a:lnTo>
                  <a:pt x="4419" y="9332"/>
                </a:lnTo>
                <a:lnTo>
                  <a:pt x="4407" y="9373"/>
                </a:lnTo>
                <a:lnTo>
                  <a:pt x="4397" y="9413"/>
                </a:lnTo>
                <a:lnTo>
                  <a:pt x="4387" y="9454"/>
                </a:lnTo>
                <a:lnTo>
                  <a:pt x="4378" y="9496"/>
                </a:lnTo>
                <a:lnTo>
                  <a:pt x="4371" y="9538"/>
                </a:lnTo>
                <a:lnTo>
                  <a:pt x="4363" y="9579"/>
                </a:lnTo>
                <a:lnTo>
                  <a:pt x="4358" y="9621"/>
                </a:lnTo>
                <a:lnTo>
                  <a:pt x="4353" y="9663"/>
                </a:lnTo>
                <a:lnTo>
                  <a:pt x="4349" y="9705"/>
                </a:lnTo>
                <a:lnTo>
                  <a:pt x="4347" y="9747"/>
                </a:lnTo>
                <a:lnTo>
                  <a:pt x="4345" y="9789"/>
                </a:lnTo>
                <a:lnTo>
                  <a:pt x="4344" y="9831"/>
                </a:lnTo>
                <a:lnTo>
                  <a:pt x="4344" y="9874"/>
                </a:lnTo>
                <a:lnTo>
                  <a:pt x="4346" y="9916"/>
                </a:lnTo>
                <a:lnTo>
                  <a:pt x="4348" y="9959"/>
                </a:lnTo>
                <a:lnTo>
                  <a:pt x="4351" y="10000"/>
                </a:lnTo>
                <a:lnTo>
                  <a:pt x="4355" y="10042"/>
                </a:lnTo>
                <a:lnTo>
                  <a:pt x="4360" y="10085"/>
                </a:lnTo>
                <a:lnTo>
                  <a:pt x="4368" y="10127"/>
                </a:lnTo>
                <a:lnTo>
                  <a:pt x="4375" y="10168"/>
                </a:lnTo>
                <a:lnTo>
                  <a:pt x="4383" y="10210"/>
                </a:lnTo>
                <a:lnTo>
                  <a:pt x="4394" y="10252"/>
                </a:lnTo>
                <a:lnTo>
                  <a:pt x="4404" y="10294"/>
                </a:lnTo>
                <a:lnTo>
                  <a:pt x="4417" y="10335"/>
                </a:lnTo>
                <a:lnTo>
                  <a:pt x="4430" y="10375"/>
                </a:lnTo>
                <a:lnTo>
                  <a:pt x="4444" y="10417"/>
                </a:lnTo>
                <a:lnTo>
                  <a:pt x="4459" y="10457"/>
                </a:lnTo>
                <a:lnTo>
                  <a:pt x="4474" y="10489"/>
                </a:lnTo>
                <a:lnTo>
                  <a:pt x="4488" y="10522"/>
                </a:lnTo>
                <a:lnTo>
                  <a:pt x="4503" y="10553"/>
                </a:lnTo>
                <a:lnTo>
                  <a:pt x="4519" y="10584"/>
                </a:lnTo>
                <a:lnTo>
                  <a:pt x="4536" y="10614"/>
                </a:lnTo>
                <a:lnTo>
                  <a:pt x="4552" y="10646"/>
                </a:lnTo>
                <a:lnTo>
                  <a:pt x="4570" y="10675"/>
                </a:lnTo>
                <a:lnTo>
                  <a:pt x="4589" y="10705"/>
                </a:lnTo>
                <a:lnTo>
                  <a:pt x="4608" y="10735"/>
                </a:lnTo>
                <a:lnTo>
                  <a:pt x="4627" y="10763"/>
                </a:lnTo>
                <a:lnTo>
                  <a:pt x="4646" y="10791"/>
                </a:lnTo>
                <a:lnTo>
                  <a:pt x="4667" y="10819"/>
                </a:lnTo>
                <a:lnTo>
                  <a:pt x="4688" y="10846"/>
                </a:lnTo>
                <a:lnTo>
                  <a:pt x="4710" y="10873"/>
                </a:lnTo>
                <a:lnTo>
                  <a:pt x="4732" y="10901"/>
                </a:lnTo>
                <a:lnTo>
                  <a:pt x="4755" y="10927"/>
                </a:lnTo>
                <a:lnTo>
                  <a:pt x="4778" y="10952"/>
                </a:lnTo>
                <a:lnTo>
                  <a:pt x="4802" y="10977"/>
                </a:lnTo>
                <a:lnTo>
                  <a:pt x="4826" y="11002"/>
                </a:lnTo>
                <a:lnTo>
                  <a:pt x="4851" y="11026"/>
                </a:lnTo>
                <a:lnTo>
                  <a:pt x="4876" y="11049"/>
                </a:lnTo>
                <a:lnTo>
                  <a:pt x="4901" y="11072"/>
                </a:lnTo>
                <a:lnTo>
                  <a:pt x="4927" y="11095"/>
                </a:lnTo>
                <a:lnTo>
                  <a:pt x="4954" y="11117"/>
                </a:lnTo>
                <a:lnTo>
                  <a:pt x="4981" y="11138"/>
                </a:lnTo>
                <a:lnTo>
                  <a:pt x="5008" y="11159"/>
                </a:lnTo>
                <a:lnTo>
                  <a:pt x="5036" y="11179"/>
                </a:lnTo>
                <a:lnTo>
                  <a:pt x="5064" y="11198"/>
                </a:lnTo>
                <a:lnTo>
                  <a:pt x="5092" y="11218"/>
                </a:lnTo>
                <a:lnTo>
                  <a:pt x="5122" y="11236"/>
                </a:lnTo>
                <a:lnTo>
                  <a:pt x="5151" y="11254"/>
                </a:lnTo>
                <a:lnTo>
                  <a:pt x="5180" y="11271"/>
                </a:lnTo>
                <a:lnTo>
                  <a:pt x="5209" y="11288"/>
                </a:lnTo>
                <a:lnTo>
                  <a:pt x="5240" y="11304"/>
                </a:lnTo>
                <a:lnTo>
                  <a:pt x="5271" y="11319"/>
                </a:lnTo>
                <a:lnTo>
                  <a:pt x="5301" y="11333"/>
                </a:lnTo>
                <a:lnTo>
                  <a:pt x="5332" y="11348"/>
                </a:lnTo>
                <a:lnTo>
                  <a:pt x="5364" y="11361"/>
                </a:lnTo>
                <a:lnTo>
                  <a:pt x="5395" y="11374"/>
                </a:lnTo>
                <a:lnTo>
                  <a:pt x="5428" y="11385"/>
                </a:lnTo>
                <a:lnTo>
                  <a:pt x="5460" y="11397"/>
                </a:lnTo>
                <a:lnTo>
                  <a:pt x="5492" y="11407"/>
                </a:lnTo>
                <a:lnTo>
                  <a:pt x="5525" y="11417"/>
                </a:lnTo>
                <a:lnTo>
                  <a:pt x="5558" y="11426"/>
                </a:lnTo>
                <a:lnTo>
                  <a:pt x="5590" y="11433"/>
                </a:lnTo>
                <a:lnTo>
                  <a:pt x="5624" y="11442"/>
                </a:lnTo>
                <a:lnTo>
                  <a:pt x="5657" y="11448"/>
                </a:lnTo>
                <a:lnTo>
                  <a:pt x="5692" y="11454"/>
                </a:lnTo>
                <a:lnTo>
                  <a:pt x="5725" y="11459"/>
                </a:lnTo>
                <a:lnTo>
                  <a:pt x="5759" y="11464"/>
                </a:lnTo>
                <a:lnTo>
                  <a:pt x="5793" y="11467"/>
                </a:lnTo>
                <a:lnTo>
                  <a:pt x="5827" y="11470"/>
                </a:lnTo>
                <a:lnTo>
                  <a:pt x="5862" y="11472"/>
                </a:lnTo>
                <a:lnTo>
                  <a:pt x="5896" y="11473"/>
                </a:lnTo>
                <a:lnTo>
                  <a:pt x="5931" y="11473"/>
                </a:lnTo>
                <a:lnTo>
                  <a:pt x="5965" y="11473"/>
                </a:lnTo>
                <a:lnTo>
                  <a:pt x="6001" y="11471"/>
                </a:lnTo>
                <a:lnTo>
                  <a:pt x="6035" y="11469"/>
                </a:lnTo>
                <a:lnTo>
                  <a:pt x="6071" y="11466"/>
                </a:lnTo>
                <a:lnTo>
                  <a:pt x="6105" y="11461"/>
                </a:lnTo>
                <a:lnTo>
                  <a:pt x="6141" y="11457"/>
                </a:lnTo>
                <a:lnTo>
                  <a:pt x="6175" y="11451"/>
                </a:lnTo>
                <a:lnTo>
                  <a:pt x="6211" y="11445"/>
                </a:lnTo>
                <a:lnTo>
                  <a:pt x="6246" y="11436"/>
                </a:lnTo>
                <a:lnTo>
                  <a:pt x="6279" y="11426"/>
                </a:lnTo>
                <a:lnTo>
                  <a:pt x="6310" y="11413"/>
                </a:lnTo>
                <a:lnTo>
                  <a:pt x="6341" y="11401"/>
                </a:lnTo>
                <a:lnTo>
                  <a:pt x="6373" y="11387"/>
                </a:lnTo>
                <a:lnTo>
                  <a:pt x="6403" y="11374"/>
                </a:lnTo>
                <a:lnTo>
                  <a:pt x="6434" y="11359"/>
                </a:lnTo>
                <a:lnTo>
                  <a:pt x="6463" y="11343"/>
                </a:lnTo>
                <a:lnTo>
                  <a:pt x="6494" y="11327"/>
                </a:lnTo>
                <a:lnTo>
                  <a:pt x="6522" y="11310"/>
                </a:lnTo>
                <a:lnTo>
                  <a:pt x="6551" y="11293"/>
                </a:lnTo>
                <a:lnTo>
                  <a:pt x="6579" y="11275"/>
                </a:lnTo>
                <a:lnTo>
                  <a:pt x="6606" y="11256"/>
                </a:lnTo>
                <a:lnTo>
                  <a:pt x="6635" y="11237"/>
                </a:lnTo>
                <a:lnTo>
                  <a:pt x="6661" y="11217"/>
                </a:lnTo>
                <a:lnTo>
                  <a:pt x="6687" y="11196"/>
                </a:lnTo>
                <a:lnTo>
                  <a:pt x="6713" y="11175"/>
                </a:lnTo>
                <a:lnTo>
                  <a:pt x="6738" y="11154"/>
                </a:lnTo>
                <a:lnTo>
                  <a:pt x="6763" y="11132"/>
                </a:lnTo>
                <a:lnTo>
                  <a:pt x="6787" y="11110"/>
                </a:lnTo>
                <a:lnTo>
                  <a:pt x="6810" y="11087"/>
                </a:lnTo>
                <a:lnTo>
                  <a:pt x="6833" y="11063"/>
                </a:lnTo>
                <a:lnTo>
                  <a:pt x="6856" y="11038"/>
                </a:lnTo>
                <a:lnTo>
                  <a:pt x="6878" y="11014"/>
                </a:lnTo>
                <a:lnTo>
                  <a:pt x="6899" y="10989"/>
                </a:lnTo>
                <a:lnTo>
                  <a:pt x="6920" y="10963"/>
                </a:lnTo>
                <a:lnTo>
                  <a:pt x="6940" y="10938"/>
                </a:lnTo>
                <a:lnTo>
                  <a:pt x="6958" y="10911"/>
                </a:lnTo>
                <a:lnTo>
                  <a:pt x="6977" y="10885"/>
                </a:lnTo>
                <a:lnTo>
                  <a:pt x="6995" y="10858"/>
                </a:lnTo>
                <a:lnTo>
                  <a:pt x="7013" y="10831"/>
                </a:lnTo>
                <a:lnTo>
                  <a:pt x="7029" y="10802"/>
                </a:lnTo>
                <a:lnTo>
                  <a:pt x="7045" y="10774"/>
                </a:lnTo>
                <a:lnTo>
                  <a:pt x="7060" y="10746"/>
                </a:lnTo>
                <a:lnTo>
                  <a:pt x="7074" y="10717"/>
                </a:lnTo>
                <a:lnTo>
                  <a:pt x="7088" y="10688"/>
                </a:lnTo>
                <a:lnTo>
                  <a:pt x="7101" y="10658"/>
                </a:lnTo>
                <a:lnTo>
                  <a:pt x="7113" y="10628"/>
                </a:lnTo>
                <a:lnTo>
                  <a:pt x="7124" y="10599"/>
                </a:lnTo>
                <a:lnTo>
                  <a:pt x="7136" y="10569"/>
                </a:lnTo>
                <a:lnTo>
                  <a:pt x="7145" y="10537"/>
                </a:lnTo>
                <a:lnTo>
                  <a:pt x="7155" y="10507"/>
                </a:lnTo>
                <a:lnTo>
                  <a:pt x="7162" y="10476"/>
                </a:lnTo>
                <a:lnTo>
                  <a:pt x="7169" y="10444"/>
                </a:lnTo>
                <a:lnTo>
                  <a:pt x="7177" y="10413"/>
                </a:lnTo>
                <a:lnTo>
                  <a:pt x="7182" y="10382"/>
                </a:lnTo>
                <a:lnTo>
                  <a:pt x="7187" y="10350"/>
                </a:lnTo>
                <a:lnTo>
                  <a:pt x="7190" y="10318"/>
                </a:lnTo>
                <a:lnTo>
                  <a:pt x="7193" y="10287"/>
                </a:lnTo>
                <a:lnTo>
                  <a:pt x="7195" y="10254"/>
                </a:lnTo>
                <a:lnTo>
                  <a:pt x="7197" y="10222"/>
                </a:lnTo>
                <a:lnTo>
                  <a:pt x="7198" y="10189"/>
                </a:lnTo>
                <a:lnTo>
                  <a:pt x="7197" y="10157"/>
                </a:lnTo>
                <a:lnTo>
                  <a:pt x="7194" y="10125"/>
                </a:lnTo>
                <a:lnTo>
                  <a:pt x="7192" y="10092"/>
                </a:lnTo>
                <a:lnTo>
                  <a:pt x="7188" y="10060"/>
                </a:lnTo>
                <a:lnTo>
                  <a:pt x="7184" y="10026"/>
                </a:lnTo>
                <a:lnTo>
                  <a:pt x="7179" y="9994"/>
                </a:lnTo>
                <a:lnTo>
                  <a:pt x="7171" y="9962"/>
                </a:lnTo>
                <a:lnTo>
                  <a:pt x="7164" y="9928"/>
                </a:lnTo>
                <a:lnTo>
                  <a:pt x="7156" y="9896"/>
                </a:lnTo>
                <a:lnTo>
                  <a:pt x="7145" y="9864"/>
                </a:lnTo>
                <a:lnTo>
                  <a:pt x="7135" y="9831"/>
                </a:lnTo>
                <a:lnTo>
                  <a:pt x="7123" y="9799"/>
                </a:lnTo>
                <a:lnTo>
                  <a:pt x="7110" y="9766"/>
                </a:lnTo>
                <a:lnTo>
                  <a:pt x="7099" y="9744"/>
                </a:lnTo>
                <a:lnTo>
                  <a:pt x="7087" y="9724"/>
                </a:lnTo>
                <a:lnTo>
                  <a:pt x="7074" y="9703"/>
                </a:lnTo>
                <a:lnTo>
                  <a:pt x="7062" y="9683"/>
                </a:lnTo>
                <a:lnTo>
                  <a:pt x="7048" y="9662"/>
                </a:lnTo>
                <a:lnTo>
                  <a:pt x="7034" y="9643"/>
                </a:lnTo>
                <a:lnTo>
                  <a:pt x="7004" y="9605"/>
                </a:lnTo>
                <a:lnTo>
                  <a:pt x="6973" y="9569"/>
                </a:lnTo>
                <a:lnTo>
                  <a:pt x="6941" y="9534"/>
                </a:lnTo>
                <a:lnTo>
                  <a:pt x="6907" y="9501"/>
                </a:lnTo>
                <a:lnTo>
                  <a:pt x="6872" y="9471"/>
                </a:lnTo>
                <a:lnTo>
                  <a:pt x="6836" y="9442"/>
                </a:lnTo>
                <a:lnTo>
                  <a:pt x="6801" y="9415"/>
                </a:lnTo>
                <a:lnTo>
                  <a:pt x="6765" y="9391"/>
                </a:lnTo>
                <a:lnTo>
                  <a:pt x="6729" y="9368"/>
                </a:lnTo>
                <a:lnTo>
                  <a:pt x="6693" y="9350"/>
                </a:lnTo>
                <a:lnTo>
                  <a:pt x="6659" y="9332"/>
                </a:lnTo>
                <a:lnTo>
                  <a:pt x="6624" y="9317"/>
                </a:lnTo>
                <a:lnTo>
                  <a:pt x="6592" y="9305"/>
                </a:lnTo>
                <a:lnTo>
                  <a:pt x="6570" y="9294"/>
                </a:lnTo>
                <a:lnTo>
                  <a:pt x="6548" y="9285"/>
                </a:lnTo>
                <a:lnTo>
                  <a:pt x="6527" y="9276"/>
                </a:lnTo>
                <a:lnTo>
                  <a:pt x="6506" y="9268"/>
                </a:lnTo>
                <a:lnTo>
                  <a:pt x="6484" y="9260"/>
                </a:lnTo>
                <a:lnTo>
                  <a:pt x="6463" y="9254"/>
                </a:lnTo>
                <a:lnTo>
                  <a:pt x="6443" y="9247"/>
                </a:lnTo>
                <a:lnTo>
                  <a:pt x="6422" y="9242"/>
                </a:lnTo>
                <a:lnTo>
                  <a:pt x="6401" y="9238"/>
                </a:lnTo>
                <a:lnTo>
                  <a:pt x="6380" y="9234"/>
                </a:lnTo>
                <a:lnTo>
                  <a:pt x="6359" y="9230"/>
                </a:lnTo>
                <a:lnTo>
                  <a:pt x="6339" y="9227"/>
                </a:lnTo>
                <a:lnTo>
                  <a:pt x="6318" y="9225"/>
                </a:lnTo>
                <a:lnTo>
                  <a:pt x="6297" y="9224"/>
                </a:lnTo>
                <a:lnTo>
                  <a:pt x="6258" y="9223"/>
                </a:lnTo>
                <a:lnTo>
                  <a:pt x="6218" y="9224"/>
                </a:lnTo>
                <a:lnTo>
                  <a:pt x="6178" y="9229"/>
                </a:lnTo>
                <a:lnTo>
                  <a:pt x="6139" y="9235"/>
                </a:lnTo>
                <a:lnTo>
                  <a:pt x="6100" y="9243"/>
                </a:lnTo>
                <a:lnTo>
                  <a:pt x="6062" y="9254"/>
                </a:lnTo>
                <a:lnTo>
                  <a:pt x="6025" y="9266"/>
                </a:lnTo>
                <a:lnTo>
                  <a:pt x="5987" y="9281"/>
                </a:lnTo>
                <a:lnTo>
                  <a:pt x="5951" y="9297"/>
                </a:lnTo>
                <a:lnTo>
                  <a:pt x="5914" y="9316"/>
                </a:lnTo>
                <a:lnTo>
                  <a:pt x="5879" y="9336"/>
                </a:lnTo>
                <a:lnTo>
                  <a:pt x="5843" y="9358"/>
                </a:lnTo>
                <a:lnTo>
                  <a:pt x="5809" y="9382"/>
                </a:lnTo>
                <a:lnTo>
                  <a:pt x="5774" y="9407"/>
                </a:lnTo>
                <a:lnTo>
                  <a:pt x="5741" y="9434"/>
                </a:lnTo>
                <a:lnTo>
                  <a:pt x="5708" y="9461"/>
                </a:lnTo>
                <a:lnTo>
                  <a:pt x="5676" y="9492"/>
                </a:lnTo>
                <a:lnTo>
                  <a:pt x="5644" y="9522"/>
                </a:lnTo>
                <a:lnTo>
                  <a:pt x="5613" y="9553"/>
                </a:lnTo>
                <a:lnTo>
                  <a:pt x="5582" y="9587"/>
                </a:lnTo>
                <a:lnTo>
                  <a:pt x="5553" y="9621"/>
                </a:lnTo>
                <a:lnTo>
                  <a:pt x="5524" y="9656"/>
                </a:lnTo>
                <a:lnTo>
                  <a:pt x="5494" y="9692"/>
                </a:lnTo>
                <a:lnTo>
                  <a:pt x="5466" y="9729"/>
                </a:lnTo>
                <a:lnTo>
                  <a:pt x="5439" y="9766"/>
                </a:lnTo>
                <a:lnTo>
                  <a:pt x="5435" y="9734"/>
                </a:lnTo>
                <a:lnTo>
                  <a:pt x="5431" y="9703"/>
                </a:lnTo>
                <a:lnTo>
                  <a:pt x="5429" y="9671"/>
                </a:lnTo>
                <a:lnTo>
                  <a:pt x="5429" y="9642"/>
                </a:lnTo>
                <a:lnTo>
                  <a:pt x="5429" y="9612"/>
                </a:lnTo>
                <a:lnTo>
                  <a:pt x="5430" y="9584"/>
                </a:lnTo>
                <a:lnTo>
                  <a:pt x="5433" y="9555"/>
                </a:lnTo>
                <a:lnTo>
                  <a:pt x="5437" y="9528"/>
                </a:lnTo>
                <a:lnTo>
                  <a:pt x="5442" y="9501"/>
                </a:lnTo>
                <a:lnTo>
                  <a:pt x="5448" y="9475"/>
                </a:lnTo>
                <a:lnTo>
                  <a:pt x="5456" y="9450"/>
                </a:lnTo>
                <a:lnTo>
                  <a:pt x="5464" y="9425"/>
                </a:lnTo>
                <a:lnTo>
                  <a:pt x="5472" y="9401"/>
                </a:lnTo>
                <a:lnTo>
                  <a:pt x="5483" y="9377"/>
                </a:lnTo>
                <a:lnTo>
                  <a:pt x="5494" y="9354"/>
                </a:lnTo>
                <a:lnTo>
                  <a:pt x="5507" y="9332"/>
                </a:lnTo>
                <a:lnTo>
                  <a:pt x="5519" y="9310"/>
                </a:lnTo>
                <a:lnTo>
                  <a:pt x="5534" y="9289"/>
                </a:lnTo>
                <a:lnTo>
                  <a:pt x="5549" y="9269"/>
                </a:lnTo>
                <a:lnTo>
                  <a:pt x="5564" y="9249"/>
                </a:lnTo>
                <a:lnTo>
                  <a:pt x="5581" y="9230"/>
                </a:lnTo>
                <a:lnTo>
                  <a:pt x="5598" y="9212"/>
                </a:lnTo>
                <a:lnTo>
                  <a:pt x="5615" y="9194"/>
                </a:lnTo>
                <a:lnTo>
                  <a:pt x="5634" y="9176"/>
                </a:lnTo>
                <a:lnTo>
                  <a:pt x="5654" y="9160"/>
                </a:lnTo>
                <a:lnTo>
                  <a:pt x="5674" y="9144"/>
                </a:lnTo>
                <a:lnTo>
                  <a:pt x="5695" y="9128"/>
                </a:lnTo>
                <a:lnTo>
                  <a:pt x="5716" y="9114"/>
                </a:lnTo>
                <a:lnTo>
                  <a:pt x="5738" y="9099"/>
                </a:lnTo>
                <a:lnTo>
                  <a:pt x="5761" y="9085"/>
                </a:lnTo>
                <a:lnTo>
                  <a:pt x="5783" y="9073"/>
                </a:lnTo>
                <a:lnTo>
                  <a:pt x="5807" y="9060"/>
                </a:lnTo>
                <a:lnTo>
                  <a:pt x="5831" y="9048"/>
                </a:lnTo>
                <a:lnTo>
                  <a:pt x="5855" y="9036"/>
                </a:lnTo>
                <a:lnTo>
                  <a:pt x="5880" y="9026"/>
                </a:lnTo>
                <a:lnTo>
                  <a:pt x="5905" y="9017"/>
                </a:lnTo>
                <a:lnTo>
                  <a:pt x="5930" y="9006"/>
                </a:lnTo>
                <a:lnTo>
                  <a:pt x="5956" y="8998"/>
                </a:lnTo>
                <a:lnTo>
                  <a:pt x="5982" y="8989"/>
                </a:lnTo>
                <a:lnTo>
                  <a:pt x="6008" y="8981"/>
                </a:lnTo>
                <a:lnTo>
                  <a:pt x="6061" y="8967"/>
                </a:lnTo>
                <a:lnTo>
                  <a:pt x="6116" y="8956"/>
                </a:lnTo>
                <a:lnTo>
                  <a:pt x="6170" y="8947"/>
                </a:lnTo>
                <a:lnTo>
                  <a:pt x="6225" y="8939"/>
                </a:lnTo>
                <a:lnTo>
                  <a:pt x="6280" y="8934"/>
                </a:lnTo>
                <a:lnTo>
                  <a:pt x="6335" y="8932"/>
                </a:lnTo>
                <a:lnTo>
                  <a:pt x="6389" y="8931"/>
                </a:lnTo>
                <a:lnTo>
                  <a:pt x="6444" y="8933"/>
                </a:lnTo>
                <a:lnTo>
                  <a:pt x="6497" y="8936"/>
                </a:lnTo>
                <a:lnTo>
                  <a:pt x="6549" y="8941"/>
                </a:lnTo>
                <a:lnTo>
                  <a:pt x="6599" y="8950"/>
                </a:lnTo>
                <a:lnTo>
                  <a:pt x="6649" y="8959"/>
                </a:lnTo>
                <a:lnTo>
                  <a:pt x="6691" y="8971"/>
                </a:lnTo>
                <a:lnTo>
                  <a:pt x="6733" y="8984"/>
                </a:lnTo>
                <a:lnTo>
                  <a:pt x="6774" y="8999"/>
                </a:lnTo>
                <a:lnTo>
                  <a:pt x="6813" y="9015"/>
                </a:lnTo>
                <a:lnTo>
                  <a:pt x="6852" y="9033"/>
                </a:lnTo>
                <a:lnTo>
                  <a:pt x="6889" y="9053"/>
                </a:lnTo>
                <a:lnTo>
                  <a:pt x="6927" y="9074"/>
                </a:lnTo>
                <a:lnTo>
                  <a:pt x="6963" y="9096"/>
                </a:lnTo>
                <a:lnTo>
                  <a:pt x="6997" y="9120"/>
                </a:lnTo>
                <a:lnTo>
                  <a:pt x="7030" y="9145"/>
                </a:lnTo>
                <a:lnTo>
                  <a:pt x="7063" y="9171"/>
                </a:lnTo>
                <a:lnTo>
                  <a:pt x="7094" y="9198"/>
                </a:lnTo>
                <a:lnTo>
                  <a:pt x="7126" y="9226"/>
                </a:lnTo>
                <a:lnTo>
                  <a:pt x="7155" y="9257"/>
                </a:lnTo>
                <a:lnTo>
                  <a:pt x="7183" y="9287"/>
                </a:lnTo>
                <a:lnTo>
                  <a:pt x="7211" y="9319"/>
                </a:lnTo>
                <a:lnTo>
                  <a:pt x="7237" y="9352"/>
                </a:lnTo>
                <a:lnTo>
                  <a:pt x="7262" y="9386"/>
                </a:lnTo>
                <a:lnTo>
                  <a:pt x="7287" y="9421"/>
                </a:lnTo>
                <a:lnTo>
                  <a:pt x="7310" y="9456"/>
                </a:lnTo>
                <a:lnTo>
                  <a:pt x="7333" y="9493"/>
                </a:lnTo>
                <a:lnTo>
                  <a:pt x="7354" y="9530"/>
                </a:lnTo>
                <a:lnTo>
                  <a:pt x="7375" y="9569"/>
                </a:lnTo>
                <a:lnTo>
                  <a:pt x="7394" y="9608"/>
                </a:lnTo>
                <a:lnTo>
                  <a:pt x="7413" y="9646"/>
                </a:lnTo>
                <a:lnTo>
                  <a:pt x="7430" y="9687"/>
                </a:lnTo>
                <a:lnTo>
                  <a:pt x="7446" y="9728"/>
                </a:lnTo>
                <a:lnTo>
                  <a:pt x="7462" y="9768"/>
                </a:lnTo>
                <a:lnTo>
                  <a:pt x="7476" y="9810"/>
                </a:lnTo>
                <a:lnTo>
                  <a:pt x="7489" y="9853"/>
                </a:lnTo>
                <a:lnTo>
                  <a:pt x="7501" y="9896"/>
                </a:lnTo>
                <a:lnTo>
                  <a:pt x="7513" y="9939"/>
                </a:lnTo>
                <a:lnTo>
                  <a:pt x="7522" y="9993"/>
                </a:lnTo>
                <a:lnTo>
                  <a:pt x="7531" y="10046"/>
                </a:lnTo>
                <a:lnTo>
                  <a:pt x="7536" y="10101"/>
                </a:lnTo>
                <a:lnTo>
                  <a:pt x="7540" y="10154"/>
                </a:lnTo>
                <a:lnTo>
                  <a:pt x="7542" y="10208"/>
                </a:lnTo>
                <a:lnTo>
                  <a:pt x="7542" y="10261"/>
                </a:lnTo>
                <a:lnTo>
                  <a:pt x="7540" y="10315"/>
                </a:lnTo>
                <a:lnTo>
                  <a:pt x="7537" y="10367"/>
                </a:lnTo>
                <a:lnTo>
                  <a:pt x="7531" y="10420"/>
                </a:lnTo>
                <a:lnTo>
                  <a:pt x="7523" y="10471"/>
                </a:lnTo>
                <a:lnTo>
                  <a:pt x="7514" y="10524"/>
                </a:lnTo>
                <a:lnTo>
                  <a:pt x="7502" y="10575"/>
                </a:lnTo>
                <a:lnTo>
                  <a:pt x="7490" y="10626"/>
                </a:lnTo>
                <a:lnTo>
                  <a:pt x="7475" y="10676"/>
                </a:lnTo>
                <a:lnTo>
                  <a:pt x="7459" y="10725"/>
                </a:lnTo>
                <a:lnTo>
                  <a:pt x="7441" y="10774"/>
                </a:lnTo>
                <a:lnTo>
                  <a:pt x="7421" y="10822"/>
                </a:lnTo>
                <a:lnTo>
                  <a:pt x="7400" y="10870"/>
                </a:lnTo>
                <a:lnTo>
                  <a:pt x="7377" y="10916"/>
                </a:lnTo>
                <a:lnTo>
                  <a:pt x="7352" y="10963"/>
                </a:lnTo>
                <a:lnTo>
                  <a:pt x="7326" y="11008"/>
                </a:lnTo>
                <a:lnTo>
                  <a:pt x="7298" y="11052"/>
                </a:lnTo>
                <a:lnTo>
                  <a:pt x="7269" y="11096"/>
                </a:lnTo>
                <a:lnTo>
                  <a:pt x="7237" y="11138"/>
                </a:lnTo>
                <a:lnTo>
                  <a:pt x="7205" y="11179"/>
                </a:lnTo>
                <a:lnTo>
                  <a:pt x="7171" y="11219"/>
                </a:lnTo>
                <a:lnTo>
                  <a:pt x="7136" y="11259"/>
                </a:lnTo>
                <a:lnTo>
                  <a:pt x="7098" y="11296"/>
                </a:lnTo>
                <a:lnTo>
                  <a:pt x="7061" y="11334"/>
                </a:lnTo>
                <a:lnTo>
                  <a:pt x="7021" y="11370"/>
                </a:lnTo>
                <a:lnTo>
                  <a:pt x="6979" y="11404"/>
                </a:lnTo>
                <a:lnTo>
                  <a:pt x="6938" y="11436"/>
                </a:lnTo>
                <a:lnTo>
                  <a:pt x="6888" y="11474"/>
                </a:lnTo>
                <a:lnTo>
                  <a:pt x="6838" y="11508"/>
                </a:lnTo>
                <a:lnTo>
                  <a:pt x="6788" y="11541"/>
                </a:lnTo>
                <a:lnTo>
                  <a:pt x="6737" y="11572"/>
                </a:lnTo>
                <a:lnTo>
                  <a:pt x="6686" y="11600"/>
                </a:lnTo>
                <a:lnTo>
                  <a:pt x="6635" y="11628"/>
                </a:lnTo>
                <a:lnTo>
                  <a:pt x="6582" y="11653"/>
                </a:lnTo>
                <a:lnTo>
                  <a:pt x="6529" y="11676"/>
                </a:lnTo>
                <a:lnTo>
                  <a:pt x="6476" y="11696"/>
                </a:lnTo>
                <a:lnTo>
                  <a:pt x="6423" y="11715"/>
                </a:lnTo>
                <a:lnTo>
                  <a:pt x="6368" y="11732"/>
                </a:lnTo>
                <a:lnTo>
                  <a:pt x="6314" y="11748"/>
                </a:lnTo>
                <a:lnTo>
                  <a:pt x="6260" y="11761"/>
                </a:lnTo>
                <a:lnTo>
                  <a:pt x="6204" y="11773"/>
                </a:lnTo>
                <a:lnTo>
                  <a:pt x="6150" y="11782"/>
                </a:lnTo>
                <a:lnTo>
                  <a:pt x="6095" y="11789"/>
                </a:lnTo>
                <a:lnTo>
                  <a:pt x="6039" y="11796"/>
                </a:lnTo>
                <a:lnTo>
                  <a:pt x="5983" y="11800"/>
                </a:lnTo>
                <a:lnTo>
                  <a:pt x="5928" y="11802"/>
                </a:lnTo>
                <a:lnTo>
                  <a:pt x="5872" y="11802"/>
                </a:lnTo>
                <a:lnTo>
                  <a:pt x="5816" y="11800"/>
                </a:lnTo>
                <a:lnTo>
                  <a:pt x="5761" y="11797"/>
                </a:lnTo>
                <a:lnTo>
                  <a:pt x="5704" y="11792"/>
                </a:lnTo>
                <a:lnTo>
                  <a:pt x="5649" y="11785"/>
                </a:lnTo>
                <a:lnTo>
                  <a:pt x="5594" y="11777"/>
                </a:lnTo>
                <a:lnTo>
                  <a:pt x="5537" y="11766"/>
                </a:lnTo>
                <a:lnTo>
                  <a:pt x="5482" y="11754"/>
                </a:lnTo>
                <a:lnTo>
                  <a:pt x="5428" y="11740"/>
                </a:lnTo>
                <a:lnTo>
                  <a:pt x="5372" y="11725"/>
                </a:lnTo>
                <a:lnTo>
                  <a:pt x="5318" y="11707"/>
                </a:lnTo>
                <a:lnTo>
                  <a:pt x="5263" y="11688"/>
                </a:lnTo>
                <a:lnTo>
                  <a:pt x="5208" y="11667"/>
                </a:lnTo>
                <a:lnTo>
                  <a:pt x="5169" y="11651"/>
                </a:lnTo>
                <a:lnTo>
                  <a:pt x="5129" y="11633"/>
                </a:lnTo>
                <a:lnTo>
                  <a:pt x="5090" y="11615"/>
                </a:lnTo>
                <a:lnTo>
                  <a:pt x="5052" y="11595"/>
                </a:lnTo>
                <a:lnTo>
                  <a:pt x="5014" y="11575"/>
                </a:lnTo>
                <a:lnTo>
                  <a:pt x="4976" y="11555"/>
                </a:lnTo>
                <a:lnTo>
                  <a:pt x="4940" y="11534"/>
                </a:lnTo>
                <a:lnTo>
                  <a:pt x="4904" y="11512"/>
                </a:lnTo>
                <a:lnTo>
                  <a:pt x="4869" y="11489"/>
                </a:lnTo>
                <a:lnTo>
                  <a:pt x="4834" y="11465"/>
                </a:lnTo>
                <a:lnTo>
                  <a:pt x="4800" y="11441"/>
                </a:lnTo>
                <a:lnTo>
                  <a:pt x="4766" y="11416"/>
                </a:lnTo>
                <a:lnTo>
                  <a:pt x="4733" y="11390"/>
                </a:lnTo>
                <a:lnTo>
                  <a:pt x="4702" y="11363"/>
                </a:lnTo>
                <a:lnTo>
                  <a:pt x="4669" y="11336"/>
                </a:lnTo>
                <a:lnTo>
                  <a:pt x="4639" y="11309"/>
                </a:lnTo>
                <a:lnTo>
                  <a:pt x="4609" y="11281"/>
                </a:lnTo>
                <a:lnTo>
                  <a:pt x="4580" y="11252"/>
                </a:lnTo>
                <a:lnTo>
                  <a:pt x="4550" y="11222"/>
                </a:lnTo>
                <a:lnTo>
                  <a:pt x="4522" y="11192"/>
                </a:lnTo>
                <a:lnTo>
                  <a:pt x="4494" y="11161"/>
                </a:lnTo>
                <a:lnTo>
                  <a:pt x="4468" y="11129"/>
                </a:lnTo>
                <a:lnTo>
                  <a:pt x="4442" y="11098"/>
                </a:lnTo>
                <a:lnTo>
                  <a:pt x="4416" y="11066"/>
                </a:lnTo>
                <a:lnTo>
                  <a:pt x="4391" y="11032"/>
                </a:lnTo>
                <a:lnTo>
                  <a:pt x="4367" y="10999"/>
                </a:lnTo>
                <a:lnTo>
                  <a:pt x="4344" y="10965"/>
                </a:lnTo>
                <a:lnTo>
                  <a:pt x="4321" y="10931"/>
                </a:lnTo>
                <a:lnTo>
                  <a:pt x="4299" y="10896"/>
                </a:lnTo>
                <a:lnTo>
                  <a:pt x="4277" y="10861"/>
                </a:lnTo>
                <a:lnTo>
                  <a:pt x="4257" y="10824"/>
                </a:lnTo>
                <a:lnTo>
                  <a:pt x="4237" y="10789"/>
                </a:lnTo>
                <a:lnTo>
                  <a:pt x="4217" y="10752"/>
                </a:lnTo>
                <a:lnTo>
                  <a:pt x="4198" y="10715"/>
                </a:lnTo>
                <a:lnTo>
                  <a:pt x="4181" y="10677"/>
                </a:lnTo>
                <a:lnTo>
                  <a:pt x="4164" y="10640"/>
                </a:lnTo>
                <a:lnTo>
                  <a:pt x="4147" y="10601"/>
                </a:lnTo>
                <a:lnTo>
                  <a:pt x="4133" y="10562"/>
                </a:lnTo>
                <a:lnTo>
                  <a:pt x="4117" y="10524"/>
                </a:lnTo>
                <a:lnTo>
                  <a:pt x="4103" y="10485"/>
                </a:lnTo>
                <a:lnTo>
                  <a:pt x="4090" y="10445"/>
                </a:lnTo>
                <a:lnTo>
                  <a:pt x="4077" y="10406"/>
                </a:lnTo>
                <a:lnTo>
                  <a:pt x="4066" y="10365"/>
                </a:lnTo>
                <a:lnTo>
                  <a:pt x="4054" y="10324"/>
                </a:lnTo>
                <a:lnTo>
                  <a:pt x="4044" y="10283"/>
                </a:lnTo>
                <a:lnTo>
                  <a:pt x="4034" y="10243"/>
                </a:lnTo>
                <a:lnTo>
                  <a:pt x="4026" y="10202"/>
                </a:lnTo>
                <a:lnTo>
                  <a:pt x="4018" y="10160"/>
                </a:lnTo>
                <a:lnTo>
                  <a:pt x="4010" y="10118"/>
                </a:lnTo>
                <a:lnTo>
                  <a:pt x="4004" y="10077"/>
                </a:lnTo>
                <a:lnTo>
                  <a:pt x="3999" y="10035"/>
                </a:lnTo>
                <a:lnTo>
                  <a:pt x="3994" y="9993"/>
                </a:lnTo>
                <a:lnTo>
                  <a:pt x="3990" y="9950"/>
                </a:lnTo>
                <a:lnTo>
                  <a:pt x="3986" y="9907"/>
                </a:lnTo>
                <a:lnTo>
                  <a:pt x="3984" y="9865"/>
                </a:lnTo>
                <a:lnTo>
                  <a:pt x="3982" y="9823"/>
                </a:lnTo>
                <a:lnTo>
                  <a:pt x="3981" y="9780"/>
                </a:lnTo>
                <a:lnTo>
                  <a:pt x="3981" y="9736"/>
                </a:lnTo>
                <a:lnTo>
                  <a:pt x="3982" y="9693"/>
                </a:lnTo>
                <a:lnTo>
                  <a:pt x="3984" y="9650"/>
                </a:lnTo>
                <a:lnTo>
                  <a:pt x="3986" y="9608"/>
                </a:lnTo>
                <a:lnTo>
                  <a:pt x="3990" y="9564"/>
                </a:lnTo>
                <a:lnTo>
                  <a:pt x="3994" y="9521"/>
                </a:lnTo>
                <a:lnTo>
                  <a:pt x="3999" y="9478"/>
                </a:lnTo>
                <a:lnTo>
                  <a:pt x="4004" y="9440"/>
                </a:lnTo>
                <a:lnTo>
                  <a:pt x="4010" y="9403"/>
                </a:lnTo>
                <a:lnTo>
                  <a:pt x="4018" y="9365"/>
                </a:lnTo>
                <a:lnTo>
                  <a:pt x="4026" y="9328"/>
                </a:lnTo>
                <a:lnTo>
                  <a:pt x="4034" y="9291"/>
                </a:lnTo>
                <a:lnTo>
                  <a:pt x="4043" y="9255"/>
                </a:lnTo>
                <a:lnTo>
                  <a:pt x="4053" y="9218"/>
                </a:lnTo>
                <a:lnTo>
                  <a:pt x="4063" y="9182"/>
                </a:lnTo>
                <a:lnTo>
                  <a:pt x="4074" y="9145"/>
                </a:lnTo>
                <a:lnTo>
                  <a:pt x="4086" y="9109"/>
                </a:lnTo>
                <a:lnTo>
                  <a:pt x="4098" y="9074"/>
                </a:lnTo>
                <a:lnTo>
                  <a:pt x="4111" y="9038"/>
                </a:lnTo>
                <a:lnTo>
                  <a:pt x="4124" y="9003"/>
                </a:lnTo>
                <a:lnTo>
                  <a:pt x="4138" y="8968"/>
                </a:lnTo>
                <a:lnTo>
                  <a:pt x="4152" y="8933"/>
                </a:lnTo>
                <a:lnTo>
                  <a:pt x="4168" y="8899"/>
                </a:lnTo>
                <a:lnTo>
                  <a:pt x="4184" y="8865"/>
                </a:lnTo>
                <a:lnTo>
                  <a:pt x="4200" y="8831"/>
                </a:lnTo>
                <a:lnTo>
                  <a:pt x="4217" y="8797"/>
                </a:lnTo>
                <a:lnTo>
                  <a:pt x="4235" y="8764"/>
                </a:lnTo>
                <a:lnTo>
                  <a:pt x="4253" y="8731"/>
                </a:lnTo>
                <a:lnTo>
                  <a:pt x="4271" y="8699"/>
                </a:lnTo>
                <a:lnTo>
                  <a:pt x="4291" y="8667"/>
                </a:lnTo>
                <a:lnTo>
                  <a:pt x="4311" y="8634"/>
                </a:lnTo>
                <a:lnTo>
                  <a:pt x="4331" y="8603"/>
                </a:lnTo>
                <a:lnTo>
                  <a:pt x="4352" y="8571"/>
                </a:lnTo>
                <a:lnTo>
                  <a:pt x="4374" y="8540"/>
                </a:lnTo>
                <a:lnTo>
                  <a:pt x="4396" y="8509"/>
                </a:lnTo>
                <a:lnTo>
                  <a:pt x="4418" y="8479"/>
                </a:lnTo>
                <a:lnTo>
                  <a:pt x="4441" y="8449"/>
                </a:lnTo>
                <a:lnTo>
                  <a:pt x="4465" y="8419"/>
                </a:lnTo>
                <a:lnTo>
                  <a:pt x="4489" y="8390"/>
                </a:lnTo>
                <a:lnTo>
                  <a:pt x="4513" y="8362"/>
                </a:lnTo>
                <a:lnTo>
                  <a:pt x="4538" y="8333"/>
                </a:lnTo>
                <a:lnTo>
                  <a:pt x="4564" y="8305"/>
                </a:lnTo>
                <a:lnTo>
                  <a:pt x="4590" y="8277"/>
                </a:lnTo>
                <a:lnTo>
                  <a:pt x="4616" y="8250"/>
                </a:lnTo>
                <a:lnTo>
                  <a:pt x="4643" y="8223"/>
                </a:lnTo>
                <a:lnTo>
                  <a:pt x="4670" y="8197"/>
                </a:lnTo>
                <a:lnTo>
                  <a:pt x="4699" y="8171"/>
                </a:lnTo>
                <a:lnTo>
                  <a:pt x="4727" y="8145"/>
                </a:lnTo>
                <a:lnTo>
                  <a:pt x="4756" y="8120"/>
                </a:lnTo>
                <a:lnTo>
                  <a:pt x="4785" y="8095"/>
                </a:lnTo>
                <a:lnTo>
                  <a:pt x="4816" y="8071"/>
                </a:lnTo>
                <a:lnTo>
                  <a:pt x="4845" y="8047"/>
                </a:lnTo>
                <a:lnTo>
                  <a:pt x="4876" y="8024"/>
                </a:lnTo>
                <a:lnTo>
                  <a:pt x="4907" y="8001"/>
                </a:lnTo>
                <a:lnTo>
                  <a:pt x="4939" y="7978"/>
                </a:lnTo>
                <a:lnTo>
                  <a:pt x="4970" y="7957"/>
                </a:lnTo>
                <a:lnTo>
                  <a:pt x="5002" y="7936"/>
                </a:lnTo>
                <a:lnTo>
                  <a:pt x="5036" y="7915"/>
                </a:lnTo>
                <a:lnTo>
                  <a:pt x="5068" y="7895"/>
                </a:lnTo>
                <a:lnTo>
                  <a:pt x="5103" y="7875"/>
                </a:lnTo>
                <a:lnTo>
                  <a:pt x="5136" y="7855"/>
                </a:lnTo>
                <a:lnTo>
                  <a:pt x="5171" y="7836"/>
                </a:lnTo>
                <a:lnTo>
                  <a:pt x="5205" y="7819"/>
                </a:lnTo>
                <a:lnTo>
                  <a:pt x="5241" y="7801"/>
                </a:lnTo>
                <a:lnTo>
                  <a:pt x="5276" y="7783"/>
                </a:lnTo>
                <a:lnTo>
                  <a:pt x="5312" y="7766"/>
                </a:lnTo>
                <a:lnTo>
                  <a:pt x="5348" y="7751"/>
                </a:lnTo>
                <a:lnTo>
                  <a:pt x="5385" y="7735"/>
                </a:lnTo>
                <a:lnTo>
                  <a:pt x="5421" y="7720"/>
                </a:lnTo>
                <a:lnTo>
                  <a:pt x="5459" y="7706"/>
                </a:lnTo>
                <a:lnTo>
                  <a:pt x="5496" y="7692"/>
                </a:lnTo>
                <a:lnTo>
                  <a:pt x="5554" y="7673"/>
                </a:lnTo>
                <a:lnTo>
                  <a:pt x="5610" y="7657"/>
                </a:lnTo>
                <a:lnTo>
                  <a:pt x="5668" y="7641"/>
                </a:lnTo>
                <a:lnTo>
                  <a:pt x="5724" y="7627"/>
                </a:lnTo>
                <a:lnTo>
                  <a:pt x="5782" y="7615"/>
                </a:lnTo>
                <a:lnTo>
                  <a:pt x="5839" y="7603"/>
                </a:lnTo>
                <a:lnTo>
                  <a:pt x="5896" y="7594"/>
                </a:lnTo>
                <a:lnTo>
                  <a:pt x="5954" y="7586"/>
                </a:lnTo>
                <a:lnTo>
                  <a:pt x="6011" y="7578"/>
                </a:lnTo>
                <a:lnTo>
                  <a:pt x="6069" y="7573"/>
                </a:lnTo>
                <a:lnTo>
                  <a:pt x="6126" y="7568"/>
                </a:lnTo>
                <a:lnTo>
                  <a:pt x="6184" y="7565"/>
                </a:lnTo>
                <a:lnTo>
                  <a:pt x="6241" y="7564"/>
                </a:lnTo>
                <a:lnTo>
                  <a:pt x="6298" y="7563"/>
                </a:lnTo>
                <a:lnTo>
                  <a:pt x="6355" y="7564"/>
                </a:lnTo>
                <a:lnTo>
                  <a:pt x="6412" y="7566"/>
                </a:lnTo>
                <a:lnTo>
                  <a:pt x="6469" y="7569"/>
                </a:lnTo>
                <a:lnTo>
                  <a:pt x="6526" y="7573"/>
                </a:lnTo>
                <a:lnTo>
                  <a:pt x="6582" y="7579"/>
                </a:lnTo>
                <a:lnTo>
                  <a:pt x="6638" y="7587"/>
                </a:lnTo>
                <a:lnTo>
                  <a:pt x="6694" y="7595"/>
                </a:lnTo>
                <a:lnTo>
                  <a:pt x="6750" y="7604"/>
                </a:lnTo>
                <a:lnTo>
                  <a:pt x="6806" y="7615"/>
                </a:lnTo>
                <a:lnTo>
                  <a:pt x="6861" y="7626"/>
                </a:lnTo>
                <a:lnTo>
                  <a:pt x="6916" y="7640"/>
                </a:lnTo>
                <a:lnTo>
                  <a:pt x="6970" y="7655"/>
                </a:lnTo>
                <a:lnTo>
                  <a:pt x="7024" y="7669"/>
                </a:lnTo>
                <a:lnTo>
                  <a:pt x="7079" y="7686"/>
                </a:lnTo>
                <a:lnTo>
                  <a:pt x="7132" y="7704"/>
                </a:lnTo>
                <a:lnTo>
                  <a:pt x="7185" y="7723"/>
                </a:lnTo>
                <a:lnTo>
                  <a:pt x="7237" y="7742"/>
                </a:lnTo>
                <a:lnTo>
                  <a:pt x="7289" y="7763"/>
                </a:lnTo>
                <a:lnTo>
                  <a:pt x="7342" y="7786"/>
                </a:lnTo>
                <a:lnTo>
                  <a:pt x="7393" y="7809"/>
                </a:lnTo>
                <a:lnTo>
                  <a:pt x="7444" y="7833"/>
                </a:lnTo>
                <a:lnTo>
                  <a:pt x="7494" y="7858"/>
                </a:lnTo>
                <a:lnTo>
                  <a:pt x="7543" y="7885"/>
                </a:lnTo>
                <a:lnTo>
                  <a:pt x="7592" y="7913"/>
                </a:lnTo>
                <a:lnTo>
                  <a:pt x="7641" y="7941"/>
                </a:lnTo>
                <a:lnTo>
                  <a:pt x="7689" y="7971"/>
                </a:lnTo>
                <a:lnTo>
                  <a:pt x="7736" y="8001"/>
                </a:lnTo>
                <a:lnTo>
                  <a:pt x="7783" y="8033"/>
                </a:lnTo>
                <a:lnTo>
                  <a:pt x="7829" y="8065"/>
                </a:lnTo>
                <a:lnTo>
                  <a:pt x="7874" y="8098"/>
                </a:lnTo>
                <a:lnTo>
                  <a:pt x="7919" y="8133"/>
                </a:lnTo>
                <a:lnTo>
                  <a:pt x="7963" y="8168"/>
                </a:lnTo>
                <a:lnTo>
                  <a:pt x="8006" y="8205"/>
                </a:lnTo>
                <a:lnTo>
                  <a:pt x="8049" y="8243"/>
                </a:lnTo>
                <a:lnTo>
                  <a:pt x="8090" y="8281"/>
                </a:lnTo>
                <a:lnTo>
                  <a:pt x="8131" y="8320"/>
                </a:lnTo>
                <a:lnTo>
                  <a:pt x="8171" y="8361"/>
                </a:lnTo>
                <a:lnTo>
                  <a:pt x="8211" y="8401"/>
                </a:lnTo>
                <a:lnTo>
                  <a:pt x="8248" y="8443"/>
                </a:lnTo>
                <a:lnTo>
                  <a:pt x="8286" y="8486"/>
                </a:lnTo>
                <a:lnTo>
                  <a:pt x="8322" y="8530"/>
                </a:lnTo>
                <a:lnTo>
                  <a:pt x="8358" y="8574"/>
                </a:lnTo>
                <a:lnTo>
                  <a:pt x="8393" y="8620"/>
                </a:lnTo>
                <a:lnTo>
                  <a:pt x="8427" y="8666"/>
                </a:lnTo>
                <a:lnTo>
                  <a:pt x="8459" y="8713"/>
                </a:lnTo>
                <a:lnTo>
                  <a:pt x="8491" y="8761"/>
                </a:lnTo>
                <a:lnTo>
                  <a:pt x="8522" y="8809"/>
                </a:lnTo>
                <a:lnTo>
                  <a:pt x="8551" y="8858"/>
                </a:lnTo>
                <a:lnTo>
                  <a:pt x="8580" y="8909"/>
                </a:lnTo>
                <a:lnTo>
                  <a:pt x="8607" y="8959"/>
                </a:lnTo>
                <a:lnTo>
                  <a:pt x="8644" y="9035"/>
                </a:lnTo>
                <a:lnTo>
                  <a:pt x="8678" y="9112"/>
                </a:lnTo>
                <a:lnTo>
                  <a:pt x="8711" y="9188"/>
                </a:lnTo>
                <a:lnTo>
                  <a:pt x="8740" y="9264"/>
                </a:lnTo>
                <a:lnTo>
                  <a:pt x="8767" y="9341"/>
                </a:lnTo>
                <a:lnTo>
                  <a:pt x="8792" y="9419"/>
                </a:lnTo>
                <a:lnTo>
                  <a:pt x="8815" y="9496"/>
                </a:lnTo>
                <a:lnTo>
                  <a:pt x="8835" y="9573"/>
                </a:lnTo>
                <a:lnTo>
                  <a:pt x="8854" y="9652"/>
                </a:lnTo>
                <a:lnTo>
                  <a:pt x="8869" y="9729"/>
                </a:lnTo>
                <a:lnTo>
                  <a:pt x="8883" y="9807"/>
                </a:lnTo>
                <a:lnTo>
                  <a:pt x="8895" y="9885"/>
                </a:lnTo>
                <a:lnTo>
                  <a:pt x="8903" y="9964"/>
                </a:lnTo>
                <a:lnTo>
                  <a:pt x="8910" y="10042"/>
                </a:lnTo>
                <a:lnTo>
                  <a:pt x="8915" y="10120"/>
                </a:lnTo>
                <a:lnTo>
                  <a:pt x="8917" y="10199"/>
                </a:lnTo>
                <a:lnTo>
                  <a:pt x="8917" y="10277"/>
                </a:lnTo>
                <a:lnTo>
                  <a:pt x="8916" y="10356"/>
                </a:lnTo>
                <a:lnTo>
                  <a:pt x="8912" y="10435"/>
                </a:lnTo>
                <a:lnTo>
                  <a:pt x="8906" y="10513"/>
                </a:lnTo>
                <a:lnTo>
                  <a:pt x="8898" y="10591"/>
                </a:lnTo>
                <a:lnTo>
                  <a:pt x="8887" y="10670"/>
                </a:lnTo>
                <a:lnTo>
                  <a:pt x="8875" y="10748"/>
                </a:lnTo>
                <a:lnTo>
                  <a:pt x="8860" y="10826"/>
                </a:lnTo>
                <a:lnTo>
                  <a:pt x="8843" y="10904"/>
                </a:lnTo>
                <a:lnTo>
                  <a:pt x="8825" y="10982"/>
                </a:lnTo>
                <a:lnTo>
                  <a:pt x="8804" y="11059"/>
                </a:lnTo>
                <a:lnTo>
                  <a:pt x="8781" y="11137"/>
                </a:lnTo>
                <a:lnTo>
                  <a:pt x="8756" y="11214"/>
                </a:lnTo>
                <a:lnTo>
                  <a:pt x="8728" y="11291"/>
                </a:lnTo>
                <a:lnTo>
                  <a:pt x="8699" y="11367"/>
                </a:lnTo>
                <a:lnTo>
                  <a:pt x="8669" y="11444"/>
                </a:lnTo>
                <a:lnTo>
                  <a:pt x="8737" y="11437"/>
                </a:lnTo>
                <a:lnTo>
                  <a:pt x="8806" y="11428"/>
                </a:lnTo>
                <a:lnTo>
                  <a:pt x="8874" y="11417"/>
                </a:lnTo>
                <a:lnTo>
                  <a:pt x="8943" y="11403"/>
                </a:lnTo>
                <a:lnTo>
                  <a:pt x="9010" y="11388"/>
                </a:lnTo>
                <a:lnTo>
                  <a:pt x="9079" y="11371"/>
                </a:lnTo>
                <a:lnTo>
                  <a:pt x="9147" y="11352"/>
                </a:lnTo>
                <a:lnTo>
                  <a:pt x="9215" y="11331"/>
                </a:lnTo>
                <a:lnTo>
                  <a:pt x="9283" y="11308"/>
                </a:lnTo>
                <a:lnTo>
                  <a:pt x="9351" y="11285"/>
                </a:lnTo>
                <a:lnTo>
                  <a:pt x="9417" y="11260"/>
                </a:lnTo>
                <a:lnTo>
                  <a:pt x="9482" y="11234"/>
                </a:lnTo>
                <a:lnTo>
                  <a:pt x="9548" y="11206"/>
                </a:lnTo>
                <a:lnTo>
                  <a:pt x="9613" y="11177"/>
                </a:lnTo>
                <a:lnTo>
                  <a:pt x="9677" y="11148"/>
                </a:lnTo>
                <a:lnTo>
                  <a:pt x="9739" y="11117"/>
                </a:lnTo>
                <a:lnTo>
                  <a:pt x="9802" y="11085"/>
                </a:lnTo>
                <a:lnTo>
                  <a:pt x="9864" y="11052"/>
                </a:lnTo>
                <a:lnTo>
                  <a:pt x="9925" y="11018"/>
                </a:lnTo>
                <a:lnTo>
                  <a:pt x="9985" y="10982"/>
                </a:lnTo>
                <a:lnTo>
                  <a:pt x="10044" y="10946"/>
                </a:lnTo>
                <a:lnTo>
                  <a:pt x="10103" y="10909"/>
                </a:lnTo>
                <a:lnTo>
                  <a:pt x="10161" y="10870"/>
                </a:lnTo>
                <a:lnTo>
                  <a:pt x="10219" y="10831"/>
                </a:lnTo>
                <a:lnTo>
                  <a:pt x="10274" y="10790"/>
                </a:lnTo>
                <a:lnTo>
                  <a:pt x="10330" y="10748"/>
                </a:lnTo>
                <a:lnTo>
                  <a:pt x="10385" y="10705"/>
                </a:lnTo>
                <a:lnTo>
                  <a:pt x="10438" y="10663"/>
                </a:lnTo>
                <a:lnTo>
                  <a:pt x="10491" y="10618"/>
                </a:lnTo>
                <a:lnTo>
                  <a:pt x="10542" y="10572"/>
                </a:lnTo>
                <a:lnTo>
                  <a:pt x="10594" y="10526"/>
                </a:lnTo>
                <a:lnTo>
                  <a:pt x="10644" y="10479"/>
                </a:lnTo>
                <a:lnTo>
                  <a:pt x="10693" y="10430"/>
                </a:lnTo>
                <a:lnTo>
                  <a:pt x="10741" y="10381"/>
                </a:lnTo>
                <a:lnTo>
                  <a:pt x="10788" y="10330"/>
                </a:lnTo>
                <a:lnTo>
                  <a:pt x="10835" y="10280"/>
                </a:lnTo>
                <a:lnTo>
                  <a:pt x="10880" y="10228"/>
                </a:lnTo>
                <a:lnTo>
                  <a:pt x="10924" y="10176"/>
                </a:lnTo>
                <a:lnTo>
                  <a:pt x="10966" y="10121"/>
                </a:lnTo>
                <a:lnTo>
                  <a:pt x="11009" y="10067"/>
                </a:lnTo>
                <a:lnTo>
                  <a:pt x="11050" y="10013"/>
                </a:lnTo>
                <a:lnTo>
                  <a:pt x="11090" y="9956"/>
                </a:lnTo>
                <a:lnTo>
                  <a:pt x="11128" y="9900"/>
                </a:lnTo>
                <a:lnTo>
                  <a:pt x="11166" y="9843"/>
                </a:lnTo>
                <a:lnTo>
                  <a:pt x="11203" y="9784"/>
                </a:lnTo>
                <a:lnTo>
                  <a:pt x="11238" y="9726"/>
                </a:lnTo>
                <a:lnTo>
                  <a:pt x="11272" y="9666"/>
                </a:lnTo>
                <a:lnTo>
                  <a:pt x="11306" y="9606"/>
                </a:lnTo>
                <a:lnTo>
                  <a:pt x="11338" y="9545"/>
                </a:lnTo>
                <a:lnTo>
                  <a:pt x="11368" y="9483"/>
                </a:lnTo>
                <a:lnTo>
                  <a:pt x="11398" y="9421"/>
                </a:lnTo>
                <a:lnTo>
                  <a:pt x="11427" y="9358"/>
                </a:lnTo>
                <a:lnTo>
                  <a:pt x="11454" y="9294"/>
                </a:lnTo>
                <a:lnTo>
                  <a:pt x="11479" y="9231"/>
                </a:lnTo>
                <a:lnTo>
                  <a:pt x="11504" y="9166"/>
                </a:lnTo>
                <a:lnTo>
                  <a:pt x="11527" y="9100"/>
                </a:lnTo>
                <a:lnTo>
                  <a:pt x="11549" y="9034"/>
                </a:lnTo>
                <a:lnTo>
                  <a:pt x="11570" y="8967"/>
                </a:lnTo>
                <a:lnTo>
                  <a:pt x="11590" y="8901"/>
                </a:lnTo>
                <a:lnTo>
                  <a:pt x="11608" y="8834"/>
                </a:lnTo>
                <a:lnTo>
                  <a:pt x="11624" y="8765"/>
                </a:lnTo>
                <a:lnTo>
                  <a:pt x="11639" y="8697"/>
                </a:lnTo>
                <a:lnTo>
                  <a:pt x="11653" y="8628"/>
                </a:lnTo>
                <a:lnTo>
                  <a:pt x="11666" y="8558"/>
                </a:lnTo>
                <a:lnTo>
                  <a:pt x="11676" y="8488"/>
                </a:lnTo>
                <a:lnTo>
                  <a:pt x="11687" y="8418"/>
                </a:lnTo>
                <a:lnTo>
                  <a:pt x="11694" y="8347"/>
                </a:lnTo>
                <a:lnTo>
                  <a:pt x="11702" y="8275"/>
                </a:lnTo>
                <a:lnTo>
                  <a:pt x="11707" y="8204"/>
                </a:lnTo>
                <a:lnTo>
                  <a:pt x="11711" y="8132"/>
                </a:lnTo>
                <a:lnTo>
                  <a:pt x="11713" y="8059"/>
                </a:lnTo>
                <a:lnTo>
                  <a:pt x="11713" y="7987"/>
                </a:lnTo>
                <a:lnTo>
                  <a:pt x="11712" y="7899"/>
                </a:lnTo>
                <a:lnTo>
                  <a:pt x="11709" y="7812"/>
                </a:lnTo>
                <a:lnTo>
                  <a:pt x="11704" y="7726"/>
                </a:lnTo>
                <a:lnTo>
                  <a:pt x="11696" y="7640"/>
                </a:lnTo>
                <a:lnTo>
                  <a:pt x="11686" y="7554"/>
                </a:lnTo>
                <a:lnTo>
                  <a:pt x="11674" y="7470"/>
                </a:lnTo>
                <a:lnTo>
                  <a:pt x="11661" y="7385"/>
                </a:lnTo>
                <a:lnTo>
                  <a:pt x="11644" y="7302"/>
                </a:lnTo>
                <a:lnTo>
                  <a:pt x="11626" y="7219"/>
                </a:lnTo>
                <a:lnTo>
                  <a:pt x="11606" y="7138"/>
                </a:lnTo>
                <a:lnTo>
                  <a:pt x="11585" y="7056"/>
                </a:lnTo>
                <a:lnTo>
                  <a:pt x="11561" y="6976"/>
                </a:lnTo>
                <a:lnTo>
                  <a:pt x="11534" y="6896"/>
                </a:lnTo>
                <a:lnTo>
                  <a:pt x="11507" y="6817"/>
                </a:lnTo>
                <a:lnTo>
                  <a:pt x="11478" y="6740"/>
                </a:lnTo>
                <a:lnTo>
                  <a:pt x="11447" y="6662"/>
                </a:lnTo>
                <a:lnTo>
                  <a:pt x="11413" y="6586"/>
                </a:lnTo>
                <a:lnTo>
                  <a:pt x="11378" y="6511"/>
                </a:lnTo>
                <a:lnTo>
                  <a:pt x="11341" y="6437"/>
                </a:lnTo>
                <a:lnTo>
                  <a:pt x="11303" y="6364"/>
                </a:lnTo>
                <a:lnTo>
                  <a:pt x="11263" y="6291"/>
                </a:lnTo>
                <a:lnTo>
                  <a:pt x="11221" y="6220"/>
                </a:lnTo>
                <a:lnTo>
                  <a:pt x="11177" y="6150"/>
                </a:lnTo>
                <a:lnTo>
                  <a:pt x="11132" y="6081"/>
                </a:lnTo>
                <a:lnTo>
                  <a:pt x="11085" y="6012"/>
                </a:lnTo>
                <a:lnTo>
                  <a:pt x="11037" y="5945"/>
                </a:lnTo>
                <a:lnTo>
                  <a:pt x="10987" y="5879"/>
                </a:lnTo>
                <a:lnTo>
                  <a:pt x="10936" y="5814"/>
                </a:lnTo>
                <a:lnTo>
                  <a:pt x="10883" y="5751"/>
                </a:lnTo>
                <a:lnTo>
                  <a:pt x="10828" y="5689"/>
                </a:lnTo>
                <a:lnTo>
                  <a:pt x="10772" y="5627"/>
                </a:lnTo>
                <a:lnTo>
                  <a:pt x="10716" y="5568"/>
                </a:lnTo>
                <a:close/>
              </a:path>
            </a:pathLst>
          </a:custGeom>
          <a:solidFill>
            <a:srgbClr val="c1b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46800" bIns="46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MH_SubTitle_1"/>
          <p:cNvSpPr/>
          <p:nvPr/>
        </p:nvSpPr>
        <p:spPr>
          <a:xfrm>
            <a:off x="3286080" y="1471680"/>
            <a:ext cx="2608200" cy="281448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11713" h="12650">
                <a:moveTo>
                  <a:pt x="10716" y="5568"/>
                </a:moveTo>
                <a:lnTo>
                  <a:pt x="10716" y="5568"/>
                </a:lnTo>
                <a:lnTo>
                  <a:pt x="10759" y="5528"/>
                </a:lnTo>
                <a:lnTo>
                  <a:pt x="10801" y="5487"/>
                </a:lnTo>
                <a:lnTo>
                  <a:pt x="10843" y="5446"/>
                </a:lnTo>
                <a:lnTo>
                  <a:pt x="10884" y="5402"/>
                </a:lnTo>
                <a:lnTo>
                  <a:pt x="10924" y="5358"/>
                </a:lnTo>
                <a:lnTo>
                  <a:pt x="10962" y="5314"/>
                </a:lnTo>
                <a:lnTo>
                  <a:pt x="10999" y="5268"/>
                </a:lnTo>
                <a:lnTo>
                  <a:pt x="11035" y="5221"/>
                </a:lnTo>
                <a:lnTo>
                  <a:pt x="11070" y="5173"/>
                </a:lnTo>
                <a:lnTo>
                  <a:pt x="11103" y="5125"/>
                </a:lnTo>
                <a:lnTo>
                  <a:pt x="11136" y="5076"/>
                </a:lnTo>
                <a:lnTo>
                  <a:pt x="11167" y="5026"/>
                </a:lnTo>
                <a:lnTo>
                  <a:pt x="11196" y="4975"/>
                </a:lnTo>
                <a:lnTo>
                  <a:pt x="11224" y="4922"/>
                </a:lnTo>
                <a:lnTo>
                  <a:pt x="11251" y="4870"/>
                </a:lnTo>
                <a:lnTo>
                  <a:pt x="11278" y="4817"/>
                </a:lnTo>
                <a:lnTo>
                  <a:pt x="11302" y="4763"/>
                </a:lnTo>
                <a:lnTo>
                  <a:pt x="11325" y="4708"/>
                </a:lnTo>
                <a:lnTo>
                  <a:pt x="11346" y="4653"/>
                </a:lnTo>
                <a:lnTo>
                  <a:pt x="11366" y="4597"/>
                </a:lnTo>
                <a:lnTo>
                  <a:pt x="11385" y="4540"/>
                </a:lnTo>
                <a:lnTo>
                  <a:pt x="11402" y="4483"/>
                </a:lnTo>
                <a:lnTo>
                  <a:pt x="11417" y="4425"/>
                </a:lnTo>
                <a:lnTo>
                  <a:pt x="11431" y="4366"/>
                </a:lnTo>
                <a:lnTo>
                  <a:pt x="11444" y="4307"/>
                </a:lnTo>
                <a:lnTo>
                  <a:pt x="11454" y="4248"/>
                </a:lnTo>
                <a:lnTo>
                  <a:pt x="11463" y="4187"/>
                </a:lnTo>
                <a:lnTo>
                  <a:pt x="11471" y="4127"/>
                </a:lnTo>
                <a:lnTo>
                  <a:pt x="11477" y="4066"/>
                </a:lnTo>
                <a:lnTo>
                  <a:pt x="11481" y="4004"/>
                </a:lnTo>
                <a:lnTo>
                  <a:pt x="11484" y="3942"/>
                </a:lnTo>
                <a:lnTo>
                  <a:pt x="11484" y="3879"/>
                </a:lnTo>
                <a:lnTo>
                  <a:pt x="11484" y="3821"/>
                </a:lnTo>
                <a:lnTo>
                  <a:pt x="11482" y="3761"/>
                </a:lnTo>
                <a:lnTo>
                  <a:pt x="11478" y="3704"/>
                </a:lnTo>
                <a:lnTo>
                  <a:pt x="11473" y="3645"/>
                </a:lnTo>
                <a:lnTo>
                  <a:pt x="11466" y="3588"/>
                </a:lnTo>
                <a:lnTo>
                  <a:pt x="11457" y="3530"/>
                </a:lnTo>
                <a:lnTo>
                  <a:pt x="11448" y="3474"/>
                </a:lnTo>
                <a:lnTo>
                  <a:pt x="11436" y="3417"/>
                </a:lnTo>
                <a:lnTo>
                  <a:pt x="11424" y="3362"/>
                </a:lnTo>
                <a:lnTo>
                  <a:pt x="11410" y="3307"/>
                </a:lnTo>
                <a:lnTo>
                  <a:pt x="11394" y="3252"/>
                </a:lnTo>
                <a:lnTo>
                  <a:pt x="11378" y="3198"/>
                </a:lnTo>
                <a:lnTo>
                  <a:pt x="11360" y="3145"/>
                </a:lnTo>
                <a:lnTo>
                  <a:pt x="11340" y="3092"/>
                </a:lnTo>
                <a:lnTo>
                  <a:pt x="11320" y="3039"/>
                </a:lnTo>
                <a:lnTo>
                  <a:pt x="11298" y="2987"/>
                </a:lnTo>
                <a:lnTo>
                  <a:pt x="11275" y="2936"/>
                </a:lnTo>
                <a:lnTo>
                  <a:pt x="11250" y="2886"/>
                </a:lnTo>
                <a:lnTo>
                  <a:pt x="11225" y="2836"/>
                </a:lnTo>
                <a:lnTo>
                  <a:pt x="11198" y="2788"/>
                </a:lnTo>
                <a:lnTo>
                  <a:pt x="11170" y="2739"/>
                </a:lnTo>
                <a:lnTo>
                  <a:pt x="11141" y="2692"/>
                </a:lnTo>
                <a:lnTo>
                  <a:pt x="11110" y="2645"/>
                </a:lnTo>
                <a:lnTo>
                  <a:pt x="11079" y="2599"/>
                </a:lnTo>
                <a:lnTo>
                  <a:pt x="11047" y="2553"/>
                </a:lnTo>
                <a:lnTo>
                  <a:pt x="11013" y="2509"/>
                </a:lnTo>
                <a:lnTo>
                  <a:pt x="10978" y="2465"/>
                </a:lnTo>
                <a:lnTo>
                  <a:pt x="10942" y="2422"/>
                </a:lnTo>
                <a:lnTo>
                  <a:pt x="10906" y="2379"/>
                </a:lnTo>
                <a:lnTo>
                  <a:pt x="10868" y="2339"/>
                </a:lnTo>
                <a:lnTo>
                  <a:pt x="10828" y="2299"/>
                </a:lnTo>
                <a:lnTo>
                  <a:pt x="10789" y="2259"/>
                </a:lnTo>
                <a:lnTo>
                  <a:pt x="10748" y="2221"/>
                </a:lnTo>
                <a:lnTo>
                  <a:pt x="10706" y="2183"/>
                </a:lnTo>
                <a:lnTo>
                  <a:pt x="10664" y="2146"/>
                </a:lnTo>
                <a:lnTo>
                  <a:pt x="10621" y="2111"/>
                </a:lnTo>
                <a:lnTo>
                  <a:pt x="10576" y="2076"/>
                </a:lnTo>
                <a:lnTo>
                  <a:pt x="10531" y="2043"/>
                </a:lnTo>
                <a:lnTo>
                  <a:pt x="10485" y="2011"/>
                </a:lnTo>
                <a:lnTo>
                  <a:pt x="10438" y="1979"/>
                </a:lnTo>
                <a:lnTo>
                  <a:pt x="10390" y="1949"/>
                </a:lnTo>
                <a:lnTo>
                  <a:pt x="10341" y="1920"/>
                </a:lnTo>
                <a:lnTo>
                  <a:pt x="10292" y="1892"/>
                </a:lnTo>
                <a:lnTo>
                  <a:pt x="10242" y="1864"/>
                </a:lnTo>
                <a:lnTo>
                  <a:pt x="10190" y="1838"/>
                </a:lnTo>
                <a:lnTo>
                  <a:pt x="10139" y="1814"/>
                </a:lnTo>
                <a:lnTo>
                  <a:pt x="10087" y="1790"/>
                </a:lnTo>
                <a:lnTo>
                  <a:pt x="10034" y="1768"/>
                </a:lnTo>
                <a:lnTo>
                  <a:pt x="9981" y="1746"/>
                </a:lnTo>
                <a:lnTo>
                  <a:pt x="9926" y="1727"/>
                </a:lnTo>
                <a:lnTo>
                  <a:pt x="9871" y="1709"/>
                </a:lnTo>
                <a:lnTo>
                  <a:pt x="9816" y="1691"/>
                </a:lnTo>
                <a:lnTo>
                  <a:pt x="9759" y="1674"/>
                </a:lnTo>
                <a:lnTo>
                  <a:pt x="9703" y="1660"/>
                </a:lnTo>
                <a:lnTo>
                  <a:pt x="9645" y="1646"/>
                </a:lnTo>
                <a:lnTo>
                  <a:pt x="9588" y="1635"/>
                </a:lnTo>
                <a:lnTo>
                  <a:pt x="9529" y="1624"/>
                </a:lnTo>
                <a:lnTo>
                  <a:pt x="9471" y="1615"/>
                </a:lnTo>
                <a:lnTo>
                  <a:pt x="9411" y="1606"/>
                </a:lnTo>
                <a:lnTo>
                  <a:pt x="9352" y="1600"/>
                </a:lnTo>
                <a:lnTo>
                  <a:pt x="9292" y="1595"/>
                </a:lnTo>
                <a:lnTo>
                  <a:pt x="9232" y="1591"/>
                </a:lnTo>
                <a:lnTo>
                  <a:pt x="9170" y="1589"/>
                </a:lnTo>
                <a:lnTo>
                  <a:pt x="9110" y="1588"/>
                </a:lnTo>
                <a:lnTo>
                  <a:pt x="9044" y="1589"/>
                </a:lnTo>
                <a:lnTo>
                  <a:pt x="8979" y="1592"/>
                </a:lnTo>
                <a:lnTo>
                  <a:pt x="8915" y="1596"/>
                </a:lnTo>
                <a:lnTo>
                  <a:pt x="8852" y="1601"/>
                </a:lnTo>
                <a:lnTo>
                  <a:pt x="8788" y="1609"/>
                </a:lnTo>
                <a:lnTo>
                  <a:pt x="8725" y="1618"/>
                </a:lnTo>
                <a:lnTo>
                  <a:pt x="8664" y="1628"/>
                </a:lnTo>
                <a:lnTo>
                  <a:pt x="8602" y="1641"/>
                </a:lnTo>
                <a:lnTo>
                  <a:pt x="8570" y="1595"/>
                </a:lnTo>
                <a:lnTo>
                  <a:pt x="8537" y="1549"/>
                </a:lnTo>
                <a:lnTo>
                  <a:pt x="8505" y="1504"/>
                </a:lnTo>
                <a:lnTo>
                  <a:pt x="8471" y="1460"/>
                </a:lnTo>
                <a:lnTo>
                  <a:pt x="8437" y="1415"/>
                </a:lnTo>
                <a:lnTo>
                  <a:pt x="8402" y="1373"/>
                </a:lnTo>
                <a:lnTo>
                  <a:pt x="8366" y="1330"/>
                </a:lnTo>
                <a:lnTo>
                  <a:pt x="8330" y="1287"/>
                </a:lnTo>
                <a:lnTo>
                  <a:pt x="8292" y="1245"/>
                </a:lnTo>
                <a:lnTo>
                  <a:pt x="8254" y="1203"/>
                </a:lnTo>
                <a:lnTo>
                  <a:pt x="8217" y="1163"/>
                </a:lnTo>
                <a:lnTo>
                  <a:pt x="8177" y="1123"/>
                </a:lnTo>
                <a:lnTo>
                  <a:pt x="8137" y="1083"/>
                </a:lnTo>
                <a:lnTo>
                  <a:pt x="8098" y="1045"/>
                </a:lnTo>
                <a:lnTo>
                  <a:pt x="8057" y="1006"/>
                </a:lnTo>
                <a:lnTo>
                  <a:pt x="8015" y="968"/>
                </a:lnTo>
                <a:lnTo>
                  <a:pt x="7973" y="931"/>
                </a:lnTo>
                <a:lnTo>
                  <a:pt x="7931" y="894"/>
                </a:lnTo>
                <a:lnTo>
                  <a:pt x="7888" y="859"/>
                </a:lnTo>
                <a:lnTo>
                  <a:pt x="7844" y="823"/>
                </a:lnTo>
                <a:lnTo>
                  <a:pt x="7799" y="788"/>
                </a:lnTo>
                <a:lnTo>
                  <a:pt x="7754" y="754"/>
                </a:lnTo>
                <a:lnTo>
                  <a:pt x="7709" y="721"/>
                </a:lnTo>
                <a:lnTo>
                  <a:pt x="7663" y="687"/>
                </a:lnTo>
                <a:lnTo>
                  <a:pt x="7616" y="656"/>
                </a:lnTo>
                <a:lnTo>
                  <a:pt x="7569" y="625"/>
                </a:lnTo>
                <a:lnTo>
                  <a:pt x="7522" y="593"/>
                </a:lnTo>
                <a:lnTo>
                  <a:pt x="7474" y="563"/>
                </a:lnTo>
                <a:lnTo>
                  <a:pt x="7425" y="534"/>
                </a:lnTo>
                <a:lnTo>
                  <a:pt x="7376" y="506"/>
                </a:lnTo>
                <a:lnTo>
                  <a:pt x="7327" y="477"/>
                </a:lnTo>
                <a:lnTo>
                  <a:pt x="7277" y="450"/>
                </a:lnTo>
                <a:lnTo>
                  <a:pt x="7227" y="424"/>
                </a:lnTo>
                <a:lnTo>
                  <a:pt x="7176" y="398"/>
                </a:lnTo>
                <a:lnTo>
                  <a:pt x="7124" y="373"/>
                </a:lnTo>
                <a:lnTo>
                  <a:pt x="7072" y="349"/>
                </a:lnTo>
                <a:lnTo>
                  <a:pt x="7020" y="325"/>
                </a:lnTo>
                <a:lnTo>
                  <a:pt x="6968" y="302"/>
                </a:lnTo>
                <a:lnTo>
                  <a:pt x="6915" y="280"/>
                </a:lnTo>
                <a:lnTo>
                  <a:pt x="6860" y="259"/>
                </a:lnTo>
                <a:lnTo>
                  <a:pt x="6807" y="238"/>
                </a:lnTo>
                <a:lnTo>
                  <a:pt x="6753" y="218"/>
                </a:lnTo>
                <a:lnTo>
                  <a:pt x="6697" y="200"/>
                </a:lnTo>
                <a:lnTo>
                  <a:pt x="6642" y="182"/>
                </a:lnTo>
                <a:lnTo>
                  <a:pt x="6587" y="164"/>
                </a:lnTo>
                <a:lnTo>
                  <a:pt x="6531" y="148"/>
                </a:lnTo>
                <a:lnTo>
                  <a:pt x="6475" y="133"/>
                </a:lnTo>
                <a:lnTo>
                  <a:pt x="6417" y="117"/>
                </a:lnTo>
                <a:lnTo>
                  <a:pt x="6361" y="104"/>
                </a:lnTo>
                <a:lnTo>
                  <a:pt x="6304" y="91"/>
                </a:lnTo>
                <a:lnTo>
                  <a:pt x="6246" y="79"/>
                </a:lnTo>
                <a:lnTo>
                  <a:pt x="6188" y="67"/>
                </a:lnTo>
                <a:lnTo>
                  <a:pt x="6129" y="57"/>
                </a:lnTo>
                <a:lnTo>
                  <a:pt x="6071" y="47"/>
                </a:lnTo>
                <a:lnTo>
                  <a:pt x="6011" y="38"/>
                </a:lnTo>
                <a:lnTo>
                  <a:pt x="5953" y="30"/>
                </a:lnTo>
                <a:lnTo>
                  <a:pt x="5893" y="23"/>
                </a:lnTo>
                <a:lnTo>
                  <a:pt x="5833" y="17"/>
                </a:lnTo>
                <a:lnTo>
                  <a:pt x="5773" y="12"/>
                </a:lnTo>
                <a:lnTo>
                  <a:pt x="5713" y="7"/>
                </a:lnTo>
                <a:lnTo>
                  <a:pt x="5652" y="4"/>
                </a:lnTo>
                <a:lnTo>
                  <a:pt x="5590" y="2"/>
                </a:lnTo>
                <a:lnTo>
                  <a:pt x="5530" y="0"/>
                </a:lnTo>
                <a:lnTo>
                  <a:pt x="5468" y="0"/>
                </a:lnTo>
                <a:lnTo>
                  <a:pt x="5372" y="1"/>
                </a:lnTo>
                <a:lnTo>
                  <a:pt x="5276" y="4"/>
                </a:lnTo>
                <a:lnTo>
                  <a:pt x="5181" y="11"/>
                </a:lnTo>
                <a:lnTo>
                  <a:pt x="5086" y="19"/>
                </a:lnTo>
                <a:lnTo>
                  <a:pt x="4992" y="29"/>
                </a:lnTo>
                <a:lnTo>
                  <a:pt x="4899" y="42"/>
                </a:lnTo>
                <a:lnTo>
                  <a:pt x="4806" y="57"/>
                </a:lnTo>
                <a:lnTo>
                  <a:pt x="4715" y="73"/>
                </a:lnTo>
                <a:lnTo>
                  <a:pt x="4624" y="92"/>
                </a:lnTo>
                <a:lnTo>
                  <a:pt x="4534" y="114"/>
                </a:lnTo>
                <a:lnTo>
                  <a:pt x="4445" y="137"/>
                </a:lnTo>
                <a:lnTo>
                  <a:pt x="4357" y="162"/>
                </a:lnTo>
                <a:lnTo>
                  <a:pt x="4269" y="189"/>
                </a:lnTo>
                <a:lnTo>
                  <a:pt x="4183" y="218"/>
                </a:lnTo>
                <a:lnTo>
                  <a:pt x="4097" y="250"/>
                </a:lnTo>
                <a:lnTo>
                  <a:pt x="4014" y="283"/>
                </a:lnTo>
                <a:lnTo>
                  <a:pt x="3930" y="319"/>
                </a:lnTo>
                <a:lnTo>
                  <a:pt x="3848" y="355"/>
                </a:lnTo>
                <a:lnTo>
                  <a:pt x="3766" y="395"/>
                </a:lnTo>
                <a:lnTo>
                  <a:pt x="3687" y="436"/>
                </a:lnTo>
                <a:lnTo>
                  <a:pt x="3607" y="477"/>
                </a:lnTo>
                <a:lnTo>
                  <a:pt x="3530" y="522"/>
                </a:lnTo>
                <a:lnTo>
                  <a:pt x="3454" y="568"/>
                </a:lnTo>
                <a:lnTo>
                  <a:pt x="3379" y="616"/>
                </a:lnTo>
                <a:lnTo>
                  <a:pt x="3304" y="665"/>
                </a:lnTo>
                <a:lnTo>
                  <a:pt x="3231" y="717"/>
                </a:lnTo>
                <a:lnTo>
                  <a:pt x="3160" y="769"/>
                </a:lnTo>
                <a:lnTo>
                  <a:pt x="3090" y="823"/>
                </a:lnTo>
                <a:lnTo>
                  <a:pt x="3022" y="880"/>
                </a:lnTo>
                <a:lnTo>
                  <a:pt x="2955" y="937"/>
                </a:lnTo>
                <a:lnTo>
                  <a:pt x="2889" y="996"/>
                </a:lnTo>
                <a:lnTo>
                  <a:pt x="2825" y="1056"/>
                </a:lnTo>
                <a:lnTo>
                  <a:pt x="2763" y="1119"/>
                </a:lnTo>
                <a:lnTo>
                  <a:pt x="2701" y="1181"/>
                </a:lnTo>
                <a:lnTo>
                  <a:pt x="2641" y="1246"/>
                </a:lnTo>
                <a:lnTo>
                  <a:pt x="2584" y="1313"/>
                </a:lnTo>
                <a:lnTo>
                  <a:pt x="2528" y="1380"/>
                </a:lnTo>
                <a:lnTo>
                  <a:pt x="2473" y="1449"/>
                </a:lnTo>
                <a:lnTo>
                  <a:pt x="2420" y="1519"/>
                </a:lnTo>
                <a:lnTo>
                  <a:pt x="2369" y="1590"/>
                </a:lnTo>
                <a:lnTo>
                  <a:pt x="2319" y="1663"/>
                </a:lnTo>
                <a:lnTo>
                  <a:pt x="2272" y="1737"/>
                </a:lnTo>
                <a:lnTo>
                  <a:pt x="2226" y="1811"/>
                </a:lnTo>
                <a:lnTo>
                  <a:pt x="2181" y="1887"/>
                </a:lnTo>
                <a:lnTo>
                  <a:pt x="2139" y="1965"/>
                </a:lnTo>
                <a:lnTo>
                  <a:pt x="2098" y="2043"/>
                </a:lnTo>
                <a:lnTo>
                  <a:pt x="2061" y="2122"/>
                </a:lnTo>
                <a:lnTo>
                  <a:pt x="2024" y="2203"/>
                </a:lnTo>
                <a:lnTo>
                  <a:pt x="1990" y="2284"/>
                </a:lnTo>
                <a:lnTo>
                  <a:pt x="1957" y="2367"/>
                </a:lnTo>
                <a:lnTo>
                  <a:pt x="1926" y="2450"/>
                </a:lnTo>
                <a:lnTo>
                  <a:pt x="1898" y="2534"/>
                </a:lnTo>
                <a:lnTo>
                  <a:pt x="1872" y="2620"/>
                </a:lnTo>
                <a:lnTo>
                  <a:pt x="1848" y="2705"/>
                </a:lnTo>
                <a:lnTo>
                  <a:pt x="1826" y="2792"/>
                </a:lnTo>
                <a:lnTo>
                  <a:pt x="1806" y="2880"/>
                </a:lnTo>
                <a:lnTo>
                  <a:pt x="1788" y="2968"/>
                </a:lnTo>
                <a:lnTo>
                  <a:pt x="1774" y="3057"/>
                </a:lnTo>
                <a:lnTo>
                  <a:pt x="1760" y="3147"/>
                </a:lnTo>
                <a:lnTo>
                  <a:pt x="1750" y="3238"/>
                </a:lnTo>
                <a:lnTo>
                  <a:pt x="1741" y="3330"/>
                </a:lnTo>
                <a:lnTo>
                  <a:pt x="1735" y="3422"/>
                </a:lnTo>
                <a:lnTo>
                  <a:pt x="1732" y="3514"/>
                </a:lnTo>
                <a:lnTo>
                  <a:pt x="1730" y="3607"/>
                </a:lnTo>
                <a:lnTo>
                  <a:pt x="1731" y="3681"/>
                </a:lnTo>
                <a:lnTo>
                  <a:pt x="1733" y="3755"/>
                </a:lnTo>
                <a:lnTo>
                  <a:pt x="1737" y="3828"/>
                </a:lnTo>
                <a:lnTo>
                  <a:pt x="1742" y="3901"/>
                </a:lnTo>
                <a:lnTo>
                  <a:pt x="1750" y="3973"/>
                </a:lnTo>
                <a:lnTo>
                  <a:pt x="1758" y="4045"/>
                </a:lnTo>
                <a:lnTo>
                  <a:pt x="1768" y="4117"/>
                </a:lnTo>
                <a:lnTo>
                  <a:pt x="1779" y="4188"/>
                </a:lnTo>
                <a:lnTo>
                  <a:pt x="1730" y="4217"/>
                </a:lnTo>
                <a:lnTo>
                  <a:pt x="1681" y="4248"/>
                </a:lnTo>
                <a:lnTo>
                  <a:pt x="1632" y="4278"/>
                </a:lnTo>
                <a:lnTo>
                  <a:pt x="1584" y="4309"/>
                </a:lnTo>
                <a:lnTo>
                  <a:pt x="1537" y="4342"/>
                </a:lnTo>
                <a:lnTo>
                  <a:pt x="1490" y="4374"/>
                </a:lnTo>
                <a:lnTo>
                  <a:pt x="1443" y="4409"/>
                </a:lnTo>
                <a:lnTo>
                  <a:pt x="1397" y="4442"/>
                </a:lnTo>
                <a:lnTo>
                  <a:pt x="1352" y="4478"/>
                </a:lnTo>
                <a:lnTo>
                  <a:pt x="1307" y="4513"/>
                </a:lnTo>
                <a:lnTo>
                  <a:pt x="1263" y="4549"/>
                </a:lnTo>
                <a:lnTo>
                  <a:pt x="1219" y="4586"/>
                </a:lnTo>
                <a:lnTo>
                  <a:pt x="1176" y="4624"/>
                </a:lnTo>
                <a:lnTo>
                  <a:pt x="1134" y="4661"/>
                </a:lnTo>
                <a:lnTo>
                  <a:pt x="1093" y="4700"/>
                </a:lnTo>
                <a:lnTo>
                  <a:pt x="1052" y="4740"/>
                </a:lnTo>
                <a:lnTo>
                  <a:pt x="1011" y="4780"/>
                </a:lnTo>
                <a:lnTo>
                  <a:pt x="972" y="4821"/>
                </a:lnTo>
                <a:lnTo>
                  <a:pt x="933" y="4862"/>
                </a:lnTo>
                <a:lnTo>
                  <a:pt x="894" y="4904"/>
                </a:lnTo>
                <a:lnTo>
                  <a:pt x="857" y="4946"/>
                </a:lnTo>
                <a:lnTo>
                  <a:pt x="820" y="4989"/>
                </a:lnTo>
                <a:lnTo>
                  <a:pt x="784" y="5033"/>
                </a:lnTo>
                <a:lnTo>
                  <a:pt x="748" y="5077"/>
                </a:lnTo>
                <a:lnTo>
                  <a:pt x="714" y="5122"/>
                </a:lnTo>
                <a:lnTo>
                  <a:pt x="679" y="5167"/>
                </a:lnTo>
                <a:lnTo>
                  <a:pt x="646" y="5213"/>
                </a:lnTo>
                <a:lnTo>
                  <a:pt x="613" y="5259"/>
                </a:lnTo>
                <a:lnTo>
                  <a:pt x="581" y="5306"/>
                </a:lnTo>
                <a:lnTo>
                  <a:pt x="550" y="5354"/>
                </a:lnTo>
                <a:lnTo>
                  <a:pt x="519" y="5402"/>
                </a:lnTo>
                <a:lnTo>
                  <a:pt x="490" y="5450"/>
                </a:lnTo>
                <a:lnTo>
                  <a:pt x="461" y="5499"/>
                </a:lnTo>
                <a:lnTo>
                  <a:pt x="434" y="5548"/>
                </a:lnTo>
                <a:lnTo>
                  <a:pt x="406" y="5598"/>
                </a:lnTo>
                <a:lnTo>
                  <a:pt x="379" y="5648"/>
                </a:lnTo>
                <a:lnTo>
                  <a:pt x="354" y="5698"/>
                </a:lnTo>
                <a:lnTo>
                  <a:pt x="329" y="5750"/>
                </a:lnTo>
                <a:lnTo>
                  <a:pt x="305" y="5802"/>
                </a:lnTo>
                <a:lnTo>
                  <a:pt x="282" y="5854"/>
                </a:lnTo>
                <a:lnTo>
                  <a:pt x="259" y="5906"/>
                </a:lnTo>
                <a:lnTo>
                  <a:pt x="239" y="5960"/>
                </a:lnTo>
                <a:lnTo>
                  <a:pt x="218" y="6013"/>
                </a:lnTo>
                <a:lnTo>
                  <a:pt x="198" y="6066"/>
                </a:lnTo>
                <a:lnTo>
                  <a:pt x="179" y="6120"/>
                </a:lnTo>
                <a:lnTo>
                  <a:pt x="161" y="6175"/>
                </a:lnTo>
                <a:lnTo>
                  <a:pt x="145" y="6230"/>
                </a:lnTo>
                <a:lnTo>
                  <a:pt x="128" y="6285"/>
                </a:lnTo>
                <a:lnTo>
                  <a:pt x="113" y="6341"/>
                </a:lnTo>
                <a:lnTo>
                  <a:pt x="99" y="6397"/>
                </a:lnTo>
                <a:lnTo>
                  <a:pt x="85" y="6454"/>
                </a:lnTo>
                <a:lnTo>
                  <a:pt x="74" y="6510"/>
                </a:lnTo>
                <a:lnTo>
                  <a:pt x="62" y="6566"/>
                </a:lnTo>
                <a:lnTo>
                  <a:pt x="51" y="6624"/>
                </a:lnTo>
                <a:lnTo>
                  <a:pt x="41" y="6681"/>
                </a:lnTo>
                <a:lnTo>
                  <a:pt x="33" y="6740"/>
                </a:lnTo>
                <a:lnTo>
                  <a:pt x="25" y="6798"/>
                </a:lnTo>
                <a:lnTo>
                  <a:pt x="18" y="6857"/>
                </a:lnTo>
                <a:lnTo>
                  <a:pt x="13" y="6915"/>
                </a:lnTo>
                <a:lnTo>
                  <a:pt x="9" y="6975"/>
                </a:lnTo>
                <a:lnTo>
                  <a:pt x="5" y="7034"/>
                </a:lnTo>
                <a:lnTo>
                  <a:pt x="3" y="7094"/>
                </a:lnTo>
                <a:lnTo>
                  <a:pt x="0" y="7153"/>
                </a:lnTo>
                <a:lnTo>
                  <a:pt x="0" y="7214"/>
                </a:lnTo>
                <a:lnTo>
                  <a:pt x="1" y="7295"/>
                </a:lnTo>
                <a:lnTo>
                  <a:pt x="4" y="7377"/>
                </a:lnTo>
                <a:lnTo>
                  <a:pt x="9" y="7457"/>
                </a:lnTo>
                <a:lnTo>
                  <a:pt x="15" y="7538"/>
                </a:lnTo>
                <a:lnTo>
                  <a:pt x="23" y="7618"/>
                </a:lnTo>
                <a:lnTo>
                  <a:pt x="34" y="7697"/>
                </a:lnTo>
                <a:lnTo>
                  <a:pt x="46" y="7776"/>
                </a:lnTo>
                <a:lnTo>
                  <a:pt x="60" y="7854"/>
                </a:lnTo>
                <a:lnTo>
                  <a:pt x="77" y="7932"/>
                </a:lnTo>
                <a:lnTo>
                  <a:pt x="93" y="8010"/>
                </a:lnTo>
                <a:lnTo>
                  <a:pt x="113" y="8086"/>
                </a:lnTo>
                <a:lnTo>
                  <a:pt x="134" y="8161"/>
                </a:lnTo>
                <a:lnTo>
                  <a:pt x="156" y="8236"/>
                </a:lnTo>
                <a:lnTo>
                  <a:pt x="181" y="8311"/>
                </a:lnTo>
                <a:lnTo>
                  <a:pt x="206" y="8385"/>
                </a:lnTo>
                <a:lnTo>
                  <a:pt x="234" y="8458"/>
                </a:lnTo>
                <a:lnTo>
                  <a:pt x="264" y="8530"/>
                </a:lnTo>
                <a:lnTo>
                  <a:pt x="294" y="8601"/>
                </a:lnTo>
                <a:lnTo>
                  <a:pt x="326" y="8671"/>
                </a:lnTo>
                <a:lnTo>
                  <a:pt x="361" y="8741"/>
                </a:lnTo>
                <a:lnTo>
                  <a:pt x="395" y="8810"/>
                </a:lnTo>
                <a:lnTo>
                  <a:pt x="433" y="8878"/>
                </a:lnTo>
                <a:lnTo>
                  <a:pt x="471" y="8946"/>
                </a:lnTo>
                <a:lnTo>
                  <a:pt x="511" y="9011"/>
                </a:lnTo>
                <a:lnTo>
                  <a:pt x="552" y="9077"/>
                </a:lnTo>
                <a:lnTo>
                  <a:pt x="595" y="9141"/>
                </a:lnTo>
                <a:lnTo>
                  <a:pt x="638" y="9205"/>
                </a:lnTo>
                <a:lnTo>
                  <a:pt x="684" y="9267"/>
                </a:lnTo>
                <a:lnTo>
                  <a:pt x="731" y="9329"/>
                </a:lnTo>
                <a:lnTo>
                  <a:pt x="779" y="9388"/>
                </a:lnTo>
                <a:lnTo>
                  <a:pt x="829" y="9448"/>
                </a:lnTo>
                <a:lnTo>
                  <a:pt x="880" y="9506"/>
                </a:lnTo>
                <a:lnTo>
                  <a:pt x="931" y="9564"/>
                </a:lnTo>
                <a:lnTo>
                  <a:pt x="984" y="9620"/>
                </a:lnTo>
                <a:lnTo>
                  <a:pt x="1039" y="9674"/>
                </a:lnTo>
                <a:lnTo>
                  <a:pt x="1095" y="9729"/>
                </a:lnTo>
                <a:lnTo>
                  <a:pt x="1151" y="9781"/>
                </a:lnTo>
                <a:lnTo>
                  <a:pt x="1210" y="9833"/>
                </a:lnTo>
                <a:lnTo>
                  <a:pt x="1269" y="9883"/>
                </a:lnTo>
                <a:lnTo>
                  <a:pt x="1329" y="9932"/>
                </a:lnTo>
                <a:lnTo>
                  <a:pt x="1390" y="9981"/>
                </a:lnTo>
                <a:lnTo>
                  <a:pt x="1453" y="10026"/>
                </a:lnTo>
                <a:lnTo>
                  <a:pt x="1517" y="10072"/>
                </a:lnTo>
                <a:lnTo>
                  <a:pt x="1581" y="10116"/>
                </a:lnTo>
                <a:lnTo>
                  <a:pt x="1647" y="10159"/>
                </a:lnTo>
                <a:lnTo>
                  <a:pt x="1714" y="10200"/>
                </a:lnTo>
                <a:lnTo>
                  <a:pt x="1781" y="10240"/>
                </a:lnTo>
                <a:lnTo>
                  <a:pt x="1850" y="10278"/>
                </a:lnTo>
                <a:lnTo>
                  <a:pt x="1919" y="10316"/>
                </a:lnTo>
                <a:lnTo>
                  <a:pt x="1990" y="10351"/>
                </a:lnTo>
                <a:lnTo>
                  <a:pt x="2061" y="10386"/>
                </a:lnTo>
                <a:lnTo>
                  <a:pt x="2133" y="10418"/>
                </a:lnTo>
                <a:lnTo>
                  <a:pt x="2206" y="10449"/>
                </a:lnTo>
                <a:lnTo>
                  <a:pt x="2280" y="10480"/>
                </a:lnTo>
                <a:lnTo>
                  <a:pt x="2354" y="10508"/>
                </a:lnTo>
                <a:lnTo>
                  <a:pt x="2430" y="10535"/>
                </a:lnTo>
                <a:lnTo>
                  <a:pt x="2507" y="10560"/>
                </a:lnTo>
                <a:lnTo>
                  <a:pt x="2583" y="10583"/>
                </a:lnTo>
                <a:lnTo>
                  <a:pt x="2661" y="10605"/>
                </a:lnTo>
                <a:lnTo>
                  <a:pt x="2740" y="10626"/>
                </a:lnTo>
                <a:lnTo>
                  <a:pt x="2819" y="10645"/>
                </a:lnTo>
                <a:lnTo>
                  <a:pt x="2898" y="10661"/>
                </a:lnTo>
                <a:lnTo>
                  <a:pt x="2979" y="10677"/>
                </a:lnTo>
                <a:lnTo>
                  <a:pt x="3060" y="10691"/>
                </a:lnTo>
                <a:lnTo>
                  <a:pt x="3079" y="10697"/>
                </a:lnTo>
                <a:lnTo>
                  <a:pt x="3099" y="10704"/>
                </a:lnTo>
                <a:lnTo>
                  <a:pt x="3120" y="10713"/>
                </a:lnTo>
                <a:lnTo>
                  <a:pt x="3141" y="10723"/>
                </a:lnTo>
                <a:lnTo>
                  <a:pt x="3162" y="10736"/>
                </a:lnTo>
                <a:lnTo>
                  <a:pt x="3185" y="10752"/>
                </a:lnTo>
                <a:lnTo>
                  <a:pt x="3211" y="10772"/>
                </a:lnTo>
                <a:lnTo>
                  <a:pt x="3238" y="10796"/>
                </a:lnTo>
                <a:lnTo>
                  <a:pt x="3266" y="10826"/>
                </a:lnTo>
                <a:lnTo>
                  <a:pt x="3297" y="10861"/>
                </a:lnTo>
                <a:lnTo>
                  <a:pt x="3331" y="10902"/>
                </a:lnTo>
                <a:lnTo>
                  <a:pt x="3367" y="10950"/>
                </a:lnTo>
                <a:lnTo>
                  <a:pt x="3406" y="11005"/>
                </a:lnTo>
                <a:lnTo>
                  <a:pt x="3448" y="11068"/>
                </a:lnTo>
                <a:lnTo>
                  <a:pt x="3494" y="11140"/>
                </a:lnTo>
                <a:lnTo>
                  <a:pt x="3543" y="11220"/>
                </a:lnTo>
                <a:lnTo>
                  <a:pt x="3567" y="11263"/>
                </a:lnTo>
                <a:lnTo>
                  <a:pt x="3593" y="11305"/>
                </a:lnTo>
                <a:lnTo>
                  <a:pt x="3619" y="11346"/>
                </a:lnTo>
                <a:lnTo>
                  <a:pt x="3645" y="11387"/>
                </a:lnTo>
                <a:lnTo>
                  <a:pt x="3672" y="11427"/>
                </a:lnTo>
                <a:lnTo>
                  <a:pt x="3700" y="11467"/>
                </a:lnTo>
                <a:lnTo>
                  <a:pt x="3730" y="11506"/>
                </a:lnTo>
                <a:lnTo>
                  <a:pt x="3759" y="11545"/>
                </a:lnTo>
                <a:lnTo>
                  <a:pt x="3789" y="11583"/>
                </a:lnTo>
                <a:lnTo>
                  <a:pt x="3820" y="11620"/>
                </a:lnTo>
                <a:lnTo>
                  <a:pt x="3852" y="11658"/>
                </a:lnTo>
                <a:lnTo>
                  <a:pt x="3883" y="11694"/>
                </a:lnTo>
                <a:lnTo>
                  <a:pt x="3916" y="11730"/>
                </a:lnTo>
                <a:lnTo>
                  <a:pt x="3950" y="11765"/>
                </a:lnTo>
                <a:lnTo>
                  <a:pt x="3983" y="11800"/>
                </a:lnTo>
                <a:lnTo>
                  <a:pt x="4018" y="11834"/>
                </a:lnTo>
                <a:lnTo>
                  <a:pt x="4053" y="11868"/>
                </a:lnTo>
                <a:lnTo>
                  <a:pt x="4089" y="11901"/>
                </a:lnTo>
                <a:lnTo>
                  <a:pt x="4125" y="11934"/>
                </a:lnTo>
                <a:lnTo>
                  <a:pt x="4162" y="11965"/>
                </a:lnTo>
                <a:lnTo>
                  <a:pt x="4199" y="11996"/>
                </a:lnTo>
                <a:lnTo>
                  <a:pt x="4237" y="12026"/>
                </a:lnTo>
                <a:lnTo>
                  <a:pt x="4276" y="12057"/>
                </a:lnTo>
                <a:lnTo>
                  <a:pt x="4314" y="12086"/>
                </a:lnTo>
                <a:lnTo>
                  <a:pt x="4353" y="12114"/>
                </a:lnTo>
                <a:lnTo>
                  <a:pt x="4393" y="12142"/>
                </a:lnTo>
                <a:lnTo>
                  <a:pt x="4433" y="12170"/>
                </a:lnTo>
                <a:lnTo>
                  <a:pt x="4474" y="12196"/>
                </a:lnTo>
                <a:lnTo>
                  <a:pt x="4515" y="12222"/>
                </a:lnTo>
                <a:lnTo>
                  <a:pt x="4557" y="12247"/>
                </a:lnTo>
                <a:lnTo>
                  <a:pt x="4598" y="12272"/>
                </a:lnTo>
                <a:lnTo>
                  <a:pt x="4640" y="12295"/>
                </a:lnTo>
                <a:lnTo>
                  <a:pt x="4683" y="12319"/>
                </a:lnTo>
                <a:lnTo>
                  <a:pt x="4726" y="12341"/>
                </a:lnTo>
                <a:lnTo>
                  <a:pt x="4770" y="12363"/>
                </a:lnTo>
                <a:lnTo>
                  <a:pt x="4813" y="12384"/>
                </a:lnTo>
                <a:lnTo>
                  <a:pt x="4857" y="12404"/>
                </a:lnTo>
                <a:lnTo>
                  <a:pt x="4902" y="12423"/>
                </a:lnTo>
                <a:lnTo>
                  <a:pt x="4946" y="12442"/>
                </a:lnTo>
                <a:lnTo>
                  <a:pt x="4992" y="12460"/>
                </a:lnTo>
                <a:lnTo>
                  <a:pt x="5037" y="12477"/>
                </a:lnTo>
                <a:lnTo>
                  <a:pt x="5083" y="12493"/>
                </a:lnTo>
                <a:lnTo>
                  <a:pt x="5128" y="12509"/>
                </a:lnTo>
                <a:lnTo>
                  <a:pt x="5175" y="12524"/>
                </a:lnTo>
                <a:lnTo>
                  <a:pt x="5221" y="12538"/>
                </a:lnTo>
                <a:lnTo>
                  <a:pt x="5268" y="12552"/>
                </a:lnTo>
                <a:lnTo>
                  <a:pt x="5314" y="12564"/>
                </a:lnTo>
                <a:lnTo>
                  <a:pt x="5361" y="12576"/>
                </a:lnTo>
                <a:lnTo>
                  <a:pt x="5409" y="12586"/>
                </a:lnTo>
                <a:lnTo>
                  <a:pt x="5456" y="12597"/>
                </a:lnTo>
                <a:lnTo>
                  <a:pt x="5503" y="12606"/>
                </a:lnTo>
                <a:lnTo>
                  <a:pt x="5551" y="12614"/>
                </a:lnTo>
                <a:lnTo>
                  <a:pt x="5599" y="12622"/>
                </a:lnTo>
                <a:lnTo>
                  <a:pt x="5647" y="12628"/>
                </a:lnTo>
                <a:lnTo>
                  <a:pt x="5695" y="12634"/>
                </a:lnTo>
                <a:lnTo>
                  <a:pt x="5743" y="12639"/>
                </a:lnTo>
                <a:lnTo>
                  <a:pt x="5791" y="12643"/>
                </a:lnTo>
                <a:lnTo>
                  <a:pt x="5839" y="12646"/>
                </a:lnTo>
                <a:lnTo>
                  <a:pt x="5888" y="12649"/>
                </a:lnTo>
                <a:lnTo>
                  <a:pt x="5936" y="12650"/>
                </a:lnTo>
                <a:lnTo>
                  <a:pt x="5985" y="12650"/>
                </a:lnTo>
                <a:lnTo>
                  <a:pt x="6033" y="12650"/>
                </a:lnTo>
                <a:lnTo>
                  <a:pt x="6082" y="12649"/>
                </a:lnTo>
                <a:lnTo>
                  <a:pt x="6130" y="12647"/>
                </a:lnTo>
                <a:lnTo>
                  <a:pt x="6174" y="12641"/>
                </a:lnTo>
                <a:lnTo>
                  <a:pt x="6217" y="12634"/>
                </a:lnTo>
                <a:lnTo>
                  <a:pt x="6260" y="12627"/>
                </a:lnTo>
                <a:lnTo>
                  <a:pt x="6303" y="12620"/>
                </a:lnTo>
                <a:lnTo>
                  <a:pt x="6345" y="12611"/>
                </a:lnTo>
                <a:lnTo>
                  <a:pt x="6388" y="12602"/>
                </a:lnTo>
                <a:lnTo>
                  <a:pt x="6430" y="12593"/>
                </a:lnTo>
                <a:lnTo>
                  <a:pt x="6473" y="12582"/>
                </a:lnTo>
                <a:lnTo>
                  <a:pt x="6515" y="12571"/>
                </a:lnTo>
                <a:lnTo>
                  <a:pt x="6556" y="12559"/>
                </a:lnTo>
                <a:lnTo>
                  <a:pt x="6598" y="12548"/>
                </a:lnTo>
                <a:lnTo>
                  <a:pt x="6640" y="12534"/>
                </a:lnTo>
                <a:lnTo>
                  <a:pt x="6682" y="12520"/>
                </a:lnTo>
                <a:lnTo>
                  <a:pt x="6722" y="12507"/>
                </a:lnTo>
                <a:lnTo>
                  <a:pt x="6763" y="12492"/>
                </a:lnTo>
                <a:lnTo>
                  <a:pt x="6804" y="12477"/>
                </a:lnTo>
                <a:lnTo>
                  <a:pt x="6845" y="12461"/>
                </a:lnTo>
                <a:lnTo>
                  <a:pt x="6884" y="12444"/>
                </a:lnTo>
                <a:lnTo>
                  <a:pt x="6924" y="12426"/>
                </a:lnTo>
                <a:lnTo>
                  <a:pt x="6964" y="12409"/>
                </a:lnTo>
                <a:lnTo>
                  <a:pt x="7003" y="12390"/>
                </a:lnTo>
                <a:lnTo>
                  <a:pt x="7042" y="12371"/>
                </a:lnTo>
                <a:lnTo>
                  <a:pt x="7081" y="12351"/>
                </a:lnTo>
                <a:lnTo>
                  <a:pt x="7119" y="12331"/>
                </a:lnTo>
                <a:lnTo>
                  <a:pt x="7157" y="12311"/>
                </a:lnTo>
                <a:lnTo>
                  <a:pt x="7194" y="12290"/>
                </a:lnTo>
                <a:lnTo>
                  <a:pt x="7232" y="12268"/>
                </a:lnTo>
                <a:lnTo>
                  <a:pt x="7269" y="12245"/>
                </a:lnTo>
                <a:lnTo>
                  <a:pt x="7305" y="12222"/>
                </a:lnTo>
                <a:lnTo>
                  <a:pt x="7342" y="12199"/>
                </a:lnTo>
                <a:lnTo>
                  <a:pt x="7377" y="12175"/>
                </a:lnTo>
                <a:lnTo>
                  <a:pt x="7413" y="12150"/>
                </a:lnTo>
                <a:lnTo>
                  <a:pt x="7447" y="12125"/>
                </a:lnTo>
                <a:lnTo>
                  <a:pt x="7482" y="12099"/>
                </a:lnTo>
                <a:lnTo>
                  <a:pt x="7516" y="12072"/>
                </a:lnTo>
                <a:lnTo>
                  <a:pt x="7549" y="12045"/>
                </a:lnTo>
                <a:lnTo>
                  <a:pt x="7582" y="12018"/>
                </a:lnTo>
                <a:lnTo>
                  <a:pt x="7615" y="11990"/>
                </a:lnTo>
                <a:lnTo>
                  <a:pt x="7647" y="11962"/>
                </a:lnTo>
                <a:lnTo>
                  <a:pt x="7679" y="11932"/>
                </a:lnTo>
                <a:lnTo>
                  <a:pt x="7709" y="11903"/>
                </a:lnTo>
                <a:lnTo>
                  <a:pt x="7741" y="11873"/>
                </a:lnTo>
                <a:lnTo>
                  <a:pt x="7771" y="11843"/>
                </a:lnTo>
                <a:lnTo>
                  <a:pt x="7800" y="11811"/>
                </a:lnTo>
                <a:lnTo>
                  <a:pt x="7829" y="11780"/>
                </a:lnTo>
                <a:lnTo>
                  <a:pt x="7858" y="11748"/>
                </a:lnTo>
                <a:lnTo>
                  <a:pt x="7886" y="11715"/>
                </a:lnTo>
                <a:lnTo>
                  <a:pt x="7913" y="11683"/>
                </a:lnTo>
                <a:lnTo>
                  <a:pt x="7939" y="11649"/>
                </a:lnTo>
                <a:lnTo>
                  <a:pt x="7965" y="11615"/>
                </a:lnTo>
                <a:lnTo>
                  <a:pt x="7991" y="11581"/>
                </a:lnTo>
                <a:lnTo>
                  <a:pt x="8016" y="11546"/>
                </a:lnTo>
                <a:lnTo>
                  <a:pt x="8040" y="11511"/>
                </a:lnTo>
                <a:lnTo>
                  <a:pt x="8063" y="11474"/>
                </a:lnTo>
                <a:lnTo>
                  <a:pt x="8086" y="11438"/>
                </a:lnTo>
                <a:lnTo>
                  <a:pt x="8109" y="11401"/>
                </a:lnTo>
                <a:lnTo>
                  <a:pt x="8130" y="11364"/>
                </a:lnTo>
                <a:lnTo>
                  <a:pt x="8151" y="11327"/>
                </a:lnTo>
                <a:lnTo>
                  <a:pt x="8172" y="11288"/>
                </a:lnTo>
                <a:lnTo>
                  <a:pt x="8191" y="11249"/>
                </a:lnTo>
                <a:lnTo>
                  <a:pt x="8209" y="11211"/>
                </a:lnTo>
                <a:lnTo>
                  <a:pt x="8228" y="11171"/>
                </a:lnTo>
                <a:lnTo>
                  <a:pt x="8245" y="11131"/>
                </a:lnTo>
                <a:lnTo>
                  <a:pt x="8262" y="11091"/>
                </a:lnTo>
                <a:lnTo>
                  <a:pt x="8288" y="11021"/>
                </a:lnTo>
                <a:lnTo>
                  <a:pt x="8312" y="10950"/>
                </a:lnTo>
                <a:lnTo>
                  <a:pt x="8334" y="10879"/>
                </a:lnTo>
                <a:lnTo>
                  <a:pt x="8354" y="10808"/>
                </a:lnTo>
                <a:lnTo>
                  <a:pt x="8371" y="10737"/>
                </a:lnTo>
                <a:lnTo>
                  <a:pt x="8387" y="10665"/>
                </a:lnTo>
                <a:lnTo>
                  <a:pt x="8401" y="10594"/>
                </a:lnTo>
                <a:lnTo>
                  <a:pt x="8412" y="10522"/>
                </a:lnTo>
                <a:lnTo>
                  <a:pt x="8421" y="10449"/>
                </a:lnTo>
                <a:lnTo>
                  <a:pt x="8429" y="10377"/>
                </a:lnTo>
                <a:lnTo>
                  <a:pt x="8434" y="10305"/>
                </a:lnTo>
                <a:lnTo>
                  <a:pt x="8437" y="10233"/>
                </a:lnTo>
                <a:lnTo>
                  <a:pt x="8438" y="10161"/>
                </a:lnTo>
                <a:lnTo>
                  <a:pt x="8437" y="10089"/>
                </a:lnTo>
                <a:lnTo>
                  <a:pt x="8433" y="10017"/>
                </a:lnTo>
                <a:lnTo>
                  <a:pt x="8428" y="9946"/>
                </a:lnTo>
                <a:lnTo>
                  <a:pt x="8419" y="9874"/>
                </a:lnTo>
                <a:lnTo>
                  <a:pt x="8410" y="9803"/>
                </a:lnTo>
                <a:lnTo>
                  <a:pt x="8397" y="9732"/>
                </a:lnTo>
                <a:lnTo>
                  <a:pt x="8383" y="9661"/>
                </a:lnTo>
                <a:lnTo>
                  <a:pt x="8366" y="9591"/>
                </a:lnTo>
                <a:lnTo>
                  <a:pt x="8347" y="9521"/>
                </a:lnTo>
                <a:lnTo>
                  <a:pt x="8326" y="9451"/>
                </a:lnTo>
                <a:lnTo>
                  <a:pt x="8302" y="9381"/>
                </a:lnTo>
                <a:lnTo>
                  <a:pt x="8276" y="9312"/>
                </a:lnTo>
                <a:lnTo>
                  <a:pt x="8249" y="9244"/>
                </a:lnTo>
                <a:lnTo>
                  <a:pt x="8218" y="9176"/>
                </a:lnTo>
                <a:lnTo>
                  <a:pt x="8185" y="9108"/>
                </a:lnTo>
                <a:lnTo>
                  <a:pt x="8151" y="9042"/>
                </a:lnTo>
                <a:lnTo>
                  <a:pt x="8113" y="8975"/>
                </a:lnTo>
                <a:lnTo>
                  <a:pt x="8074" y="8909"/>
                </a:lnTo>
                <a:lnTo>
                  <a:pt x="8032" y="8844"/>
                </a:lnTo>
                <a:lnTo>
                  <a:pt x="8002" y="8803"/>
                </a:lnTo>
                <a:lnTo>
                  <a:pt x="7970" y="8765"/>
                </a:lnTo>
                <a:lnTo>
                  <a:pt x="7939" y="8726"/>
                </a:lnTo>
                <a:lnTo>
                  <a:pt x="7908" y="8689"/>
                </a:lnTo>
                <a:lnTo>
                  <a:pt x="7875" y="8652"/>
                </a:lnTo>
                <a:lnTo>
                  <a:pt x="7842" y="8617"/>
                </a:lnTo>
                <a:lnTo>
                  <a:pt x="7807" y="8581"/>
                </a:lnTo>
                <a:lnTo>
                  <a:pt x="7774" y="8548"/>
                </a:lnTo>
                <a:lnTo>
                  <a:pt x="7738" y="8514"/>
                </a:lnTo>
                <a:lnTo>
                  <a:pt x="7703" y="8482"/>
                </a:lnTo>
                <a:lnTo>
                  <a:pt x="7667" y="8450"/>
                </a:lnTo>
                <a:lnTo>
                  <a:pt x="7631" y="8420"/>
                </a:lnTo>
                <a:lnTo>
                  <a:pt x="7593" y="8390"/>
                </a:lnTo>
                <a:lnTo>
                  <a:pt x="7556" y="8362"/>
                </a:lnTo>
                <a:lnTo>
                  <a:pt x="7518" y="8333"/>
                </a:lnTo>
                <a:lnTo>
                  <a:pt x="7480" y="8306"/>
                </a:lnTo>
                <a:lnTo>
                  <a:pt x="7441" y="8280"/>
                </a:lnTo>
                <a:lnTo>
                  <a:pt x="7401" y="8255"/>
                </a:lnTo>
                <a:lnTo>
                  <a:pt x="7362" y="8231"/>
                </a:lnTo>
                <a:lnTo>
                  <a:pt x="7322" y="8208"/>
                </a:lnTo>
                <a:lnTo>
                  <a:pt x="7281" y="8185"/>
                </a:lnTo>
                <a:lnTo>
                  <a:pt x="7240" y="8164"/>
                </a:lnTo>
                <a:lnTo>
                  <a:pt x="7200" y="8143"/>
                </a:lnTo>
                <a:lnTo>
                  <a:pt x="7158" y="8124"/>
                </a:lnTo>
                <a:lnTo>
                  <a:pt x="7116" y="8105"/>
                </a:lnTo>
                <a:lnTo>
                  <a:pt x="7073" y="8087"/>
                </a:lnTo>
                <a:lnTo>
                  <a:pt x="7032" y="8070"/>
                </a:lnTo>
                <a:lnTo>
                  <a:pt x="6989" y="8055"/>
                </a:lnTo>
                <a:lnTo>
                  <a:pt x="6945" y="8040"/>
                </a:lnTo>
                <a:lnTo>
                  <a:pt x="6902" y="8026"/>
                </a:lnTo>
                <a:lnTo>
                  <a:pt x="6858" y="8013"/>
                </a:lnTo>
                <a:lnTo>
                  <a:pt x="6814" y="8001"/>
                </a:lnTo>
                <a:lnTo>
                  <a:pt x="6770" y="7990"/>
                </a:lnTo>
                <a:lnTo>
                  <a:pt x="6727" y="7980"/>
                </a:lnTo>
                <a:lnTo>
                  <a:pt x="6682" y="7971"/>
                </a:lnTo>
                <a:lnTo>
                  <a:pt x="6638" y="7964"/>
                </a:lnTo>
                <a:lnTo>
                  <a:pt x="6593" y="7956"/>
                </a:lnTo>
                <a:lnTo>
                  <a:pt x="6548" y="7950"/>
                </a:lnTo>
                <a:lnTo>
                  <a:pt x="6503" y="7945"/>
                </a:lnTo>
                <a:lnTo>
                  <a:pt x="6458" y="7941"/>
                </a:lnTo>
                <a:lnTo>
                  <a:pt x="6413" y="7938"/>
                </a:lnTo>
                <a:lnTo>
                  <a:pt x="6367" y="7936"/>
                </a:lnTo>
                <a:lnTo>
                  <a:pt x="6322" y="7935"/>
                </a:lnTo>
                <a:lnTo>
                  <a:pt x="6277" y="7935"/>
                </a:lnTo>
                <a:lnTo>
                  <a:pt x="6232" y="7936"/>
                </a:lnTo>
                <a:lnTo>
                  <a:pt x="6187" y="7938"/>
                </a:lnTo>
                <a:lnTo>
                  <a:pt x="6141" y="7941"/>
                </a:lnTo>
                <a:lnTo>
                  <a:pt x="6096" y="7945"/>
                </a:lnTo>
                <a:lnTo>
                  <a:pt x="6050" y="7950"/>
                </a:lnTo>
                <a:lnTo>
                  <a:pt x="6005" y="7955"/>
                </a:lnTo>
                <a:lnTo>
                  <a:pt x="5959" y="7963"/>
                </a:lnTo>
                <a:lnTo>
                  <a:pt x="5914" y="7971"/>
                </a:lnTo>
                <a:lnTo>
                  <a:pt x="5869" y="7980"/>
                </a:lnTo>
                <a:lnTo>
                  <a:pt x="5824" y="7991"/>
                </a:lnTo>
                <a:lnTo>
                  <a:pt x="5779" y="8002"/>
                </a:lnTo>
                <a:lnTo>
                  <a:pt x="5735" y="8015"/>
                </a:lnTo>
                <a:lnTo>
                  <a:pt x="5690" y="8029"/>
                </a:lnTo>
                <a:lnTo>
                  <a:pt x="5645" y="8042"/>
                </a:lnTo>
                <a:lnTo>
                  <a:pt x="5601" y="8058"/>
                </a:lnTo>
                <a:lnTo>
                  <a:pt x="5556" y="8074"/>
                </a:lnTo>
                <a:lnTo>
                  <a:pt x="5512" y="8092"/>
                </a:lnTo>
                <a:lnTo>
                  <a:pt x="5468" y="8112"/>
                </a:lnTo>
                <a:lnTo>
                  <a:pt x="5425" y="8132"/>
                </a:lnTo>
                <a:lnTo>
                  <a:pt x="5382" y="8153"/>
                </a:lnTo>
                <a:lnTo>
                  <a:pt x="5344" y="8172"/>
                </a:lnTo>
                <a:lnTo>
                  <a:pt x="5307" y="8192"/>
                </a:lnTo>
                <a:lnTo>
                  <a:pt x="5271" y="8213"/>
                </a:lnTo>
                <a:lnTo>
                  <a:pt x="5234" y="8235"/>
                </a:lnTo>
                <a:lnTo>
                  <a:pt x="5199" y="8258"/>
                </a:lnTo>
                <a:lnTo>
                  <a:pt x="5164" y="8282"/>
                </a:lnTo>
                <a:lnTo>
                  <a:pt x="5130" y="8306"/>
                </a:lnTo>
                <a:lnTo>
                  <a:pt x="5096" y="8332"/>
                </a:lnTo>
                <a:lnTo>
                  <a:pt x="5063" y="8359"/>
                </a:lnTo>
                <a:lnTo>
                  <a:pt x="5031" y="8385"/>
                </a:lnTo>
                <a:lnTo>
                  <a:pt x="4998" y="8413"/>
                </a:lnTo>
                <a:lnTo>
                  <a:pt x="4967" y="8441"/>
                </a:lnTo>
                <a:lnTo>
                  <a:pt x="4937" y="8470"/>
                </a:lnTo>
                <a:lnTo>
                  <a:pt x="4906" y="8500"/>
                </a:lnTo>
                <a:lnTo>
                  <a:pt x="4877" y="8530"/>
                </a:lnTo>
                <a:lnTo>
                  <a:pt x="4849" y="8561"/>
                </a:lnTo>
                <a:lnTo>
                  <a:pt x="4821" y="8594"/>
                </a:lnTo>
                <a:lnTo>
                  <a:pt x="4794" y="8625"/>
                </a:lnTo>
                <a:lnTo>
                  <a:pt x="4766" y="8658"/>
                </a:lnTo>
                <a:lnTo>
                  <a:pt x="4740" y="8692"/>
                </a:lnTo>
                <a:lnTo>
                  <a:pt x="4715" y="8726"/>
                </a:lnTo>
                <a:lnTo>
                  <a:pt x="4691" y="8761"/>
                </a:lnTo>
                <a:lnTo>
                  <a:pt x="4667" y="8795"/>
                </a:lnTo>
                <a:lnTo>
                  <a:pt x="4644" y="8832"/>
                </a:lnTo>
                <a:lnTo>
                  <a:pt x="4622" y="8867"/>
                </a:lnTo>
                <a:lnTo>
                  <a:pt x="4600" y="8904"/>
                </a:lnTo>
                <a:lnTo>
                  <a:pt x="4580" y="8941"/>
                </a:lnTo>
                <a:lnTo>
                  <a:pt x="4560" y="8978"/>
                </a:lnTo>
                <a:lnTo>
                  <a:pt x="4541" y="9017"/>
                </a:lnTo>
                <a:lnTo>
                  <a:pt x="4523" y="9054"/>
                </a:lnTo>
                <a:lnTo>
                  <a:pt x="4505" y="9093"/>
                </a:lnTo>
                <a:lnTo>
                  <a:pt x="4489" y="9132"/>
                </a:lnTo>
                <a:lnTo>
                  <a:pt x="4473" y="9171"/>
                </a:lnTo>
                <a:lnTo>
                  <a:pt x="4458" y="9211"/>
                </a:lnTo>
                <a:lnTo>
                  <a:pt x="4444" y="9250"/>
                </a:lnTo>
                <a:lnTo>
                  <a:pt x="4430" y="9291"/>
                </a:lnTo>
                <a:lnTo>
                  <a:pt x="4419" y="9332"/>
                </a:lnTo>
                <a:lnTo>
                  <a:pt x="4407" y="9373"/>
                </a:lnTo>
                <a:lnTo>
                  <a:pt x="4397" y="9413"/>
                </a:lnTo>
                <a:lnTo>
                  <a:pt x="4387" y="9454"/>
                </a:lnTo>
                <a:lnTo>
                  <a:pt x="4378" y="9496"/>
                </a:lnTo>
                <a:lnTo>
                  <a:pt x="4371" y="9538"/>
                </a:lnTo>
                <a:lnTo>
                  <a:pt x="4363" y="9579"/>
                </a:lnTo>
                <a:lnTo>
                  <a:pt x="4358" y="9621"/>
                </a:lnTo>
                <a:lnTo>
                  <a:pt x="4353" y="9663"/>
                </a:lnTo>
                <a:lnTo>
                  <a:pt x="4349" y="9705"/>
                </a:lnTo>
                <a:lnTo>
                  <a:pt x="4347" y="9747"/>
                </a:lnTo>
                <a:lnTo>
                  <a:pt x="4345" y="9789"/>
                </a:lnTo>
                <a:lnTo>
                  <a:pt x="4344" y="9831"/>
                </a:lnTo>
                <a:lnTo>
                  <a:pt x="4344" y="9874"/>
                </a:lnTo>
                <a:lnTo>
                  <a:pt x="4346" y="9916"/>
                </a:lnTo>
                <a:lnTo>
                  <a:pt x="4348" y="9959"/>
                </a:lnTo>
                <a:lnTo>
                  <a:pt x="4351" y="10000"/>
                </a:lnTo>
                <a:lnTo>
                  <a:pt x="4355" y="10042"/>
                </a:lnTo>
                <a:lnTo>
                  <a:pt x="4360" y="10085"/>
                </a:lnTo>
                <a:lnTo>
                  <a:pt x="4368" y="10127"/>
                </a:lnTo>
                <a:lnTo>
                  <a:pt x="4375" y="10168"/>
                </a:lnTo>
                <a:lnTo>
                  <a:pt x="4383" y="10210"/>
                </a:lnTo>
                <a:lnTo>
                  <a:pt x="4394" y="10252"/>
                </a:lnTo>
                <a:lnTo>
                  <a:pt x="4404" y="10294"/>
                </a:lnTo>
                <a:lnTo>
                  <a:pt x="4417" y="10335"/>
                </a:lnTo>
                <a:lnTo>
                  <a:pt x="4430" y="10375"/>
                </a:lnTo>
                <a:lnTo>
                  <a:pt x="4444" y="10417"/>
                </a:lnTo>
                <a:lnTo>
                  <a:pt x="4459" y="10457"/>
                </a:lnTo>
                <a:lnTo>
                  <a:pt x="4474" y="10489"/>
                </a:lnTo>
                <a:lnTo>
                  <a:pt x="4488" y="10522"/>
                </a:lnTo>
                <a:lnTo>
                  <a:pt x="4503" y="10553"/>
                </a:lnTo>
                <a:lnTo>
                  <a:pt x="4519" y="10584"/>
                </a:lnTo>
                <a:lnTo>
                  <a:pt x="4536" y="10614"/>
                </a:lnTo>
                <a:lnTo>
                  <a:pt x="4552" y="10646"/>
                </a:lnTo>
                <a:lnTo>
                  <a:pt x="4570" y="10675"/>
                </a:lnTo>
                <a:lnTo>
                  <a:pt x="4589" y="10705"/>
                </a:lnTo>
                <a:lnTo>
                  <a:pt x="4608" y="10735"/>
                </a:lnTo>
                <a:lnTo>
                  <a:pt x="4627" y="10763"/>
                </a:lnTo>
                <a:lnTo>
                  <a:pt x="4646" y="10791"/>
                </a:lnTo>
                <a:lnTo>
                  <a:pt x="4667" y="10819"/>
                </a:lnTo>
                <a:lnTo>
                  <a:pt x="4688" y="10846"/>
                </a:lnTo>
                <a:lnTo>
                  <a:pt x="4710" y="10873"/>
                </a:lnTo>
                <a:lnTo>
                  <a:pt x="4732" y="10901"/>
                </a:lnTo>
                <a:lnTo>
                  <a:pt x="4755" y="10927"/>
                </a:lnTo>
                <a:lnTo>
                  <a:pt x="4778" y="10952"/>
                </a:lnTo>
                <a:lnTo>
                  <a:pt x="4802" y="10977"/>
                </a:lnTo>
                <a:lnTo>
                  <a:pt x="4826" y="11002"/>
                </a:lnTo>
                <a:lnTo>
                  <a:pt x="4851" y="11026"/>
                </a:lnTo>
                <a:lnTo>
                  <a:pt x="4876" y="11049"/>
                </a:lnTo>
                <a:lnTo>
                  <a:pt x="4901" y="11072"/>
                </a:lnTo>
                <a:lnTo>
                  <a:pt x="4927" y="11095"/>
                </a:lnTo>
                <a:lnTo>
                  <a:pt x="4954" y="11117"/>
                </a:lnTo>
                <a:lnTo>
                  <a:pt x="4981" y="11138"/>
                </a:lnTo>
                <a:lnTo>
                  <a:pt x="5008" y="11159"/>
                </a:lnTo>
                <a:lnTo>
                  <a:pt x="5036" y="11179"/>
                </a:lnTo>
                <a:lnTo>
                  <a:pt x="5064" y="11198"/>
                </a:lnTo>
                <a:lnTo>
                  <a:pt x="5092" y="11218"/>
                </a:lnTo>
                <a:lnTo>
                  <a:pt x="5122" y="11236"/>
                </a:lnTo>
                <a:lnTo>
                  <a:pt x="5151" y="11254"/>
                </a:lnTo>
                <a:lnTo>
                  <a:pt x="5180" y="11271"/>
                </a:lnTo>
                <a:lnTo>
                  <a:pt x="5209" y="11288"/>
                </a:lnTo>
                <a:lnTo>
                  <a:pt x="5240" y="11304"/>
                </a:lnTo>
                <a:lnTo>
                  <a:pt x="5271" y="11319"/>
                </a:lnTo>
                <a:lnTo>
                  <a:pt x="5301" y="11333"/>
                </a:lnTo>
                <a:lnTo>
                  <a:pt x="5332" y="11348"/>
                </a:lnTo>
                <a:lnTo>
                  <a:pt x="5364" y="11361"/>
                </a:lnTo>
                <a:lnTo>
                  <a:pt x="5395" y="11374"/>
                </a:lnTo>
                <a:lnTo>
                  <a:pt x="5428" y="11385"/>
                </a:lnTo>
                <a:lnTo>
                  <a:pt x="5460" y="11397"/>
                </a:lnTo>
                <a:lnTo>
                  <a:pt x="5492" y="11407"/>
                </a:lnTo>
                <a:lnTo>
                  <a:pt x="5525" y="11417"/>
                </a:lnTo>
                <a:lnTo>
                  <a:pt x="5558" y="11426"/>
                </a:lnTo>
                <a:lnTo>
                  <a:pt x="5590" y="11433"/>
                </a:lnTo>
                <a:lnTo>
                  <a:pt x="5624" y="11442"/>
                </a:lnTo>
                <a:lnTo>
                  <a:pt x="5657" y="11448"/>
                </a:lnTo>
                <a:lnTo>
                  <a:pt x="5692" y="11454"/>
                </a:lnTo>
                <a:lnTo>
                  <a:pt x="5725" y="11459"/>
                </a:lnTo>
                <a:lnTo>
                  <a:pt x="5759" y="11464"/>
                </a:lnTo>
                <a:lnTo>
                  <a:pt x="5793" y="11467"/>
                </a:lnTo>
                <a:lnTo>
                  <a:pt x="5827" y="11470"/>
                </a:lnTo>
                <a:lnTo>
                  <a:pt x="5862" y="11472"/>
                </a:lnTo>
                <a:lnTo>
                  <a:pt x="5896" y="11473"/>
                </a:lnTo>
                <a:lnTo>
                  <a:pt x="5931" y="11473"/>
                </a:lnTo>
                <a:lnTo>
                  <a:pt x="5965" y="11473"/>
                </a:lnTo>
                <a:lnTo>
                  <a:pt x="6001" y="11471"/>
                </a:lnTo>
                <a:lnTo>
                  <a:pt x="6035" y="11469"/>
                </a:lnTo>
                <a:lnTo>
                  <a:pt x="6071" y="11466"/>
                </a:lnTo>
                <a:lnTo>
                  <a:pt x="6105" y="11461"/>
                </a:lnTo>
                <a:lnTo>
                  <a:pt x="6141" y="11457"/>
                </a:lnTo>
                <a:lnTo>
                  <a:pt x="6175" y="11451"/>
                </a:lnTo>
                <a:lnTo>
                  <a:pt x="6211" y="11445"/>
                </a:lnTo>
                <a:lnTo>
                  <a:pt x="6246" y="11436"/>
                </a:lnTo>
                <a:lnTo>
                  <a:pt x="6279" y="11426"/>
                </a:lnTo>
                <a:lnTo>
                  <a:pt x="6310" y="11413"/>
                </a:lnTo>
                <a:lnTo>
                  <a:pt x="6341" y="11401"/>
                </a:lnTo>
                <a:lnTo>
                  <a:pt x="6373" y="11387"/>
                </a:lnTo>
                <a:lnTo>
                  <a:pt x="6403" y="11374"/>
                </a:lnTo>
                <a:lnTo>
                  <a:pt x="6434" y="11359"/>
                </a:lnTo>
                <a:lnTo>
                  <a:pt x="6463" y="11343"/>
                </a:lnTo>
                <a:lnTo>
                  <a:pt x="6494" y="11327"/>
                </a:lnTo>
                <a:lnTo>
                  <a:pt x="6522" y="11310"/>
                </a:lnTo>
                <a:lnTo>
                  <a:pt x="6551" y="11293"/>
                </a:lnTo>
                <a:lnTo>
                  <a:pt x="6579" y="11275"/>
                </a:lnTo>
                <a:lnTo>
                  <a:pt x="6606" y="11256"/>
                </a:lnTo>
                <a:lnTo>
                  <a:pt x="6635" y="11237"/>
                </a:lnTo>
                <a:lnTo>
                  <a:pt x="6661" y="11217"/>
                </a:lnTo>
                <a:lnTo>
                  <a:pt x="6687" y="11196"/>
                </a:lnTo>
                <a:lnTo>
                  <a:pt x="6713" y="11175"/>
                </a:lnTo>
                <a:lnTo>
                  <a:pt x="6738" y="11154"/>
                </a:lnTo>
                <a:lnTo>
                  <a:pt x="6763" y="11132"/>
                </a:lnTo>
                <a:lnTo>
                  <a:pt x="6787" y="11110"/>
                </a:lnTo>
                <a:lnTo>
                  <a:pt x="6810" y="11087"/>
                </a:lnTo>
                <a:lnTo>
                  <a:pt x="6833" y="11063"/>
                </a:lnTo>
                <a:lnTo>
                  <a:pt x="6856" y="11038"/>
                </a:lnTo>
                <a:lnTo>
                  <a:pt x="6878" y="11014"/>
                </a:lnTo>
                <a:lnTo>
                  <a:pt x="6899" y="10989"/>
                </a:lnTo>
                <a:lnTo>
                  <a:pt x="6920" y="10963"/>
                </a:lnTo>
                <a:lnTo>
                  <a:pt x="6940" y="10938"/>
                </a:lnTo>
                <a:lnTo>
                  <a:pt x="6958" y="10911"/>
                </a:lnTo>
                <a:lnTo>
                  <a:pt x="6977" y="10885"/>
                </a:lnTo>
                <a:lnTo>
                  <a:pt x="6995" y="10858"/>
                </a:lnTo>
                <a:lnTo>
                  <a:pt x="7013" y="10831"/>
                </a:lnTo>
                <a:lnTo>
                  <a:pt x="7029" y="10802"/>
                </a:lnTo>
                <a:lnTo>
                  <a:pt x="7045" y="10774"/>
                </a:lnTo>
                <a:lnTo>
                  <a:pt x="7060" y="10746"/>
                </a:lnTo>
                <a:lnTo>
                  <a:pt x="7074" y="10717"/>
                </a:lnTo>
                <a:lnTo>
                  <a:pt x="7088" y="10688"/>
                </a:lnTo>
                <a:lnTo>
                  <a:pt x="7101" y="10658"/>
                </a:lnTo>
                <a:lnTo>
                  <a:pt x="7113" y="10628"/>
                </a:lnTo>
                <a:lnTo>
                  <a:pt x="7124" y="10599"/>
                </a:lnTo>
                <a:lnTo>
                  <a:pt x="7136" y="10569"/>
                </a:lnTo>
                <a:lnTo>
                  <a:pt x="7145" y="10537"/>
                </a:lnTo>
                <a:lnTo>
                  <a:pt x="7155" y="10507"/>
                </a:lnTo>
                <a:lnTo>
                  <a:pt x="7162" y="10476"/>
                </a:lnTo>
                <a:lnTo>
                  <a:pt x="7169" y="10444"/>
                </a:lnTo>
                <a:lnTo>
                  <a:pt x="7177" y="10413"/>
                </a:lnTo>
                <a:lnTo>
                  <a:pt x="7182" y="10382"/>
                </a:lnTo>
                <a:lnTo>
                  <a:pt x="7187" y="10350"/>
                </a:lnTo>
                <a:lnTo>
                  <a:pt x="7190" y="10318"/>
                </a:lnTo>
                <a:lnTo>
                  <a:pt x="7193" y="10287"/>
                </a:lnTo>
                <a:lnTo>
                  <a:pt x="7195" y="10254"/>
                </a:lnTo>
                <a:lnTo>
                  <a:pt x="7197" y="10222"/>
                </a:lnTo>
                <a:lnTo>
                  <a:pt x="7198" y="10189"/>
                </a:lnTo>
                <a:lnTo>
                  <a:pt x="7197" y="10157"/>
                </a:lnTo>
                <a:lnTo>
                  <a:pt x="7194" y="10125"/>
                </a:lnTo>
                <a:lnTo>
                  <a:pt x="7192" y="10092"/>
                </a:lnTo>
                <a:lnTo>
                  <a:pt x="7188" y="10060"/>
                </a:lnTo>
                <a:lnTo>
                  <a:pt x="7184" y="10026"/>
                </a:lnTo>
                <a:lnTo>
                  <a:pt x="7179" y="9994"/>
                </a:lnTo>
                <a:lnTo>
                  <a:pt x="7171" y="9962"/>
                </a:lnTo>
                <a:lnTo>
                  <a:pt x="7164" y="9928"/>
                </a:lnTo>
                <a:lnTo>
                  <a:pt x="7156" y="9896"/>
                </a:lnTo>
                <a:lnTo>
                  <a:pt x="7145" y="9864"/>
                </a:lnTo>
                <a:lnTo>
                  <a:pt x="7135" y="9831"/>
                </a:lnTo>
                <a:lnTo>
                  <a:pt x="7123" y="9799"/>
                </a:lnTo>
                <a:lnTo>
                  <a:pt x="7110" y="9766"/>
                </a:lnTo>
                <a:lnTo>
                  <a:pt x="7099" y="9744"/>
                </a:lnTo>
                <a:lnTo>
                  <a:pt x="7087" y="9724"/>
                </a:lnTo>
                <a:lnTo>
                  <a:pt x="7074" y="9703"/>
                </a:lnTo>
                <a:lnTo>
                  <a:pt x="7062" y="9683"/>
                </a:lnTo>
                <a:lnTo>
                  <a:pt x="7048" y="9662"/>
                </a:lnTo>
                <a:lnTo>
                  <a:pt x="7034" y="9643"/>
                </a:lnTo>
                <a:lnTo>
                  <a:pt x="7004" y="9605"/>
                </a:lnTo>
                <a:lnTo>
                  <a:pt x="6973" y="9569"/>
                </a:lnTo>
                <a:lnTo>
                  <a:pt x="6941" y="9534"/>
                </a:lnTo>
                <a:lnTo>
                  <a:pt x="6907" y="9501"/>
                </a:lnTo>
                <a:lnTo>
                  <a:pt x="6872" y="9471"/>
                </a:lnTo>
                <a:lnTo>
                  <a:pt x="6836" y="9442"/>
                </a:lnTo>
                <a:lnTo>
                  <a:pt x="6801" y="9415"/>
                </a:lnTo>
                <a:lnTo>
                  <a:pt x="6765" y="9391"/>
                </a:lnTo>
                <a:lnTo>
                  <a:pt x="6729" y="9368"/>
                </a:lnTo>
                <a:lnTo>
                  <a:pt x="6693" y="9350"/>
                </a:lnTo>
                <a:lnTo>
                  <a:pt x="6659" y="9332"/>
                </a:lnTo>
                <a:lnTo>
                  <a:pt x="6624" y="9317"/>
                </a:lnTo>
                <a:lnTo>
                  <a:pt x="6592" y="9305"/>
                </a:lnTo>
                <a:lnTo>
                  <a:pt x="6570" y="9294"/>
                </a:lnTo>
                <a:lnTo>
                  <a:pt x="6548" y="9285"/>
                </a:lnTo>
                <a:lnTo>
                  <a:pt x="6527" y="9276"/>
                </a:lnTo>
                <a:lnTo>
                  <a:pt x="6506" y="9268"/>
                </a:lnTo>
                <a:lnTo>
                  <a:pt x="6484" y="9260"/>
                </a:lnTo>
                <a:lnTo>
                  <a:pt x="6463" y="9254"/>
                </a:lnTo>
                <a:lnTo>
                  <a:pt x="6443" y="9247"/>
                </a:lnTo>
                <a:lnTo>
                  <a:pt x="6422" y="9242"/>
                </a:lnTo>
                <a:lnTo>
                  <a:pt x="6401" y="9238"/>
                </a:lnTo>
                <a:lnTo>
                  <a:pt x="6380" y="9234"/>
                </a:lnTo>
                <a:lnTo>
                  <a:pt x="6359" y="9230"/>
                </a:lnTo>
                <a:lnTo>
                  <a:pt x="6339" y="9227"/>
                </a:lnTo>
                <a:lnTo>
                  <a:pt x="6318" y="9225"/>
                </a:lnTo>
                <a:lnTo>
                  <a:pt x="6297" y="9224"/>
                </a:lnTo>
                <a:lnTo>
                  <a:pt x="6258" y="9223"/>
                </a:lnTo>
                <a:lnTo>
                  <a:pt x="6218" y="9224"/>
                </a:lnTo>
                <a:lnTo>
                  <a:pt x="6178" y="9229"/>
                </a:lnTo>
                <a:lnTo>
                  <a:pt x="6139" y="9235"/>
                </a:lnTo>
                <a:lnTo>
                  <a:pt x="6100" y="9243"/>
                </a:lnTo>
                <a:lnTo>
                  <a:pt x="6062" y="9254"/>
                </a:lnTo>
                <a:lnTo>
                  <a:pt x="6025" y="9266"/>
                </a:lnTo>
                <a:lnTo>
                  <a:pt x="5987" y="9281"/>
                </a:lnTo>
                <a:lnTo>
                  <a:pt x="5951" y="9297"/>
                </a:lnTo>
                <a:lnTo>
                  <a:pt x="5914" y="9316"/>
                </a:lnTo>
                <a:lnTo>
                  <a:pt x="5879" y="9336"/>
                </a:lnTo>
                <a:lnTo>
                  <a:pt x="5843" y="9358"/>
                </a:lnTo>
                <a:lnTo>
                  <a:pt x="5809" y="9382"/>
                </a:lnTo>
                <a:lnTo>
                  <a:pt x="5774" y="9407"/>
                </a:lnTo>
                <a:lnTo>
                  <a:pt x="5741" y="9434"/>
                </a:lnTo>
                <a:lnTo>
                  <a:pt x="5708" y="9461"/>
                </a:lnTo>
                <a:lnTo>
                  <a:pt x="5676" y="9492"/>
                </a:lnTo>
                <a:lnTo>
                  <a:pt x="5644" y="9522"/>
                </a:lnTo>
                <a:lnTo>
                  <a:pt x="5613" y="9553"/>
                </a:lnTo>
                <a:lnTo>
                  <a:pt x="5582" y="9587"/>
                </a:lnTo>
                <a:lnTo>
                  <a:pt x="5553" y="9621"/>
                </a:lnTo>
                <a:lnTo>
                  <a:pt x="5524" y="9656"/>
                </a:lnTo>
                <a:lnTo>
                  <a:pt x="5494" y="9692"/>
                </a:lnTo>
                <a:lnTo>
                  <a:pt x="5466" y="9729"/>
                </a:lnTo>
                <a:lnTo>
                  <a:pt x="5439" y="9766"/>
                </a:lnTo>
                <a:lnTo>
                  <a:pt x="5435" y="9734"/>
                </a:lnTo>
                <a:lnTo>
                  <a:pt x="5431" y="9703"/>
                </a:lnTo>
                <a:lnTo>
                  <a:pt x="5429" y="9671"/>
                </a:lnTo>
                <a:lnTo>
                  <a:pt x="5429" y="9642"/>
                </a:lnTo>
                <a:lnTo>
                  <a:pt x="5429" y="9612"/>
                </a:lnTo>
                <a:lnTo>
                  <a:pt x="5430" y="9584"/>
                </a:lnTo>
                <a:lnTo>
                  <a:pt x="5433" y="9555"/>
                </a:lnTo>
                <a:lnTo>
                  <a:pt x="5437" y="9528"/>
                </a:lnTo>
                <a:lnTo>
                  <a:pt x="5442" y="9501"/>
                </a:lnTo>
                <a:lnTo>
                  <a:pt x="5448" y="9475"/>
                </a:lnTo>
                <a:lnTo>
                  <a:pt x="5456" y="9450"/>
                </a:lnTo>
                <a:lnTo>
                  <a:pt x="5464" y="9425"/>
                </a:lnTo>
                <a:lnTo>
                  <a:pt x="5472" y="9401"/>
                </a:lnTo>
                <a:lnTo>
                  <a:pt x="5483" y="9377"/>
                </a:lnTo>
                <a:lnTo>
                  <a:pt x="5494" y="9354"/>
                </a:lnTo>
                <a:lnTo>
                  <a:pt x="5507" y="9332"/>
                </a:lnTo>
                <a:lnTo>
                  <a:pt x="5519" y="9310"/>
                </a:lnTo>
                <a:lnTo>
                  <a:pt x="5534" y="9289"/>
                </a:lnTo>
                <a:lnTo>
                  <a:pt x="5549" y="9269"/>
                </a:lnTo>
                <a:lnTo>
                  <a:pt x="5564" y="9249"/>
                </a:lnTo>
                <a:lnTo>
                  <a:pt x="5581" y="9230"/>
                </a:lnTo>
                <a:lnTo>
                  <a:pt x="5598" y="9212"/>
                </a:lnTo>
                <a:lnTo>
                  <a:pt x="5615" y="9194"/>
                </a:lnTo>
                <a:lnTo>
                  <a:pt x="5634" y="9176"/>
                </a:lnTo>
                <a:lnTo>
                  <a:pt x="5654" y="9160"/>
                </a:lnTo>
                <a:lnTo>
                  <a:pt x="5674" y="9144"/>
                </a:lnTo>
                <a:lnTo>
                  <a:pt x="5695" y="9128"/>
                </a:lnTo>
                <a:lnTo>
                  <a:pt x="5716" y="9114"/>
                </a:lnTo>
                <a:lnTo>
                  <a:pt x="5738" y="9099"/>
                </a:lnTo>
                <a:lnTo>
                  <a:pt x="5761" y="9085"/>
                </a:lnTo>
                <a:lnTo>
                  <a:pt x="5783" y="9073"/>
                </a:lnTo>
                <a:lnTo>
                  <a:pt x="5807" y="9060"/>
                </a:lnTo>
                <a:lnTo>
                  <a:pt x="5831" y="9048"/>
                </a:lnTo>
                <a:lnTo>
                  <a:pt x="5855" y="9036"/>
                </a:lnTo>
                <a:lnTo>
                  <a:pt x="5880" y="9026"/>
                </a:lnTo>
                <a:lnTo>
                  <a:pt x="5905" y="9017"/>
                </a:lnTo>
                <a:lnTo>
                  <a:pt x="5930" y="9006"/>
                </a:lnTo>
                <a:lnTo>
                  <a:pt x="5956" y="8998"/>
                </a:lnTo>
                <a:lnTo>
                  <a:pt x="5982" y="8989"/>
                </a:lnTo>
                <a:lnTo>
                  <a:pt x="6008" y="8981"/>
                </a:lnTo>
                <a:lnTo>
                  <a:pt x="6061" y="8967"/>
                </a:lnTo>
                <a:lnTo>
                  <a:pt x="6116" y="8956"/>
                </a:lnTo>
                <a:lnTo>
                  <a:pt x="6170" y="8947"/>
                </a:lnTo>
                <a:lnTo>
                  <a:pt x="6225" y="8939"/>
                </a:lnTo>
                <a:lnTo>
                  <a:pt x="6280" y="8934"/>
                </a:lnTo>
                <a:lnTo>
                  <a:pt x="6335" y="8932"/>
                </a:lnTo>
                <a:lnTo>
                  <a:pt x="6389" y="8931"/>
                </a:lnTo>
                <a:lnTo>
                  <a:pt x="6444" y="8933"/>
                </a:lnTo>
                <a:lnTo>
                  <a:pt x="6497" y="8936"/>
                </a:lnTo>
                <a:lnTo>
                  <a:pt x="6549" y="8941"/>
                </a:lnTo>
                <a:lnTo>
                  <a:pt x="6599" y="8950"/>
                </a:lnTo>
                <a:lnTo>
                  <a:pt x="6649" y="8959"/>
                </a:lnTo>
                <a:lnTo>
                  <a:pt x="6691" y="8971"/>
                </a:lnTo>
                <a:lnTo>
                  <a:pt x="6733" y="8984"/>
                </a:lnTo>
                <a:lnTo>
                  <a:pt x="6774" y="8999"/>
                </a:lnTo>
                <a:lnTo>
                  <a:pt x="6813" y="9015"/>
                </a:lnTo>
                <a:lnTo>
                  <a:pt x="6852" y="9033"/>
                </a:lnTo>
                <a:lnTo>
                  <a:pt x="6889" y="9053"/>
                </a:lnTo>
                <a:lnTo>
                  <a:pt x="6927" y="9074"/>
                </a:lnTo>
                <a:lnTo>
                  <a:pt x="6963" y="9096"/>
                </a:lnTo>
                <a:lnTo>
                  <a:pt x="6997" y="9120"/>
                </a:lnTo>
                <a:lnTo>
                  <a:pt x="7030" y="9145"/>
                </a:lnTo>
                <a:lnTo>
                  <a:pt x="7063" y="9171"/>
                </a:lnTo>
                <a:lnTo>
                  <a:pt x="7094" y="9198"/>
                </a:lnTo>
                <a:lnTo>
                  <a:pt x="7126" y="9226"/>
                </a:lnTo>
                <a:lnTo>
                  <a:pt x="7155" y="9257"/>
                </a:lnTo>
                <a:lnTo>
                  <a:pt x="7183" y="9287"/>
                </a:lnTo>
                <a:lnTo>
                  <a:pt x="7211" y="9319"/>
                </a:lnTo>
                <a:lnTo>
                  <a:pt x="7237" y="9352"/>
                </a:lnTo>
                <a:lnTo>
                  <a:pt x="7262" y="9386"/>
                </a:lnTo>
                <a:lnTo>
                  <a:pt x="7287" y="9421"/>
                </a:lnTo>
                <a:lnTo>
                  <a:pt x="7310" y="9456"/>
                </a:lnTo>
                <a:lnTo>
                  <a:pt x="7333" y="9493"/>
                </a:lnTo>
                <a:lnTo>
                  <a:pt x="7354" y="9530"/>
                </a:lnTo>
                <a:lnTo>
                  <a:pt x="7375" y="9569"/>
                </a:lnTo>
                <a:lnTo>
                  <a:pt x="7394" y="9608"/>
                </a:lnTo>
                <a:lnTo>
                  <a:pt x="7413" y="9646"/>
                </a:lnTo>
                <a:lnTo>
                  <a:pt x="7430" y="9687"/>
                </a:lnTo>
                <a:lnTo>
                  <a:pt x="7446" y="9728"/>
                </a:lnTo>
                <a:lnTo>
                  <a:pt x="7462" y="9768"/>
                </a:lnTo>
                <a:lnTo>
                  <a:pt x="7476" y="9810"/>
                </a:lnTo>
                <a:lnTo>
                  <a:pt x="7489" y="9853"/>
                </a:lnTo>
                <a:lnTo>
                  <a:pt x="7501" y="9896"/>
                </a:lnTo>
                <a:lnTo>
                  <a:pt x="7513" y="9939"/>
                </a:lnTo>
                <a:lnTo>
                  <a:pt x="7522" y="9993"/>
                </a:lnTo>
                <a:lnTo>
                  <a:pt x="7531" y="10046"/>
                </a:lnTo>
                <a:lnTo>
                  <a:pt x="7536" y="10101"/>
                </a:lnTo>
                <a:lnTo>
                  <a:pt x="7540" y="10154"/>
                </a:lnTo>
                <a:lnTo>
                  <a:pt x="7542" y="10208"/>
                </a:lnTo>
                <a:lnTo>
                  <a:pt x="7542" y="10261"/>
                </a:lnTo>
                <a:lnTo>
                  <a:pt x="7540" y="10315"/>
                </a:lnTo>
                <a:lnTo>
                  <a:pt x="7537" y="10367"/>
                </a:lnTo>
                <a:lnTo>
                  <a:pt x="7531" y="10420"/>
                </a:lnTo>
                <a:lnTo>
                  <a:pt x="7523" y="10471"/>
                </a:lnTo>
                <a:lnTo>
                  <a:pt x="7514" y="10524"/>
                </a:lnTo>
                <a:lnTo>
                  <a:pt x="7502" y="10575"/>
                </a:lnTo>
                <a:lnTo>
                  <a:pt x="7490" y="10626"/>
                </a:lnTo>
                <a:lnTo>
                  <a:pt x="7475" y="10676"/>
                </a:lnTo>
                <a:lnTo>
                  <a:pt x="7459" y="10725"/>
                </a:lnTo>
                <a:lnTo>
                  <a:pt x="7441" y="10774"/>
                </a:lnTo>
                <a:lnTo>
                  <a:pt x="7421" y="10822"/>
                </a:lnTo>
                <a:lnTo>
                  <a:pt x="7400" y="10870"/>
                </a:lnTo>
                <a:lnTo>
                  <a:pt x="7377" y="10916"/>
                </a:lnTo>
                <a:lnTo>
                  <a:pt x="7352" y="10963"/>
                </a:lnTo>
                <a:lnTo>
                  <a:pt x="7326" y="11008"/>
                </a:lnTo>
                <a:lnTo>
                  <a:pt x="7298" y="11052"/>
                </a:lnTo>
                <a:lnTo>
                  <a:pt x="7269" y="11096"/>
                </a:lnTo>
                <a:lnTo>
                  <a:pt x="7237" y="11138"/>
                </a:lnTo>
                <a:lnTo>
                  <a:pt x="7205" y="11179"/>
                </a:lnTo>
                <a:lnTo>
                  <a:pt x="7171" y="11219"/>
                </a:lnTo>
                <a:lnTo>
                  <a:pt x="7136" y="11259"/>
                </a:lnTo>
                <a:lnTo>
                  <a:pt x="7098" y="11296"/>
                </a:lnTo>
                <a:lnTo>
                  <a:pt x="7061" y="11334"/>
                </a:lnTo>
                <a:lnTo>
                  <a:pt x="7021" y="11370"/>
                </a:lnTo>
                <a:lnTo>
                  <a:pt x="6979" y="11404"/>
                </a:lnTo>
                <a:lnTo>
                  <a:pt x="6938" y="11436"/>
                </a:lnTo>
                <a:lnTo>
                  <a:pt x="6888" y="11474"/>
                </a:lnTo>
                <a:lnTo>
                  <a:pt x="6838" y="11508"/>
                </a:lnTo>
                <a:lnTo>
                  <a:pt x="6788" y="11541"/>
                </a:lnTo>
                <a:lnTo>
                  <a:pt x="6737" y="11572"/>
                </a:lnTo>
                <a:lnTo>
                  <a:pt x="6686" y="11600"/>
                </a:lnTo>
                <a:lnTo>
                  <a:pt x="6635" y="11628"/>
                </a:lnTo>
                <a:lnTo>
                  <a:pt x="6582" y="11653"/>
                </a:lnTo>
                <a:lnTo>
                  <a:pt x="6529" y="11676"/>
                </a:lnTo>
                <a:lnTo>
                  <a:pt x="6476" y="11696"/>
                </a:lnTo>
                <a:lnTo>
                  <a:pt x="6423" y="11715"/>
                </a:lnTo>
                <a:lnTo>
                  <a:pt x="6368" y="11732"/>
                </a:lnTo>
                <a:lnTo>
                  <a:pt x="6314" y="11748"/>
                </a:lnTo>
                <a:lnTo>
                  <a:pt x="6260" y="11761"/>
                </a:lnTo>
                <a:lnTo>
                  <a:pt x="6204" y="11773"/>
                </a:lnTo>
                <a:lnTo>
                  <a:pt x="6150" y="11782"/>
                </a:lnTo>
                <a:lnTo>
                  <a:pt x="6095" y="11789"/>
                </a:lnTo>
                <a:lnTo>
                  <a:pt x="6039" y="11796"/>
                </a:lnTo>
                <a:lnTo>
                  <a:pt x="5983" y="11800"/>
                </a:lnTo>
                <a:lnTo>
                  <a:pt x="5928" y="11802"/>
                </a:lnTo>
                <a:lnTo>
                  <a:pt x="5872" y="11802"/>
                </a:lnTo>
                <a:lnTo>
                  <a:pt x="5816" y="11800"/>
                </a:lnTo>
                <a:lnTo>
                  <a:pt x="5761" y="11797"/>
                </a:lnTo>
                <a:lnTo>
                  <a:pt x="5704" y="11792"/>
                </a:lnTo>
                <a:lnTo>
                  <a:pt x="5649" y="11785"/>
                </a:lnTo>
                <a:lnTo>
                  <a:pt x="5594" y="11777"/>
                </a:lnTo>
                <a:lnTo>
                  <a:pt x="5537" y="11766"/>
                </a:lnTo>
                <a:lnTo>
                  <a:pt x="5482" y="11754"/>
                </a:lnTo>
                <a:lnTo>
                  <a:pt x="5428" y="11740"/>
                </a:lnTo>
                <a:lnTo>
                  <a:pt x="5372" y="11725"/>
                </a:lnTo>
                <a:lnTo>
                  <a:pt x="5318" y="11707"/>
                </a:lnTo>
                <a:lnTo>
                  <a:pt x="5263" y="11688"/>
                </a:lnTo>
                <a:lnTo>
                  <a:pt x="5208" y="11667"/>
                </a:lnTo>
                <a:lnTo>
                  <a:pt x="5169" y="11651"/>
                </a:lnTo>
                <a:lnTo>
                  <a:pt x="5129" y="11633"/>
                </a:lnTo>
                <a:lnTo>
                  <a:pt x="5090" y="11615"/>
                </a:lnTo>
                <a:lnTo>
                  <a:pt x="5052" y="11595"/>
                </a:lnTo>
                <a:lnTo>
                  <a:pt x="5014" y="11575"/>
                </a:lnTo>
                <a:lnTo>
                  <a:pt x="4976" y="11555"/>
                </a:lnTo>
                <a:lnTo>
                  <a:pt x="4940" y="11534"/>
                </a:lnTo>
                <a:lnTo>
                  <a:pt x="4904" y="11512"/>
                </a:lnTo>
                <a:lnTo>
                  <a:pt x="4869" y="11489"/>
                </a:lnTo>
                <a:lnTo>
                  <a:pt x="4834" y="11465"/>
                </a:lnTo>
                <a:lnTo>
                  <a:pt x="4800" y="11441"/>
                </a:lnTo>
                <a:lnTo>
                  <a:pt x="4766" y="11416"/>
                </a:lnTo>
                <a:lnTo>
                  <a:pt x="4733" y="11390"/>
                </a:lnTo>
                <a:lnTo>
                  <a:pt x="4702" y="11363"/>
                </a:lnTo>
                <a:lnTo>
                  <a:pt x="4669" y="11336"/>
                </a:lnTo>
                <a:lnTo>
                  <a:pt x="4639" y="11309"/>
                </a:lnTo>
                <a:lnTo>
                  <a:pt x="4609" y="11281"/>
                </a:lnTo>
                <a:lnTo>
                  <a:pt x="4580" y="11252"/>
                </a:lnTo>
                <a:lnTo>
                  <a:pt x="4550" y="11222"/>
                </a:lnTo>
                <a:lnTo>
                  <a:pt x="4522" y="11192"/>
                </a:lnTo>
                <a:lnTo>
                  <a:pt x="4494" y="11161"/>
                </a:lnTo>
                <a:lnTo>
                  <a:pt x="4468" y="11129"/>
                </a:lnTo>
                <a:lnTo>
                  <a:pt x="4442" y="11098"/>
                </a:lnTo>
                <a:lnTo>
                  <a:pt x="4416" y="11066"/>
                </a:lnTo>
                <a:lnTo>
                  <a:pt x="4391" y="11032"/>
                </a:lnTo>
                <a:lnTo>
                  <a:pt x="4367" y="10999"/>
                </a:lnTo>
                <a:lnTo>
                  <a:pt x="4344" y="10965"/>
                </a:lnTo>
                <a:lnTo>
                  <a:pt x="4321" y="10931"/>
                </a:lnTo>
                <a:lnTo>
                  <a:pt x="4299" y="10896"/>
                </a:lnTo>
                <a:lnTo>
                  <a:pt x="4277" y="10861"/>
                </a:lnTo>
                <a:lnTo>
                  <a:pt x="4257" y="10824"/>
                </a:lnTo>
                <a:lnTo>
                  <a:pt x="4237" y="10789"/>
                </a:lnTo>
                <a:lnTo>
                  <a:pt x="4217" y="10752"/>
                </a:lnTo>
                <a:lnTo>
                  <a:pt x="4198" y="10715"/>
                </a:lnTo>
                <a:lnTo>
                  <a:pt x="4181" y="10677"/>
                </a:lnTo>
                <a:lnTo>
                  <a:pt x="4164" y="10640"/>
                </a:lnTo>
                <a:lnTo>
                  <a:pt x="4147" y="10601"/>
                </a:lnTo>
                <a:lnTo>
                  <a:pt x="4133" y="10562"/>
                </a:lnTo>
                <a:lnTo>
                  <a:pt x="4117" y="10524"/>
                </a:lnTo>
                <a:lnTo>
                  <a:pt x="4103" y="10485"/>
                </a:lnTo>
                <a:lnTo>
                  <a:pt x="4090" y="10445"/>
                </a:lnTo>
                <a:lnTo>
                  <a:pt x="4077" y="10406"/>
                </a:lnTo>
                <a:lnTo>
                  <a:pt x="4066" y="10365"/>
                </a:lnTo>
                <a:lnTo>
                  <a:pt x="4054" y="10324"/>
                </a:lnTo>
                <a:lnTo>
                  <a:pt x="4044" y="10283"/>
                </a:lnTo>
                <a:lnTo>
                  <a:pt x="4034" y="10243"/>
                </a:lnTo>
                <a:lnTo>
                  <a:pt x="4026" y="10202"/>
                </a:lnTo>
                <a:lnTo>
                  <a:pt x="4018" y="10160"/>
                </a:lnTo>
                <a:lnTo>
                  <a:pt x="4010" y="10118"/>
                </a:lnTo>
                <a:lnTo>
                  <a:pt x="4004" y="10077"/>
                </a:lnTo>
                <a:lnTo>
                  <a:pt x="3999" y="10035"/>
                </a:lnTo>
                <a:lnTo>
                  <a:pt x="3994" y="9993"/>
                </a:lnTo>
                <a:lnTo>
                  <a:pt x="3990" y="9950"/>
                </a:lnTo>
                <a:lnTo>
                  <a:pt x="3986" y="9907"/>
                </a:lnTo>
                <a:lnTo>
                  <a:pt x="3984" y="9865"/>
                </a:lnTo>
                <a:lnTo>
                  <a:pt x="3982" y="9823"/>
                </a:lnTo>
                <a:lnTo>
                  <a:pt x="3981" y="9780"/>
                </a:lnTo>
                <a:lnTo>
                  <a:pt x="3981" y="9736"/>
                </a:lnTo>
                <a:lnTo>
                  <a:pt x="3982" y="9693"/>
                </a:lnTo>
                <a:lnTo>
                  <a:pt x="3984" y="9650"/>
                </a:lnTo>
                <a:lnTo>
                  <a:pt x="3986" y="9608"/>
                </a:lnTo>
                <a:lnTo>
                  <a:pt x="3990" y="9564"/>
                </a:lnTo>
                <a:lnTo>
                  <a:pt x="3994" y="9521"/>
                </a:lnTo>
                <a:lnTo>
                  <a:pt x="3999" y="9478"/>
                </a:lnTo>
                <a:lnTo>
                  <a:pt x="4004" y="9440"/>
                </a:lnTo>
                <a:lnTo>
                  <a:pt x="4010" y="9403"/>
                </a:lnTo>
                <a:lnTo>
                  <a:pt x="4018" y="9365"/>
                </a:lnTo>
                <a:lnTo>
                  <a:pt x="4026" y="9328"/>
                </a:lnTo>
                <a:lnTo>
                  <a:pt x="4034" y="9291"/>
                </a:lnTo>
                <a:lnTo>
                  <a:pt x="4043" y="9255"/>
                </a:lnTo>
                <a:lnTo>
                  <a:pt x="4053" y="9218"/>
                </a:lnTo>
                <a:lnTo>
                  <a:pt x="4063" y="9182"/>
                </a:lnTo>
                <a:lnTo>
                  <a:pt x="4074" y="9145"/>
                </a:lnTo>
                <a:lnTo>
                  <a:pt x="4086" y="9109"/>
                </a:lnTo>
                <a:lnTo>
                  <a:pt x="4098" y="9074"/>
                </a:lnTo>
                <a:lnTo>
                  <a:pt x="4111" y="9038"/>
                </a:lnTo>
                <a:lnTo>
                  <a:pt x="4124" y="9003"/>
                </a:lnTo>
                <a:lnTo>
                  <a:pt x="4138" y="8968"/>
                </a:lnTo>
                <a:lnTo>
                  <a:pt x="4152" y="8933"/>
                </a:lnTo>
                <a:lnTo>
                  <a:pt x="4168" y="8899"/>
                </a:lnTo>
                <a:lnTo>
                  <a:pt x="4184" y="8865"/>
                </a:lnTo>
                <a:lnTo>
                  <a:pt x="4200" y="8831"/>
                </a:lnTo>
                <a:lnTo>
                  <a:pt x="4217" y="8797"/>
                </a:lnTo>
                <a:lnTo>
                  <a:pt x="4235" y="8764"/>
                </a:lnTo>
                <a:lnTo>
                  <a:pt x="4253" y="8731"/>
                </a:lnTo>
                <a:lnTo>
                  <a:pt x="4271" y="8699"/>
                </a:lnTo>
                <a:lnTo>
                  <a:pt x="4291" y="8667"/>
                </a:lnTo>
                <a:lnTo>
                  <a:pt x="4311" y="8634"/>
                </a:lnTo>
                <a:lnTo>
                  <a:pt x="4331" y="8603"/>
                </a:lnTo>
                <a:lnTo>
                  <a:pt x="4352" y="8571"/>
                </a:lnTo>
                <a:lnTo>
                  <a:pt x="4374" y="8540"/>
                </a:lnTo>
                <a:lnTo>
                  <a:pt x="4396" y="8509"/>
                </a:lnTo>
                <a:lnTo>
                  <a:pt x="4418" y="8479"/>
                </a:lnTo>
                <a:lnTo>
                  <a:pt x="4441" y="8449"/>
                </a:lnTo>
                <a:lnTo>
                  <a:pt x="4465" y="8419"/>
                </a:lnTo>
                <a:lnTo>
                  <a:pt x="4489" y="8390"/>
                </a:lnTo>
                <a:lnTo>
                  <a:pt x="4513" y="8362"/>
                </a:lnTo>
                <a:lnTo>
                  <a:pt x="4538" y="8333"/>
                </a:lnTo>
                <a:lnTo>
                  <a:pt x="4564" y="8305"/>
                </a:lnTo>
                <a:lnTo>
                  <a:pt x="4590" y="8277"/>
                </a:lnTo>
                <a:lnTo>
                  <a:pt x="4616" y="8250"/>
                </a:lnTo>
                <a:lnTo>
                  <a:pt x="4643" y="8223"/>
                </a:lnTo>
                <a:lnTo>
                  <a:pt x="4670" y="8197"/>
                </a:lnTo>
                <a:lnTo>
                  <a:pt x="4699" y="8171"/>
                </a:lnTo>
                <a:lnTo>
                  <a:pt x="4727" y="8145"/>
                </a:lnTo>
                <a:lnTo>
                  <a:pt x="4756" y="8120"/>
                </a:lnTo>
                <a:lnTo>
                  <a:pt x="4785" y="8095"/>
                </a:lnTo>
                <a:lnTo>
                  <a:pt x="4816" y="8071"/>
                </a:lnTo>
                <a:lnTo>
                  <a:pt x="4845" y="8047"/>
                </a:lnTo>
                <a:lnTo>
                  <a:pt x="4876" y="8024"/>
                </a:lnTo>
                <a:lnTo>
                  <a:pt x="4907" y="8001"/>
                </a:lnTo>
                <a:lnTo>
                  <a:pt x="4939" y="7978"/>
                </a:lnTo>
                <a:lnTo>
                  <a:pt x="4970" y="7957"/>
                </a:lnTo>
                <a:lnTo>
                  <a:pt x="5002" y="7936"/>
                </a:lnTo>
                <a:lnTo>
                  <a:pt x="5036" y="7915"/>
                </a:lnTo>
                <a:lnTo>
                  <a:pt x="5068" y="7895"/>
                </a:lnTo>
                <a:lnTo>
                  <a:pt x="5103" y="7875"/>
                </a:lnTo>
                <a:lnTo>
                  <a:pt x="5136" y="7855"/>
                </a:lnTo>
                <a:lnTo>
                  <a:pt x="5171" y="7836"/>
                </a:lnTo>
                <a:lnTo>
                  <a:pt x="5205" y="7819"/>
                </a:lnTo>
                <a:lnTo>
                  <a:pt x="5241" y="7801"/>
                </a:lnTo>
                <a:lnTo>
                  <a:pt x="5276" y="7783"/>
                </a:lnTo>
                <a:lnTo>
                  <a:pt x="5312" y="7766"/>
                </a:lnTo>
                <a:lnTo>
                  <a:pt x="5348" y="7751"/>
                </a:lnTo>
                <a:lnTo>
                  <a:pt x="5385" y="7735"/>
                </a:lnTo>
                <a:lnTo>
                  <a:pt x="5421" y="7720"/>
                </a:lnTo>
                <a:lnTo>
                  <a:pt x="5459" y="7706"/>
                </a:lnTo>
                <a:lnTo>
                  <a:pt x="5496" y="7692"/>
                </a:lnTo>
                <a:lnTo>
                  <a:pt x="5554" y="7673"/>
                </a:lnTo>
                <a:lnTo>
                  <a:pt x="5610" y="7657"/>
                </a:lnTo>
                <a:lnTo>
                  <a:pt x="5668" y="7641"/>
                </a:lnTo>
                <a:lnTo>
                  <a:pt x="5724" y="7627"/>
                </a:lnTo>
                <a:lnTo>
                  <a:pt x="5782" y="7615"/>
                </a:lnTo>
                <a:lnTo>
                  <a:pt x="5839" y="7603"/>
                </a:lnTo>
                <a:lnTo>
                  <a:pt x="5896" y="7594"/>
                </a:lnTo>
                <a:lnTo>
                  <a:pt x="5954" y="7586"/>
                </a:lnTo>
                <a:lnTo>
                  <a:pt x="6011" y="7578"/>
                </a:lnTo>
                <a:lnTo>
                  <a:pt x="6069" y="7573"/>
                </a:lnTo>
                <a:lnTo>
                  <a:pt x="6126" y="7568"/>
                </a:lnTo>
                <a:lnTo>
                  <a:pt x="6184" y="7565"/>
                </a:lnTo>
                <a:lnTo>
                  <a:pt x="6241" y="7564"/>
                </a:lnTo>
                <a:lnTo>
                  <a:pt x="6298" y="7563"/>
                </a:lnTo>
                <a:lnTo>
                  <a:pt x="6355" y="7564"/>
                </a:lnTo>
                <a:lnTo>
                  <a:pt x="6412" y="7566"/>
                </a:lnTo>
                <a:lnTo>
                  <a:pt x="6469" y="7569"/>
                </a:lnTo>
                <a:lnTo>
                  <a:pt x="6526" y="7573"/>
                </a:lnTo>
                <a:lnTo>
                  <a:pt x="6582" y="7579"/>
                </a:lnTo>
                <a:lnTo>
                  <a:pt x="6638" y="7587"/>
                </a:lnTo>
                <a:lnTo>
                  <a:pt x="6694" y="7595"/>
                </a:lnTo>
                <a:lnTo>
                  <a:pt x="6750" y="7604"/>
                </a:lnTo>
                <a:lnTo>
                  <a:pt x="6806" y="7615"/>
                </a:lnTo>
                <a:lnTo>
                  <a:pt x="6861" y="7626"/>
                </a:lnTo>
                <a:lnTo>
                  <a:pt x="6916" y="7640"/>
                </a:lnTo>
                <a:lnTo>
                  <a:pt x="6970" y="7655"/>
                </a:lnTo>
                <a:lnTo>
                  <a:pt x="7024" y="7669"/>
                </a:lnTo>
                <a:lnTo>
                  <a:pt x="7079" y="7686"/>
                </a:lnTo>
                <a:lnTo>
                  <a:pt x="7132" y="7704"/>
                </a:lnTo>
                <a:lnTo>
                  <a:pt x="7185" y="7723"/>
                </a:lnTo>
                <a:lnTo>
                  <a:pt x="7237" y="7742"/>
                </a:lnTo>
                <a:lnTo>
                  <a:pt x="7289" y="7763"/>
                </a:lnTo>
                <a:lnTo>
                  <a:pt x="7342" y="7786"/>
                </a:lnTo>
                <a:lnTo>
                  <a:pt x="7393" y="7809"/>
                </a:lnTo>
                <a:lnTo>
                  <a:pt x="7444" y="7833"/>
                </a:lnTo>
                <a:lnTo>
                  <a:pt x="7494" y="7858"/>
                </a:lnTo>
                <a:lnTo>
                  <a:pt x="7543" y="7885"/>
                </a:lnTo>
                <a:lnTo>
                  <a:pt x="7592" y="7913"/>
                </a:lnTo>
                <a:lnTo>
                  <a:pt x="7641" y="7941"/>
                </a:lnTo>
                <a:lnTo>
                  <a:pt x="7689" y="7971"/>
                </a:lnTo>
                <a:lnTo>
                  <a:pt x="7736" y="8001"/>
                </a:lnTo>
                <a:lnTo>
                  <a:pt x="7783" y="8033"/>
                </a:lnTo>
                <a:lnTo>
                  <a:pt x="7829" y="8065"/>
                </a:lnTo>
                <a:lnTo>
                  <a:pt x="7874" y="8098"/>
                </a:lnTo>
                <a:lnTo>
                  <a:pt x="7919" y="8133"/>
                </a:lnTo>
                <a:lnTo>
                  <a:pt x="7963" y="8168"/>
                </a:lnTo>
                <a:lnTo>
                  <a:pt x="8006" y="8205"/>
                </a:lnTo>
                <a:lnTo>
                  <a:pt x="8049" y="8243"/>
                </a:lnTo>
                <a:lnTo>
                  <a:pt x="8090" y="8281"/>
                </a:lnTo>
                <a:lnTo>
                  <a:pt x="8131" y="8320"/>
                </a:lnTo>
                <a:lnTo>
                  <a:pt x="8171" y="8361"/>
                </a:lnTo>
                <a:lnTo>
                  <a:pt x="8211" y="8401"/>
                </a:lnTo>
                <a:lnTo>
                  <a:pt x="8248" y="8443"/>
                </a:lnTo>
                <a:lnTo>
                  <a:pt x="8286" y="8486"/>
                </a:lnTo>
                <a:lnTo>
                  <a:pt x="8322" y="8530"/>
                </a:lnTo>
                <a:lnTo>
                  <a:pt x="8358" y="8574"/>
                </a:lnTo>
                <a:lnTo>
                  <a:pt x="8393" y="8620"/>
                </a:lnTo>
                <a:lnTo>
                  <a:pt x="8427" y="8666"/>
                </a:lnTo>
                <a:lnTo>
                  <a:pt x="8459" y="8713"/>
                </a:lnTo>
                <a:lnTo>
                  <a:pt x="8491" y="8761"/>
                </a:lnTo>
                <a:lnTo>
                  <a:pt x="8522" y="8809"/>
                </a:lnTo>
                <a:lnTo>
                  <a:pt x="8551" y="8858"/>
                </a:lnTo>
                <a:lnTo>
                  <a:pt x="8580" y="8909"/>
                </a:lnTo>
                <a:lnTo>
                  <a:pt x="8607" y="8959"/>
                </a:lnTo>
                <a:lnTo>
                  <a:pt x="8644" y="9035"/>
                </a:lnTo>
                <a:lnTo>
                  <a:pt x="8678" y="9112"/>
                </a:lnTo>
                <a:lnTo>
                  <a:pt x="8711" y="9188"/>
                </a:lnTo>
                <a:lnTo>
                  <a:pt x="8740" y="9264"/>
                </a:lnTo>
                <a:lnTo>
                  <a:pt x="8767" y="9341"/>
                </a:lnTo>
                <a:lnTo>
                  <a:pt x="8792" y="9419"/>
                </a:lnTo>
                <a:lnTo>
                  <a:pt x="8815" y="9496"/>
                </a:lnTo>
                <a:lnTo>
                  <a:pt x="8835" y="9573"/>
                </a:lnTo>
                <a:lnTo>
                  <a:pt x="8854" y="9652"/>
                </a:lnTo>
                <a:lnTo>
                  <a:pt x="8869" y="9729"/>
                </a:lnTo>
                <a:lnTo>
                  <a:pt x="8883" y="9807"/>
                </a:lnTo>
                <a:lnTo>
                  <a:pt x="8895" y="9885"/>
                </a:lnTo>
                <a:lnTo>
                  <a:pt x="8903" y="9964"/>
                </a:lnTo>
                <a:lnTo>
                  <a:pt x="8910" y="10042"/>
                </a:lnTo>
                <a:lnTo>
                  <a:pt x="8915" y="10120"/>
                </a:lnTo>
                <a:lnTo>
                  <a:pt x="8917" y="10199"/>
                </a:lnTo>
                <a:lnTo>
                  <a:pt x="8917" y="10277"/>
                </a:lnTo>
                <a:lnTo>
                  <a:pt x="8916" y="10356"/>
                </a:lnTo>
                <a:lnTo>
                  <a:pt x="8912" y="10435"/>
                </a:lnTo>
                <a:lnTo>
                  <a:pt x="8906" y="10513"/>
                </a:lnTo>
                <a:lnTo>
                  <a:pt x="8898" y="10591"/>
                </a:lnTo>
                <a:lnTo>
                  <a:pt x="8887" y="10670"/>
                </a:lnTo>
                <a:lnTo>
                  <a:pt x="8875" y="10748"/>
                </a:lnTo>
                <a:lnTo>
                  <a:pt x="8860" y="10826"/>
                </a:lnTo>
                <a:lnTo>
                  <a:pt x="8843" y="10904"/>
                </a:lnTo>
                <a:lnTo>
                  <a:pt x="8825" y="10982"/>
                </a:lnTo>
                <a:lnTo>
                  <a:pt x="8804" y="11059"/>
                </a:lnTo>
                <a:lnTo>
                  <a:pt x="8781" y="11137"/>
                </a:lnTo>
                <a:lnTo>
                  <a:pt x="8756" y="11214"/>
                </a:lnTo>
                <a:lnTo>
                  <a:pt x="8728" y="11291"/>
                </a:lnTo>
                <a:lnTo>
                  <a:pt x="8699" y="11367"/>
                </a:lnTo>
                <a:lnTo>
                  <a:pt x="8669" y="11444"/>
                </a:lnTo>
                <a:lnTo>
                  <a:pt x="8737" y="11437"/>
                </a:lnTo>
                <a:lnTo>
                  <a:pt x="8806" y="11428"/>
                </a:lnTo>
                <a:lnTo>
                  <a:pt x="8874" y="11417"/>
                </a:lnTo>
                <a:lnTo>
                  <a:pt x="8943" y="11403"/>
                </a:lnTo>
                <a:lnTo>
                  <a:pt x="9010" y="11388"/>
                </a:lnTo>
                <a:lnTo>
                  <a:pt x="9079" y="11371"/>
                </a:lnTo>
                <a:lnTo>
                  <a:pt x="9147" y="11352"/>
                </a:lnTo>
                <a:lnTo>
                  <a:pt x="9215" y="11331"/>
                </a:lnTo>
                <a:lnTo>
                  <a:pt x="9283" y="11308"/>
                </a:lnTo>
                <a:lnTo>
                  <a:pt x="9351" y="11285"/>
                </a:lnTo>
                <a:lnTo>
                  <a:pt x="9417" y="11260"/>
                </a:lnTo>
                <a:lnTo>
                  <a:pt x="9482" y="11234"/>
                </a:lnTo>
                <a:lnTo>
                  <a:pt x="9548" y="11206"/>
                </a:lnTo>
                <a:lnTo>
                  <a:pt x="9613" y="11177"/>
                </a:lnTo>
                <a:lnTo>
                  <a:pt x="9677" y="11148"/>
                </a:lnTo>
                <a:lnTo>
                  <a:pt x="9739" y="11117"/>
                </a:lnTo>
                <a:lnTo>
                  <a:pt x="9802" y="11085"/>
                </a:lnTo>
                <a:lnTo>
                  <a:pt x="9864" y="11052"/>
                </a:lnTo>
                <a:lnTo>
                  <a:pt x="9925" y="11018"/>
                </a:lnTo>
                <a:lnTo>
                  <a:pt x="9985" y="10982"/>
                </a:lnTo>
                <a:lnTo>
                  <a:pt x="10044" y="10946"/>
                </a:lnTo>
                <a:lnTo>
                  <a:pt x="10103" y="10909"/>
                </a:lnTo>
                <a:lnTo>
                  <a:pt x="10161" y="10870"/>
                </a:lnTo>
                <a:lnTo>
                  <a:pt x="10219" y="10831"/>
                </a:lnTo>
                <a:lnTo>
                  <a:pt x="10274" y="10790"/>
                </a:lnTo>
                <a:lnTo>
                  <a:pt x="10330" y="10748"/>
                </a:lnTo>
                <a:lnTo>
                  <a:pt x="10385" y="10705"/>
                </a:lnTo>
                <a:lnTo>
                  <a:pt x="10438" y="10663"/>
                </a:lnTo>
                <a:lnTo>
                  <a:pt x="10491" y="10618"/>
                </a:lnTo>
                <a:lnTo>
                  <a:pt x="10542" y="10572"/>
                </a:lnTo>
                <a:lnTo>
                  <a:pt x="10594" y="10526"/>
                </a:lnTo>
                <a:lnTo>
                  <a:pt x="10644" y="10479"/>
                </a:lnTo>
                <a:lnTo>
                  <a:pt x="10693" y="10430"/>
                </a:lnTo>
                <a:lnTo>
                  <a:pt x="10741" y="10381"/>
                </a:lnTo>
                <a:lnTo>
                  <a:pt x="10788" y="10330"/>
                </a:lnTo>
                <a:lnTo>
                  <a:pt x="10835" y="10280"/>
                </a:lnTo>
                <a:lnTo>
                  <a:pt x="10880" y="10228"/>
                </a:lnTo>
                <a:lnTo>
                  <a:pt x="10924" y="10176"/>
                </a:lnTo>
                <a:lnTo>
                  <a:pt x="10966" y="10121"/>
                </a:lnTo>
                <a:lnTo>
                  <a:pt x="11009" y="10067"/>
                </a:lnTo>
                <a:lnTo>
                  <a:pt x="11050" y="10013"/>
                </a:lnTo>
                <a:lnTo>
                  <a:pt x="11090" y="9956"/>
                </a:lnTo>
                <a:lnTo>
                  <a:pt x="11128" y="9900"/>
                </a:lnTo>
                <a:lnTo>
                  <a:pt x="11166" y="9843"/>
                </a:lnTo>
                <a:lnTo>
                  <a:pt x="11203" y="9784"/>
                </a:lnTo>
                <a:lnTo>
                  <a:pt x="11238" y="9726"/>
                </a:lnTo>
                <a:lnTo>
                  <a:pt x="11272" y="9666"/>
                </a:lnTo>
                <a:lnTo>
                  <a:pt x="11306" y="9606"/>
                </a:lnTo>
                <a:lnTo>
                  <a:pt x="11338" y="9545"/>
                </a:lnTo>
                <a:lnTo>
                  <a:pt x="11368" y="9483"/>
                </a:lnTo>
                <a:lnTo>
                  <a:pt x="11398" y="9421"/>
                </a:lnTo>
                <a:lnTo>
                  <a:pt x="11427" y="9358"/>
                </a:lnTo>
                <a:lnTo>
                  <a:pt x="11454" y="9294"/>
                </a:lnTo>
                <a:lnTo>
                  <a:pt x="11479" y="9231"/>
                </a:lnTo>
                <a:lnTo>
                  <a:pt x="11504" y="9166"/>
                </a:lnTo>
                <a:lnTo>
                  <a:pt x="11527" y="9100"/>
                </a:lnTo>
                <a:lnTo>
                  <a:pt x="11549" y="9034"/>
                </a:lnTo>
                <a:lnTo>
                  <a:pt x="11570" y="8967"/>
                </a:lnTo>
                <a:lnTo>
                  <a:pt x="11590" y="8901"/>
                </a:lnTo>
                <a:lnTo>
                  <a:pt x="11608" y="8834"/>
                </a:lnTo>
                <a:lnTo>
                  <a:pt x="11624" y="8765"/>
                </a:lnTo>
                <a:lnTo>
                  <a:pt x="11639" y="8697"/>
                </a:lnTo>
                <a:lnTo>
                  <a:pt x="11653" y="8628"/>
                </a:lnTo>
                <a:lnTo>
                  <a:pt x="11666" y="8558"/>
                </a:lnTo>
                <a:lnTo>
                  <a:pt x="11676" y="8488"/>
                </a:lnTo>
                <a:lnTo>
                  <a:pt x="11687" y="8418"/>
                </a:lnTo>
                <a:lnTo>
                  <a:pt x="11694" y="8347"/>
                </a:lnTo>
                <a:lnTo>
                  <a:pt x="11702" y="8275"/>
                </a:lnTo>
                <a:lnTo>
                  <a:pt x="11707" y="8204"/>
                </a:lnTo>
                <a:lnTo>
                  <a:pt x="11711" y="8132"/>
                </a:lnTo>
                <a:lnTo>
                  <a:pt x="11713" y="8059"/>
                </a:lnTo>
                <a:lnTo>
                  <a:pt x="11713" y="7987"/>
                </a:lnTo>
                <a:lnTo>
                  <a:pt x="11712" y="7899"/>
                </a:lnTo>
                <a:lnTo>
                  <a:pt x="11709" y="7812"/>
                </a:lnTo>
                <a:lnTo>
                  <a:pt x="11704" y="7726"/>
                </a:lnTo>
                <a:lnTo>
                  <a:pt x="11696" y="7640"/>
                </a:lnTo>
                <a:lnTo>
                  <a:pt x="11686" y="7554"/>
                </a:lnTo>
                <a:lnTo>
                  <a:pt x="11674" y="7470"/>
                </a:lnTo>
                <a:lnTo>
                  <a:pt x="11661" y="7385"/>
                </a:lnTo>
                <a:lnTo>
                  <a:pt x="11644" y="7302"/>
                </a:lnTo>
                <a:lnTo>
                  <a:pt x="11626" y="7219"/>
                </a:lnTo>
                <a:lnTo>
                  <a:pt x="11606" y="7138"/>
                </a:lnTo>
                <a:lnTo>
                  <a:pt x="11585" y="7056"/>
                </a:lnTo>
                <a:lnTo>
                  <a:pt x="11561" y="6976"/>
                </a:lnTo>
                <a:lnTo>
                  <a:pt x="11534" y="6896"/>
                </a:lnTo>
                <a:lnTo>
                  <a:pt x="11507" y="6817"/>
                </a:lnTo>
                <a:lnTo>
                  <a:pt x="11478" y="6740"/>
                </a:lnTo>
                <a:lnTo>
                  <a:pt x="11447" y="6662"/>
                </a:lnTo>
                <a:lnTo>
                  <a:pt x="11413" y="6586"/>
                </a:lnTo>
                <a:lnTo>
                  <a:pt x="11378" y="6511"/>
                </a:lnTo>
                <a:lnTo>
                  <a:pt x="11341" y="6437"/>
                </a:lnTo>
                <a:lnTo>
                  <a:pt x="11303" y="6364"/>
                </a:lnTo>
                <a:lnTo>
                  <a:pt x="11263" y="6291"/>
                </a:lnTo>
                <a:lnTo>
                  <a:pt x="11221" y="6220"/>
                </a:lnTo>
                <a:lnTo>
                  <a:pt x="11177" y="6150"/>
                </a:lnTo>
                <a:lnTo>
                  <a:pt x="11132" y="6081"/>
                </a:lnTo>
                <a:lnTo>
                  <a:pt x="11085" y="6012"/>
                </a:lnTo>
                <a:lnTo>
                  <a:pt x="11037" y="5945"/>
                </a:lnTo>
                <a:lnTo>
                  <a:pt x="10987" y="5879"/>
                </a:lnTo>
                <a:lnTo>
                  <a:pt x="10936" y="5814"/>
                </a:lnTo>
                <a:lnTo>
                  <a:pt x="10883" y="5751"/>
                </a:lnTo>
                <a:lnTo>
                  <a:pt x="10828" y="5689"/>
                </a:lnTo>
                <a:lnTo>
                  <a:pt x="10772" y="5627"/>
                </a:lnTo>
                <a:lnTo>
                  <a:pt x="10716" y="5568"/>
                </a:lnTo>
                <a:close/>
              </a:path>
            </a:pathLst>
          </a:custGeom>
          <a:solidFill>
            <a:srgbClr val="0072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46800" bIns="46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MH_SubTitle_1"/>
          <p:cNvSpPr/>
          <p:nvPr/>
        </p:nvSpPr>
        <p:spPr>
          <a:xfrm>
            <a:off x="6072120" y="1542960"/>
            <a:ext cx="2608200" cy="281484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814840"/>
              <a:gd name="textAreaBottom" fmla="*/ 2815200 h 2814840"/>
            </a:gdLst>
            <a:ahLst/>
            <a:rect l="textAreaLeft" t="textAreaTop" r="textAreaRight" b="textAreaBottom"/>
            <a:pathLst>
              <a:path w="11713" h="12650">
                <a:moveTo>
                  <a:pt x="10716" y="5568"/>
                </a:moveTo>
                <a:lnTo>
                  <a:pt x="10716" y="5568"/>
                </a:lnTo>
                <a:lnTo>
                  <a:pt x="10759" y="5528"/>
                </a:lnTo>
                <a:lnTo>
                  <a:pt x="10801" y="5487"/>
                </a:lnTo>
                <a:lnTo>
                  <a:pt x="10843" y="5446"/>
                </a:lnTo>
                <a:lnTo>
                  <a:pt x="10884" y="5402"/>
                </a:lnTo>
                <a:lnTo>
                  <a:pt x="10924" y="5358"/>
                </a:lnTo>
                <a:lnTo>
                  <a:pt x="10962" y="5314"/>
                </a:lnTo>
                <a:lnTo>
                  <a:pt x="10999" y="5268"/>
                </a:lnTo>
                <a:lnTo>
                  <a:pt x="11035" y="5221"/>
                </a:lnTo>
                <a:lnTo>
                  <a:pt x="11070" y="5173"/>
                </a:lnTo>
                <a:lnTo>
                  <a:pt x="11103" y="5125"/>
                </a:lnTo>
                <a:lnTo>
                  <a:pt x="11136" y="5076"/>
                </a:lnTo>
                <a:lnTo>
                  <a:pt x="11167" y="5026"/>
                </a:lnTo>
                <a:lnTo>
                  <a:pt x="11196" y="4975"/>
                </a:lnTo>
                <a:lnTo>
                  <a:pt x="11224" y="4922"/>
                </a:lnTo>
                <a:lnTo>
                  <a:pt x="11251" y="4870"/>
                </a:lnTo>
                <a:lnTo>
                  <a:pt x="11278" y="4817"/>
                </a:lnTo>
                <a:lnTo>
                  <a:pt x="11302" y="4763"/>
                </a:lnTo>
                <a:lnTo>
                  <a:pt x="11325" y="4708"/>
                </a:lnTo>
                <a:lnTo>
                  <a:pt x="11346" y="4653"/>
                </a:lnTo>
                <a:lnTo>
                  <a:pt x="11366" y="4597"/>
                </a:lnTo>
                <a:lnTo>
                  <a:pt x="11385" y="4540"/>
                </a:lnTo>
                <a:lnTo>
                  <a:pt x="11402" y="4483"/>
                </a:lnTo>
                <a:lnTo>
                  <a:pt x="11417" y="4425"/>
                </a:lnTo>
                <a:lnTo>
                  <a:pt x="11431" y="4366"/>
                </a:lnTo>
                <a:lnTo>
                  <a:pt x="11444" y="4307"/>
                </a:lnTo>
                <a:lnTo>
                  <a:pt x="11454" y="4248"/>
                </a:lnTo>
                <a:lnTo>
                  <a:pt x="11463" y="4187"/>
                </a:lnTo>
                <a:lnTo>
                  <a:pt x="11471" y="4127"/>
                </a:lnTo>
                <a:lnTo>
                  <a:pt x="11477" y="4066"/>
                </a:lnTo>
                <a:lnTo>
                  <a:pt x="11481" y="4004"/>
                </a:lnTo>
                <a:lnTo>
                  <a:pt x="11484" y="3942"/>
                </a:lnTo>
                <a:lnTo>
                  <a:pt x="11484" y="3879"/>
                </a:lnTo>
                <a:lnTo>
                  <a:pt x="11484" y="3821"/>
                </a:lnTo>
                <a:lnTo>
                  <a:pt x="11482" y="3761"/>
                </a:lnTo>
                <a:lnTo>
                  <a:pt x="11478" y="3704"/>
                </a:lnTo>
                <a:lnTo>
                  <a:pt x="11473" y="3645"/>
                </a:lnTo>
                <a:lnTo>
                  <a:pt x="11466" y="3588"/>
                </a:lnTo>
                <a:lnTo>
                  <a:pt x="11457" y="3530"/>
                </a:lnTo>
                <a:lnTo>
                  <a:pt x="11448" y="3474"/>
                </a:lnTo>
                <a:lnTo>
                  <a:pt x="11436" y="3417"/>
                </a:lnTo>
                <a:lnTo>
                  <a:pt x="11424" y="3362"/>
                </a:lnTo>
                <a:lnTo>
                  <a:pt x="11410" y="3307"/>
                </a:lnTo>
                <a:lnTo>
                  <a:pt x="11394" y="3252"/>
                </a:lnTo>
                <a:lnTo>
                  <a:pt x="11378" y="3198"/>
                </a:lnTo>
                <a:lnTo>
                  <a:pt x="11360" y="3145"/>
                </a:lnTo>
                <a:lnTo>
                  <a:pt x="11340" y="3092"/>
                </a:lnTo>
                <a:lnTo>
                  <a:pt x="11320" y="3039"/>
                </a:lnTo>
                <a:lnTo>
                  <a:pt x="11298" y="2987"/>
                </a:lnTo>
                <a:lnTo>
                  <a:pt x="11275" y="2936"/>
                </a:lnTo>
                <a:lnTo>
                  <a:pt x="11250" y="2886"/>
                </a:lnTo>
                <a:lnTo>
                  <a:pt x="11225" y="2836"/>
                </a:lnTo>
                <a:lnTo>
                  <a:pt x="11198" y="2788"/>
                </a:lnTo>
                <a:lnTo>
                  <a:pt x="11170" y="2739"/>
                </a:lnTo>
                <a:lnTo>
                  <a:pt x="11141" y="2692"/>
                </a:lnTo>
                <a:lnTo>
                  <a:pt x="11110" y="2645"/>
                </a:lnTo>
                <a:lnTo>
                  <a:pt x="11079" y="2599"/>
                </a:lnTo>
                <a:lnTo>
                  <a:pt x="11047" y="2553"/>
                </a:lnTo>
                <a:lnTo>
                  <a:pt x="11013" y="2509"/>
                </a:lnTo>
                <a:lnTo>
                  <a:pt x="10978" y="2465"/>
                </a:lnTo>
                <a:lnTo>
                  <a:pt x="10942" y="2422"/>
                </a:lnTo>
                <a:lnTo>
                  <a:pt x="10906" y="2379"/>
                </a:lnTo>
                <a:lnTo>
                  <a:pt x="10868" y="2339"/>
                </a:lnTo>
                <a:lnTo>
                  <a:pt x="10828" y="2299"/>
                </a:lnTo>
                <a:lnTo>
                  <a:pt x="10789" y="2259"/>
                </a:lnTo>
                <a:lnTo>
                  <a:pt x="10748" y="2221"/>
                </a:lnTo>
                <a:lnTo>
                  <a:pt x="10706" y="2183"/>
                </a:lnTo>
                <a:lnTo>
                  <a:pt x="10664" y="2146"/>
                </a:lnTo>
                <a:lnTo>
                  <a:pt x="10621" y="2111"/>
                </a:lnTo>
                <a:lnTo>
                  <a:pt x="10576" y="2076"/>
                </a:lnTo>
                <a:lnTo>
                  <a:pt x="10531" y="2043"/>
                </a:lnTo>
                <a:lnTo>
                  <a:pt x="10485" y="2011"/>
                </a:lnTo>
                <a:lnTo>
                  <a:pt x="10438" y="1979"/>
                </a:lnTo>
                <a:lnTo>
                  <a:pt x="10390" y="1949"/>
                </a:lnTo>
                <a:lnTo>
                  <a:pt x="10341" y="1920"/>
                </a:lnTo>
                <a:lnTo>
                  <a:pt x="10292" y="1892"/>
                </a:lnTo>
                <a:lnTo>
                  <a:pt x="10242" y="1864"/>
                </a:lnTo>
                <a:lnTo>
                  <a:pt x="10190" y="1838"/>
                </a:lnTo>
                <a:lnTo>
                  <a:pt x="10139" y="1814"/>
                </a:lnTo>
                <a:lnTo>
                  <a:pt x="10087" y="1790"/>
                </a:lnTo>
                <a:lnTo>
                  <a:pt x="10034" y="1768"/>
                </a:lnTo>
                <a:lnTo>
                  <a:pt x="9981" y="1746"/>
                </a:lnTo>
                <a:lnTo>
                  <a:pt x="9926" y="1727"/>
                </a:lnTo>
                <a:lnTo>
                  <a:pt x="9871" y="1709"/>
                </a:lnTo>
                <a:lnTo>
                  <a:pt x="9816" y="1691"/>
                </a:lnTo>
                <a:lnTo>
                  <a:pt x="9759" y="1674"/>
                </a:lnTo>
                <a:lnTo>
                  <a:pt x="9703" y="1660"/>
                </a:lnTo>
                <a:lnTo>
                  <a:pt x="9645" y="1646"/>
                </a:lnTo>
                <a:lnTo>
                  <a:pt x="9588" y="1635"/>
                </a:lnTo>
                <a:lnTo>
                  <a:pt x="9529" y="1624"/>
                </a:lnTo>
                <a:lnTo>
                  <a:pt x="9471" y="1615"/>
                </a:lnTo>
                <a:lnTo>
                  <a:pt x="9411" y="1606"/>
                </a:lnTo>
                <a:lnTo>
                  <a:pt x="9352" y="1600"/>
                </a:lnTo>
                <a:lnTo>
                  <a:pt x="9292" y="1595"/>
                </a:lnTo>
                <a:lnTo>
                  <a:pt x="9232" y="1591"/>
                </a:lnTo>
                <a:lnTo>
                  <a:pt x="9170" y="1589"/>
                </a:lnTo>
                <a:lnTo>
                  <a:pt x="9110" y="1588"/>
                </a:lnTo>
                <a:lnTo>
                  <a:pt x="9044" y="1589"/>
                </a:lnTo>
                <a:lnTo>
                  <a:pt x="8979" y="1592"/>
                </a:lnTo>
                <a:lnTo>
                  <a:pt x="8915" y="1596"/>
                </a:lnTo>
                <a:lnTo>
                  <a:pt x="8852" y="1601"/>
                </a:lnTo>
                <a:lnTo>
                  <a:pt x="8788" y="1609"/>
                </a:lnTo>
                <a:lnTo>
                  <a:pt x="8725" y="1618"/>
                </a:lnTo>
                <a:lnTo>
                  <a:pt x="8664" y="1628"/>
                </a:lnTo>
                <a:lnTo>
                  <a:pt x="8602" y="1641"/>
                </a:lnTo>
                <a:lnTo>
                  <a:pt x="8570" y="1595"/>
                </a:lnTo>
                <a:lnTo>
                  <a:pt x="8537" y="1549"/>
                </a:lnTo>
                <a:lnTo>
                  <a:pt x="8505" y="1504"/>
                </a:lnTo>
                <a:lnTo>
                  <a:pt x="8471" y="1460"/>
                </a:lnTo>
                <a:lnTo>
                  <a:pt x="8437" y="1415"/>
                </a:lnTo>
                <a:lnTo>
                  <a:pt x="8402" y="1373"/>
                </a:lnTo>
                <a:lnTo>
                  <a:pt x="8366" y="1330"/>
                </a:lnTo>
                <a:lnTo>
                  <a:pt x="8330" y="1287"/>
                </a:lnTo>
                <a:lnTo>
                  <a:pt x="8292" y="1245"/>
                </a:lnTo>
                <a:lnTo>
                  <a:pt x="8254" y="1203"/>
                </a:lnTo>
                <a:lnTo>
                  <a:pt x="8217" y="1163"/>
                </a:lnTo>
                <a:lnTo>
                  <a:pt x="8177" y="1123"/>
                </a:lnTo>
                <a:lnTo>
                  <a:pt x="8137" y="1083"/>
                </a:lnTo>
                <a:lnTo>
                  <a:pt x="8098" y="1045"/>
                </a:lnTo>
                <a:lnTo>
                  <a:pt x="8057" y="1006"/>
                </a:lnTo>
                <a:lnTo>
                  <a:pt x="8015" y="968"/>
                </a:lnTo>
                <a:lnTo>
                  <a:pt x="7973" y="931"/>
                </a:lnTo>
                <a:lnTo>
                  <a:pt x="7931" y="894"/>
                </a:lnTo>
                <a:lnTo>
                  <a:pt x="7888" y="859"/>
                </a:lnTo>
                <a:lnTo>
                  <a:pt x="7844" y="823"/>
                </a:lnTo>
                <a:lnTo>
                  <a:pt x="7799" y="788"/>
                </a:lnTo>
                <a:lnTo>
                  <a:pt x="7754" y="754"/>
                </a:lnTo>
                <a:lnTo>
                  <a:pt x="7709" y="721"/>
                </a:lnTo>
                <a:lnTo>
                  <a:pt x="7663" y="687"/>
                </a:lnTo>
                <a:lnTo>
                  <a:pt x="7616" y="656"/>
                </a:lnTo>
                <a:lnTo>
                  <a:pt x="7569" y="625"/>
                </a:lnTo>
                <a:lnTo>
                  <a:pt x="7522" y="593"/>
                </a:lnTo>
                <a:lnTo>
                  <a:pt x="7474" y="563"/>
                </a:lnTo>
                <a:lnTo>
                  <a:pt x="7425" y="534"/>
                </a:lnTo>
                <a:lnTo>
                  <a:pt x="7376" y="506"/>
                </a:lnTo>
                <a:lnTo>
                  <a:pt x="7327" y="477"/>
                </a:lnTo>
                <a:lnTo>
                  <a:pt x="7277" y="450"/>
                </a:lnTo>
                <a:lnTo>
                  <a:pt x="7227" y="424"/>
                </a:lnTo>
                <a:lnTo>
                  <a:pt x="7176" y="398"/>
                </a:lnTo>
                <a:lnTo>
                  <a:pt x="7124" y="373"/>
                </a:lnTo>
                <a:lnTo>
                  <a:pt x="7072" y="349"/>
                </a:lnTo>
                <a:lnTo>
                  <a:pt x="7020" y="325"/>
                </a:lnTo>
                <a:lnTo>
                  <a:pt x="6968" y="302"/>
                </a:lnTo>
                <a:lnTo>
                  <a:pt x="6915" y="280"/>
                </a:lnTo>
                <a:lnTo>
                  <a:pt x="6860" y="259"/>
                </a:lnTo>
                <a:lnTo>
                  <a:pt x="6807" y="238"/>
                </a:lnTo>
                <a:lnTo>
                  <a:pt x="6753" y="218"/>
                </a:lnTo>
                <a:lnTo>
                  <a:pt x="6697" y="200"/>
                </a:lnTo>
                <a:lnTo>
                  <a:pt x="6642" y="182"/>
                </a:lnTo>
                <a:lnTo>
                  <a:pt x="6587" y="164"/>
                </a:lnTo>
                <a:lnTo>
                  <a:pt x="6531" y="148"/>
                </a:lnTo>
                <a:lnTo>
                  <a:pt x="6475" y="133"/>
                </a:lnTo>
                <a:lnTo>
                  <a:pt x="6417" y="117"/>
                </a:lnTo>
                <a:lnTo>
                  <a:pt x="6361" y="104"/>
                </a:lnTo>
                <a:lnTo>
                  <a:pt x="6304" y="91"/>
                </a:lnTo>
                <a:lnTo>
                  <a:pt x="6246" y="79"/>
                </a:lnTo>
                <a:lnTo>
                  <a:pt x="6188" y="67"/>
                </a:lnTo>
                <a:lnTo>
                  <a:pt x="6129" y="57"/>
                </a:lnTo>
                <a:lnTo>
                  <a:pt x="6071" y="47"/>
                </a:lnTo>
                <a:lnTo>
                  <a:pt x="6011" y="38"/>
                </a:lnTo>
                <a:lnTo>
                  <a:pt x="5953" y="30"/>
                </a:lnTo>
                <a:lnTo>
                  <a:pt x="5893" y="23"/>
                </a:lnTo>
                <a:lnTo>
                  <a:pt x="5833" y="17"/>
                </a:lnTo>
                <a:lnTo>
                  <a:pt x="5773" y="12"/>
                </a:lnTo>
                <a:lnTo>
                  <a:pt x="5713" y="7"/>
                </a:lnTo>
                <a:lnTo>
                  <a:pt x="5652" y="4"/>
                </a:lnTo>
                <a:lnTo>
                  <a:pt x="5590" y="2"/>
                </a:lnTo>
                <a:lnTo>
                  <a:pt x="5530" y="0"/>
                </a:lnTo>
                <a:lnTo>
                  <a:pt x="5468" y="0"/>
                </a:lnTo>
                <a:lnTo>
                  <a:pt x="5372" y="1"/>
                </a:lnTo>
                <a:lnTo>
                  <a:pt x="5276" y="4"/>
                </a:lnTo>
                <a:lnTo>
                  <a:pt x="5181" y="11"/>
                </a:lnTo>
                <a:lnTo>
                  <a:pt x="5086" y="19"/>
                </a:lnTo>
                <a:lnTo>
                  <a:pt x="4992" y="29"/>
                </a:lnTo>
                <a:lnTo>
                  <a:pt x="4899" y="42"/>
                </a:lnTo>
                <a:lnTo>
                  <a:pt x="4806" y="57"/>
                </a:lnTo>
                <a:lnTo>
                  <a:pt x="4715" y="73"/>
                </a:lnTo>
                <a:lnTo>
                  <a:pt x="4624" y="92"/>
                </a:lnTo>
                <a:lnTo>
                  <a:pt x="4534" y="114"/>
                </a:lnTo>
                <a:lnTo>
                  <a:pt x="4445" y="137"/>
                </a:lnTo>
                <a:lnTo>
                  <a:pt x="4357" y="162"/>
                </a:lnTo>
                <a:lnTo>
                  <a:pt x="4269" y="189"/>
                </a:lnTo>
                <a:lnTo>
                  <a:pt x="4183" y="218"/>
                </a:lnTo>
                <a:lnTo>
                  <a:pt x="4097" y="250"/>
                </a:lnTo>
                <a:lnTo>
                  <a:pt x="4014" y="283"/>
                </a:lnTo>
                <a:lnTo>
                  <a:pt x="3930" y="319"/>
                </a:lnTo>
                <a:lnTo>
                  <a:pt x="3848" y="355"/>
                </a:lnTo>
                <a:lnTo>
                  <a:pt x="3766" y="395"/>
                </a:lnTo>
                <a:lnTo>
                  <a:pt x="3687" y="436"/>
                </a:lnTo>
                <a:lnTo>
                  <a:pt x="3607" y="477"/>
                </a:lnTo>
                <a:lnTo>
                  <a:pt x="3530" y="522"/>
                </a:lnTo>
                <a:lnTo>
                  <a:pt x="3454" y="568"/>
                </a:lnTo>
                <a:lnTo>
                  <a:pt x="3379" y="616"/>
                </a:lnTo>
                <a:lnTo>
                  <a:pt x="3304" y="665"/>
                </a:lnTo>
                <a:lnTo>
                  <a:pt x="3231" y="717"/>
                </a:lnTo>
                <a:lnTo>
                  <a:pt x="3160" y="769"/>
                </a:lnTo>
                <a:lnTo>
                  <a:pt x="3090" y="823"/>
                </a:lnTo>
                <a:lnTo>
                  <a:pt x="3022" y="880"/>
                </a:lnTo>
                <a:lnTo>
                  <a:pt x="2955" y="937"/>
                </a:lnTo>
                <a:lnTo>
                  <a:pt x="2889" y="996"/>
                </a:lnTo>
                <a:lnTo>
                  <a:pt x="2825" y="1056"/>
                </a:lnTo>
                <a:lnTo>
                  <a:pt x="2763" y="1119"/>
                </a:lnTo>
                <a:lnTo>
                  <a:pt x="2701" y="1181"/>
                </a:lnTo>
                <a:lnTo>
                  <a:pt x="2641" y="1246"/>
                </a:lnTo>
                <a:lnTo>
                  <a:pt x="2584" y="1313"/>
                </a:lnTo>
                <a:lnTo>
                  <a:pt x="2528" y="1380"/>
                </a:lnTo>
                <a:lnTo>
                  <a:pt x="2473" y="1449"/>
                </a:lnTo>
                <a:lnTo>
                  <a:pt x="2420" y="1519"/>
                </a:lnTo>
                <a:lnTo>
                  <a:pt x="2369" y="1590"/>
                </a:lnTo>
                <a:lnTo>
                  <a:pt x="2319" y="1663"/>
                </a:lnTo>
                <a:lnTo>
                  <a:pt x="2272" y="1737"/>
                </a:lnTo>
                <a:lnTo>
                  <a:pt x="2226" y="1811"/>
                </a:lnTo>
                <a:lnTo>
                  <a:pt x="2181" y="1887"/>
                </a:lnTo>
                <a:lnTo>
                  <a:pt x="2139" y="1965"/>
                </a:lnTo>
                <a:lnTo>
                  <a:pt x="2098" y="2043"/>
                </a:lnTo>
                <a:lnTo>
                  <a:pt x="2061" y="2122"/>
                </a:lnTo>
                <a:lnTo>
                  <a:pt x="2024" y="2203"/>
                </a:lnTo>
                <a:lnTo>
                  <a:pt x="1990" y="2284"/>
                </a:lnTo>
                <a:lnTo>
                  <a:pt x="1957" y="2367"/>
                </a:lnTo>
                <a:lnTo>
                  <a:pt x="1926" y="2450"/>
                </a:lnTo>
                <a:lnTo>
                  <a:pt x="1898" y="2534"/>
                </a:lnTo>
                <a:lnTo>
                  <a:pt x="1872" y="2620"/>
                </a:lnTo>
                <a:lnTo>
                  <a:pt x="1848" y="2705"/>
                </a:lnTo>
                <a:lnTo>
                  <a:pt x="1826" y="2792"/>
                </a:lnTo>
                <a:lnTo>
                  <a:pt x="1806" y="2880"/>
                </a:lnTo>
                <a:lnTo>
                  <a:pt x="1788" y="2968"/>
                </a:lnTo>
                <a:lnTo>
                  <a:pt x="1774" y="3057"/>
                </a:lnTo>
                <a:lnTo>
                  <a:pt x="1760" y="3147"/>
                </a:lnTo>
                <a:lnTo>
                  <a:pt x="1750" y="3238"/>
                </a:lnTo>
                <a:lnTo>
                  <a:pt x="1741" y="3330"/>
                </a:lnTo>
                <a:lnTo>
                  <a:pt x="1735" y="3422"/>
                </a:lnTo>
                <a:lnTo>
                  <a:pt x="1732" y="3514"/>
                </a:lnTo>
                <a:lnTo>
                  <a:pt x="1730" y="3607"/>
                </a:lnTo>
                <a:lnTo>
                  <a:pt x="1731" y="3681"/>
                </a:lnTo>
                <a:lnTo>
                  <a:pt x="1733" y="3755"/>
                </a:lnTo>
                <a:lnTo>
                  <a:pt x="1737" y="3828"/>
                </a:lnTo>
                <a:lnTo>
                  <a:pt x="1742" y="3901"/>
                </a:lnTo>
                <a:lnTo>
                  <a:pt x="1750" y="3973"/>
                </a:lnTo>
                <a:lnTo>
                  <a:pt x="1758" y="4045"/>
                </a:lnTo>
                <a:lnTo>
                  <a:pt x="1768" y="4117"/>
                </a:lnTo>
                <a:lnTo>
                  <a:pt x="1779" y="4188"/>
                </a:lnTo>
                <a:lnTo>
                  <a:pt x="1730" y="4217"/>
                </a:lnTo>
                <a:lnTo>
                  <a:pt x="1681" y="4248"/>
                </a:lnTo>
                <a:lnTo>
                  <a:pt x="1632" y="4278"/>
                </a:lnTo>
                <a:lnTo>
                  <a:pt x="1584" y="4309"/>
                </a:lnTo>
                <a:lnTo>
                  <a:pt x="1537" y="4342"/>
                </a:lnTo>
                <a:lnTo>
                  <a:pt x="1490" y="4374"/>
                </a:lnTo>
                <a:lnTo>
                  <a:pt x="1443" y="4409"/>
                </a:lnTo>
                <a:lnTo>
                  <a:pt x="1397" y="4442"/>
                </a:lnTo>
                <a:lnTo>
                  <a:pt x="1352" y="4478"/>
                </a:lnTo>
                <a:lnTo>
                  <a:pt x="1307" y="4513"/>
                </a:lnTo>
                <a:lnTo>
                  <a:pt x="1263" y="4549"/>
                </a:lnTo>
                <a:lnTo>
                  <a:pt x="1219" y="4586"/>
                </a:lnTo>
                <a:lnTo>
                  <a:pt x="1176" y="4624"/>
                </a:lnTo>
                <a:lnTo>
                  <a:pt x="1134" y="4661"/>
                </a:lnTo>
                <a:lnTo>
                  <a:pt x="1093" y="4700"/>
                </a:lnTo>
                <a:lnTo>
                  <a:pt x="1052" y="4740"/>
                </a:lnTo>
                <a:lnTo>
                  <a:pt x="1011" y="4780"/>
                </a:lnTo>
                <a:lnTo>
                  <a:pt x="972" y="4821"/>
                </a:lnTo>
                <a:lnTo>
                  <a:pt x="933" y="4862"/>
                </a:lnTo>
                <a:lnTo>
                  <a:pt x="894" y="4904"/>
                </a:lnTo>
                <a:lnTo>
                  <a:pt x="857" y="4946"/>
                </a:lnTo>
                <a:lnTo>
                  <a:pt x="820" y="4989"/>
                </a:lnTo>
                <a:lnTo>
                  <a:pt x="784" y="5033"/>
                </a:lnTo>
                <a:lnTo>
                  <a:pt x="748" y="5077"/>
                </a:lnTo>
                <a:lnTo>
                  <a:pt x="714" y="5122"/>
                </a:lnTo>
                <a:lnTo>
                  <a:pt x="679" y="5167"/>
                </a:lnTo>
                <a:lnTo>
                  <a:pt x="646" y="5213"/>
                </a:lnTo>
                <a:lnTo>
                  <a:pt x="613" y="5259"/>
                </a:lnTo>
                <a:lnTo>
                  <a:pt x="581" y="5306"/>
                </a:lnTo>
                <a:lnTo>
                  <a:pt x="550" y="5354"/>
                </a:lnTo>
                <a:lnTo>
                  <a:pt x="519" y="5402"/>
                </a:lnTo>
                <a:lnTo>
                  <a:pt x="490" y="5450"/>
                </a:lnTo>
                <a:lnTo>
                  <a:pt x="461" y="5499"/>
                </a:lnTo>
                <a:lnTo>
                  <a:pt x="434" y="5548"/>
                </a:lnTo>
                <a:lnTo>
                  <a:pt x="406" y="5598"/>
                </a:lnTo>
                <a:lnTo>
                  <a:pt x="379" y="5648"/>
                </a:lnTo>
                <a:lnTo>
                  <a:pt x="354" y="5698"/>
                </a:lnTo>
                <a:lnTo>
                  <a:pt x="329" y="5750"/>
                </a:lnTo>
                <a:lnTo>
                  <a:pt x="305" y="5802"/>
                </a:lnTo>
                <a:lnTo>
                  <a:pt x="282" y="5854"/>
                </a:lnTo>
                <a:lnTo>
                  <a:pt x="259" y="5906"/>
                </a:lnTo>
                <a:lnTo>
                  <a:pt x="239" y="5960"/>
                </a:lnTo>
                <a:lnTo>
                  <a:pt x="218" y="6013"/>
                </a:lnTo>
                <a:lnTo>
                  <a:pt x="198" y="6066"/>
                </a:lnTo>
                <a:lnTo>
                  <a:pt x="179" y="6120"/>
                </a:lnTo>
                <a:lnTo>
                  <a:pt x="161" y="6175"/>
                </a:lnTo>
                <a:lnTo>
                  <a:pt x="145" y="6230"/>
                </a:lnTo>
                <a:lnTo>
                  <a:pt x="128" y="6285"/>
                </a:lnTo>
                <a:lnTo>
                  <a:pt x="113" y="6341"/>
                </a:lnTo>
                <a:lnTo>
                  <a:pt x="99" y="6397"/>
                </a:lnTo>
                <a:lnTo>
                  <a:pt x="85" y="6454"/>
                </a:lnTo>
                <a:lnTo>
                  <a:pt x="74" y="6510"/>
                </a:lnTo>
                <a:lnTo>
                  <a:pt x="62" y="6566"/>
                </a:lnTo>
                <a:lnTo>
                  <a:pt x="51" y="6624"/>
                </a:lnTo>
                <a:lnTo>
                  <a:pt x="41" y="6681"/>
                </a:lnTo>
                <a:lnTo>
                  <a:pt x="33" y="6740"/>
                </a:lnTo>
                <a:lnTo>
                  <a:pt x="25" y="6798"/>
                </a:lnTo>
                <a:lnTo>
                  <a:pt x="18" y="6857"/>
                </a:lnTo>
                <a:lnTo>
                  <a:pt x="13" y="6915"/>
                </a:lnTo>
                <a:lnTo>
                  <a:pt x="9" y="6975"/>
                </a:lnTo>
                <a:lnTo>
                  <a:pt x="5" y="7034"/>
                </a:lnTo>
                <a:lnTo>
                  <a:pt x="3" y="7094"/>
                </a:lnTo>
                <a:lnTo>
                  <a:pt x="0" y="7153"/>
                </a:lnTo>
                <a:lnTo>
                  <a:pt x="0" y="7214"/>
                </a:lnTo>
                <a:lnTo>
                  <a:pt x="1" y="7295"/>
                </a:lnTo>
                <a:lnTo>
                  <a:pt x="4" y="7377"/>
                </a:lnTo>
                <a:lnTo>
                  <a:pt x="9" y="7457"/>
                </a:lnTo>
                <a:lnTo>
                  <a:pt x="15" y="7538"/>
                </a:lnTo>
                <a:lnTo>
                  <a:pt x="23" y="7618"/>
                </a:lnTo>
                <a:lnTo>
                  <a:pt x="34" y="7697"/>
                </a:lnTo>
                <a:lnTo>
                  <a:pt x="46" y="7776"/>
                </a:lnTo>
                <a:lnTo>
                  <a:pt x="60" y="7854"/>
                </a:lnTo>
                <a:lnTo>
                  <a:pt x="77" y="7932"/>
                </a:lnTo>
                <a:lnTo>
                  <a:pt x="93" y="8010"/>
                </a:lnTo>
                <a:lnTo>
                  <a:pt x="113" y="8086"/>
                </a:lnTo>
                <a:lnTo>
                  <a:pt x="134" y="8161"/>
                </a:lnTo>
                <a:lnTo>
                  <a:pt x="156" y="8236"/>
                </a:lnTo>
                <a:lnTo>
                  <a:pt x="181" y="8311"/>
                </a:lnTo>
                <a:lnTo>
                  <a:pt x="206" y="8385"/>
                </a:lnTo>
                <a:lnTo>
                  <a:pt x="234" y="8458"/>
                </a:lnTo>
                <a:lnTo>
                  <a:pt x="264" y="8530"/>
                </a:lnTo>
                <a:lnTo>
                  <a:pt x="294" y="8601"/>
                </a:lnTo>
                <a:lnTo>
                  <a:pt x="326" y="8671"/>
                </a:lnTo>
                <a:lnTo>
                  <a:pt x="361" y="8741"/>
                </a:lnTo>
                <a:lnTo>
                  <a:pt x="395" y="8810"/>
                </a:lnTo>
                <a:lnTo>
                  <a:pt x="433" y="8878"/>
                </a:lnTo>
                <a:lnTo>
                  <a:pt x="471" y="8946"/>
                </a:lnTo>
                <a:lnTo>
                  <a:pt x="511" y="9011"/>
                </a:lnTo>
                <a:lnTo>
                  <a:pt x="552" y="9077"/>
                </a:lnTo>
                <a:lnTo>
                  <a:pt x="595" y="9141"/>
                </a:lnTo>
                <a:lnTo>
                  <a:pt x="638" y="9205"/>
                </a:lnTo>
                <a:lnTo>
                  <a:pt x="684" y="9267"/>
                </a:lnTo>
                <a:lnTo>
                  <a:pt x="731" y="9329"/>
                </a:lnTo>
                <a:lnTo>
                  <a:pt x="779" y="9388"/>
                </a:lnTo>
                <a:lnTo>
                  <a:pt x="829" y="9448"/>
                </a:lnTo>
                <a:lnTo>
                  <a:pt x="880" y="9506"/>
                </a:lnTo>
                <a:lnTo>
                  <a:pt x="931" y="9564"/>
                </a:lnTo>
                <a:lnTo>
                  <a:pt x="984" y="9620"/>
                </a:lnTo>
                <a:lnTo>
                  <a:pt x="1039" y="9674"/>
                </a:lnTo>
                <a:lnTo>
                  <a:pt x="1095" y="9729"/>
                </a:lnTo>
                <a:lnTo>
                  <a:pt x="1151" y="9781"/>
                </a:lnTo>
                <a:lnTo>
                  <a:pt x="1210" y="9833"/>
                </a:lnTo>
                <a:lnTo>
                  <a:pt x="1269" y="9883"/>
                </a:lnTo>
                <a:lnTo>
                  <a:pt x="1329" y="9932"/>
                </a:lnTo>
                <a:lnTo>
                  <a:pt x="1390" y="9981"/>
                </a:lnTo>
                <a:lnTo>
                  <a:pt x="1453" y="10026"/>
                </a:lnTo>
                <a:lnTo>
                  <a:pt x="1517" y="10072"/>
                </a:lnTo>
                <a:lnTo>
                  <a:pt x="1581" y="10116"/>
                </a:lnTo>
                <a:lnTo>
                  <a:pt x="1647" y="10159"/>
                </a:lnTo>
                <a:lnTo>
                  <a:pt x="1714" y="10200"/>
                </a:lnTo>
                <a:lnTo>
                  <a:pt x="1781" y="10240"/>
                </a:lnTo>
                <a:lnTo>
                  <a:pt x="1850" y="10278"/>
                </a:lnTo>
                <a:lnTo>
                  <a:pt x="1919" y="10316"/>
                </a:lnTo>
                <a:lnTo>
                  <a:pt x="1990" y="10351"/>
                </a:lnTo>
                <a:lnTo>
                  <a:pt x="2061" y="10386"/>
                </a:lnTo>
                <a:lnTo>
                  <a:pt x="2133" y="10418"/>
                </a:lnTo>
                <a:lnTo>
                  <a:pt x="2206" y="10449"/>
                </a:lnTo>
                <a:lnTo>
                  <a:pt x="2280" y="10480"/>
                </a:lnTo>
                <a:lnTo>
                  <a:pt x="2354" y="10508"/>
                </a:lnTo>
                <a:lnTo>
                  <a:pt x="2430" y="10535"/>
                </a:lnTo>
                <a:lnTo>
                  <a:pt x="2507" y="10560"/>
                </a:lnTo>
                <a:lnTo>
                  <a:pt x="2583" y="10583"/>
                </a:lnTo>
                <a:lnTo>
                  <a:pt x="2661" y="10605"/>
                </a:lnTo>
                <a:lnTo>
                  <a:pt x="2740" y="10626"/>
                </a:lnTo>
                <a:lnTo>
                  <a:pt x="2819" y="10645"/>
                </a:lnTo>
                <a:lnTo>
                  <a:pt x="2898" y="10661"/>
                </a:lnTo>
                <a:lnTo>
                  <a:pt x="2979" y="10677"/>
                </a:lnTo>
                <a:lnTo>
                  <a:pt x="3060" y="10691"/>
                </a:lnTo>
                <a:lnTo>
                  <a:pt x="3079" y="10697"/>
                </a:lnTo>
                <a:lnTo>
                  <a:pt x="3099" y="10704"/>
                </a:lnTo>
                <a:lnTo>
                  <a:pt x="3120" y="10713"/>
                </a:lnTo>
                <a:lnTo>
                  <a:pt x="3141" y="10723"/>
                </a:lnTo>
                <a:lnTo>
                  <a:pt x="3162" y="10736"/>
                </a:lnTo>
                <a:lnTo>
                  <a:pt x="3185" y="10752"/>
                </a:lnTo>
                <a:lnTo>
                  <a:pt x="3211" y="10772"/>
                </a:lnTo>
                <a:lnTo>
                  <a:pt x="3238" y="10796"/>
                </a:lnTo>
                <a:lnTo>
                  <a:pt x="3266" y="10826"/>
                </a:lnTo>
                <a:lnTo>
                  <a:pt x="3297" y="10861"/>
                </a:lnTo>
                <a:lnTo>
                  <a:pt x="3331" y="10902"/>
                </a:lnTo>
                <a:lnTo>
                  <a:pt x="3367" y="10950"/>
                </a:lnTo>
                <a:lnTo>
                  <a:pt x="3406" y="11005"/>
                </a:lnTo>
                <a:lnTo>
                  <a:pt x="3448" y="11068"/>
                </a:lnTo>
                <a:lnTo>
                  <a:pt x="3494" y="11140"/>
                </a:lnTo>
                <a:lnTo>
                  <a:pt x="3543" y="11220"/>
                </a:lnTo>
                <a:lnTo>
                  <a:pt x="3567" y="11263"/>
                </a:lnTo>
                <a:lnTo>
                  <a:pt x="3593" y="11305"/>
                </a:lnTo>
                <a:lnTo>
                  <a:pt x="3619" y="11346"/>
                </a:lnTo>
                <a:lnTo>
                  <a:pt x="3645" y="11387"/>
                </a:lnTo>
                <a:lnTo>
                  <a:pt x="3672" y="11427"/>
                </a:lnTo>
                <a:lnTo>
                  <a:pt x="3700" y="11467"/>
                </a:lnTo>
                <a:lnTo>
                  <a:pt x="3730" y="11506"/>
                </a:lnTo>
                <a:lnTo>
                  <a:pt x="3759" y="11545"/>
                </a:lnTo>
                <a:lnTo>
                  <a:pt x="3789" y="11583"/>
                </a:lnTo>
                <a:lnTo>
                  <a:pt x="3820" y="11620"/>
                </a:lnTo>
                <a:lnTo>
                  <a:pt x="3852" y="11658"/>
                </a:lnTo>
                <a:lnTo>
                  <a:pt x="3883" y="11694"/>
                </a:lnTo>
                <a:lnTo>
                  <a:pt x="3916" y="11730"/>
                </a:lnTo>
                <a:lnTo>
                  <a:pt x="3950" y="11765"/>
                </a:lnTo>
                <a:lnTo>
                  <a:pt x="3983" y="11800"/>
                </a:lnTo>
                <a:lnTo>
                  <a:pt x="4018" y="11834"/>
                </a:lnTo>
                <a:lnTo>
                  <a:pt x="4053" y="11868"/>
                </a:lnTo>
                <a:lnTo>
                  <a:pt x="4089" y="11901"/>
                </a:lnTo>
                <a:lnTo>
                  <a:pt x="4125" y="11934"/>
                </a:lnTo>
                <a:lnTo>
                  <a:pt x="4162" y="11965"/>
                </a:lnTo>
                <a:lnTo>
                  <a:pt x="4199" y="11996"/>
                </a:lnTo>
                <a:lnTo>
                  <a:pt x="4237" y="12026"/>
                </a:lnTo>
                <a:lnTo>
                  <a:pt x="4276" y="12057"/>
                </a:lnTo>
                <a:lnTo>
                  <a:pt x="4314" y="12086"/>
                </a:lnTo>
                <a:lnTo>
                  <a:pt x="4353" y="12114"/>
                </a:lnTo>
                <a:lnTo>
                  <a:pt x="4393" y="12142"/>
                </a:lnTo>
                <a:lnTo>
                  <a:pt x="4433" y="12170"/>
                </a:lnTo>
                <a:lnTo>
                  <a:pt x="4474" y="12196"/>
                </a:lnTo>
                <a:lnTo>
                  <a:pt x="4515" y="12222"/>
                </a:lnTo>
                <a:lnTo>
                  <a:pt x="4557" y="12247"/>
                </a:lnTo>
                <a:lnTo>
                  <a:pt x="4598" y="12272"/>
                </a:lnTo>
                <a:lnTo>
                  <a:pt x="4640" y="12295"/>
                </a:lnTo>
                <a:lnTo>
                  <a:pt x="4683" y="12319"/>
                </a:lnTo>
                <a:lnTo>
                  <a:pt x="4726" y="12341"/>
                </a:lnTo>
                <a:lnTo>
                  <a:pt x="4770" y="12363"/>
                </a:lnTo>
                <a:lnTo>
                  <a:pt x="4813" y="12384"/>
                </a:lnTo>
                <a:lnTo>
                  <a:pt x="4857" y="12404"/>
                </a:lnTo>
                <a:lnTo>
                  <a:pt x="4902" y="12423"/>
                </a:lnTo>
                <a:lnTo>
                  <a:pt x="4946" y="12442"/>
                </a:lnTo>
                <a:lnTo>
                  <a:pt x="4992" y="12460"/>
                </a:lnTo>
                <a:lnTo>
                  <a:pt x="5037" y="12477"/>
                </a:lnTo>
                <a:lnTo>
                  <a:pt x="5083" y="12493"/>
                </a:lnTo>
                <a:lnTo>
                  <a:pt x="5128" y="12509"/>
                </a:lnTo>
                <a:lnTo>
                  <a:pt x="5175" y="12524"/>
                </a:lnTo>
                <a:lnTo>
                  <a:pt x="5221" y="12538"/>
                </a:lnTo>
                <a:lnTo>
                  <a:pt x="5268" y="12552"/>
                </a:lnTo>
                <a:lnTo>
                  <a:pt x="5314" y="12564"/>
                </a:lnTo>
                <a:lnTo>
                  <a:pt x="5361" y="12576"/>
                </a:lnTo>
                <a:lnTo>
                  <a:pt x="5409" y="12586"/>
                </a:lnTo>
                <a:lnTo>
                  <a:pt x="5456" y="12597"/>
                </a:lnTo>
                <a:lnTo>
                  <a:pt x="5503" y="12606"/>
                </a:lnTo>
                <a:lnTo>
                  <a:pt x="5551" y="12614"/>
                </a:lnTo>
                <a:lnTo>
                  <a:pt x="5599" y="12622"/>
                </a:lnTo>
                <a:lnTo>
                  <a:pt x="5647" y="12628"/>
                </a:lnTo>
                <a:lnTo>
                  <a:pt x="5695" y="12634"/>
                </a:lnTo>
                <a:lnTo>
                  <a:pt x="5743" y="12639"/>
                </a:lnTo>
                <a:lnTo>
                  <a:pt x="5791" y="12643"/>
                </a:lnTo>
                <a:lnTo>
                  <a:pt x="5839" y="12646"/>
                </a:lnTo>
                <a:lnTo>
                  <a:pt x="5888" y="12649"/>
                </a:lnTo>
                <a:lnTo>
                  <a:pt x="5936" y="12650"/>
                </a:lnTo>
                <a:lnTo>
                  <a:pt x="5985" y="12650"/>
                </a:lnTo>
                <a:lnTo>
                  <a:pt x="6033" y="12650"/>
                </a:lnTo>
                <a:lnTo>
                  <a:pt x="6082" y="12649"/>
                </a:lnTo>
                <a:lnTo>
                  <a:pt x="6130" y="12647"/>
                </a:lnTo>
                <a:lnTo>
                  <a:pt x="6174" y="12641"/>
                </a:lnTo>
                <a:lnTo>
                  <a:pt x="6217" y="12634"/>
                </a:lnTo>
                <a:lnTo>
                  <a:pt x="6260" y="12627"/>
                </a:lnTo>
                <a:lnTo>
                  <a:pt x="6303" y="12620"/>
                </a:lnTo>
                <a:lnTo>
                  <a:pt x="6345" y="12611"/>
                </a:lnTo>
                <a:lnTo>
                  <a:pt x="6388" y="12602"/>
                </a:lnTo>
                <a:lnTo>
                  <a:pt x="6430" y="12593"/>
                </a:lnTo>
                <a:lnTo>
                  <a:pt x="6473" y="12582"/>
                </a:lnTo>
                <a:lnTo>
                  <a:pt x="6515" y="12571"/>
                </a:lnTo>
                <a:lnTo>
                  <a:pt x="6556" y="12559"/>
                </a:lnTo>
                <a:lnTo>
                  <a:pt x="6598" y="12548"/>
                </a:lnTo>
                <a:lnTo>
                  <a:pt x="6640" y="12534"/>
                </a:lnTo>
                <a:lnTo>
                  <a:pt x="6682" y="12520"/>
                </a:lnTo>
                <a:lnTo>
                  <a:pt x="6722" y="12507"/>
                </a:lnTo>
                <a:lnTo>
                  <a:pt x="6763" y="12492"/>
                </a:lnTo>
                <a:lnTo>
                  <a:pt x="6804" y="12477"/>
                </a:lnTo>
                <a:lnTo>
                  <a:pt x="6845" y="12461"/>
                </a:lnTo>
                <a:lnTo>
                  <a:pt x="6884" y="12444"/>
                </a:lnTo>
                <a:lnTo>
                  <a:pt x="6924" y="12426"/>
                </a:lnTo>
                <a:lnTo>
                  <a:pt x="6964" y="12409"/>
                </a:lnTo>
                <a:lnTo>
                  <a:pt x="7003" y="12390"/>
                </a:lnTo>
                <a:lnTo>
                  <a:pt x="7042" y="12371"/>
                </a:lnTo>
                <a:lnTo>
                  <a:pt x="7081" y="12351"/>
                </a:lnTo>
                <a:lnTo>
                  <a:pt x="7119" y="12331"/>
                </a:lnTo>
                <a:lnTo>
                  <a:pt x="7157" y="12311"/>
                </a:lnTo>
                <a:lnTo>
                  <a:pt x="7194" y="12290"/>
                </a:lnTo>
                <a:lnTo>
                  <a:pt x="7232" y="12268"/>
                </a:lnTo>
                <a:lnTo>
                  <a:pt x="7269" y="12245"/>
                </a:lnTo>
                <a:lnTo>
                  <a:pt x="7305" y="12222"/>
                </a:lnTo>
                <a:lnTo>
                  <a:pt x="7342" y="12199"/>
                </a:lnTo>
                <a:lnTo>
                  <a:pt x="7377" y="12175"/>
                </a:lnTo>
                <a:lnTo>
                  <a:pt x="7413" y="12150"/>
                </a:lnTo>
                <a:lnTo>
                  <a:pt x="7447" y="12125"/>
                </a:lnTo>
                <a:lnTo>
                  <a:pt x="7482" y="12099"/>
                </a:lnTo>
                <a:lnTo>
                  <a:pt x="7516" y="12072"/>
                </a:lnTo>
                <a:lnTo>
                  <a:pt x="7549" y="12045"/>
                </a:lnTo>
                <a:lnTo>
                  <a:pt x="7582" y="12018"/>
                </a:lnTo>
                <a:lnTo>
                  <a:pt x="7615" y="11990"/>
                </a:lnTo>
                <a:lnTo>
                  <a:pt x="7647" y="11962"/>
                </a:lnTo>
                <a:lnTo>
                  <a:pt x="7679" y="11932"/>
                </a:lnTo>
                <a:lnTo>
                  <a:pt x="7709" y="11903"/>
                </a:lnTo>
                <a:lnTo>
                  <a:pt x="7741" y="11873"/>
                </a:lnTo>
                <a:lnTo>
                  <a:pt x="7771" y="11843"/>
                </a:lnTo>
                <a:lnTo>
                  <a:pt x="7800" y="11811"/>
                </a:lnTo>
                <a:lnTo>
                  <a:pt x="7829" y="11780"/>
                </a:lnTo>
                <a:lnTo>
                  <a:pt x="7858" y="11748"/>
                </a:lnTo>
                <a:lnTo>
                  <a:pt x="7886" y="11715"/>
                </a:lnTo>
                <a:lnTo>
                  <a:pt x="7913" y="11683"/>
                </a:lnTo>
                <a:lnTo>
                  <a:pt x="7939" y="11649"/>
                </a:lnTo>
                <a:lnTo>
                  <a:pt x="7965" y="11615"/>
                </a:lnTo>
                <a:lnTo>
                  <a:pt x="7991" y="11581"/>
                </a:lnTo>
                <a:lnTo>
                  <a:pt x="8016" y="11546"/>
                </a:lnTo>
                <a:lnTo>
                  <a:pt x="8040" y="11511"/>
                </a:lnTo>
                <a:lnTo>
                  <a:pt x="8063" y="11474"/>
                </a:lnTo>
                <a:lnTo>
                  <a:pt x="8086" y="11438"/>
                </a:lnTo>
                <a:lnTo>
                  <a:pt x="8109" y="11401"/>
                </a:lnTo>
                <a:lnTo>
                  <a:pt x="8130" y="11364"/>
                </a:lnTo>
                <a:lnTo>
                  <a:pt x="8151" y="11327"/>
                </a:lnTo>
                <a:lnTo>
                  <a:pt x="8172" y="11288"/>
                </a:lnTo>
                <a:lnTo>
                  <a:pt x="8191" y="11249"/>
                </a:lnTo>
                <a:lnTo>
                  <a:pt x="8209" y="11211"/>
                </a:lnTo>
                <a:lnTo>
                  <a:pt x="8228" y="11171"/>
                </a:lnTo>
                <a:lnTo>
                  <a:pt x="8245" y="11131"/>
                </a:lnTo>
                <a:lnTo>
                  <a:pt x="8262" y="11091"/>
                </a:lnTo>
                <a:lnTo>
                  <a:pt x="8288" y="11021"/>
                </a:lnTo>
                <a:lnTo>
                  <a:pt x="8312" y="10950"/>
                </a:lnTo>
                <a:lnTo>
                  <a:pt x="8334" y="10879"/>
                </a:lnTo>
                <a:lnTo>
                  <a:pt x="8354" y="10808"/>
                </a:lnTo>
                <a:lnTo>
                  <a:pt x="8371" y="10737"/>
                </a:lnTo>
                <a:lnTo>
                  <a:pt x="8387" y="10665"/>
                </a:lnTo>
                <a:lnTo>
                  <a:pt x="8401" y="10594"/>
                </a:lnTo>
                <a:lnTo>
                  <a:pt x="8412" y="10522"/>
                </a:lnTo>
                <a:lnTo>
                  <a:pt x="8421" y="10449"/>
                </a:lnTo>
                <a:lnTo>
                  <a:pt x="8429" y="10377"/>
                </a:lnTo>
                <a:lnTo>
                  <a:pt x="8434" y="10305"/>
                </a:lnTo>
                <a:lnTo>
                  <a:pt x="8437" y="10233"/>
                </a:lnTo>
                <a:lnTo>
                  <a:pt x="8438" y="10161"/>
                </a:lnTo>
                <a:lnTo>
                  <a:pt x="8437" y="10089"/>
                </a:lnTo>
                <a:lnTo>
                  <a:pt x="8433" y="10017"/>
                </a:lnTo>
                <a:lnTo>
                  <a:pt x="8428" y="9946"/>
                </a:lnTo>
                <a:lnTo>
                  <a:pt x="8419" y="9874"/>
                </a:lnTo>
                <a:lnTo>
                  <a:pt x="8410" y="9803"/>
                </a:lnTo>
                <a:lnTo>
                  <a:pt x="8397" y="9732"/>
                </a:lnTo>
                <a:lnTo>
                  <a:pt x="8383" y="9661"/>
                </a:lnTo>
                <a:lnTo>
                  <a:pt x="8366" y="9591"/>
                </a:lnTo>
                <a:lnTo>
                  <a:pt x="8347" y="9521"/>
                </a:lnTo>
                <a:lnTo>
                  <a:pt x="8326" y="9451"/>
                </a:lnTo>
                <a:lnTo>
                  <a:pt x="8302" y="9381"/>
                </a:lnTo>
                <a:lnTo>
                  <a:pt x="8276" y="9312"/>
                </a:lnTo>
                <a:lnTo>
                  <a:pt x="8249" y="9244"/>
                </a:lnTo>
                <a:lnTo>
                  <a:pt x="8218" y="9176"/>
                </a:lnTo>
                <a:lnTo>
                  <a:pt x="8185" y="9108"/>
                </a:lnTo>
                <a:lnTo>
                  <a:pt x="8151" y="9042"/>
                </a:lnTo>
                <a:lnTo>
                  <a:pt x="8113" y="8975"/>
                </a:lnTo>
                <a:lnTo>
                  <a:pt x="8074" y="8909"/>
                </a:lnTo>
                <a:lnTo>
                  <a:pt x="8032" y="8844"/>
                </a:lnTo>
                <a:lnTo>
                  <a:pt x="8002" y="8803"/>
                </a:lnTo>
                <a:lnTo>
                  <a:pt x="7970" y="8765"/>
                </a:lnTo>
                <a:lnTo>
                  <a:pt x="7939" y="8726"/>
                </a:lnTo>
                <a:lnTo>
                  <a:pt x="7908" y="8689"/>
                </a:lnTo>
                <a:lnTo>
                  <a:pt x="7875" y="8652"/>
                </a:lnTo>
                <a:lnTo>
                  <a:pt x="7842" y="8617"/>
                </a:lnTo>
                <a:lnTo>
                  <a:pt x="7807" y="8581"/>
                </a:lnTo>
                <a:lnTo>
                  <a:pt x="7774" y="8548"/>
                </a:lnTo>
                <a:lnTo>
                  <a:pt x="7738" y="8514"/>
                </a:lnTo>
                <a:lnTo>
                  <a:pt x="7703" y="8482"/>
                </a:lnTo>
                <a:lnTo>
                  <a:pt x="7667" y="8450"/>
                </a:lnTo>
                <a:lnTo>
                  <a:pt x="7631" y="8420"/>
                </a:lnTo>
                <a:lnTo>
                  <a:pt x="7593" y="8390"/>
                </a:lnTo>
                <a:lnTo>
                  <a:pt x="7556" y="8362"/>
                </a:lnTo>
                <a:lnTo>
                  <a:pt x="7518" y="8333"/>
                </a:lnTo>
                <a:lnTo>
                  <a:pt x="7480" y="8306"/>
                </a:lnTo>
                <a:lnTo>
                  <a:pt x="7441" y="8280"/>
                </a:lnTo>
                <a:lnTo>
                  <a:pt x="7401" y="8255"/>
                </a:lnTo>
                <a:lnTo>
                  <a:pt x="7362" y="8231"/>
                </a:lnTo>
                <a:lnTo>
                  <a:pt x="7322" y="8208"/>
                </a:lnTo>
                <a:lnTo>
                  <a:pt x="7281" y="8185"/>
                </a:lnTo>
                <a:lnTo>
                  <a:pt x="7240" y="8164"/>
                </a:lnTo>
                <a:lnTo>
                  <a:pt x="7200" y="8143"/>
                </a:lnTo>
                <a:lnTo>
                  <a:pt x="7158" y="8124"/>
                </a:lnTo>
                <a:lnTo>
                  <a:pt x="7116" y="8105"/>
                </a:lnTo>
                <a:lnTo>
                  <a:pt x="7073" y="8087"/>
                </a:lnTo>
                <a:lnTo>
                  <a:pt x="7032" y="8070"/>
                </a:lnTo>
                <a:lnTo>
                  <a:pt x="6989" y="8055"/>
                </a:lnTo>
                <a:lnTo>
                  <a:pt x="6945" y="8040"/>
                </a:lnTo>
                <a:lnTo>
                  <a:pt x="6902" y="8026"/>
                </a:lnTo>
                <a:lnTo>
                  <a:pt x="6858" y="8013"/>
                </a:lnTo>
                <a:lnTo>
                  <a:pt x="6814" y="8001"/>
                </a:lnTo>
                <a:lnTo>
                  <a:pt x="6770" y="7990"/>
                </a:lnTo>
                <a:lnTo>
                  <a:pt x="6727" y="7980"/>
                </a:lnTo>
                <a:lnTo>
                  <a:pt x="6682" y="7971"/>
                </a:lnTo>
                <a:lnTo>
                  <a:pt x="6638" y="7964"/>
                </a:lnTo>
                <a:lnTo>
                  <a:pt x="6593" y="7956"/>
                </a:lnTo>
                <a:lnTo>
                  <a:pt x="6548" y="7950"/>
                </a:lnTo>
                <a:lnTo>
                  <a:pt x="6503" y="7945"/>
                </a:lnTo>
                <a:lnTo>
                  <a:pt x="6458" y="7941"/>
                </a:lnTo>
                <a:lnTo>
                  <a:pt x="6413" y="7938"/>
                </a:lnTo>
                <a:lnTo>
                  <a:pt x="6367" y="7936"/>
                </a:lnTo>
                <a:lnTo>
                  <a:pt x="6322" y="7935"/>
                </a:lnTo>
                <a:lnTo>
                  <a:pt x="6277" y="7935"/>
                </a:lnTo>
                <a:lnTo>
                  <a:pt x="6232" y="7936"/>
                </a:lnTo>
                <a:lnTo>
                  <a:pt x="6187" y="7938"/>
                </a:lnTo>
                <a:lnTo>
                  <a:pt x="6141" y="7941"/>
                </a:lnTo>
                <a:lnTo>
                  <a:pt x="6096" y="7945"/>
                </a:lnTo>
                <a:lnTo>
                  <a:pt x="6050" y="7950"/>
                </a:lnTo>
                <a:lnTo>
                  <a:pt x="6005" y="7955"/>
                </a:lnTo>
                <a:lnTo>
                  <a:pt x="5959" y="7963"/>
                </a:lnTo>
                <a:lnTo>
                  <a:pt x="5914" y="7971"/>
                </a:lnTo>
                <a:lnTo>
                  <a:pt x="5869" y="7980"/>
                </a:lnTo>
                <a:lnTo>
                  <a:pt x="5824" y="7991"/>
                </a:lnTo>
                <a:lnTo>
                  <a:pt x="5779" y="8002"/>
                </a:lnTo>
                <a:lnTo>
                  <a:pt x="5735" y="8015"/>
                </a:lnTo>
                <a:lnTo>
                  <a:pt x="5690" y="8029"/>
                </a:lnTo>
                <a:lnTo>
                  <a:pt x="5645" y="8042"/>
                </a:lnTo>
                <a:lnTo>
                  <a:pt x="5601" y="8058"/>
                </a:lnTo>
                <a:lnTo>
                  <a:pt x="5556" y="8074"/>
                </a:lnTo>
                <a:lnTo>
                  <a:pt x="5512" y="8092"/>
                </a:lnTo>
                <a:lnTo>
                  <a:pt x="5468" y="8112"/>
                </a:lnTo>
                <a:lnTo>
                  <a:pt x="5425" y="8132"/>
                </a:lnTo>
                <a:lnTo>
                  <a:pt x="5382" y="8153"/>
                </a:lnTo>
                <a:lnTo>
                  <a:pt x="5344" y="8172"/>
                </a:lnTo>
                <a:lnTo>
                  <a:pt x="5307" y="8192"/>
                </a:lnTo>
                <a:lnTo>
                  <a:pt x="5271" y="8213"/>
                </a:lnTo>
                <a:lnTo>
                  <a:pt x="5234" y="8235"/>
                </a:lnTo>
                <a:lnTo>
                  <a:pt x="5199" y="8258"/>
                </a:lnTo>
                <a:lnTo>
                  <a:pt x="5164" y="8282"/>
                </a:lnTo>
                <a:lnTo>
                  <a:pt x="5130" y="8306"/>
                </a:lnTo>
                <a:lnTo>
                  <a:pt x="5096" y="8332"/>
                </a:lnTo>
                <a:lnTo>
                  <a:pt x="5063" y="8359"/>
                </a:lnTo>
                <a:lnTo>
                  <a:pt x="5031" y="8385"/>
                </a:lnTo>
                <a:lnTo>
                  <a:pt x="4998" y="8413"/>
                </a:lnTo>
                <a:lnTo>
                  <a:pt x="4967" y="8441"/>
                </a:lnTo>
                <a:lnTo>
                  <a:pt x="4937" y="8470"/>
                </a:lnTo>
                <a:lnTo>
                  <a:pt x="4906" y="8500"/>
                </a:lnTo>
                <a:lnTo>
                  <a:pt x="4877" y="8530"/>
                </a:lnTo>
                <a:lnTo>
                  <a:pt x="4849" y="8561"/>
                </a:lnTo>
                <a:lnTo>
                  <a:pt x="4821" y="8594"/>
                </a:lnTo>
                <a:lnTo>
                  <a:pt x="4794" y="8625"/>
                </a:lnTo>
                <a:lnTo>
                  <a:pt x="4766" y="8658"/>
                </a:lnTo>
                <a:lnTo>
                  <a:pt x="4740" y="8692"/>
                </a:lnTo>
                <a:lnTo>
                  <a:pt x="4715" y="8726"/>
                </a:lnTo>
                <a:lnTo>
                  <a:pt x="4691" y="8761"/>
                </a:lnTo>
                <a:lnTo>
                  <a:pt x="4667" y="8795"/>
                </a:lnTo>
                <a:lnTo>
                  <a:pt x="4644" y="8832"/>
                </a:lnTo>
                <a:lnTo>
                  <a:pt x="4622" y="8867"/>
                </a:lnTo>
                <a:lnTo>
                  <a:pt x="4600" y="8904"/>
                </a:lnTo>
                <a:lnTo>
                  <a:pt x="4580" y="8941"/>
                </a:lnTo>
                <a:lnTo>
                  <a:pt x="4560" y="8978"/>
                </a:lnTo>
                <a:lnTo>
                  <a:pt x="4541" y="9017"/>
                </a:lnTo>
                <a:lnTo>
                  <a:pt x="4523" y="9054"/>
                </a:lnTo>
                <a:lnTo>
                  <a:pt x="4505" y="9093"/>
                </a:lnTo>
                <a:lnTo>
                  <a:pt x="4489" y="9132"/>
                </a:lnTo>
                <a:lnTo>
                  <a:pt x="4473" y="9171"/>
                </a:lnTo>
                <a:lnTo>
                  <a:pt x="4458" y="9211"/>
                </a:lnTo>
                <a:lnTo>
                  <a:pt x="4444" y="9250"/>
                </a:lnTo>
                <a:lnTo>
                  <a:pt x="4430" y="9291"/>
                </a:lnTo>
                <a:lnTo>
                  <a:pt x="4419" y="9332"/>
                </a:lnTo>
                <a:lnTo>
                  <a:pt x="4407" y="9373"/>
                </a:lnTo>
                <a:lnTo>
                  <a:pt x="4397" y="9413"/>
                </a:lnTo>
                <a:lnTo>
                  <a:pt x="4387" y="9454"/>
                </a:lnTo>
                <a:lnTo>
                  <a:pt x="4378" y="9496"/>
                </a:lnTo>
                <a:lnTo>
                  <a:pt x="4371" y="9538"/>
                </a:lnTo>
                <a:lnTo>
                  <a:pt x="4363" y="9579"/>
                </a:lnTo>
                <a:lnTo>
                  <a:pt x="4358" y="9621"/>
                </a:lnTo>
                <a:lnTo>
                  <a:pt x="4353" y="9663"/>
                </a:lnTo>
                <a:lnTo>
                  <a:pt x="4349" y="9705"/>
                </a:lnTo>
                <a:lnTo>
                  <a:pt x="4347" y="9747"/>
                </a:lnTo>
                <a:lnTo>
                  <a:pt x="4345" y="9789"/>
                </a:lnTo>
                <a:lnTo>
                  <a:pt x="4344" y="9831"/>
                </a:lnTo>
                <a:lnTo>
                  <a:pt x="4344" y="9874"/>
                </a:lnTo>
                <a:lnTo>
                  <a:pt x="4346" y="9916"/>
                </a:lnTo>
                <a:lnTo>
                  <a:pt x="4348" y="9959"/>
                </a:lnTo>
                <a:lnTo>
                  <a:pt x="4351" y="10000"/>
                </a:lnTo>
                <a:lnTo>
                  <a:pt x="4355" y="10042"/>
                </a:lnTo>
                <a:lnTo>
                  <a:pt x="4360" y="10085"/>
                </a:lnTo>
                <a:lnTo>
                  <a:pt x="4368" y="10127"/>
                </a:lnTo>
                <a:lnTo>
                  <a:pt x="4375" y="10168"/>
                </a:lnTo>
                <a:lnTo>
                  <a:pt x="4383" y="10210"/>
                </a:lnTo>
                <a:lnTo>
                  <a:pt x="4394" y="10252"/>
                </a:lnTo>
                <a:lnTo>
                  <a:pt x="4404" y="10294"/>
                </a:lnTo>
                <a:lnTo>
                  <a:pt x="4417" y="10335"/>
                </a:lnTo>
                <a:lnTo>
                  <a:pt x="4430" y="10375"/>
                </a:lnTo>
                <a:lnTo>
                  <a:pt x="4444" y="10417"/>
                </a:lnTo>
                <a:lnTo>
                  <a:pt x="4459" y="10457"/>
                </a:lnTo>
                <a:lnTo>
                  <a:pt x="4474" y="10489"/>
                </a:lnTo>
                <a:lnTo>
                  <a:pt x="4488" y="10522"/>
                </a:lnTo>
                <a:lnTo>
                  <a:pt x="4503" y="10553"/>
                </a:lnTo>
                <a:lnTo>
                  <a:pt x="4519" y="10584"/>
                </a:lnTo>
                <a:lnTo>
                  <a:pt x="4536" y="10614"/>
                </a:lnTo>
                <a:lnTo>
                  <a:pt x="4552" y="10646"/>
                </a:lnTo>
                <a:lnTo>
                  <a:pt x="4570" y="10675"/>
                </a:lnTo>
                <a:lnTo>
                  <a:pt x="4589" y="10705"/>
                </a:lnTo>
                <a:lnTo>
                  <a:pt x="4608" y="10735"/>
                </a:lnTo>
                <a:lnTo>
                  <a:pt x="4627" y="10763"/>
                </a:lnTo>
                <a:lnTo>
                  <a:pt x="4646" y="10791"/>
                </a:lnTo>
                <a:lnTo>
                  <a:pt x="4667" y="10819"/>
                </a:lnTo>
                <a:lnTo>
                  <a:pt x="4688" y="10846"/>
                </a:lnTo>
                <a:lnTo>
                  <a:pt x="4710" y="10873"/>
                </a:lnTo>
                <a:lnTo>
                  <a:pt x="4732" y="10901"/>
                </a:lnTo>
                <a:lnTo>
                  <a:pt x="4755" y="10927"/>
                </a:lnTo>
                <a:lnTo>
                  <a:pt x="4778" y="10952"/>
                </a:lnTo>
                <a:lnTo>
                  <a:pt x="4802" y="10977"/>
                </a:lnTo>
                <a:lnTo>
                  <a:pt x="4826" y="11002"/>
                </a:lnTo>
                <a:lnTo>
                  <a:pt x="4851" y="11026"/>
                </a:lnTo>
                <a:lnTo>
                  <a:pt x="4876" y="11049"/>
                </a:lnTo>
                <a:lnTo>
                  <a:pt x="4901" y="11072"/>
                </a:lnTo>
                <a:lnTo>
                  <a:pt x="4927" y="11095"/>
                </a:lnTo>
                <a:lnTo>
                  <a:pt x="4954" y="11117"/>
                </a:lnTo>
                <a:lnTo>
                  <a:pt x="4981" y="11138"/>
                </a:lnTo>
                <a:lnTo>
                  <a:pt x="5008" y="11159"/>
                </a:lnTo>
                <a:lnTo>
                  <a:pt x="5036" y="11179"/>
                </a:lnTo>
                <a:lnTo>
                  <a:pt x="5064" y="11198"/>
                </a:lnTo>
                <a:lnTo>
                  <a:pt x="5092" y="11218"/>
                </a:lnTo>
                <a:lnTo>
                  <a:pt x="5122" y="11236"/>
                </a:lnTo>
                <a:lnTo>
                  <a:pt x="5151" y="11254"/>
                </a:lnTo>
                <a:lnTo>
                  <a:pt x="5180" y="11271"/>
                </a:lnTo>
                <a:lnTo>
                  <a:pt x="5209" y="11288"/>
                </a:lnTo>
                <a:lnTo>
                  <a:pt x="5240" y="11304"/>
                </a:lnTo>
                <a:lnTo>
                  <a:pt x="5271" y="11319"/>
                </a:lnTo>
                <a:lnTo>
                  <a:pt x="5301" y="11333"/>
                </a:lnTo>
                <a:lnTo>
                  <a:pt x="5332" y="11348"/>
                </a:lnTo>
                <a:lnTo>
                  <a:pt x="5364" y="11361"/>
                </a:lnTo>
                <a:lnTo>
                  <a:pt x="5395" y="11374"/>
                </a:lnTo>
                <a:lnTo>
                  <a:pt x="5428" y="11385"/>
                </a:lnTo>
                <a:lnTo>
                  <a:pt x="5460" y="11397"/>
                </a:lnTo>
                <a:lnTo>
                  <a:pt x="5492" y="11407"/>
                </a:lnTo>
                <a:lnTo>
                  <a:pt x="5525" y="11417"/>
                </a:lnTo>
                <a:lnTo>
                  <a:pt x="5558" y="11426"/>
                </a:lnTo>
                <a:lnTo>
                  <a:pt x="5590" y="11433"/>
                </a:lnTo>
                <a:lnTo>
                  <a:pt x="5624" y="11442"/>
                </a:lnTo>
                <a:lnTo>
                  <a:pt x="5657" y="11448"/>
                </a:lnTo>
                <a:lnTo>
                  <a:pt x="5692" y="11454"/>
                </a:lnTo>
                <a:lnTo>
                  <a:pt x="5725" y="11459"/>
                </a:lnTo>
                <a:lnTo>
                  <a:pt x="5759" y="11464"/>
                </a:lnTo>
                <a:lnTo>
                  <a:pt x="5793" y="11467"/>
                </a:lnTo>
                <a:lnTo>
                  <a:pt x="5827" y="11470"/>
                </a:lnTo>
                <a:lnTo>
                  <a:pt x="5862" y="11472"/>
                </a:lnTo>
                <a:lnTo>
                  <a:pt x="5896" y="11473"/>
                </a:lnTo>
                <a:lnTo>
                  <a:pt x="5931" y="11473"/>
                </a:lnTo>
                <a:lnTo>
                  <a:pt x="5965" y="11473"/>
                </a:lnTo>
                <a:lnTo>
                  <a:pt x="6001" y="11471"/>
                </a:lnTo>
                <a:lnTo>
                  <a:pt x="6035" y="11469"/>
                </a:lnTo>
                <a:lnTo>
                  <a:pt x="6071" y="11466"/>
                </a:lnTo>
                <a:lnTo>
                  <a:pt x="6105" y="11461"/>
                </a:lnTo>
                <a:lnTo>
                  <a:pt x="6141" y="11457"/>
                </a:lnTo>
                <a:lnTo>
                  <a:pt x="6175" y="11451"/>
                </a:lnTo>
                <a:lnTo>
                  <a:pt x="6211" y="11445"/>
                </a:lnTo>
                <a:lnTo>
                  <a:pt x="6246" y="11436"/>
                </a:lnTo>
                <a:lnTo>
                  <a:pt x="6279" y="11426"/>
                </a:lnTo>
                <a:lnTo>
                  <a:pt x="6310" y="11413"/>
                </a:lnTo>
                <a:lnTo>
                  <a:pt x="6341" y="11401"/>
                </a:lnTo>
                <a:lnTo>
                  <a:pt x="6373" y="11387"/>
                </a:lnTo>
                <a:lnTo>
                  <a:pt x="6403" y="11374"/>
                </a:lnTo>
                <a:lnTo>
                  <a:pt x="6434" y="11359"/>
                </a:lnTo>
                <a:lnTo>
                  <a:pt x="6463" y="11343"/>
                </a:lnTo>
                <a:lnTo>
                  <a:pt x="6494" y="11327"/>
                </a:lnTo>
                <a:lnTo>
                  <a:pt x="6522" y="11310"/>
                </a:lnTo>
                <a:lnTo>
                  <a:pt x="6551" y="11293"/>
                </a:lnTo>
                <a:lnTo>
                  <a:pt x="6579" y="11275"/>
                </a:lnTo>
                <a:lnTo>
                  <a:pt x="6606" y="11256"/>
                </a:lnTo>
                <a:lnTo>
                  <a:pt x="6635" y="11237"/>
                </a:lnTo>
                <a:lnTo>
                  <a:pt x="6661" y="11217"/>
                </a:lnTo>
                <a:lnTo>
                  <a:pt x="6687" y="11196"/>
                </a:lnTo>
                <a:lnTo>
                  <a:pt x="6713" y="11175"/>
                </a:lnTo>
                <a:lnTo>
                  <a:pt x="6738" y="11154"/>
                </a:lnTo>
                <a:lnTo>
                  <a:pt x="6763" y="11132"/>
                </a:lnTo>
                <a:lnTo>
                  <a:pt x="6787" y="11110"/>
                </a:lnTo>
                <a:lnTo>
                  <a:pt x="6810" y="11087"/>
                </a:lnTo>
                <a:lnTo>
                  <a:pt x="6833" y="11063"/>
                </a:lnTo>
                <a:lnTo>
                  <a:pt x="6856" y="11038"/>
                </a:lnTo>
                <a:lnTo>
                  <a:pt x="6878" y="11014"/>
                </a:lnTo>
                <a:lnTo>
                  <a:pt x="6899" y="10989"/>
                </a:lnTo>
                <a:lnTo>
                  <a:pt x="6920" y="10963"/>
                </a:lnTo>
                <a:lnTo>
                  <a:pt x="6940" y="10938"/>
                </a:lnTo>
                <a:lnTo>
                  <a:pt x="6958" y="10911"/>
                </a:lnTo>
                <a:lnTo>
                  <a:pt x="6977" y="10885"/>
                </a:lnTo>
                <a:lnTo>
                  <a:pt x="6995" y="10858"/>
                </a:lnTo>
                <a:lnTo>
                  <a:pt x="7013" y="10831"/>
                </a:lnTo>
                <a:lnTo>
                  <a:pt x="7029" y="10802"/>
                </a:lnTo>
                <a:lnTo>
                  <a:pt x="7045" y="10774"/>
                </a:lnTo>
                <a:lnTo>
                  <a:pt x="7060" y="10746"/>
                </a:lnTo>
                <a:lnTo>
                  <a:pt x="7074" y="10717"/>
                </a:lnTo>
                <a:lnTo>
                  <a:pt x="7088" y="10688"/>
                </a:lnTo>
                <a:lnTo>
                  <a:pt x="7101" y="10658"/>
                </a:lnTo>
                <a:lnTo>
                  <a:pt x="7113" y="10628"/>
                </a:lnTo>
                <a:lnTo>
                  <a:pt x="7124" y="10599"/>
                </a:lnTo>
                <a:lnTo>
                  <a:pt x="7136" y="10569"/>
                </a:lnTo>
                <a:lnTo>
                  <a:pt x="7145" y="10537"/>
                </a:lnTo>
                <a:lnTo>
                  <a:pt x="7155" y="10507"/>
                </a:lnTo>
                <a:lnTo>
                  <a:pt x="7162" y="10476"/>
                </a:lnTo>
                <a:lnTo>
                  <a:pt x="7169" y="10444"/>
                </a:lnTo>
                <a:lnTo>
                  <a:pt x="7177" y="10413"/>
                </a:lnTo>
                <a:lnTo>
                  <a:pt x="7182" y="10382"/>
                </a:lnTo>
                <a:lnTo>
                  <a:pt x="7187" y="10350"/>
                </a:lnTo>
                <a:lnTo>
                  <a:pt x="7190" y="10318"/>
                </a:lnTo>
                <a:lnTo>
                  <a:pt x="7193" y="10287"/>
                </a:lnTo>
                <a:lnTo>
                  <a:pt x="7195" y="10254"/>
                </a:lnTo>
                <a:lnTo>
                  <a:pt x="7197" y="10222"/>
                </a:lnTo>
                <a:lnTo>
                  <a:pt x="7198" y="10189"/>
                </a:lnTo>
                <a:lnTo>
                  <a:pt x="7197" y="10157"/>
                </a:lnTo>
                <a:lnTo>
                  <a:pt x="7194" y="10125"/>
                </a:lnTo>
                <a:lnTo>
                  <a:pt x="7192" y="10092"/>
                </a:lnTo>
                <a:lnTo>
                  <a:pt x="7188" y="10060"/>
                </a:lnTo>
                <a:lnTo>
                  <a:pt x="7184" y="10026"/>
                </a:lnTo>
                <a:lnTo>
                  <a:pt x="7179" y="9994"/>
                </a:lnTo>
                <a:lnTo>
                  <a:pt x="7171" y="9962"/>
                </a:lnTo>
                <a:lnTo>
                  <a:pt x="7164" y="9928"/>
                </a:lnTo>
                <a:lnTo>
                  <a:pt x="7156" y="9896"/>
                </a:lnTo>
                <a:lnTo>
                  <a:pt x="7145" y="9864"/>
                </a:lnTo>
                <a:lnTo>
                  <a:pt x="7135" y="9831"/>
                </a:lnTo>
                <a:lnTo>
                  <a:pt x="7123" y="9799"/>
                </a:lnTo>
                <a:lnTo>
                  <a:pt x="7110" y="9766"/>
                </a:lnTo>
                <a:lnTo>
                  <a:pt x="7099" y="9744"/>
                </a:lnTo>
                <a:lnTo>
                  <a:pt x="7087" y="9724"/>
                </a:lnTo>
                <a:lnTo>
                  <a:pt x="7074" y="9703"/>
                </a:lnTo>
                <a:lnTo>
                  <a:pt x="7062" y="9683"/>
                </a:lnTo>
                <a:lnTo>
                  <a:pt x="7048" y="9662"/>
                </a:lnTo>
                <a:lnTo>
                  <a:pt x="7034" y="9643"/>
                </a:lnTo>
                <a:lnTo>
                  <a:pt x="7004" y="9605"/>
                </a:lnTo>
                <a:lnTo>
                  <a:pt x="6973" y="9569"/>
                </a:lnTo>
                <a:lnTo>
                  <a:pt x="6941" y="9534"/>
                </a:lnTo>
                <a:lnTo>
                  <a:pt x="6907" y="9501"/>
                </a:lnTo>
                <a:lnTo>
                  <a:pt x="6872" y="9471"/>
                </a:lnTo>
                <a:lnTo>
                  <a:pt x="6836" y="9442"/>
                </a:lnTo>
                <a:lnTo>
                  <a:pt x="6801" y="9415"/>
                </a:lnTo>
                <a:lnTo>
                  <a:pt x="6765" y="9391"/>
                </a:lnTo>
                <a:lnTo>
                  <a:pt x="6729" y="9368"/>
                </a:lnTo>
                <a:lnTo>
                  <a:pt x="6693" y="9350"/>
                </a:lnTo>
                <a:lnTo>
                  <a:pt x="6659" y="9332"/>
                </a:lnTo>
                <a:lnTo>
                  <a:pt x="6624" y="9317"/>
                </a:lnTo>
                <a:lnTo>
                  <a:pt x="6592" y="9305"/>
                </a:lnTo>
                <a:lnTo>
                  <a:pt x="6570" y="9294"/>
                </a:lnTo>
                <a:lnTo>
                  <a:pt x="6548" y="9285"/>
                </a:lnTo>
                <a:lnTo>
                  <a:pt x="6527" y="9276"/>
                </a:lnTo>
                <a:lnTo>
                  <a:pt x="6506" y="9268"/>
                </a:lnTo>
                <a:lnTo>
                  <a:pt x="6484" y="9260"/>
                </a:lnTo>
                <a:lnTo>
                  <a:pt x="6463" y="9254"/>
                </a:lnTo>
                <a:lnTo>
                  <a:pt x="6443" y="9247"/>
                </a:lnTo>
                <a:lnTo>
                  <a:pt x="6422" y="9242"/>
                </a:lnTo>
                <a:lnTo>
                  <a:pt x="6401" y="9238"/>
                </a:lnTo>
                <a:lnTo>
                  <a:pt x="6380" y="9234"/>
                </a:lnTo>
                <a:lnTo>
                  <a:pt x="6359" y="9230"/>
                </a:lnTo>
                <a:lnTo>
                  <a:pt x="6339" y="9227"/>
                </a:lnTo>
                <a:lnTo>
                  <a:pt x="6318" y="9225"/>
                </a:lnTo>
                <a:lnTo>
                  <a:pt x="6297" y="9224"/>
                </a:lnTo>
                <a:lnTo>
                  <a:pt x="6258" y="9223"/>
                </a:lnTo>
                <a:lnTo>
                  <a:pt x="6218" y="9224"/>
                </a:lnTo>
                <a:lnTo>
                  <a:pt x="6178" y="9229"/>
                </a:lnTo>
                <a:lnTo>
                  <a:pt x="6139" y="9235"/>
                </a:lnTo>
                <a:lnTo>
                  <a:pt x="6100" y="9243"/>
                </a:lnTo>
                <a:lnTo>
                  <a:pt x="6062" y="9254"/>
                </a:lnTo>
                <a:lnTo>
                  <a:pt x="6025" y="9266"/>
                </a:lnTo>
                <a:lnTo>
                  <a:pt x="5987" y="9281"/>
                </a:lnTo>
                <a:lnTo>
                  <a:pt x="5951" y="9297"/>
                </a:lnTo>
                <a:lnTo>
                  <a:pt x="5914" y="9316"/>
                </a:lnTo>
                <a:lnTo>
                  <a:pt x="5879" y="9336"/>
                </a:lnTo>
                <a:lnTo>
                  <a:pt x="5843" y="9358"/>
                </a:lnTo>
                <a:lnTo>
                  <a:pt x="5809" y="9382"/>
                </a:lnTo>
                <a:lnTo>
                  <a:pt x="5774" y="9407"/>
                </a:lnTo>
                <a:lnTo>
                  <a:pt x="5741" y="9434"/>
                </a:lnTo>
                <a:lnTo>
                  <a:pt x="5708" y="9461"/>
                </a:lnTo>
                <a:lnTo>
                  <a:pt x="5676" y="9492"/>
                </a:lnTo>
                <a:lnTo>
                  <a:pt x="5644" y="9522"/>
                </a:lnTo>
                <a:lnTo>
                  <a:pt x="5613" y="9553"/>
                </a:lnTo>
                <a:lnTo>
                  <a:pt x="5582" y="9587"/>
                </a:lnTo>
                <a:lnTo>
                  <a:pt x="5553" y="9621"/>
                </a:lnTo>
                <a:lnTo>
                  <a:pt x="5524" y="9656"/>
                </a:lnTo>
                <a:lnTo>
                  <a:pt x="5494" y="9692"/>
                </a:lnTo>
                <a:lnTo>
                  <a:pt x="5466" y="9729"/>
                </a:lnTo>
                <a:lnTo>
                  <a:pt x="5439" y="9766"/>
                </a:lnTo>
                <a:lnTo>
                  <a:pt x="5435" y="9734"/>
                </a:lnTo>
                <a:lnTo>
                  <a:pt x="5431" y="9703"/>
                </a:lnTo>
                <a:lnTo>
                  <a:pt x="5429" y="9671"/>
                </a:lnTo>
                <a:lnTo>
                  <a:pt x="5429" y="9642"/>
                </a:lnTo>
                <a:lnTo>
                  <a:pt x="5429" y="9612"/>
                </a:lnTo>
                <a:lnTo>
                  <a:pt x="5430" y="9584"/>
                </a:lnTo>
                <a:lnTo>
                  <a:pt x="5433" y="9555"/>
                </a:lnTo>
                <a:lnTo>
                  <a:pt x="5437" y="9528"/>
                </a:lnTo>
                <a:lnTo>
                  <a:pt x="5442" y="9501"/>
                </a:lnTo>
                <a:lnTo>
                  <a:pt x="5448" y="9475"/>
                </a:lnTo>
                <a:lnTo>
                  <a:pt x="5456" y="9450"/>
                </a:lnTo>
                <a:lnTo>
                  <a:pt x="5464" y="9425"/>
                </a:lnTo>
                <a:lnTo>
                  <a:pt x="5472" y="9401"/>
                </a:lnTo>
                <a:lnTo>
                  <a:pt x="5483" y="9377"/>
                </a:lnTo>
                <a:lnTo>
                  <a:pt x="5494" y="9354"/>
                </a:lnTo>
                <a:lnTo>
                  <a:pt x="5507" y="9332"/>
                </a:lnTo>
                <a:lnTo>
                  <a:pt x="5519" y="9310"/>
                </a:lnTo>
                <a:lnTo>
                  <a:pt x="5534" y="9289"/>
                </a:lnTo>
                <a:lnTo>
                  <a:pt x="5549" y="9269"/>
                </a:lnTo>
                <a:lnTo>
                  <a:pt x="5564" y="9249"/>
                </a:lnTo>
                <a:lnTo>
                  <a:pt x="5581" y="9230"/>
                </a:lnTo>
                <a:lnTo>
                  <a:pt x="5598" y="9212"/>
                </a:lnTo>
                <a:lnTo>
                  <a:pt x="5615" y="9194"/>
                </a:lnTo>
                <a:lnTo>
                  <a:pt x="5634" y="9176"/>
                </a:lnTo>
                <a:lnTo>
                  <a:pt x="5654" y="9160"/>
                </a:lnTo>
                <a:lnTo>
                  <a:pt x="5674" y="9144"/>
                </a:lnTo>
                <a:lnTo>
                  <a:pt x="5695" y="9128"/>
                </a:lnTo>
                <a:lnTo>
                  <a:pt x="5716" y="9114"/>
                </a:lnTo>
                <a:lnTo>
                  <a:pt x="5738" y="9099"/>
                </a:lnTo>
                <a:lnTo>
                  <a:pt x="5761" y="9085"/>
                </a:lnTo>
                <a:lnTo>
                  <a:pt x="5783" y="9073"/>
                </a:lnTo>
                <a:lnTo>
                  <a:pt x="5807" y="9060"/>
                </a:lnTo>
                <a:lnTo>
                  <a:pt x="5831" y="9048"/>
                </a:lnTo>
                <a:lnTo>
                  <a:pt x="5855" y="9036"/>
                </a:lnTo>
                <a:lnTo>
                  <a:pt x="5880" y="9026"/>
                </a:lnTo>
                <a:lnTo>
                  <a:pt x="5905" y="9017"/>
                </a:lnTo>
                <a:lnTo>
                  <a:pt x="5930" y="9006"/>
                </a:lnTo>
                <a:lnTo>
                  <a:pt x="5956" y="8998"/>
                </a:lnTo>
                <a:lnTo>
                  <a:pt x="5982" y="8989"/>
                </a:lnTo>
                <a:lnTo>
                  <a:pt x="6008" y="8981"/>
                </a:lnTo>
                <a:lnTo>
                  <a:pt x="6061" y="8967"/>
                </a:lnTo>
                <a:lnTo>
                  <a:pt x="6116" y="8956"/>
                </a:lnTo>
                <a:lnTo>
                  <a:pt x="6170" y="8947"/>
                </a:lnTo>
                <a:lnTo>
                  <a:pt x="6225" y="8939"/>
                </a:lnTo>
                <a:lnTo>
                  <a:pt x="6280" y="8934"/>
                </a:lnTo>
                <a:lnTo>
                  <a:pt x="6335" y="8932"/>
                </a:lnTo>
                <a:lnTo>
                  <a:pt x="6389" y="8931"/>
                </a:lnTo>
                <a:lnTo>
                  <a:pt x="6444" y="8933"/>
                </a:lnTo>
                <a:lnTo>
                  <a:pt x="6497" y="8936"/>
                </a:lnTo>
                <a:lnTo>
                  <a:pt x="6549" y="8941"/>
                </a:lnTo>
                <a:lnTo>
                  <a:pt x="6599" y="8950"/>
                </a:lnTo>
                <a:lnTo>
                  <a:pt x="6649" y="8959"/>
                </a:lnTo>
                <a:lnTo>
                  <a:pt x="6691" y="8971"/>
                </a:lnTo>
                <a:lnTo>
                  <a:pt x="6733" y="8984"/>
                </a:lnTo>
                <a:lnTo>
                  <a:pt x="6774" y="8999"/>
                </a:lnTo>
                <a:lnTo>
                  <a:pt x="6813" y="9015"/>
                </a:lnTo>
                <a:lnTo>
                  <a:pt x="6852" y="9033"/>
                </a:lnTo>
                <a:lnTo>
                  <a:pt x="6889" y="9053"/>
                </a:lnTo>
                <a:lnTo>
                  <a:pt x="6927" y="9074"/>
                </a:lnTo>
                <a:lnTo>
                  <a:pt x="6963" y="9096"/>
                </a:lnTo>
                <a:lnTo>
                  <a:pt x="6997" y="9120"/>
                </a:lnTo>
                <a:lnTo>
                  <a:pt x="7030" y="9145"/>
                </a:lnTo>
                <a:lnTo>
                  <a:pt x="7063" y="9171"/>
                </a:lnTo>
                <a:lnTo>
                  <a:pt x="7094" y="9198"/>
                </a:lnTo>
                <a:lnTo>
                  <a:pt x="7126" y="9226"/>
                </a:lnTo>
                <a:lnTo>
                  <a:pt x="7155" y="9257"/>
                </a:lnTo>
                <a:lnTo>
                  <a:pt x="7183" y="9287"/>
                </a:lnTo>
                <a:lnTo>
                  <a:pt x="7211" y="9319"/>
                </a:lnTo>
                <a:lnTo>
                  <a:pt x="7237" y="9352"/>
                </a:lnTo>
                <a:lnTo>
                  <a:pt x="7262" y="9386"/>
                </a:lnTo>
                <a:lnTo>
                  <a:pt x="7287" y="9421"/>
                </a:lnTo>
                <a:lnTo>
                  <a:pt x="7310" y="9456"/>
                </a:lnTo>
                <a:lnTo>
                  <a:pt x="7333" y="9493"/>
                </a:lnTo>
                <a:lnTo>
                  <a:pt x="7354" y="9530"/>
                </a:lnTo>
                <a:lnTo>
                  <a:pt x="7375" y="9569"/>
                </a:lnTo>
                <a:lnTo>
                  <a:pt x="7394" y="9608"/>
                </a:lnTo>
                <a:lnTo>
                  <a:pt x="7413" y="9646"/>
                </a:lnTo>
                <a:lnTo>
                  <a:pt x="7430" y="9687"/>
                </a:lnTo>
                <a:lnTo>
                  <a:pt x="7446" y="9728"/>
                </a:lnTo>
                <a:lnTo>
                  <a:pt x="7462" y="9768"/>
                </a:lnTo>
                <a:lnTo>
                  <a:pt x="7476" y="9810"/>
                </a:lnTo>
                <a:lnTo>
                  <a:pt x="7489" y="9853"/>
                </a:lnTo>
                <a:lnTo>
                  <a:pt x="7501" y="9896"/>
                </a:lnTo>
                <a:lnTo>
                  <a:pt x="7513" y="9939"/>
                </a:lnTo>
                <a:lnTo>
                  <a:pt x="7522" y="9993"/>
                </a:lnTo>
                <a:lnTo>
                  <a:pt x="7531" y="10046"/>
                </a:lnTo>
                <a:lnTo>
                  <a:pt x="7536" y="10101"/>
                </a:lnTo>
                <a:lnTo>
                  <a:pt x="7540" y="10154"/>
                </a:lnTo>
                <a:lnTo>
                  <a:pt x="7542" y="10208"/>
                </a:lnTo>
                <a:lnTo>
                  <a:pt x="7542" y="10261"/>
                </a:lnTo>
                <a:lnTo>
                  <a:pt x="7540" y="10315"/>
                </a:lnTo>
                <a:lnTo>
                  <a:pt x="7537" y="10367"/>
                </a:lnTo>
                <a:lnTo>
                  <a:pt x="7531" y="10420"/>
                </a:lnTo>
                <a:lnTo>
                  <a:pt x="7523" y="10471"/>
                </a:lnTo>
                <a:lnTo>
                  <a:pt x="7514" y="10524"/>
                </a:lnTo>
                <a:lnTo>
                  <a:pt x="7502" y="10575"/>
                </a:lnTo>
                <a:lnTo>
                  <a:pt x="7490" y="10626"/>
                </a:lnTo>
                <a:lnTo>
                  <a:pt x="7475" y="10676"/>
                </a:lnTo>
                <a:lnTo>
                  <a:pt x="7459" y="10725"/>
                </a:lnTo>
                <a:lnTo>
                  <a:pt x="7441" y="10774"/>
                </a:lnTo>
                <a:lnTo>
                  <a:pt x="7421" y="10822"/>
                </a:lnTo>
                <a:lnTo>
                  <a:pt x="7400" y="10870"/>
                </a:lnTo>
                <a:lnTo>
                  <a:pt x="7377" y="10916"/>
                </a:lnTo>
                <a:lnTo>
                  <a:pt x="7352" y="10963"/>
                </a:lnTo>
                <a:lnTo>
                  <a:pt x="7326" y="11008"/>
                </a:lnTo>
                <a:lnTo>
                  <a:pt x="7298" y="11052"/>
                </a:lnTo>
                <a:lnTo>
                  <a:pt x="7269" y="11096"/>
                </a:lnTo>
                <a:lnTo>
                  <a:pt x="7237" y="11138"/>
                </a:lnTo>
                <a:lnTo>
                  <a:pt x="7205" y="11179"/>
                </a:lnTo>
                <a:lnTo>
                  <a:pt x="7171" y="11219"/>
                </a:lnTo>
                <a:lnTo>
                  <a:pt x="7136" y="11259"/>
                </a:lnTo>
                <a:lnTo>
                  <a:pt x="7098" y="11296"/>
                </a:lnTo>
                <a:lnTo>
                  <a:pt x="7061" y="11334"/>
                </a:lnTo>
                <a:lnTo>
                  <a:pt x="7021" y="11370"/>
                </a:lnTo>
                <a:lnTo>
                  <a:pt x="6979" y="11404"/>
                </a:lnTo>
                <a:lnTo>
                  <a:pt x="6938" y="11436"/>
                </a:lnTo>
                <a:lnTo>
                  <a:pt x="6888" y="11474"/>
                </a:lnTo>
                <a:lnTo>
                  <a:pt x="6838" y="11508"/>
                </a:lnTo>
                <a:lnTo>
                  <a:pt x="6788" y="11541"/>
                </a:lnTo>
                <a:lnTo>
                  <a:pt x="6737" y="11572"/>
                </a:lnTo>
                <a:lnTo>
                  <a:pt x="6686" y="11600"/>
                </a:lnTo>
                <a:lnTo>
                  <a:pt x="6635" y="11628"/>
                </a:lnTo>
                <a:lnTo>
                  <a:pt x="6582" y="11653"/>
                </a:lnTo>
                <a:lnTo>
                  <a:pt x="6529" y="11676"/>
                </a:lnTo>
                <a:lnTo>
                  <a:pt x="6476" y="11696"/>
                </a:lnTo>
                <a:lnTo>
                  <a:pt x="6423" y="11715"/>
                </a:lnTo>
                <a:lnTo>
                  <a:pt x="6368" y="11732"/>
                </a:lnTo>
                <a:lnTo>
                  <a:pt x="6314" y="11748"/>
                </a:lnTo>
                <a:lnTo>
                  <a:pt x="6260" y="11761"/>
                </a:lnTo>
                <a:lnTo>
                  <a:pt x="6204" y="11773"/>
                </a:lnTo>
                <a:lnTo>
                  <a:pt x="6150" y="11782"/>
                </a:lnTo>
                <a:lnTo>
                  <a:pt x="6095" y="11789"/>
                </a:lnTo>
                <a:lnTo>
                  <a:pt x="6039" y="11796"/>
                </a:lnTo>
                <a:lnTo>
                  <a:pt x="5983" y="11800"/>
                </a:lnTo>
                <a:lnTo>
                  <a:pt x="5928" y="11802"/>
                </a:lnTo>
                <a:lnTo>
                  <a:pt x="5872" y="11802"/>
                </a:lnTo>
                <a:lnTo>
                  <a:pt x="5816" y="11800"/>
                </a:lnTo>
                <a:lnTo>
                  <a:pt x="5761" y="11797"/>
                </a:lnTo>
                <a:lnTo>
                  <a:pt x="5704" y="11792"/>
                </a:lnTo>
                <a:lnTo>
                  <a:pt x="5649" y="11785"/>
                </a:lnTo>
                <a:lnTo>
                  <a:pt x="5594" y="11777"/>
                </a:lnTo>
                <a:lnTo>
                  <a:pt x="5537" y="11766"/>
                </a:lnTo>
                <a:lnTo>
                  <a:pt x="5482" y="11754"/>
                </a:lnTo>
                <a:lnTo>
                  <a:pt x="5428" y="11740"/>
                </a:lnTo>
                <a:lnTo>
                  <a:pt x="5372" y="11725"/>
                </a:lnTo>
                <a:lnTo>
                  <a:pt x="5318" y="11707"/>
                </a:lnTo>
                <a:lnTo>
                  <a:pt x="5263" y="11688"/>
                </a:lnTo>
                <a:lnTo>
                  <a:pt x="5208" y="11667"/>
                </a:lnTo>
                <a:lnTo>
                  <a:pt x="5169" y="11651"/>
                </a:lnTo>
                <a:lnTo>
                  <a:pt x="5129" y="11633"/>
                </a:lnTo>
                <a:lnTo>
                  <a:pt x="5090" y="11615"/>
                </a:lnTo>
                <a:lnTo>
                  <a:pt x="5052" y="11595"/>
                </a:lnTo>
                <a:lnTo>
                  <a:pt x="5014" y="11575"/>
                </a:lnTo>
                <a:lnTo>
                  <a:pt x="4976" y="11555"/>
                </a:lnTo>
                <a:lnTo>
                  <a:pt x="4940" y="11534"/>
                </a:lnTo>
                <a:lnTo>
                  <a:pt x="4904" y="11512"/>
                </a:lnTo>
                <a:lnTo>
                  <a:pt x="4869" y="11489"/>
                </a:lnTo>
                <a:lnTo>
                  <a:pt x="4834" y="11465"/>
                </a:lnTo>
                <a:lnTo>
                  <a:pt x="4800" y="11441"/>
                </a:lnTo>
                <a:lnTo>
                  <a:pt x="4766" y="11416"/>
                </a:lnTo>
                <a:lnTo>
                  <a:pt x="4733" y="11390"/>
                </a:lnTo>
                <a:lnTo>
                  <a:pt x="4702" y="11363"/>
                </a:lnTo>
                <a:lnTo>
                  <a:pt x="4669" y="11336"/>
                </a:lnTo>
                <a:lnTo>
                  <a:pt x="4639" y="11309"/>
                </a:lnTo>
                <a:lnTo>
                  <a:pt x="4609" y="11281"/>
                </a:lnTo>
                <a:lnTo>
                  <a:pt x="4580" y="11252"/>
                </a:lnTo>
                <a:lnTo>
                  <a:pt x="4550" y="11222"/>
                </a:lnTo>
                <a:lnTo>
                  <a:pt x="4522" y="11192"/>
                </a:lnTo>
                <a:lnTo>
                  <a:pt x="4494" y="11161"/>
                </a:lnTo>
                <a:lnTo>
                  <a:pt x="4468" y="11129"/>
                </a:lnTo>
                <a:lnTo>
                  <a:pt x="4442" y="11098"/>
                </a:lnTo>
                <a:lnTo>
                  <a:pt x="4416" y="11066"/>
                </a:lnTo>
                <a:lnTo>
                  <a:pt x="4391" y="11032"/>
                </a:lnTo>
                <a:lnTo>
                  <a:pt x="4367" y="10999"/>
                </a:lnTo>
                <a:lnTo>
                  <a:pt x="4344" y="10965"/>
                </a:lnTo>
                <a:lnTo>
                  <a:pt x="4321" y="10931"/>
                </a:lnTo>
                <a:lnTo>
                  <a:pt x="4299" y="10896"/>
                </a:lnTo>
                <a:lnTo>
                  <a:pt x="4277" y="10861"/>
                </a:lnTo>
                <a:lnTo>
                  <a:pt x="4257" y="10824"/>
                </a:lnTo>
                <a:lnTo>
                  <a:pt x="4237" y="10789"/>
                </a:lnTo>
                <a:lnTo>
                  <a:pt x="4217" y="10752"/>
                </a:lnTo>
                <a:lnTo>
                  <a:pt x="4198" y="10715"/>
                </a:lnTo>
                <a:lnTo>
                  <a:pt x="4181" y="10677"/>
                </a:lnTo>
                <a:lnTo>
                  <a:pt x="4164" y="10640"/>
                </a:lnTo>
                <a:lnTo>
                  <a:pt x="4147" y="10601"/>
                </a:lnTo>
                <a:lnTo>
                  <a:pt x="4133" y="10562"/>
                </a:lnTo>
                <a:lnTo>
                  <a:pt x="4117" y="10524"/>
                </a:lnTo>
                <a:lnTo>
                  <a:pt x="4103" y="10485"/>
                </a:lnTo>
                <a:lnTo>
                  <a:pt x="4090" y="10445"/>
                </a:lnTo>
                <a:lnTo>
                  <a:pt x="4077" y="10406"/>
                </a:lnTo>
                <a:lnTo>
                  <a:pt x="4066" y="10365"/>
                </a:lnTo>
                <a:lnTo>
                  <a:pt x="4054" y="10324"/>
                </a:lnTo>
                <a:lnTo>
                  <a:pt x="4044" y="10283"/>
                </a:lnTo>
                <a:lnTo>
                  <a:pt x="4034" y="10243"/>
                </a:lnTo>
                <a:lnTo>
                  <a:pt x="4026" y="10202"/>
                </a:lnTo>
                <a:lnTo>
                  <a:pt x="4018" y="10160"/>
                </a:lnTo>
                <a:lnTo>
                  <a:pt x="4010" y="10118"/>
                </a:lnTo>
                <a:lnTo>
                  <a:pt x="4004" y="10077"/>
                </a:lnTo>
                <a:lnTo>
                  <a:pt x="3999" y="10035"/>
                </a:lnTo>
                <a:lnTo>
                  <a:pt x="3994" y="9993"/>
                </a:lnTo>
                <a:lnTo>
                  <a:pt x="3990" y="9950"/>
                </a:lnTo>
                <a:lnTo>
                  <a:pt x="3986" y="9907"/>
                </a:lnTo>
                <a:lnTo>
                  <a:pt x="3984" y="9865"/>
                </a:lnTo>
                <a:lnTo>
                  <a:pt x="3982" y="9823"/>
                </a:lnTo>
                <a:lnTo>
                  <a:pt x="3981" y="9780"/>
                </a:lnTo>
                <a:lnTo>
                  <a:pt x="3981" y="9736"/>
                </a:lnTo>
                <a:lnTo>
                  <a:pt x="3982" y="9693"/>
                </a:lnTo>
                <a:lnTo>
                  <a:pt x="3984" y="9650"/>
                </a:lnTo>
                <a:lnTo>
                  <a:pt x="3986" y="9608"/>
                </a:lnTo>
                <a:lnTo>
                  <a:pt x="3990" y="9564"/>
                </a:lnTo>
                <a:lnTo>
                  <a:pt x="3994" y="9521"/>
                </a:lnTo>
                <a:lnTo>
                  <a:pt x="3999" y="9478"/>
                </a:lnTo>
                <a:lnTo>
                  <a:pt x="4004" y="9440"/>
                </a:lnTo>
                <a:lnTo>
                  <a:pt x="4010" y="9403"/>
                </a:lnTo>
                <a:lnTo>
                  <a:pt x="4018" y="9365"/>
                </a:lnTo>
                <a:lnTo>
                  <a:pt x="4026" y="9328"/>
                </a:lnTo>
                <a:lnTo>
                  <a:pt x="4034" y="9291"/>
                </a:lnTo>
                <a:lnTo>
                  <a:pt x="4043" y="9255"/>
                </a:lnTo>
                <a:lnTo>
                  <a:pt x="4053" y="9218"/>
                </a:lnTo>
                <a:lnTo>
                  <a:pt x="4063" y="9182"/>
                </a:lnTo>
                <a:lnTo>
                  <a:pt x="4074" y="9145"/>
                </a:lnTo>
                <a:lnTo>
                  <a:pt x="4086" y="9109"/>
                </a:lnTo>
                <a:lnTo>
                  <a:pt x="4098" y="9074"/>
                </a:lnTo>
                <a:lnTo>
                  <a:pt x="4111" y="9038"/>
                </a:lnTo>
                <a:lnTo>
                  <a:pt x="4124" y="9003"/>
                </a:lnTo>
                <a:lnTo>
                  <a:pt x="4138" y="8968"/>
                </a:lnTo>
                <a:lnTo>
                  <a:pt x="4152" y="8933"/>
                </a:lnTo>
                <a:lnTo>
                  <a:pt x="4168" y="8899"/>
                </a:lnTo>
                <a:lnTo>
                  <a:pt x="4184" y="8865"/>
                </a:lnTo>
                <a:lnTo>
                  <a:pt x="4200" y="8831"/>
                </a:lnTo>
                <a:lnTo>
                  <a:pt x="4217" y="8797"/>
                </a:lnTo>
                <a:lnTo>
                  <a:pt x="4235" y="8764"/>
                </a:lnTo>
                <a:lnTo>
                  <a:pt x="4253" y="8731"/>
                </a:lnTo>
                <a:lnTo>
                  <a:pt x="4271" y="8699"/>
                </a:lnTo>
                <a:lnTo>
                  <a:pt x="4291" y="8667"/>
                </a:lnTo>
                <a:lnTo>
                  <a:pt x="4311" y="8634"/>
                </a:lnTo>
                <a:lnTo>
                  <a:pt x="4331" y="8603"/>
                </a:lnTo>
                <a:lnTo>
                  <a:pt x="4352" y="8571"/>
                </a:lnTo>
                <a:lnTo>
                  <a:pt x="4374" y="8540"/>
                </a:lnTo>
                <a:lnTo>
                  <a:pt x="4396" y="8509"/>
                </a:lnTo>
                <a:lnTo>
                  <a:pt x="4418" y="8479"/>
                </a:lnTo>
                <a:lnTo>
                  <a:pt x="4441" y="8449"/>
                </a:lnTo>
                <a:lnTo>
                  <a:pt x="4465" y="8419"/>
                </a:lnTo>
                <a:lnTo>
                  <a:pt x="4489" y="8390"/>
                </a:lnTo>
                <a:lnTo>
                  <a:pt x="4513" y="8362"/>
                </a:lnTo>
                <a:lnTo>
                  <a:pt x="4538" y="8333"/>
                </a:lnTo>
                <a:lnTo>
                  <a:pt x="4564" y="8305"/>
                </a:lnTo>
                <a:lnTo>
                  <a:pt x="4590" y="8277"/>
                </a:lnTo>
                <a:lnTo>
                  <a:pt x="4616" y="8250"/>
                </a:lnTo>
                <a:lnTo>
                  <a:pt x="4643" y="8223"/>
                </a:lnTo>
                <a:lnTo>
                  <a:pt x="4670" y="8197"/>
                </a:lnTo>
                <a:lnTo>
                  <a:pt x="4699" y="8171"/>
                </a:lnTo>
                <a:lnTo>
                  <a:pt x="4727" y="8145"/>
                </a:lnTo>
                <a:lnTo>
                  <a:pt x="4756" y="8120"/>
                </a:lnTo>
                <a:lnTo>
                  <a:pt x="4785" y="8095"/>
                </a:lnTo>
                <a:lnTo>
                  <a:pt x="4816" y="8071"/>
                </a:lnTo>
                <a:lnTo>
                  <a:pt x="4845" y="8047"/>
                </a:lnTo>
                <a:lnTo>
                  <a:pt x="4876" y="8024"/>
                </a:lnTo>
                <a:lnTo>
                  <a:pt x="4907" y="8001"/>
                </a:lnTo>
                <a:lnTo>
                  <a:pt x="4939" y="7978"/>
                </a:lnTo>
                <a:lnTo>
                  <a:pt x="4970" y="7957"/>
                </a:lnTo>
                <a:lnTo>
                  <a:pt x="5002" y="7936"/>
                </a:lnTo>
                <a:lnTo>
                  <a:pt x="5036" y="7915"/>
                </a:lnTo>
                <a:lnTo>
                  <a:pt x="5068" y="7895"/>
                </a:lnTo>
                <a:lnTo>
                  <a:pt x="5103" y="7875"/>
                </a:lnTo>
                <a:lnTo>
                  <a:pt x="5136" y="7855"/>
                </a:lnTo>
                <a:lnTo>
                  <a:pt x="5171" y="7836"/>
                </a:lnTo>
                <a:lnTo>
                  <a:pt x="5205" y="7819"/>
                </a:lnTo>
                <a:lnTo>
                  <a:pt x="5241" y="7801"/>
                </a:lnTo>
                <a:lnTo>
                  <a:pt x="5276" y="7783"/>
                </a:lnTo>
                <a:lnTo>
                  <a:pt x="5312" y="7766"/>
                </a:lnTo>
                <a:lnTo>
                  <a:pt x="5348" y="7751"/>
                </a:lnTo>
                <a:lnTo>
                  <a:pt x="5385" y="7735"/>
                </a:lnTo>
                <a:lnTo>
                  <a:pt x="5421" y="7720"/>
                </a:lnTo>
                <a:lnTo>
                  <a:pt x="5459" y="7706"/>
                </a:lnTo>
                <a:lnTo>
                  <a:pt x="5496" y="7692"/>
                </a:lnTo>
                <a:lnTo>
                  <a:pt x="5554" y="7673"/>
                </a:lnTo>
                <a:lnTo>
                  <a:pt x="5610" y="7657"/>
                </a:lnTo>
                <a:lnTo>
                  <a:pt x="5668" y="7641"/>
                </a:lnTo>
                <a:lnTo>
                  <a:pt x="5724" y="7627"/>
                </a:lnTo>
                <a:lnTo>
                  <a:pt x="5782" y="7615"/>
                </a:lnTo>
                <a:lnTo>
                  <a:pt x="5839" y="7603"/>
                </a:lnTo>
                <a:lnTo>
                  <a:pt x="5896" y="7594"/>
                </a:lnTo>
                <a:lnTo>
                  <a:pt x="5954" y="7586"/>
                </a:lnTo>
                <a:lnTo>
                  <a:pt x="6011" y="7578"/>
                </a:lnTo>
                <a:lnTo>
                  <a:pt x="6069" y="7573"/>
                </a:lnTo>
                <a:lnTo>
                  <a:pt x="6126" y="7568"/>
                </a:lnTo>
                <a:lnTo>
                  <a:pt x="6184" y="7565"/>
                </a:lnTo>
                <a:lnTo>
                  <a:pt x="6241" y="7564"/>
                </a:lnTo>
                <a:lnTo>
                  <a:pt x="6298" y="7563"/>
                </a:lnTo>
                <a:lnTo>
                  <a:pt x="6355" y="7564"/>
                </a:lnTo>
                <a:lnTo>
                  <a:pt x="6412" y="7566"/>
                </a:lnTo>
                <a:lnTo>
                  <a:pt x="6469" y="7569"/>
                </a:lnTo>
                <a:lnTo>
                  <a:pt x="6526" y="7573"/>
                </a:lnTo>
                <a:lnTo>
                  <a:pt x="6582" y="7579"/>
                </a:lnTo>
                <a:lnTo>
                  <a:pt x="6638" y="7587"/>
                </a:lnTo>
                <a:lnTo>
                  <a:pt x="6694" y="7595"/>
                </a:lnTo>
                <a:lnTo>
                  <a:pt x="6750" y="7604"/>
                </a:lnTo>
                <a:lnTo>
                  <a:pt x="6806" y="7615"/>
                </a:lnTo>
                <a:lnTo>
                  <a:pt x="6861" y="7626"/>
                </a:lnTo>
                <a:lnTo>
                  <a:pt x="6916" y="7640"/>
                </a:lnTo>
                <a:lnTo>
                  <a:pt x="6970" y="7655"/>
                </a:lnTo>
                <a:lnTo>
                  <a:pt x="7024" y="7669"/>
                </a:lnTo>
                <a:lnTo>
                  <a:pt x="7079" y="7686"/>
                </a:lnTo>
                <a:lnTo>
                  <a:pt x="7132" y="7704"/>
                </a:lnTo>
                <a:lnTo>
                  <a:pt x="7185" y="7723"/>
                </a:lnTo>
                <a:lnTo>
                  <a:pt x="7237" y="7742"/>
                </a:lnTo>
                <a:lnTo>
                  <a:pt x="7289" y="7763"/>
                </a:lnTo>
                <a:lnTo>
                  <a:pt x="7342" y="7786"/>
                </a:lnTo>
                <a:lnTo>
                  <a:pt x="7393" y="7809"/>
                </a:lnTo>
                <a:lnTo>
                  <a:pt x="7444" y="7833"/>
                </a:lnTo>
                <a:lnTo>
                  <a:pt x="7494" y="7858"/>
                </a:lnTo>
                <a:lnTo>
                  <a:pt x="7543" y="7885"/>
                </a:lnTo>
                <a:lnTo>
                  <a:pt x="7592" y="7913"/>
                </a:lnTo>
                <a:lnTo>
                  <a:pt x="7641" y="7941"/>
                </a:lnTo>
                <a:lnTo>
                  <a:pt x="7689" y="7971"/>
                </a:lnTo>
                <a:lnTo>
                  <a:pt x="7736" y="8001"/>
                </a:lnTo>
                <a:lnTo>
                  <a:pt x="7783" y="8033"/>
                </a:lnTo>
                <a:lnTo>
                  <a:pt x="7829" y="8065"/>
                </a:lnTo>
                <a:lnTo>
                  <a:pt x="7874" y="8098"/>
                </a:lnTo>
                <a:lnTo>
                  <a:pt x="7919" y="8133"/>
                </a:lnTo>
                <a:lnTo>
                  <a:pt x="7963" y="8168"/>
                </a:lnTo>
                <a:lnTo>
                  <a:pt x="8006" y="8205"/>
                </a:lnTo>
                <a:lnTo>
                  <a:pt x="8049" y="8243"/>
                </a:lnTo>
                <a:lnTo>
                  <a:pt x="8090" y="8281"/>
                </a:lnTo>
                <a:lnTo>
                  <a:pt x="8131" y="8320"/>
                </a:lnTo>
                <a:lnTo>
                  <a:pt x="8171" y="8361"/>
                </a:lnTo>
                <a:lnTo>
                  <a:pt x="8211" y="8401"/>
                </a:lnTo>
                <a:lnTo>
                  <a:pt x="8248" y="8443"/>
                </a:lnTo>
                <a:lnTo>
                  <a:pt x="8286" y="8486"/>
                </a:lnTo>
                <a:lnTo>
                  <a:pt x="8322" y="8530"/>
                </a:lnTo>
                <a:lnTo>
                  <a:pt x="8358" y="8574"/>
                </a:lnTo>
                <a:lnTo>
                  <a:pt x="8393" y="8620"/>
                </a:lnTo>
                <a:lnTo>
                  <a:pt x="8427" y="8666"/>
                </a:lnTo>
                <a:lnTo>
                  <a:pt x="8459" y="8713"/>
                </a:lnTo>
                <a:lnTo>
                  <a:pt x="8491" y="8761"/>
                </a:lnTo>
                <a:lnTo>
                  <a:pt x="8522" y="8809"/>
                </a:lnTo>
                <a:lnTo>
                  <a:pt x="8551" y="8858"/>
                </a:lnTo>
                <a:lnTo>
                  <a:pt x="8580" y="8909"/>
                </a:lnTo>
                <a:lnTo>
                  <a:pt x="8607" y="8959"/>
                </a:lnTo>
                <a:lnTo>
                  <a:pt x="8644" y="9035"/>
                </a:lnTo>
                <a:lnTo>
                  <a:pt x="8678" y="9112"/>
                </a:lnTo>
                <a:lnTo>
                  <a:pt x="8711" y="9188"/>
                </a:lnTo>
                <a:lnTo>
                  <a:pt x="8740" y="9264"/>
                </a:lnTo>
                <a:lnTo>
                  <a:pt x="8767" y="9341"/>
                </a:lnTo>
                <a:lnTo>
                  <a:pt x="8792" y="9419"/>
                </a:lnTo>
                <a:lnTo>
                  <a:pt x="8815" y="9496"/>
                </a:lnTo>
                <a:lnTo>
                  <a:pt x="8835" y="9573"/>
                </a:lnTo>
                <a:lnTo>
                  <a:pt x="8854" y="9652"/>
                </a:lnTo>
                <a:lnTo>
                  <a:pt x="8869" y="9729"/>
                </a:lnTo>
                <a:lnTo>
                  <a:pt x="8883" y="9807"/>
                </a:lnTo>
                <a:lnTo>
                  <a:pt x="8895" y="9885"/>
                </a:lnTo>
                <a:lnTo>
                  <a:pt x="8903" y="9964"/>
                </a:lnTo>
                <a:lnTo>
                  <a:pt x="8910" y="10042"/>
                </a:lnTo>
                <a:lnTo>
                  <a:pt x="8915" y="10120"/>
                </a:lnTo>
                <a:lnTo>
                  <a:pt x="8917" y="10199"/>
                </a:lnTo>
                <a:lnTo>
                  <a:pt x="8917" y="10277"/>
                </a:lnTo>
                <a:lnTo>
                  <a:pt x="8916" y="10356"/>
                </a:lnTo>
                <a:lnTo>
                  <a:pt x="8912" y="10435"/>
                </a:lnTo>
                <a:lnTo>
                  <a:pt x="8906" y="10513"/>
                </a:lnTo>
                <a:lnTo>
                  <a:pt x="8898" y="10591"/>
                </a:lnTo>
                <a:lnTo>
                  <a:pt x="8887" y="10670"/>
                </a:lnTo>
                <a:lnTo>
                  <a:pt x="8875" y="10748"/>
                </a:lnTo>
                <a:lnTo>
                  <a:pt x="8860" y="10826"/>
                </a:lnTo>
                <a:lnTo>
                  <a:pt x="8843" y="10904"/>
                </a:lnTo>
                <a:lnTo>
                  <a:pt x="8825" y="10982"/>
                </a:lnTo>
                <a:lnTo>
                  <a:pt x="8804" y="11059"/>
                </a:lnTo>
                <a:lnTo>
                  <a:pt x="8781" y="11137"/>
                </a:lnTo>
                <a:lnTo>
                  <a:pt x="8756" y="11214"/>
                </a:lnTo>
                <a:lnTo>
                  <a:pt x="8728" y="11291"/>
                </a:lnTo>
                <a:lnTo>
                  <a:pt x="8699" y="11367"/>
                </a:lnTo>
                <a:lnTo>
                  <a:pt x="8669" y="11444"/>
                </a:lnTo>
                <a:lnTo>
                  <a:pt x="8737" y="11437"/>
                </a:lnTo>
                <a:lnTo>
                  <a:pt x="8806" y="11428"/>
                </a:lnTo>
                <a:lnTo>
                  <a:pt x="8874" y="11417"/>
                </a:lnTo>
                <a:lnTo>
                  <a:pt x="8943" y="11403"/>
                </a:lnTo>
                <a:lnTo>
                  <a:pt x="9010" y="11388"/>
                </a:lnTo>
                <a:lnTo>
                  <a:pt x="9079" y="11371"/>
                </a:lnTo>
                <a:lnTo>
                  <a:pt x="9147" y="11352"/>
                </a:lnTo>
                <a:lnTo>
                  <a:pt x="9215" y="11331"/>
                </a:lnTo>
                <a:lnTo>
                  <a:pt x="9283" y="11308"/>
                </a:lnTo>
                <a:lnTo>
                  <a:pt x="9351" y="11285"/>
                </a:lnTo>
                <a:lnTo>
                  <a:pt x="9417" y="11260"/>
                </a:lnTo>
                <a:lnTo>
                  <a:pt x="9482" y="11234"/>
                </a:lnTo>
                <a:lnTo>
                  <a:pt x="9548" y="11206"/>
                </a:lnTo>
                <a:lnTo>
                  <a:pt x="9613" y="11177"/>
                </a:lnTo>
                <a:lnTo>
                  <a:pt x="9677" y="11148"/>
                </a:lnTo>
                <a:lnTo>
                  <a:pt x="9739" y="11117"/>
                </a:lnTo>
                <a:lnTo>
                  <a:pt x="9802" y="11085"/>
                </a:lnTo>
                <a:lnTo>
                  <a:pt x="9864" y="11052"/>
                </a:lnTo>
                <a:lnTo>
                  <a:pt x="9925" y="11018"/>
                </a:lnTo>
                <a:lnTo>
                  <a:pt x="9985" y="10982"/>
                </a:lnTo>
                <a:lnTo>
                  <a:pt x="10044" y="10946"/>
                </a:lnTo>
                <a:lnTo>
                  <a:pt x="10103" y="10909"/>
                </a:lnTo>
                <a:lnTo>
                  <a:pt x="10161" y="10870"/>
                </a:lnTo>
                <a:lnTo>
                  <a:pt x="10219" y="10831"/>
                </a:lnTo>
                <a:lnTo>
                  <a:pt x="10274" y="10790"/>
                </a:lnTo>
                <a:lnTo>
                  <a:pt x="10330" y="10748"/>
                </a:lnTo>
                <a:lnTo>
                  <a:pt x="10385" y="10705"/>
                </a:lnTo>
                <a:lnTo>
                  <a:pt x="10438" y="10663"/>
                </a:lnTo>
                <a:lnTo>
                  <a:pt x="10491" y="10618"/>
                </a:lnTo>
                <a:lnTo>
                  <a:pt x="10542" y="10572"/>
                </a:lnTo>
                <a:lnTo>
                  <a:pt x="10594" y="10526"/>
                </a:lnTo>
                <a:lnTo>
                  <a:pt x="10644" y="10479"/>
                </a:lnTo>
                <a:lnTo>
                  <a:pt x="10693" y="10430"/>
                </a:lnTo>
                <a:lnTo>
                  <a:pt x="10741" y="10381"/>
                </a:lnTo>
                <a:lnTo>
                  <a:pt x="10788" y="10330"/>
                </a:lnTo>
                <a:lnTo>
                  <a:pt x="10835" y="10280"/>
                </a:lnTo>
                <a:lnTo>
                  <a:pt x="10880" y="10228"/>
                </a:lnTo>
                <a:lnTo>
                  <a:pt x="10924" y="10176"/>
                </a:lnTo>
                <a:lnTo>
                  <a:pt x="10966" y="10121"/>
                </a:lnTo>
                <a:lnTo>
                  <a:pt x="11009" y="10067"/>
                </a:lnTo>
                <a:lnTo>
                  <a:pt x="11050" y="10013"/>
                </a:lnTo>
                <a:lnTo>
                  <a:pt x="11090" y="9956"/>
                </a:lnTo>
                <a:lnTo>
                  <a:pt x="11128" y="9900"/>
                </a:lnTo>
                <a:lnTo>
                  <a:pt x="11166" y="9843"/>
                </a:lnTo>
                <a:lnTo>
                  <a:pt x="11203" y="9784"/>
                </a:lnTo>
                <a:lnTo>
                  <a:pt x="11238" y="9726"/>
                </a:lnTo>
                <a:lnTo>
                  <a:pt x="11272" y="9666"/>
                </a:lnTo>
                <a:lnTo>
                  <a:pt x="11306" y="9606"/>
                </a:lnTo>
                <a:lnTo>
                  <a:pt x="11338" y="9545"/>
                </a:lnTo>
                <a:lnTo>
                  <a:pt x="11368" y="9483"/>
                </a:lnTo>
                <a:lnTo>
                  <a:pt x="11398" y="9421"/>
                </a:lnTo>
                <a:lnTo>
                  <a:pt x="11427" y="9358"/>
                </a:lnTo>
                <a:lnTo>
                  <a:pt x="11454" y="9294"/>
                </a:lnTo>
                <a:lnTo>
                  <a:pt x="11479" y="9231"/>
                </a:lnTo>
                <a:lnTo>
                  <a:pt x="11504" y="9166"/>
                </a:lnTo>
                <a:lnTo>
                  <a:pt x="11527" y="9100"/>
                </a:lnTo>
                <a:lnTo>
                  <a:pt x="11549" y="9034"/>
                </a:lnTo>
                <a:lnTo>
                  <a:pt x="11570" y="8967"/>
                </a:lnTo>
                <a:lnTo>
                  <a:pt x="11590" y="8901"/>
                </a:lnTo>
                <a:lnTo>
                  <a:pt x="11608" y="8834"/>
                </a:lnTo>
                <a:lnTo>
                  <a:pt x="11624" y="8765"/>
                </a:lnTo>
                <a:lnTo>
                  <a:pt x="11639" y="8697"/>
                </a:lnTo>
                <a:lnTo>
                  <a:pt x="11653" y="8628"/>
                </a:lnTo>
                <a:lnTo>
                  <a:pt x="11666" y="8558"/>
                </a:lnTo>
                <a:lnTo>
                  <a:pt x="11676" y="8488"/>
                </a:lnTo>
                <a:lnTo>
                  <a:pt x="11687" y="8418"/>
                </a:lnTo>
                <a:lnTo>
                  <a:pt x="11694" y="8347"/>
                </a:lnTo>
                <a:lnTo>
                  <a:pt x="11702" y="8275"/>
                </a:lnTo>
                <a:lnTo>
                  <a:pt x="11707" y="8204"/>
                </a:lnTo>
                <a:lnTo>
                  <a:pt x="11711" y="8132"/>
                </a:lnTo>
                <a:lnTo>
                  <a:pt x="11713" y="8059"/>
                </a:lnTo>
                <a:lnTo>
                  <a:pt x="11713" y="7987"/>
                </a:lnTo>
                <a:lnTo>
                  <a:pt x="11712" y="7899"/>
                </a:lnTo>
                <a:lnTo>
                  <a:pt x="11709" y="7812"/>
                </a:lnTo>
                <a:lnTo>
                  <a:pt x="11704" y="7726"/>
                </a:lnTo>
                <a:lnTo>
                  <a:pt x="11696" y="7640"/>
                </a:lnTo>
                <a:lnTo>
                  <a:pt x="11686" y="7554"/>
                </a:lnTo>
                <a:lnTo>
                  <a:pt x="11674" y="7470"/>
                </a:lnTo>
                <a:lnTo>
                  <a:pt x="11661" y="7385"/>
                </a:lnTo>
                <a:lnTo>
                  <a:pt x="11644" y="7302"/>
                </a:lnTo>
                <a:lnTo>
                  <a:pt x="11626" y="7219"/>
                </a:lnTo>
                <a:lnTo>
                  <a:pt x="11606" y="7138"/>
                </a:lnTo>
                <a:lnTo>
                  <a:pt x="11585" y="7056"/>
                </a:lnTo>
                <a:lnTo>
                  <a:pt x="11561" y="6976"/>
                </a:lnTo>
                <a:lnTo>
                  <a:pt x="11534" y="6896"/>
                </a:lnTo>
                <a:lnTo>
                  <a:pt x="11507" y="6817"/>
                </a:lnTo>
                <a:lnTo>
                  <a:pt x="11478" y="6740"/>
                </a:lnTo>
                <a:lnTo>
                  <a:pt x="11447" y="6662"/>
                </a:lnTo>
                <a:lnTo>
                  <a:pt x="11413" y="6586"/>
                </a:lnTo>
                <a:lnTo>
                  <a:pt x="11378" y="6511"/>
                </a:lnTo>
                <a:lnTo>
                  <a:pt x="11341" y="6437"/>
                </a:lnTo>
                <a:lnTo>
                  <a:pt x="11303" y="6364"/>
                </a:lnTo>
                <a:lnTo>
                  <a:pt x="11263" y="6291"/>
                </a:lnTo>
                <a:lnTo>
                  <a:pt x="11221" y="6220"/>
                </a:lnTo>
                <a:lnTo>
                  <a:pt x="11177" y="6150"/>
                </a:lnTo>
                <a:lnTo>
                  <a:pt x="11132" y="6081"/>
                </a:lnTo>
                <a:lnTo>
                  <a:pt x="11085" y="6012"/>
                </a:lnTo>
                <a:lnTo>
                  <a:pt x="11037" y="5945"/>
                </a:lnTo>
                <a:lnTo>
                  <a:pt x="10987" y="5879"/>
                </a:lnTo>
                <a:lnTo>
                  <a:pt x="10936" y="5814"/>
                </a:lnTo>
                <a:lnTo>
                  <a:pt x="10883" y="5751"/>
                </a:lnTo>
                <a:lnTo>
                  <a:pt x="10828" y="5689"/>
                </a:lnTo>
                <a:lnTo>
                  <a:pt x="10772" y="5627"/>
                </a:lnTo>
                <a:lnTo>
                  <a:pt x="10716" y="5568"/>
                </a:lnTo>
                <a:close/>
              </a:path>
            </a:pathLst>
          </a:custGeom>
          <a:solidFill>
            <a:srgbClr val="c1b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46800" bIns="46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2"/>
          <p:cNvSpPr/>
          <p:nvPr/>
        </p:nvSpPr>
        <p:spPr>
          <a:xfrm>
            <a:off x="42120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3"/>
          <p:cNvSpPr/>
          <p:nvPr/>
        </p:nvSpPr>
        <p:spPr>
          <a:xfrm>
            <a:off x="6998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4"/>
          <p:cNvSpPr/>
          <p:nvPr/>
        </p:nvSpPr>
        <p:spPr>
          <a:xfrm>
            <a:off x="12830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任意多边形 13"/>
          <p:cNvSpPr/>
          <p:nvPr/>
        </p:nvSpPr>
        <p:spPr>
          <a:xfrm>
            <a:off x="3587760" y="1962000"/>
            <a:ext cx="2666880" cy="2660760"/>
          </a:xfrm>
          <a:custGeom>
            <a:avLst/>
            <a:gdLst/>
            <a:ahLst/>
            <a:rect l="l" t="t" r="r" b="b"/>
            <a:pathLst>
              <a:path w="1565011" h="1561367">
                <a:moveTo>
                  <a:pt x="1318211" y="784392"/>
                </a:moveTo>
                <a:lnTo>
                  <a:pt x="1565011" y="784392"/>
                </a:lnTo>
                <a:lnTo>
                  <a:pt x="1549483" y="938432"/>
                </a:lnTo>
                <a:cubicBezTo>
                  <a:pt x="1485623" y="1250510"/>
                  <a:pt x="1236031" y="1494930"/>
                  <a:pt x="921242" y="1551159"/>
                </a:cubicBezTo>
                <a:lnTo>
                  <a:pt x="805549" y="1561367"/>
                </a:lnTo>
                <a:lnTo>
                  <a:pt x="805549" y="1314568"/>
                </a:lnTo>
                <a:lnTo>
                  <a:pt x="877554" y="1308215"/>
                </a:lnTo>
                <a:cubicBezTo>
                  <a:pt x="1093083" y="1269716"/>
                  <a:pt x="1263974" y="1102366"/>
                  <a:pt x="1307697" y="888693"/>
                </a:cubicBezTo>
                <a:close/>
                <a:moveTo>
                  <a:pt x="0" y="780691"/>
                </a:moveTo>
                <a:lnTo>
                  <a:pt x="246798" y="780691"/>
                </a:lnTo>
                <a:lnTo>
                  <a:pt x="246798" y="780692"/>
                </a:lnTo>
                <a:cubicBezTo>
                  <a:pt x="246798" y="1039662"/>
                  <a:pt x="430492" y="1255728"/>
                  <a:pt x="674690" y="1305698"/>
                </a:cubicBezTo>
                <a:lnTo>
                  <a:pt x="759830" y="1314281"/>
                </a:lnTo>
                <a:lnTo>
                  <a:pt x="759830" y="1561079"/>
                </a:lnTo>
                <a:lnTo>
                  <a:pt x="624952" y="1547483"/>
                </a:lnTo>
                <a:cubicBezTo>
                  <a:pt x="268293" y="1474500"/>
                  <a:pt x="0" y="1158928"/>
                  <a:pt x="0" y="780692"/>
                </a:cubicBezTo>
                <a:close/>
                <a:moveTo>
                  <a:pt x="759645" y="34"/>
                </a:moveTo>
                <a:lnTo>
                  <a:pt x="759645" y="246833"/>
                </a:lnTo>
                <a:lnTo>
                  <a:pt x="687829" y="253169"/>
                </a:lnTo>
                <a:cubicBezTo>
                  <a:pt x="472300" y="291668"/>
                  <a:pt x="301410" y="459018"/>
                  <a:pt x="257686" y="672691"/>
                </a:cubicBezTo>
                <a:lnTo>
                  <a:pt x="251407" y="734972"/>
                </a:lnTo>
                <a:lnTo>
                  <a:pt x="4609" y="734972"/>
                </a:lnTo>
                <a:lnTo>
                  <a:pt x="15902" y="622952"/>
                </a:lnTo>
                <a:cubicBezTo>
                  <a:pt x="79762" y="310875"/>
                  <a:pt x="329355" y="66454"/>
                  <a:pt x="644143" y="10225"/>
                </a:cubicBezTo>
                <a:close/>
                <a:moveTo>
                  <a:pt x="805364" y="0"/>
                </a:moveTo>
                <a:lnTo>
                  <a:pt x="921242" y="10225"/>
                </a:lnTo>
                <a:cubicBezTo>
                  <a:pt x="1236031" y="66454"/>
                  <a:pt x="1485623" y="310875"/>
                  <a:pt x="1549483" y="622952"/>
                </a:cubicBezTo>
                <a:lnTo>
                  <a:pt x="1561148" y="738673"/>
                </a:lnTo>
                <a:lnTo>
                  <a:pt x="1314348" y="738673"/>
                </a:lnTo>
                <a:lnTo>
                  <a:pt x="1307697" y="672691"/>
                </a:lnTo>
                <a:cubicBezTo>
                  <a:pt x="1263974" y="459018"/>
                  <a:pt x="1093083" y="291668"/>
                  <a:pt x="877554" y="253169"/>
                </a:cubicBezTo>
                <a:lnTo>
                  <a:pt x="805364" y="246800"/>
                </a:lnTo>
                <a:close/>
              </a:path>
            </a:pathLst>
          </a:custGeom>
          <a:solidFill>
            <a:srgbClr val="c1b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14"/>
          <p:cNvSpPr/>
          <p:nvPr/>
        </p:nvSpPr>
        <p:spPr>
          <a:xfrm>
            <a:off x="2700360" y="1071720"/>
            <a:ext cx="4443480" cy="4441680"/>
          </a:xfrm>
          <a:custGeom>
            <a:avLst/>
            <a:gdLst/>
            <a:ahLst/>
            <a:rect l="l" t="t" r="r" b="b"/>
            <a:pathLst>
              <a:path w="2607795" h="2606808">
                <a:moveTo>
                  <a:pt x="0" y="1316849"/>
                </a:moveTo>
                <a:lnTo>
                  <a:pt x="225345" y="1316849"/>
                </a:lnTo>
                <a:lnTo>
                  <a:pt x="243395" y="1507808"/>
                </a:lnTo>
                <a:cubicBezTo>
                  <a:pt x="332166" y="1971113"/>
                  <a:pt x="717027" y="2329221"/>
                  <a:pt x="1193449" y="2377604"/>
                </a:cubicBezTo>
                <a:lnTo>
                  <a:pt x="1280987" y="2382025"/>
                </a:lnTo>
                <a:lnTo>
                  <a:pt x="1280987" y="2606736"/>
                </a:lnTo>
                <a:lnTo>
                  <a:pt x="1170473" y="2601155"/>
                </a:lnTo>
                <a:cubicBezTo>
                  <a:pt x="553791" y="2538528"/>
                  <a:pt x="64092" y="2046356"/>
                  <a:pt x="5289" y="1428550"/>
                </a:cubicBezTo>
                <a:close/>
                <a:moveTo>
                  <a:pt x="2382546" y="1314096"/>
                </a:moveTo>
                <a:lnTo>
                  <a:pt x="2607795" y="1314096"/>
                </a:lnTo>
                <a:lnTo>
                  <a:pt x="2601600" y="1436780"/>
                </a:lnTo>
                <a:cubicBezTo>
                  <a:pt x="2538973" y="2053463"/>
                  <a:pt x="2046801" y="2543161"/>
                  <a:pt x="1428995" y="2601965"/>
                </a:cubicBezTo>
                <a:lnTo>
                  <a:pt x="1326706" y="2606808"/>
                </a:lnTo>
                <a:lnTo>
                  <a:pt x="1326706" y="2381162"/>
                </a:lnTo>
                <a:lnTo>
                  <a:pt x="1494987" y="2366314"/>
                </a:lnTo>
                <a:cubicBezTo>
                  <a:pt x="1929258" y="2288743"/>
                  <a:pt x="2273588" y="1951548"/>
                  <a:pt x="2361687" y="1521016"/>
                </a:cubicBezTo>
                <a:close/>
                <a:moveTo>
                  <a:pt x="1280987" y="1"/>
                </a:moveTo>
                <a:lnTo>
                  <a:pt x="1280987" y="225790"/>
                </a:lnTo>
                <a:lnTo>
                  <a:pt x="1099446" y="242950"/>
                </a:lnTo>
                <a:cubicBezTo>
                  <a:pt x="636141" y="331721"/>
                  <a:pt x="278032" y="716581"/>
                  <a:pt x="229649" y="1193003"/>
                </a:cubicBezTo>
                <a:lnTo>
                  <a:pt x="225704" y="1271130"/>
                </a:lnTo>
                <a:lnTo>
                  <a:pt x="993" y="1271130"/>
                </a:lnTo>
                <a:lnTo>
                  <a:pt x="6098" y="1170028"/>
                </a:lnTo>
                <a:cubicBezTo>
                  <a:pt x="68726" y="553345"/>
                  <a:pt x="560897" y="63647"/>
                  <a:pt x="1178703" y="4843"/>
                </a:cubicBezTo>
                <a:close/>
                <a:moveTo>
                  <a:pt x="1326706" y="0"/>
                </a:moveTo>
                <a:lnTo>
                  <a:pt x="1428996" y="4843"/>
                </a:lnTo>
                <a:cubicBezTo>
                  <a:pt x="2046801" y="63647"/>
                  <a:pt x="2538973" y="553345"/>
                  <a:pt x="2601600" y="1170028"/>
                </a:cubicBezTo>
                <a:lnTo>
                  <a:pt x="2606567" y="1268377"/>
                </a:lnTo>
                <a:lnTo>
                  <a:pt x="2380093" y="1268377"/>
                </a:lnTo>
                <a:lnTo>
                  <a:pt x="2361687" y="1085792"/>
                </a:lnTo>
                <a:cubicBezTo>
                  <a:pt x="2273588" y="655261"/>
                  <a:pt x="1929258" y="318066"/>
                  <a:pt x="1494987" y="240494"/>
                </a:cubicBezTo>
                <a:lnTo>
                  <a:pt x="1326706" y="225646"/>
                </a:lnTo>
                <a:close/>
              </a:path>
            </a:pathLst>
          </a:custGeom>
          <a:solidFill>
            <a:srgbClr val="0072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2"/>
          <p:cNvSpPr/>
          <p:nvPr/>
        </p:nvSpPr>
        <p:spPr>
          <a:xfrm>
            <a:off x="4519440" y="2889360"/>
            <a:ext cx="803520" cy="803160"/>
          </a:xfrm>
          <a:prstGeom prst="ellipse">
            <a:avLst/>
          </a:prstGeom>
          <a:solidFill>
            <a:srgbClr val="0072b1"/>
          </a:solidFill>
          <a:ln w="0">
            <a:noFill/>
          </a:ln>
          <a:effectLst>
            <a:outerShdw dist="38187" dir="8145833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2"/>
          <p:cNvSpPr/>
          <p:nvPr/>
        </p:nvSpPr>
        <p:spPr>
          <a:xfrm>
            <a:off x="256896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3"/>
          <p:cNvSpPr/>
          <p:nvPr/>
        </p:nvSpPr>
        <p:spPr>
          <a:xfrm>
            <a:off x="63550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4"/>
          <p:cNvSpPr/>
          <p:nvPr/>
        </p:nvSpPr>
        <p:spPr>
          <a:xfrm>
            <a:off x="23547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5"/>
          <p:cNvSpPr/>
          <p:nvPr/>
        </p:nvSpPr>
        <p:spPr>
          <a:xfrm>
            <a:off x="621252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21"/>
          <p:cNvGrpSpPr/>
          <p:nvPr/>
        </p:nvGrpSpPr>
        <p:grpSpPr>
          <a:xfrm>
            <a:off x="1000080" y="1632240"/>
            <a:ext cx="7270920" cy="4011480"/>
            <a:chOff x="1000080" y="1632240"/>
            <a:chExt cx="7270920" cy="4011480"/>
          </a:xfrm>
        </p:grpSpPr>
        <p:sp>
          <p:nvSpPr>
            <p:cNvPr id="233" name="MH_SubTitle_1"/>
            <p:cNvSpPr/>
            <p:nvPr/>
          </p:nvSpPr>
          <p:spPr>
            <a:xfrm flipV="1" rot="14400000">
              <a:off x="4001400" y="2632320"/>
              <a:ext cx="2457720" cy="255240"/>
            </a:xfrm>
            <a:custGeom>
              <a:avLst/>
              <a:gdLst>
                <a:gd name="textAreaLeft" fmla="*/ 272880 w 2457720"/>
                <a:gd name="textAreaRight" fmla="*/ 2184840 w 2457720"/>
                <a:gd name="textAreaTop" fmla="*/ 27720 h 255240"/>
                <a:gd name="textAreaBottom" fmla="*/ 255240 h 255240"/>
              </a:gdLst>
              <a:ahLst/>
              <a:rect l="textAreaLeft" t="textAreaTop" r="textAreaRight" b="textAreaBottom"/>
              <a:pathLst>
                <a:path w="3335023" h="346949">
                  <a:moveTo>
                    <a:pt x="0" y="346949"/>
                  </a:moveTo>
                  <a:lnTo>
                    <a:pt x="555920" y="0"/>
                  </a:lnTo>
                  <a:lnTo>
                    <a:pt x="2779103" y="0"/>
                  </a:lnTo>
                  <a:lnTo>
                    <a:pt x="3335023" y="346949"/>
                  </a:lnTo>
                  <a:close/>
                </a:path>
              </a:pathLst>
            </a:custGeom>
            <a:solidFill>
              <a:srgbClr val="c1b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MH_SubTitle_3"/>
            <p:cNvSpPr/>
            <p:nvPr/>
          </p:nvSpPr>
          <p:spPr>
            <a:xfrm flipV="1" rot="7200000">
              <a:off x="2562840" y="2632320"/>
              <a:ext cx="2457360" cy="255240"/>
            </a:xfrm>
            <a:custGeom>
              <a:avLst/>
              <a:gdLst>
                <a:gd name="textAreaLeft" fmla="*/ 272880 w 2457360"/>
                <a:gd name="textAreaRight" fmla="*/ 2184480 w 2457360"/>
                <a:gd name="textAreaTop" fmla="*/ 27720 h 255240"/>
                <a:gd name="textAreaBottom" fmla="*/ 255240 h 255240"/>
              </a:gdLst>
              <a:ahLst/>
              <a:rect l="textAreaLeft" t="textAreaTop" r="textAreaRight" b="textAreaBottom"/>
              <a:pathLst>
                <a:path w="3335023" h="346949">
                  <a:moveTo>
                    <a:pt x="0" y="346949"/>
                  </a:moveTo>
                  <a:lnTo>
                    <a:pt x="555920" y="0"/>
                  </a:lnTo>
                  <a:lnTo>
                    <a:pt x="2779103" y="0"/>
                  </a:lnTo>
                  <a:lnTo>
                    <a:pt x="3335023" y="346949"/>
                  </a:lnTo>
                  <a:close/>
                </a:path>
              </a:pathLst>
            </a:custGeom>
            <a:solidFill>
              <a:srgbClr val="c1b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MH_SubTitle_2"/>
            <p:cNvSpPr/>
            <p:nvPr/>
          </p:nvSpPr>
          <p:spPr>
            <a:xfrm>
              <a:off x="3282840" y="3880080"/>
              <a:ext cx="2457360" cy="255600"/>
            </a:xfrm>
            <a:custGeom>
              <a:avLst/>
              <a:gdLst/>
              <a:ahLst/>
              <a:rect l="l" t="t" r="r" b="b"/>
              <a:pathLst>
                <a:path w="2592288" h="270000">
                  <a:moveTo>
                    <a:pt x="0" y="0"/>
                  </a:moveTo>
                  <a:lnTo>
                    <a:pt x="2592288" y="0"/>
                  </a:lnTo>
                  <a:lnTo>
                    <a:pt x="2159664" y="270000"/>
                  </a:lnTo>
                  <a:lnTo>
                    <a:pt x="432624" y="270000"/>
                  </a:lnTo>
                  <a:close/>
                </a:path>
              </a:pathLst>
            </a:custGeom>
            <a:solidFill>
              <a:srgbClr val="c1b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MH_Other_2"/>
            <p:cNvSpPr/>
            <p:nvPr/>
          </p:nvSpPr>
          <p:spPr>
            <a:xfrm>
              <a:off x="1000080" y="2334960"/>
              <a:ext cx="2784600" cy="0"/>
            </a:xfrm>
            <a:prstGeom prst="line">
              <a:avLst/>
            </a:prstGeom>
            <a:ln w="28440">
              <a:solidFill>
                <a:srgbClr val="0072b1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MH_Other_1"/>
            <p:cNvSpPr/>
            <p:nvPr/>
          </p:nvSpPr>
          <p:spPr>
            <a:xfrm>
              <a:off x="5230800" y="2334960"/>
              <a:ext cx="3040200" cy="0"/>
            </a:xfrm>
            <a:prstGeom prst="line">
              <a:avLst/>
            </a:prstGeom>
            <a:ln w="28440">
              <a:solidFill>
                <a:srgbClr val="0072b1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MH_Other_3"/>
            <p:cNvSpPr/>
            <p:nvPr/>
          </p:nvSpPr>
          <p:spPr>
            <a:xfrm>
              <a:off x="3897360" y="4214880"/>
              <a:ext cx="0" cy="1428840"/>
            </a:xfrm>
            <a:prstGeom prst="line">
              <a:avLst/>
            </a:prstGeom>
            <a:ln w="28440">
              <a:solidFill>
                <a:srgbClr val="0072b1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矩形 12"/>
          <p:cNvSpPr/>
          <p:nvPr/>
        </p:nvSpPr>
        <p:spPr>
          <a:xfrm>
            <a:off x="13546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3"/>
          <p:cNvSpPr/>
          <p:nvPr/>
        </p:nvSpPr>
        <p:spPr>
          <a:xfrm>
            <a:off x="428364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4"/>
          <p:cNvSpPr/>
          <p:nvPr/>
        </p:nvSpPr>
        <p:spPr>
          <a:xfrm>
            <a:off x="42836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5"/>
          <p:cNvSpPr/>
          <p:nvPr/>
        </p:nvSpPr>
        <p:spPr>
          <a:xfrm>
            <a:off x="135468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3"/>
          <p:cNvSpPr/>
          <p:nvPr/>
        </p:nvSpPr>
        <p:spPr>
          <a:xfrm>
            <a:off x="64980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4"/>
          <p:cNvSpPr/>
          <p:nvPr/>
        </p:nvSpPr>
        <p:spPr>
          <a:xfrm>
            <a:off x="649800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16T02:57:42Z</dcterms:modified>
  <cp:revision>291</cp:revision>
  <dc:subject/>
  <dc:title>幻灯片 1</dc:title>
</cp:coreProperties>
</file>