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3"/>
          <p:cNvSpPr/>
          <p:nvPr/>
        </p:nvSpPr>
        <p:spPr>
          <a:xfrm>
            <a:off x="7524720" y="542880"/>
            <a:ext cx="61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3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49816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4075920" y="1557360"/>
            <a:ext cx="231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您像一支蜡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虽然细弱，但有一分热，发一分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照亮了别人，耗尽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这无私的奉献，令人用志不忘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只因有您的谆谆教诲，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人生路上才得以一次次凯旋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老师您辛苦了！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ppt5u</dc:creator>
  <dc:description>PPT无忧（www.ppt5u.com）专业PPT资源网站，免费提供精美的PPT模板，课件，素材下载以及PPT相关技巧。
</dc:description>
  <cp:keywords>PPT模板 PPT专业模板 精品PPT模板</cp:keywords>
  <dc:language>en-US</dc:language>
  <cp:lastModifiedBy>Sky123.Org</cp:lastModifiedBy>
  <cp:lastPrinted>1899-12-30T00:00:00Z</cp:lastPrinted>
  <dcterms:modified xsi:type="dcterms:W3CDTF">2015-07-27T09:10:18Z</dcterms:modified>
  <cp:revision>14</cp:revision>
  <dc:subject>PPT无忧专业PPT资源网站</dc:subject>
  <dc:title>教师节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