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9.jpeg" ContentType="image/jpe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CD9-4922-4F36-86A2-21098CDE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5A7-BD4F-488E-82ED-DC35EB82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907-DEC5-41A4-9164-C07F6861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1DC-88DD-4C96-9661-D6F56515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CA2-24D7-4924-925D-71681CE6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C78-66E4-4923-A85B-C268FF39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753-D98B-42D3-B83C-5C98C856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467-A5E8-4B2D-8787-7BA13D7A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C06-8D73-4DD1-8624-B5DFA404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20F-4E0F-48D4-8909-12CA063D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5C0-7DD7-4398-BDD7-72A734F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EB2-1A24-4999-956C-C66D0812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2D9F-1A21-404B-9C16-EE83A879C7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 rot="1764600">
            <a:off x="-3308400" y="3027240"/>
            <a:ext cx="15662160" cy="679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0"/>
          <p:cNvSpPr/>
          <p:nvPr/>
        </p:nvSpPr>
        <p:spPr>
          <a:xfrm rot="1764600">
            <a:off x="-12600" y="-2553840"/>
            <a:ext cx="15662160" cy="67914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17"/>
          <p:cNvGrpSpPr/>
          <p:nvPr/>
        </p:nvGrpSpPr>
        <p:grpSpPr>
          <a:xfrm>
            <a:off x="5083200" y="3327480"/>
            <a:ext cx="2575080" cy="654120"/>
            <a:chOff x="5083200" y="3327480"/>
            <a:chExt cx="2575080" cy="654120"/>
          </a:xfrm>
        </p:grpSpPr>
        <p:sp>
          <p:nvSpPr>
            <p:cNvPr id="44" name="矩形 13"/>
            <p:cNvSpPr/>
            <p:nvPr/>
          </p:nvSpPr>
          <p:spPr>
            <a:xfrm>
              <a:off x="5083200" y="3332880"/>
              <a:ext cx="2575080" cy="6487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9d9d9"/>
                  </a:solidFill>
                  <a:latin typeface="HelveticaNeue LT 107 XBlkCn"/>
                </a:rPr>
                <a:t>LETTERS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矩形 16"/>
            <p:cNvSpPr/>
            <p:nvPr/>
          </p:nvSpPr>
          <p:spPr>
            <a:xfrm>
              <a:off x="7572600" y="3327480"/>
              <a:ext cx="85680" cy="6541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组合 20"/>
          <p:cNvGrpSpPr/>
          <p:nvPr/>
        </p:nvGrpSpPr>
        <p:grpSpPr>
          <a:xfrm>
            <a:off x="4552920" y="1847880"/>
            <a:ext cx="3105360" cy="838080"/>
            <a:chOff x="4552920" y="1847880"/>
            <a:chExt cx="3105360" cy="838080"/>
          </a:xfrm>
        </p:grpSpPr>
        <p:sp>
          <p:nvSpPr>
            <p:cNvPr id="47" name="矩形 11"/>
            <p:cNvSpPr/>
            <p:nvPr/>
          </p:nvSpPr>
          <p:spPr>
            <a:xfrm>
              <a:off x="4552920" y="1847880"/>
              <a:ext cx="3105360" cy="838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1b2371"/>
                  </a:solidFill>
                  <a:latin typeface="HelveticaNeue LT 107 XBlkCn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7572600" y="1882440"/>
              <a:ext cx="85680" cy="76896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组合 22"/>
          <p:cNvGrpSpPr/>
          <p:nvPr/>
        </p:nvGrpSpPr>
        <p:grpSpPr>
          <a:xfrm>
            <a:off x="3951360" y="2685960"/>
            <a:ext cx="3706920" cy="647640"/>
            <a:chOff x="3951360" y="2685960"/>
            <a:chExt cx="3706920" cy="647640"/>
          </a:xfrm>
        </p:grpSpPr>
        <p:sp>
          <p:nvSpPr>
            <p:cNvPr id="50" name="矩形 12"/>
            <p:cNvSpPr/>
            <p:nvPr/>
          </p:nvSpPr>
          <p:spPr>
            <a:xfrm>
              <a:off x="3951360" y="2685960"/>
              <a:ext cx="3706920" cy="647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1b2371"/>
                  </a:solidFill>
                  <a:latin typeface="HelveticaNeue LT 107 XBlkCn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矩形 15"/>
            <p:cNvSpPr/>
            <p:nvPr/>
          </p:nvSpPr>
          <p:spPr>
            <a:xfrm>
              <a:off x="7572600" y="2720520"/>
              <a:ext cx="85680" cy="5785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矩形 27"/>
          <p:cNvSpPr/>
          <p:nvPr/>
        </p:nvSpPr>
        <p:spPr>
          <a:xfrm>
            <a:off x="4552920" y="1854360"/>
            <a:ext cx="3105360" cy="83808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3530520" y="2685960"/>
            <a:ext cx="4127760" cy="64764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椭圆 29"/>
          <p:cNvGrpSpPr/>
          <p:nvPr/>
        </p:nvGrpSpPr>
        <p:grpSpPr>
          <a:xfrm>
            <a:off x="2919240" y="6132600"/>
            <a:ext cx="1311480" cy="1365120"/>
            <a:chOff x="2919240" y="6132600"/>
            <a:chExt cx="1311480" cy="1365120"/>
          </a:xfrm>
        </p:grpSpPr>
        <p:pic>
          <p:nvPicPr>
            <p:cNvPr id="55" name="椭圆 29" descr=""/>
            <p:cNvPicPr/>
            <p:nvPr/>
          </p:nvPicPr>
          <p:blipFill>
            <a:blip r:embed="rId1"/>
            <a:stretch/>
          </p:blipFill>
          <p:spPr>
            <a:xfrm>
              <a:off x="2919240" y="6132600"/>
              <a:ext cx="131148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103560" y="6367320"/>
              <a:ext cx="885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Neue LT 107 XBlkC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elveticaNeueLT Pro 67 MdCn"/>
                </a:rPr>
                <a:t>PERSON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elveticaNeueLT Pro 67 MdC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椭圆 30"/>
          <p:cNvGrpSpPr/>
          <p:nvPr/>
        </p:nvGrpSpPr>
        <p:grpSpPr>
          <a:xfrm>
            <a:off x="4559400" y="6132600"/>
            <a:ext cx="1371600" cy="1365120"/>
            <a:chOff x="4559400" y="6132600"/>
            <a:chExt cx="1371600" cy="1365120"/>
          </a:xfrm>
        </p:grpSpPr>
        <p:pic>
          <p:nvPicPr>
            <p:cNvPr id="58" name="椭圆 30" descr=""/>
            <p:cNvPicPr/>
            <p:nvPr/>
          </p:nvPicPr>
          <p:blipFill>
            <a:blip r:embed="rId2"/>
            <a:stretch/>
          </p:blipFill>
          <p:spPr>
            <a:xfrm>
              <a:off x="4559400" y="613260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799160" y="6367320"/>
              <a:ext cx="8856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elveticaNeue LT 107 XBlkC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HelveticaNeueLT Pro 67 MdCn"/>
                </a:rPr>
                <a:t>EDUCATIONAL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HelveticaNeueLT Pro 67 MdCn"/>
                </a:rPr>
                <a:t>BACKGROUND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椭圆 31"/>
          <p:cNvGrpSpPr/>
          <p:nvPr/>
        </p:nvGrpSpPr>
        <p:grpSpPr>
          <a:xfrm>
            <a:off x="6235560" y="6132600"/>
            <a:ext cx="1371600" cy="1365120"/>
            <a:chOff x="6235560" y="6132600"/>
            <a:chExt cx="1371600" cy="1365120"/>
          </a:xfrm>
        </p:grpSpPr>
        <p:pic>
          <p:nvPicPr>
            <p:cNvPr id="61" name="椭圆 31" descr=""/>
            <p:cNvPicPr/>
            <p:nvPr/>
          </p:nvPicPr>
          <p:blipFill>
            <a:blip r:embed="rId3"/>
            <a:stretch/>
          </p:blipFill>
          <p:spPr>
            <a:xfrm>
              <a:off x="6235560" y="613260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75320" y="6367320"/>
              <a:ext cx="885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elveticaNeue LT 107 XBlkC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HelveticaNeueLT Pro 67 MdCn"/>
                </a:rPr>
                <a:t>GOAL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32"/>
          <p:cNvGrpSpPr/>
          <p:nvPr/>
        </p:nvGrpSpPr>
        <p:grpSpPr>
          <a:xfrm>
            <a:off x="7875720" y="6132600"/>
            <a:ext cx="1371600" cy="1365120"/>
            <a:chOff x="7875720" y="6132600"/>
            <a:chExt cx="1371600" cy="1365120"/>
          </a:xfrm>
        </p:grpSpPr>
        <p:pic>
          <p:nvPicPr>
            <p:cNvPr id="64" name="椭圆 32" descr=""/>
            <p:cNvPicPr/>
            <p:nvPr/>
          </p:nvPicPr>
          <p:blipFill>
            <a:blip r:embed="rId4"/>
            <a:stretch/>
          </p:blipFill>
          <p:spPr>
            <a:xfrm>
              <a:off x="7875720" y="613260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116920" y="6367320"/>
              <a:ext cx="884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Neue LT 107 XBlkC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elveticaNeueLT Pro 67 MdCn"/>
                </a:rPr>
                <a:t>HONOU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矩形 1" descr=""/>
          <p:cNvPicPr/>
          <p:nvPr/>
        </p:nvPicPr>
        <p:blipFill>
          <a:blip r:embed="rId2"/>
          <a:stretch/>
        </p:blipFill>
        <p:spPr>
          <a:xfrm>
            <a:off x="3133800" y="2614680"/>
            <a:ext cx="1170000" cy="2109600"/>
          </a:xfrm>
          <a:prstGeom prst="rect">
            <a:avLst/>
          </a:prstGeom>
          <a:ln w="0">
            <a:noFill/>
          </a:ln>
        </p:spPr>
      </p:pic>
      <p:pic>
        <p:nvPicPr>
          <p:cNvPr id="67" name="矩形 3" descr=""/>
          <p:cNvPicPr/>
          <p:nvPr/>
        </p:nvPicPr>
        <p:blipFill>
          <a:blip r:embed="rId3"/>
          <a:stretch/>
        </p:blipFill>
        <p:spPr>
          <a:xfrm>
            <a:off x="4322880" y="261468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68" name="矩形 4" descr=""/>
          <p:cNvPicPr/>
          <p:nvPr/>
        </p:nvPicPr>
        <p:blipFill>
          <a:blip r:embed="rId4"/>
          <a:stretch/>
        </p:blipFill>
        <p:spPr>
          <a:xfrm>
            <a:off x="5510160" y="2614680"/>
            <a:ext cx="1171800" cy="2841480"/>
          </a:xfrm>
          <a:prstGeom prst="rect">
            <a:avLst/>
          </a:prstGeom>
          <a:ln w="0">
            <a:noFill/>
          </a:ln>
        </p:spPr>
      </p:pic>
      <p:pic>
        <p:nvPicPr>
          <p:cNvPr id="69" name="矩形 5" descr=""/>
          <p:cNvPicPr/>
          <p:nvPr/>
        </p:nvPicPr>
        <p:blipFill>
          <a:blip r:embed="rId5"/>
          <a:stretch/>
        </p:blipFill>
        <p:spPr>
          <a:xfrm>
            <a:off x="6686640" y="2614680"/>
            <a:ext cx="1171440" cy="2109600"/>
          </a:xfrm>
          <a:prstGeom prst="rect">
            <a:avLst/>
          </a:prstGeom>
          <a:ln w="0">
            <a:noFill/>
          </a:ln>
        </p:spPr>
      </p:pic>
      <p:pic>
        <p:nvPicPr>
          <p:cNvPr id="70" name="矩形 6" descr=""/>
          <p:cNvPicPr/>
          <p:nvPr/>
        </p:nvPicPr>
        <p:blipFill>
          <a:blip r:embed="rId6"/>
          <a:stretch/>
        </p:blipFill>
        <p:spPr>
          <a:xfrm>
            <a:off x="7869240" y="2614680"/>
            <a:ext cx="1171440" cy="3962160"/>
          </a:xfrm>
          <a:prstGeom prst="rect">
            <a:avLst/>
          </a:prstGeom>
          <a:ln w="0">
            <a:noFill/>
          </a:ln>
        </p:spPr>
      </p:pic>
      <p:sp>
        <p:nvSpPr>
          <p:cNvPr id="71" name="矩形 2"/>
          <p:cNvSpPr/>
          <p:nvPr/>
        </p:nvSpPr>
        <p:spPr>
          <a:xfrm>
            <a:off x="3138480" y="2624040"/>
            <a:ext cx="5886360" cy="4464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椭圆 12"/>
          <p:cNvGrpSpPr/>
          <p:nvPr/>
        </p:nvGrpSpPr>
        <p:grpSpPr>
          <a:xfrm>
            <a:off x="2919240" y="-725400"/>
            <a:ext cx="1311480" cy="1365120"/>
            <a:chOff x="2919240" y="-725400"/>
            <a:chExt cx="1311480" cy="1365120"/>
          </a:xfrm>
        </p:grpSpPr>
        <p:pic>
          <p:nvPicPr>
            <p:cNvPr id="73" name="椭圆 12" descr=""/>
            <p:cNvPicPr/>
            <p:nvPr/>
          </p:nvPicPr>
          <p:blipFill>
            <a:blip r:embed="rId7"/>
            <a:stretch/>
          </p:blipFill>
          <p:spPr>
            <a:xfrm>
              <a:off x="2919240" y="-725400"/>
              <a:ext cx="131148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103560" y="-490680"/>
              <a:ext cx="885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Neue LT 107 XBlkC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elveticaNeueLT Pro 67 MdCn"/>
                </a:rPr>
                <a:t>PERSON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HelveticaNeueLT Pro 67 MdC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13"/>
          <p:cNvGrpSpPr/>
          <p:nvPr/>
        </p:nvGrpSpPr>
        <p:grpSpPr>
          <a:xfrm>
            <a:off x="4559400" y="-725400"/>
            <a:ext cx="1371600" cy="1365120"/>
            <a:chOff x="4559400" y="-725400"/>
            <a:chExt cx="1371600" cy="1365120"/>
          </a:xfrm>
        </p:grpSpPr>
        <p:pic>
          <p:nvPicPr>
            <p:cNvPr id="76" name="椭圆 13" descr=""/>
            <p:cNvPicPr/>
            <p:nvPr/>
          </p:nvPicPr>
          <p:blipFill>
            <a:blip r:embed="rId8"/>
            <a:stretch/>
          </p:blipFill>
          <p:spPr>
            <a:xfrm>
              <a:off x="4559400" y="-72540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799160" y="-490680"/>
              <a:ext cx="8856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elveticaNeue LT 107 XBlkC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HelveticaNeueLT Pro 67 MdCn"/>
                </a:rPr>
                <a:t>EDUCATIONAL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HelveticaNeueLT Pro 67 MdCn"/>
                </a:rPr>
                <a:t>BACKGROUND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椭圆 14"/>
          <p:cNvGrpSpPr/>
          <p:nvPr/>
        </p:nvGrpSpPr>
        <p:grpSpPr>
          <a:xfrm>
            <a:off x="6235560" y="-725400"/>
            <a:ext cx="1371600" cy="1365120"/>
            <a:chOff x="6235560" y="-725400"/>
            <a:chExt cx="1371600" cy="1365120"/>
          </a:xfrm>
        </p:grpSpPr>
        <p:pic>
          <p:nvPicPr>
            <p:cNvPr id="79" name="椭圆 14" descr=""/>
            <p:cNvPicPr/>
            <p:nvPr/>
          </p:nvPicPr>
          <p:blipFill>
            <a:blip r:embed="rId9"/>
            <a:stretch/>
          </p:blipFill>
          <p:spPr>
            <a:xfrm>
              <a:off x="6235560" y="-72540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475320" y="-490680"/>
              <a:ext cx="885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elveticaNeue LT 107 XBlkC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HelveticaNeueLT Pro 67 MdCn"/>
                </a:rPr>
                <a:t>GOALS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椭圆 15"/>
          <p:cNvGrpSpPr/>
          <p:nvPr/>
        </p:nvGrpSpPr>
        <p:grpSpPr>
          <a:xfrm>
            <a:off x="7875720" y="-725400"/>
            <a:ext cx="1371600" cy="1365120"/>
            <a:chOff x="7875720" y="-725400"/>
            <a:chExt cx="1371600" cy="1365120"/>
          </a:xfrm>
        </p:grpSpPr>
        <p:pic>
          <p:nvPicPr>
            <p:cNvPr id="82" name="椭圆 15" descr=""/>
            <p:cNvPicPr/>
            <p:nvPr/>
          </p:nvPicPr>
          <p:blipFill>
            <a:blip r:embed="rId10"/>
            <a:stretch/>
          </p:blipFill>
          <p:spPr>
            <a:xfrm>
              <a:off x="7875720" y="-72540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116920" y="-490680"/>
              <a:ext cx="884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Neue LT 107 XBlkC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elveticaNeueLT Pro 67 MdCn"/>
                </a:rPr>
                <a:t>HONOU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矩形 16"/>
          <p:cNvSpPr/>
          <p:nvPr/>
        </p:nvSpPr>
        <p:spPr>
          <a:xfrm>
            <a:off x="3599640" y="1243080"/>
            <a:ext cx="497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HelveticaNeue LT 97 BlackCn"/>
              </a:rPr>
              <a:t>PERSONAL DAT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3628440" y="938160"/>
            <a:ext cx="4905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d9"/>
                </a:solidFill>
                <a:latin typeface="HelveticaNeue LT 97 BlackCn"/>
              </a:rPr>
              <a:t>EDUCATION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9d9"/>
                </a:solidFill>
                <a:latin typeface="HelveticaNeue LT 97 BlackC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2365200" y="2583000"/>
            <a:ext cx="2017800" cy="161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236520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2365200" y="5051520"/>
            <a:ext cx="2017800" cy="623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5079960" y="2583000"/>
            <a:ext cx="2017800" cy="161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07996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5079960" y="5051520"/>
            <a:ext cx="2017800" cy="623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7778880" y="2583000"/>
            <a:ext cx="2016000" cy="161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7778880" y="4194000"/>
            <a:ext cx="20160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7778880" y="5051520"/>
            <a:ext cx="2016000" cy="623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2695680" y="522612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588840" y="522612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DEMON.C\Desktop\badge.png"/>
          <p:cNvPicPr/>
          <p:nvPr/>
        </p:nvPicPr>
        <p:blipFill>
          <a:blip r:embed="rId2"/>
          <a:stretch/>
        </p:blipFill>
        <p:spPr>
          <a:xfrm>
            <a:off x="3359160" y="5219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DEMON.C\Desktop\3D-glasses.png"/>
          <p:cNvPicPr/>
          <p:nvPr/>
        </p:nvPicPr>
        <p:blipFill>
          <a:blip r:embed="rId3"/>
          <a:stretch/>
        </p:blipFill>
        <p:spPr>
          <a:xfrm>
            <a:off x="2449440" y="52196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99" name="矩形 20"/>
          <p:cNvSpPr/>
          <p:nvPr/>
        </p:nvSpPr>
        <p:spPr>
          <a:xfrm>
            <a:off x="5419800" y="521964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1"/>
          <p:cNvSpPr/>
          <p:nvPr/>
        </p:nvSpPr>
        <p:spPr>
          <a:xfrm>
            <a:off x="6313680" y="521964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DEMON.C\Desktop\badge.png"/>
          <p:cNvPicPr/>
          <p:nvPr/>
        </p:nvPicPr>
        <p:blipFill>
          <a:blip r:embed="rId4"/>
          <a:stretch/>
        </p:blipFill>
        <p:spPr>
          <a:xfrm>
            <a:off x="6083280" y="5214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DEMON.C\Desktop\3D-glasses.png"/>
          <p:cNvPicPr/>
          <p:nvPr/>
        </p:nvPicPr>
        <p:blipFill>
          <a:blip r:embed="rId5"/>
          <a:stretch/>
        </p:blipFill>
        <p:spPr>
          <a:xfrm>
            <a:off x="5173560" y="52149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03" name="矩形 24"/>
          <p:cNvSpPr/>
          <p:nvPr/>
        </p:nvSpPr>
        <p:spPr>
          <a:xfrm>
            <a:off x="8128080" y="521496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5"/>
          <p:cNvSpPr/>
          <p:nvPr/>
        </p:nvSpPr>
        <p:spPr>
          <a:xfrm>
            <a:off x="9022680" y="521496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DEMON.C\Desktop\badge.png"/>
          <p:cNvPicPr/>
          <p:nvPr/>
        </p:nvPicPr>
        <p:blipFill>
          <a:blip r:embed="rId6"/>
          <a:stretch/>
        </p:blipFill>
        <p:spPr>
          <a:xfrm>
            <a:off x="8793000" y="5208480"/>
            <a:ext cx="28440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DEMON.C\Desktop\3D-glasses.png"/>
          <p:cNvPicPr/>
          <p:nvPr/>
        </p:nvPicPr>
        <p:blipFill>
          <a:blip r:embed="rId7"/>
          <a:stretch/>
        </p:blipFill>
        <p:spPr>
          <a:xfrm>
            <a:off x="7883640" y="5208480"/>
            <a:ext cx="284040" cy="28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DEMON.C\Desktop\school_emblems_1.png"/>
          <p:cNvPicPr/>
          <p:nvPr/>
        </p:nvPicPr>
        <p:blipFill>
          <a:blip r:embed="rId8"/>
          <a:stretch/>
        </p:blipFill>
        <p:spPr>
          <a:xfrm>
            <a:off x="8085240" y="2730600"/>
            <a:ext cx="1326960" cy="1396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DEMON.C\Desktop\12.png"/>
          <p:cNvPicPr/>
          <p:nvPr/>
        </p:nvPicPr>
        <p:blipFill>
          <a:blip r:embed="rId9"/>
          <a:stretch/>
        </p:blipFill>
        <p:spPr>
          <a:xfrm>
            <a:off x="2698920" y="2759040"/>
            <a:ext cx="1268280" cy="1228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DEMON.C\Desktop\school_emblems_1.png"/>
          <p:cNvPicPr/>
          <p:nvPr/>
        </p:nvPicPr>
        <p:blipFill>
          <a:blip r:embed="rId10"/>
          <a:stretch/>
        </p:blipFill>
        <p:spPr>
          <a:xfrm>
            <a:off x="5608800" y="2786040"/>
            <a:ext cx="9698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"/>
          <p:cNvSpPr/>
          <p:nvPr/>
        </p:nvSpPr>
        <p:spPr>
          <a:xfrm>
            <a:off x="5023440" y="601560"/>
            <a:ext cx="214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椭圆 2"/>
          <p:cNvGrpSpPr/>
          <p:nvPr/>
        </p:nvGrpSpPr>
        <p:grpSpPr>
          <a:xfrm>
            <a:off x="2706840" y="2212920"/>
            <a:ext cx="1828800" cy="1822680"/>
            <a:chOff x="2706840" y="2212920"/>
            <a:chExt cx="1828800" cy="1822680"/>
          </a:xfrm>
        </p:grpSpPr>
        <p:pic>
          <p:nvPicPr>
            <p:cNvPr id="112" name="椭圆 2" descr=""/>
            <p:cNvPicPr/>
            <p:nvPr/>
          </p:nvPicPr>
          <p:blipFill>
            <a:blip r:embed="rId2"/>
            <a:stretch/>
          </p:blipFill>
          <p:spPr>
            <a:xfrm>
              <a:off x="2706840" y="2212920"/>
              <a:ext cx="182880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011400" y="2517840"/>
              <a:ext cx="120960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HelveticaNeue LT 107 XBlkCn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矩形 4"/>
          <p:cNvSpPr/>
          <p:nvPr/>
        </p:nvSpPr>
        <p:spPr>
          <a:xfrm>
            <a:off x="2813040" y="428472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2813040" y="5043600"/>
            <a:ext cx="1608120" cy="7588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椭圆 6"/>
          <p:cNvGrpSpPr/>
          <p:nvPr/>
        </p:nvGrpSpPr>
        <p:grpSpPr>
          <a:xfrm>
            <a:off x="5175360" y="2212920"/>
            <a:ext cx="1822320" cy="1822680"/>
            <a:chOff x="5175360" y="2212920"/>
            <a:chExt cx="1822320" cy="1822680"/>
          </a:xfrm>
        </p:grpSpPr>
        <p:pic>
          <p:nvPicPr>
            <p:cNvPr id="117" name="椭圆 6" descr=""/>
            <p:cNvPicPr/>
            <p:nvPr/>
          </p:nvPicPr>
          <p:blipFill>
            <a:blip r:embed="rId3"/>
            <a:stretch/>
          </p:blipFill>
          <p:spPr>
            <a:xfrm>
              <a:off x="5175360" y="2212920"/>
              <a:ext cx="182232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479920" y="2517840"/>
              <a:ext cx="120996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HelveticaNeue LT 107 XBlkCn"/>
                </a:rPr>
                <a:t>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矩形 7"/>
          <p:cNvSpPr/>
          <p:nvPr/>
        </p:nvSpPr>
        <p:spPr>
          <a:xfrm>
            <a:off x="5280120" y="428472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5280120" y="5043600"/>
            <a:ext cx="1608120" cy="7588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椭圆 9"/>
          <p:cNvGrpSpPr/>
          <p:nvPr/>
        </p:nvGrpSpPr>
        <p:grpSpPr>
          <a:xfrm>
            <a:off x="7632720" y="2212920"/>
            <a:ext cx="1822320" cy="1822680"/>
            <a:chOff x="7632720" y="2212920"/>
            <a:chExt cx="1822320" cy="1822680"/>
          </a:xfrm>
        </p:grpSpPr>
        <p:pic>
          <p:nvPicPr>
            <p:cNvPr id="122" name="椭圆 9" descr=""/>
            <p:cNvPicPr/>
            <p:nvPr/>
          </p:nvPicPr>
          <p:blipFill>
            <a:blip r:embed="rId4"/>
            <a:stretch/>
          </p:blipFill>
          <p:spPr>
            <a:xfrm>
              <a:off x="7632720" y="2212920"/>
              <a:ext cx="182232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935840" y="2517840"/>
              <a:ext cx="120960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HelveticaNeue LT 107 XBlkCn"/>
                </a:rPr>
                <a:t>F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矩形 10"/>
          <p:cNvSpPr/>
          <p:nvPr/>
        </p:nvSpPr>
        <p:spPr>
          <a:xfrm>
            <a:off x="7737480" y="428472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7737480" y="5043600"/>
            <a:ext cx="1608120" cy="7588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等腰三角形 12"/>
          <p:cNvSpPr/>
          <p:nvPr/>
        </p:nvSpPr>
        <p:spPr>
          <a:xfrm>
            <a:off x="347976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等腰三角形 13"/>
          <p:cNvSpPr/>
          <p:nvPr/>
        </p:nvSpPr>
        <p:spPr>
          <a:xfrm>
            <a:off x="595944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等腰三角形 14"/>
          <p:cNvSpPr/>
          <p:nvPr/>
        </p:nvSpPr>
        <p:spPr>
          <a:xfrm>
            <a:off x="840420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3179520" y="133668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圆角矩形 8"/>
          <p:cNvSpPr/>
          <p:nvPr/>
        </p:nvSpPr>
        <p:spPr>
          <a:xfrm>
            <a:off x="2470320" y="4938840"/>
            <a:ext cx="204768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等腰三角形 9"/>
          <p:cNvSpPr/>
          <p:nvPr/>
        </p:nvSpPr>
        <p:spPr>
          <a:xfrm flipV="1">
            <a:off x="335592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圆角矩形 15"/>
          <p:cNvSpPr/>
          <p:nvPr/>
        </p:nvSpPr>
        <p:spPr>
          <a:xfrm>
            <a:off x="5072040" y="4938840"/>
            <a:ext cx="20480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等腰三角形 16"/>
          <p:cNvSpPr/>
          <p:nvPr/>
        </p:nvSpPr>
        <p:spPr>
          <a:xfrm flipV="1">
            <a:off x="5958000" y="5706360"/>
            <a:ext cx="27612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圆角矩形 22"/>
          <p:cNvSpPr/>
          <p:nvPr/>
        </p:nvSpPr>
        <p:spPr>
          <a:xfrm>
            <a:off x="7707240" y="4938840"/>
            <a:ext cx="20462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等腰三角形 23"/>
          <p:cNvSpPr/>
          <p:nvPr/>
        </p:nvSpPr>
        <p:spPr>
          <a:xfrm flipV="1">
            <a:off x="85932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13960" y="855720"/>
            <a:ext cx="33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HelveticaNeue LT 97 BlackCn"/>
              </a:rPr>
              <a:t>HONOUR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3440880" y="16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HelveticaNeue LT 97 BlackCn"/>
              </a:rPr>
              <a:t>DO YOU HAVE SOMETHING IMPORTANT TO S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3"/>
          <p:cNvSpPr/>
          <p:nvPr/>
        </p:nvSpPr>
        <p:spPr>
          <a:xfrm>
            <a:off x="2470320" y="2552760"/>
            <a:ext cx="204768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2470320" y="3278160"/>
            <a:ext cx="2047680" cy="474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2470320" y="3753000"/>
            <a:ext cx="20476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2470320" y="4227480"/>
            <a:ext cx="2047680" cy="474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2470320" y="4702320"/>
            <a:ext cx="204768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圆角矩形 10"/>
          <p:cNvSpPr/>
          <p:nvPr/>
        </p:nvSpPr>
        <p:spPr>
          <a:xfrm>
            <a:off x="5072040" y="2552760"/>
            <a:ext cx="20480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5072040" y="3278160"/>
            <a:ext cx="2048040" cy="474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5072040" y="3753000"/>
            <a:ext cx="2048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5072040" y="4227480"/>
            <a:ext cx="2048040" cy="474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5072040" y="4702320"/>
            <a:ext cx="20480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圆角矩形 17"/>
          <p:cNvSpPr/>
          <p:nvPr/>
        </p:nvSpPr>
        <p:spPr>
          <a:xfrm>
            <a:off x="7707240" y="2552760"/>
            <a:ext cx="20462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8"/>
          <p:cNvSpPr/>
          <p:nvPr/>
        </p:nvSpPr>
        <p:spPr>
          <a:xfrm>
            <a:off x="7707240" y="3278160"/>
            <a:ext cx="2046240" cy="474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9"/>
          <p:cNvSpPr/>
          <p:nvPr/>
        </p:nvSpPr>
        <p:spPr>
          <a:xfrm>
            <a:off x="7707240" y="3753000"/>
            <a:ext cx="20462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0"/>
          <p:cNvSpPr/>
          <p:nvPr/>
        </p:nvSpPr>
        <p:spPr>
          <a:xfrm>
            <a:off x="7707240" y="4227480"/>
            <a:ext cx="2046240" cy="474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1"/>
          <p:cNvSpPr/>
          <p:nvPr/>
        </p:nvSpPr>
        <p:spPr>
          <a:xfrm>
            <a:off x="7707240" y="4702320"/>
            <a:ext cx="20462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E:\XX素材XX\Dortmund-32x32\star.png"/>
          <p:cNvPicPr/>
          <p:nvPr/>
        </p:nvPicPr>
        <p:blipFill>
          <a:blip r:embed="rId2"/>
          <a:stretch/>
        </p:blipFill>
        <p:spPr>
          <a:xfrm>
            <a:off x="2597040" y="3363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E:\XX素材XX\Dortmund-32x32\lightbulb.png"/>
          <p:cNvPicPr/>
          <p:nvPr/>
        </p:nvPicPr>
        <p:blipFill>
          <a:blip r:embed="rId3"/>
          <a:stretch/>
        </p:blipFill>
        <p:spPr>
          <a:xfrm>
            <a:off x="2597040" y="3838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E:\XX素材XX\Dortmund-32x32\bestseller.png"/>
          <p:cNvPicPr/>
          <p:nvPr/>
        </p:nvPicPr>
        <p:blipFill>
          <a:blip r:embed="rId4"/>
          <a:stretch/>
        </p:blipFill>
        <p:spPr>
          <a:xfrm>
            <a:off x="2597040" y="4325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E:\XX素材XX\Dortmund-32x32\milestone.png"/>
          <p:cNvPicPr/>
          <p:nvPr/>
        </p:nvPicPr>
        <p:blipFill>
          <a:blip r:embed="rId5"/>
          <a:stretch/>
        </p:blipFill>
        <p:spPr>
          <a:xfrm>
            <a:off x="2597040" y="47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E:\XX素材XX\Dortmund-32x32\paypal.png"/>
          <p:cNvPicPr/>
          <p:nvPr/>
        </p:nvPicPr>
        <p:blipFill>
          <a:blip r:embed="rId6"/>
          <a:stretch/>
        </p:blipFill>
        <p:spPr>
          <a:xfrm>
            <a:off x="5253120" y="33685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E:\XX素材XX\Dortmund-32x32\process.png"/>
          <p:cNvPicPr/>
          <p:nvPr/>
        </p:nvPicPr>
        <p:blipFill>
          <a:blip r:embed="rId7"/>
          <a:stretch/>
        </p:blipFill>
        <p:spPr>
          <a:xfrm>
            <a:off x="5253120" y="43243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E:\XX素材XX\Dortmund-32x32\pen.png"/>
          <p:cNvPicPr/>
          <p:nvPr/>
        </p:nvPicPr>
        <p:blipFill>
          <a:blip r:embed="rId8"/>
          <a:stretch/>
        </p:blipFill>
        <p:spPr>
          <a:xfrm>
            <a:off x="5253120" y="38466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E:\XX素材XX\Dortmund-32x32\heart.png"/>
          <p:cNvPicPr/>
          <p:nvPr/>
        </p:nvPicPr>
        <p:blipFill>
          <a:blip r:embed="rId9"/>
          <a:stretch/>
        </p:blipFill>
        <p:spPr>
          <a:xfrm>
            <a:off x="5253120" y="4788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E:\XX素材XX\Dortmund-32x32\communication.png"/>
          <p:cNvPicPr/>
          <p:nvPr/>
        </p:nvPicPr>
        <p:blipFill>
          <a:blip r:embed="rId10"/>
          <a:stretch/>
        </p:blipFill>
        <p:spPr>
          <a:xfrm>
            <a:off x="7880400" y="4325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E:\XX素材XX\Dortmund-32x32\cost.png"/>
          <p:cNvPicPr/>
          <p:nvPr/>
        </p:nvPicPr>
        <p:blipFill>
          <a:blip r:embed="rId11"/>
          <a:stretch/>
        </p:blipFill>
        <p:spPr>
          <a:xfrm>
            <a:off x="7880400" y="4802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E:\XX素材XX\Dortmund-32x32\bookmark.png"/>
          <p:cNvPicPr/>
          <p:nvPr/>
        </p:nvPicPr>
        <p:blipFill>
          <a:blip r:embed="rId12"/>
          <a:stretch/>
        </p:blipFill>
        <p:spPr>
          <a:xfrm>
            <a:off x="7880400" y="385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E:\XX素材XX\Dortmund-32x32\check.png"/>
          <p:cNvPicPr/>
          <p:nvPr/>
        </p:nvPicPr>
        <p:blipFill>
          <a:blip r:embed="rId13"/>
          <a:stretch/>
        </p:blipFill>
        <p:spPr>
          <a:xfrm>
            <a:off x="7880400" y="33638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2"/>
          <p:cNvSpPr/>
          <p:nvPr/>
        </p:nvSpPr>
        <p:spPr>
          <a:xfrm>
            <a:off x="961200" y="2295360"/>
            <a:ext cx="102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5224320" y="5522760"/>
            <a:ext cx="17352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9Z</dcterms:created>
  <dc:creator>DEMONCHAN</dc:creator>
  <dc:description/>
  <dc:language>en-US</dc:language>
  <cp:lastModifiedBy>Windows 用户</cp:lastModifiedBy>
  <dcterms:modified xsi:type="dcterms:W3CDTF">2015-05-19T06:33:05Z</dcterms:modified>
  <cp:revision>38</cp:revision>
  <dc:subject/>
  <dc:title>PowerPoint 演示文稿</dc:title>
</cp:coreProperties>
</file>