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explode.wav" ContentType="audio/x-wav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dt" idx="18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ftr" idx="18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6"/>
          <p:cNvSpPr>
            <a:spLocks noGrp="1"/>
          </p:cNvSpPr>
          <p:nvPr>
            <p:ph type="sldNum" idx="18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291E-697F-43B5-BCC7-3787F38F22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207-5B11-4AEA-B474-E4635948DF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54-0C1E-41B9-81FB-0134ABE8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58E-9CA7-4B6D-906F-214BCEE7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A569C-6DAA-4688-99A8-A003EC48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9254E-69C0-4340-8B2E-5170FC0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A0EB-A78D-4BA3-8B23-9EF7A7C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0BF5-D51A-4BD0-8903-2BAD2EE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8D08B-3F87-405E-9BAB-26F664C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D7F1-15F6-4D61-A7FB-9C64A6C3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BC2DB-672D-4EAF-A4BC-8C1A216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A2CA-1011-4968-BAC3-C37251EE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3CD3-1874-486D-901E-A8C09AB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E02BB-39BA-4375-A5FE-7EAED171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E1E-2209-49CF-B5B9-E424C006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17768-BB19-479C-A079-D22D0361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76F22-959F-4608-8FE7-6A37D4FB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3FA53-1FD5-4519-9495-2D4B1BDA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F6977-BE1F-4525-ADDD-4DD726D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B56D-9162-475D-A26C-FE04ABD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AACFE-41FA-45BF-B710-240E768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5B271-60BE-4F97-B94D-1B44AEF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38420-C156-4B2F-BF06-C3ED3D0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3A614-DAA0-4028-8A48-80630BB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27425-126D-4A62-A33F-89CA4D95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79B-BD61-429E-BC7E-F6EA5DE9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A11BF-C65A-4897-A414-F6DB0EC0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8CC98-B63C-4155-83F8-FF7EF29E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36E6-8B96-4CFC-8F46-1464646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46AE-C3E2-4D6E-A1F1-1B36C01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4E0F-DC46-4186-A32C-9F52858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89CBE-125B-46A1-B0B5-00453CF5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D3E9E-A244-48E2-A6E5-E5A8B5C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1C97E-3CE9-49EF-97E7-36D1B96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6172-BF8C-4959-9816-0AB300A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69E4E-2C57-4613-840A-4792916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A6BF-38A3-4F6D-9A90-D3F6AB10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9710-EE09-48E9-83A0-F07BF7F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E6D92-ED6C-47CC-B3D5-B4C8C5E4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3DD7B-151F-4E51-BCB3-323A49A8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AD8F5-FB5D-4339-AE38-CB9474EA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B258D-6911-4F4D-A078-D4D05A4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F046D-21F0-429B-A676-2F4B152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EFCC8-5A32-4639-B664-D5C817F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3B516-3CCE-486E-A4C1-7FF1735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D08A7-5CBF-40A4-8222-38FB908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2A4DE-28EC-4817-B425-8A9431B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482-B863-42CE-836A-14755C8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1B11A-D5EF-4902-A804-DFBA322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32609-599A-41FC-8F5F-9A2395B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20070-E43E-45D3-962C-D877DAF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7DA30-D138-4730-932B-BE88E133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8E2F3-754F-4678-8CCF-F8B0CF54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02883-C607-4C58-8A53-66E762D8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C06E6-5A6D-4E96-BFAC-167463D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9D9F4-2A2F-419C-9875-5E71AF53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82ED4-C32B-4693-874F-FD4D2465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B1C95-369E-4E9C-A5C4-1F6C543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963C-CE24-4898-B920-689F6F0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2E9FE-E2F8-43F1-80FA-DB93780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43EB7-143D-4CD9-B802-FEA3C7A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B6B88-B20B-4CEE-95F2-0A9429D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35AAC-7E19-46B3-A7AD-EEC449E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DB55A-2D04-4A56-A827-F057476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26E9D-DC6A-4B0C-8ED4-81813015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7400E-8D72-4F54-B46E-E31CFED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631C7-B1CD-423D-AA79-A4B33719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F93D1-C25C-417F-AEFE-7C9D736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A4E80-0FB8-499A-9AC7-F2BD1FC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9B6-7D02-4F5B-822C-AC990D56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B8B17-5A34-4B26-AB84-B0E166F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B9F04-716B-4DF5-B8AB-70697999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56E37-5612-474D-BD0A-A6B86726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9D230-BA7B-4B73-B712-0C061F5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B06D6-C139-4B64-B874-78EC330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9B48D-CC77-4CF8-95B1-C63CCB42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08C01-A316-4C05-811F-15F90BAC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1CC24-748C-4FAD-AF63-3560F985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93CC-25C3-4FDA-A371-985373AF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C632C-15CB-4AB4-8465-F9ABD8DA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9C6F-2595-45EB-9993-B8B4029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44718-8597-45D4-ADDE-5935C61E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795E5-1B89-4326-A808-A5D0E547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65701-99B2-45C6-BF6D-7E32F16A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B2B63-01D9-440F-86AF-5937D4DC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5E487-8C77-478D-AFB2-4C5F7EE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F6958-FB7B-457C-8114-259765F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E792F-E507-4445-BD62-4677E48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3229A-1CF7-4882-A156-5B84750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E6298-65FC-499D-B407-B45044A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3035E-C453-4FD8-B78F-3EE91371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4369-FE93-41BD-A3E3-2F4F13D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1F1D9-2213-443D-9096-DA86EF88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E6868-DDC2-4AF0-BF64-94932550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F5F2D-E28F-4300-905E-65A0A3C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FBFB3-56CC-4BDA-A9E8-1FF680B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003C6-F5CC-494C-A742-0E1CB090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1277D-B609-4503-86FB-665BFD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35ABA-7292-4441-9D6A-3924AB9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C0DD6-4469-4CF8-AD1D-86A40ED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E2E82-F714-4FFC-BA32-07548AF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51337-84F3-48F0-A643-1742736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593A-591D-4DDC-A1AF-B44ECF2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00A88-7734-43E3-A254-193FAA3E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1CC4A-3140-4587-BB82-BACD2B51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0C8C9-6CD8-40BB-8093-6A17943F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8434B-79A2-4D8C-8C34-E9017A99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5AE4E-8EBD-4066-805C-414D88D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004E4-7C62-42CF-A8DA-57A2F847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118F9-5A36-4103-8AC3-651CEFC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C1261-930F-40B7-858A-68B35829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B05E3-7FCA-45A5-93D6-825FCEB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B88C3-0B9F-4099-9BCC-C779409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BC8-AFF3-4722-A196-D422F76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0552-1432-4F73-B145-A58B619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C4C01-C934-45B0-A9D1-80C3C8F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B7419-958D-4E87-8CDB-C5CD81C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57C7C-A7F0-4A5B-AB15-6745F00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FA4B3-84A6-41CA-90C7-28CC59B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D5838-1F15-45C7-8AD5-6A8C459E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00D23-9EBC-49AD-9619-91B96872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AFB0B-91BD-47A4-80D2-C8C61D4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E54E8A-C453-49FB-BDCA-9868946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12C9C-DDEF-4775-B8A1-996E121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A168A-1198-45D0-ADF4-FB4CDFF0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77CD-7C08-4564-AC76-098867E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EF2F9-0F79-46E1-8534-21AACC18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9C8A3-E242-41F9-B1C2-C20E6EF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B420B-7FF3-44D8-B749-625B74D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58357-22C5-4D66-9F75-B162382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75ADC-676F-4496-BE6B-6912DCA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B2B20-6C4E-4A90-B6AC-89918ADF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99B5F-B834-47F1-9EB8-D7DAC7E2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BA2BD-E9F8-4E0C-8AE0-9CBD724B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DFFC2-2142-473B-890A-0CEC9556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96C0D-9B94-46FF-82C0-58952B99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B2E8-CA85-4D0A-9603-7275D7C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A73B2-61B1-4704-A3F4-3A15BF1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5B54C-D787-4690-91CE-04A3683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0E61D-366D-400D-A750-CC47AFF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B8D9A-965B-4B6D-8875-6539293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EF211-420C-4C9E-845D-A46EFC5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ED4A4-848C-4F5F-B42B-8E81E7F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61112-2C97-4C58-8730-FAF0449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FE970-06FD-4DDA-AFB9-466BDAF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6F24C-487C-4816-85E6-AECFFAC0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13ADE-427E-4B92-BE54-1E4BCBBB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E46-DFED-4BC0-93E3-1EE2E908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D10C99-447C-4098-A42C-322937D9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74FDA-4718-4B2E-88E2-B04AF855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41D7A-1887-4158-9129-C71501F8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FC7CF-96EC-407D-A909-2F87D36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AB53C-BCF9-4325-8C26-41944230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C5EB2-13BD-4E06-827C-3BAC43B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74C39-8CF2-4EF2-8F0A-897AD9E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71BB9-6868-43A0-B509-CFF183F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051F7-CEB6-4502-81E5-9537BBE5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BC531-B0CC-4F5B-B3DB-79C00753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3518-F2E2-43E1-870E-45C58571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71326-22C8-4E41-B4AC-B7F6CEF1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949C7-F69F-4414-BD08-9B71C502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D100F-146D-4AD8-855C-1F95E8A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AF68D-FD9D-43D9-A352-D9DD8DD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B6D49-94D0-4BDE-8B72-6598BE8C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06ED5-EEEF-4494-9360-B7B85D03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6D6392-137F-4D9C-8B0E-7A15D9B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3CA8A-D539-419C-A108-3F823C9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87628-64DD-47EE-BC76-6626059E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05EC5-EE45-493A-AC7D-83A22A5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5D20-BC2D-4B1F-8B81-C5D1E801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4C664-5EF0-44EC-9F28-DD078A0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87948-DB3C-4B2E-A099-B51B2570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11FD33-59E7-4B62-BE60-7FDEB84F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F9D3A-77E1-4AA6-A390-46A68C2F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34FB5-1AAE-4C64-BD7F-DF65EEA5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A36AC7-F14B-40AC-A1CC-CD343F5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BDB3C-48EA-43F8-9F7B-EF5F81C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2CB17A-8D26-4361-864E-F3E036F0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21C634-A3EA-42F8-9591-D3C8055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20495-71F7-454B-A5A0-43CEED9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1014-4E43-4F36-A609-CD7B3C3A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419314-954C-4094-BB65-D2CF251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C9578-7541-445F-AB10-8B72A90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D048BD-E6EE-460F-9D2F-12933BC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1CA88-2628-402B-892C-9A716AC4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6111E6-7F60-4728-9994-1FFA6B16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1968C-69B0-4768-A957-C790601C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3D861A-9CA0-436C-9744-283418A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7FFC4-092C-43F0-9BA6-3ECF7A4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BDF034-3A33-4DD3-8A68-5AB0438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1F68C-CBCD-4B81-A509-CA500EB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F5C7-0EFB-4A48-A1D1-BA704C1B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C7619-1295-448A-9E7D-D041733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5D79FD-29D7-4270-AE5C-DE6A9D7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F08A69-F699-4183-89A8-54DCF0F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CC0A6-9C39-4443-AC4B-B0E0AF6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D2BA0E-884B-4B16-A298-3E51A25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DB6F6-4024-4349-BEEF-F1711AAF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E787A-E4D4-46CC-9F92-AFAB3497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18840E-EBAC-4329-A20C-6BBF5C9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F10ACA-075A-430B-AEC6-0E6BA06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E152C-C52D-4ADA-9CCB-2393274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7C36-B438-4475-B4E0-CE4F4E77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CD3975-B06A-4E5A-ABF3-DE414C5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3B1C19-2ECC-49F6-A98D-18A0BA25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934F7-D793-432B-B3FB-21632E3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C67E3D-6FD9-46CD-84E4-DEB64DC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AADBD8-6CD7-4311-8091-FBB579B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341A44-D2EE-4092-BBB6-4038E82A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3C6801-CD65-435E-AC12-63B751D8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4F112-1208-4F67-A2EE-C0DDF8E5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F9F28-4FBC-4C92-A8C9-0FA73B77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1B0599-7DBC-42B2-B9CE-48A27B2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E2AF-D874-414E-B313-5C432B4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750093-700D-48FC-892F-4232DB8F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5774B3-375E-4C8F-B588-F8443D3B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8669AF-8682-435D-B31A-20B20490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F2C8DA-DD32-4477-B326-89B7DBA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B23FAD-2DFA-4FB9-9D7B-01ECA12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8A7A5B-221E-48C5-B346-1EE334B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7FB1F-3D92-4F45-A7E1-61D9EE6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FE1B52-8CD1-4D6A-8D45-067E177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B3485B-8A1F-4415-AE4D-46E7198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592AE8-7C2E-4799-8EE7-6C11005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F00-070C-4DBE-B74C-A38CF3A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5689-EE6C-4356-AD5E-7533D2A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6351CC-73A7-4486-BC48-B41409ED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EB46EB-EB56-4BC6-BD0C-42F9AE6C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FFDC2-271F-46AA-98D9-8FB4D83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E2CB08-B4E9-4D00-A9A7-92AE930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B13E3B-0A2B-42C1-A98B-B0660CE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EEDD6D-BDEC-483B-B081-71DB9BF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6DFD15-344E-416F-B163-1D1CB9A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A5FB1A-64F5-41AC-A3D9-F56C432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48796-8022-48C4-8A10-C15F550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FB8E32-D6E7-4E9A-943B-5A79733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4350-A2C8-47B7-B022-7A010F0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B640CE-E459-4FEA-B4C3-A031E72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F80F30-A1A1-478C-B859-2FB67342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BD5982-E80F-456A-B4F0-F681BFEF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179333-748A-4677-B744-0507193B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8A0AEA-A3C3-4AFC-B9DD-75427336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78ADF7-E7E6-412A-9A38-A11C905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3EA9DD-B844-4540-B259-6B7D450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F3D48D-6C53-445B-B6D5-CD90B18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47EE6C-3AC2-414D-868A-E5930F7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09FD8-681C-4AD9-A470-1883AFD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FFA5-C957-43BA-910D-73437EA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7C7A6-9AB4-41BD-A30B-CF06014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F219AF-02A0-41FC-A2BA-AAFB8B3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5FB1F-0176-465C-96B9-95507735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03752A-33E0-42FA-A9CC-ACB81EAF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86E3CD-0A51-4BE2-B012-EC4BD4E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C74ECC-A7F4-4983-9806-B75A714D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AE8B05-CC03-4B09-B8AD-3376F7E6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E1803-6777-41DE-B126-932EB4B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B1FBA1-38E0-4DC7-9366-25A7B587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EBBCD5-D1EC-44EF-A2BD-0B86833C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2FB9-50EF-40AB-BDAF-43BAD69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EE112B-782C-46B0-9DA1-70798A6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2F7870-72C3-4F01-8BA2-2E699E1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5D51F1-7A76-4B4E-B9A2-20A4272E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FB3F27-B265-4874-84C0-203E67A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C10309-85DF-4CFD-983D-380956E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D8A74-721E-4CB6-80EF-7A5B17B5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BBCEE2-AD04-42BC-9CD3-96C487AC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1241DE-31B0-4255-89BC-99C0DD1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F499D5-ACEB-4FD1-9C59-B7460062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627FBB-461C-439B-992B-2B744EDE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1C9D-580F-42B1-A794-191B1060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675479-714E-4ADB-88B6-33EA1162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A90396-3765-4457-A67E-772232DD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774CDC-0D2C-4D14-BDE4-9436D1C0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0F10F4-87E3-4ED3-999B-8D185E09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8FB4B4-9BC4-40D4-87BE-D4D653A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9225A3-73E8-436D-B484-0E6D974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9D123C-AB73-4B8E-A796-3889FD7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86A20A-29B1-4388-AF63-6597D3EE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D074DF-4B9A-47BA-A6D3-5D68D4F7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8AF223-60F5-4725-9B0A-9DCDEC5F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054D-8FAB-47C1-B86A-0EE1CC76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9C37BD-E031-4684-84AE-70D521DA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98806F-FBBE-4186-9D61-4CA17E5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EF2A4A-89A6-4F62-86A2-F6A68C6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ECEEFB-0FEF-45EF-A639-DA46DC0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5E70CC-E667-4C9F-81EB-90FC9AC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1EB808-76F9-4EF2-9DE5-6A1A0ED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61F46-2E76-4B78-A628-1387B4C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4C3E07-A40B-4B7E-97F8-73D1DD3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34DFAA-6062-4125-869E-E0D2D937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23BB0D-3A1D-48D6-9CE1-222A3CCF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88A3-1A58-40EE-8A5A-35DAB04E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149C85-D8C7-4C82-9C35-3670BAC0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0E0F3D-DB71-4AF5-BB3E-D2BA8D65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C47C79-F43F-4C0B-8592-580D37FA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A71889-00E7-4D81-A256-4FD3FF5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D64614-6099-490B-A412-B281200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DB379A-3EBE-47E1-B2F5-D7B36E4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BD789B-6085-4639-A4FC-BE980492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08B9BD-1386-4C66-988F-D10574E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6E6207-8072-4CBC-BCEE-E65DEE1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4CD905-4E93-4DA8-9C96-21144B7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74ED-C44E-43C7-964D-AFBD19FB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F3E95-D09C-4141-8766-1224AA37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441A5-F71D-4411-94B2-E3CC5C14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210972-1ABD-469A-A4C3-A79276C7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366F52-C437-4CBC-99F8-BFF546F7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96F0E5-C101-4520-96C9-B6260F9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E95C2-64D5-41AC-BB02-200F816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6D0C44-0BA9-4195-8A08-647BC02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CB0EC9-20E7-4B1F-8BFE-FD773B5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F2F0A6-59FF-4B52-83D7-B8E2E38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F01E1F-4C28-4FB2-89D5-984B065E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69ED-C8B5-4A6B-8C33-DFA323BE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FDA166-1549-498F-A105-79ABBCF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E6DA27-4629-4D75-A1FD-F246D24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CEBA45-6EB6-49FA-950B-4474BCD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479E88-3C77-49BC-B104-813A5424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7AA293-A152-4E09-9C57-6391BFF3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25FE4E-B500-4059-A1EC-3AB4DBA6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3EECAC-F82E-4449-AF65-9F3030D7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B08C9E-62D3-4C73-A360-58E8569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9BEA38-A935-4B65-A1FB-C4867A4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18EF51-6BDF-4327-A381-7299E21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086F-E1CC-4DBB-A1D9-14CB7921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D1C7A1-66A0-4791-A328-3263EC3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5EACB0-9638-4CED-B212-6D4030D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B84053-4EA5-408F-AF11-1113A86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68183E-83CA-4BE1-8194-75FE36E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D96893-4733-4131-9E78-AD3050D7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2BFD7E-A3D3-4F97-A628-FB50559C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9B35B8-4ADA-493D-893D-BAFBEAC2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E08C37-AE54-48DD-BB3C-5E19CC2B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F293F8-69D2-4744-ABCD-AA4FE82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74B810-6118-42C4-932E-91E70CF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AEE-ED69-443D-B9A4-C31285A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AF35-CFC5-41D7-A255-150E02E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F08643-8EF7-43DD-AC77-3C218B0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23B689-212D-4E76-AAA6-DE3A812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2B9F6D-2648-49F5-B6E1-9AED42E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4B246C-4622-442D-A4FA-D4E2B2B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3EA19A-8234-495C-9780-06C0DB2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22CA0D-6710-4C58-B3C4-2EE611C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AF3361-83A2-449F-99C6-6A3DBED3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C4B804-B2DF-42E1-8791-A74F3A35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577FB4-05BD-443B-BAF3-FF1FF6F6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309366-35C8-4F5F-B142-B1DFB2B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9619-234C-426A-BB34-61ED95C9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8FA1B5-D4C9-4451-9A4F-DC4E380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2E4BAA-17DA-43F2-8B8B-E2F61E14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E9393F-E009-4E33-A21E-78F3033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38F662-6E97-4639-9ED4-349B1927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0DEFBD-3687-414F-8591-6458637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E1E503-812E-473E-93DE-605BD10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F2515E-AA8C-4B55-A5FF-E88840D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4D675D-7377-48E7-97A3-5D89AEB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942C96-58B6-4D1A-9A82-8C5FA67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489DB3-9DF2-485B-9DED-5CF872C7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4CEB-EFF4-41C0-BD60-37CA249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0BFE0C-3247-4AA9-B584-E4D5EC9B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49D0A3-DF6B-44F6-95B0-FA69E199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8A672B-092C-43AE-8B71-C2185B2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AE87E6-FBD9-4855-BA0B-7E147C42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2661D1-83AC-47CD-9F82-B5D4C5C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79FF23-2910-4D03-87CD-35C5DA5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75FD37-D5A0-4858-B15B-258C69E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772BB6-9956-4DFC-A69D-679C58F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5813E1-7CA0-41E7-893E-D398FDD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4FB35B-54DE-45AF-AAF8-975C646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57BA-1E6C-4AA0-997A-96750EE6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AB1ED9-EA5D-434D-AED7-951FF99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65B02B-97B6-4FF0-A119-6FE10651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A8727A-CDEE-4AAC-A615-8547AF97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8570E9-01CB-4976-B0C8-6086BB6B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30059A-8D30-41BA-8297-616B6187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E9B589-AB31-4320-9E4F-19FF3B3F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F183A0-BB62-40AE-A901-96C5936D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1B14B0-5F89-4429-9749-E26C9C59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5C6194-14BF-4C8C-B259-9CC54B8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8EE48E-9105-4B47-B004-3555B1D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1580-F2EA-4312-9324-799058A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CA3BF4-F2B3-4267-A954-96B794B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81FE52-EC2A-49FA-BD86-004EDB0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C42C2C-BE33-4BD1-AFB3-CDF8C08E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4C5E55-4D62-4B69-A6DF-11E4F067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0B7F1B-1AF7-4A26-9323-C96160CA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6D6233-6166-4804-857F-70362E1D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6AA6A1-22E9-4313-98EE-E1A8049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34F7AA-F80D-4560-B169-980BBF4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26778C-5C95-4018-A74A-0F20AF3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E73F33-DA9D-4980-96B3-60EF564D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9389-9285-4A06-BF4C-BFBD913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3435A7-EDFB-4C11-9440-26787246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DB8AAB-AA2E-4730-8D32-A951649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69EC05-06F6-4A9D-9995-C15A36A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92CFA0-4A61-43F2-9134-D32F52D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9B5FA9-0543-4454-97BE-FDDBDF7F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8B428B-82EC-4D8A-8A22-28663735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A761AB-1E77-48B2-A4BD-6667ED6F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766432-CCD4-4AB7-B06A-FB211A1E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0069A3-CCB9-49A7-A589-FAA10D7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B6B009-444C-4F93-ADB8-41140B7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2110-52C4-47FF-89DA-3E97018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0734C5-7C70-4273-9295-03FF7C2A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9507B0-B322-416D-B96B-6AB14A7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A01776-8C04-4313-9C21-E854AC1C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4904E3-0541-4D79-8470-BC3B2D9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E8B4B4-4D30-453C-8D17-E14EDB9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49060B-6D48-45FA-BD98-ECCF3B0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5713FF-EE51-4429-9FFE-3C7BB2B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F06920-EB34-4DF3-AA5C-7BCD627C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44BDF8D-F61C-44AC-97CE-5B102813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BE786C-1244-43BD-828A-2EE11526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AB0D-C15B-42E1-809E-E0A7CEB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C9F3B7-24F2-4E03-86BC-2B47B59B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2AD8F8-D5D6-436D-9DEC-AB5BCB78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AAEB28-E192-41E0-A218-71B7C65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280263-3E17-4311-B53F-C457554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96579E-151C-4F25-90EE-7DD0CE7F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65F65D-D259-4918-918F-F49EBEA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690D7C-857D-4A2D-B123-E37F68B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424233-C14D-4CCB-98A0-C51C291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5DB402-14E4-40EB-B7FB-DB23275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F0BCAE-91EA-4763-BDEA-F84769B1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4E57-61C0-47C4-87BC-CCCA2A03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C86AAA-D2F0-4444-B1A9-BFDC6567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9B6274-F9B2-4AD7-AEFB-E59C4862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BAAB33-CA0E-45B0-B475-85E56A6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A05C5E-157B-4247-92C3-5FF967A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C8F483-2205-4208-A994-5FCFAE0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E49E11-42EC-4FAC-925F-6C504732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B18380-6AFE-49D8-BDC4-0F16FA5D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24C441-32C7-417E-BD56-6FC02B8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80704B-AF2B-4AD4-9EDC-D39B512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7241D6-FC0C-4000-8DD5-E58ACDA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FE853-7CD4-4176-9575-8C7FE9AF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C7E288-702D-430C-9934-997FD02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195778-2004-48E7-8B61-1DDEA88C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75858C-FAD0-4A5B-AD98-522FDE6F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50670F-4E87-4CA7-BD00-2507F3D2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0D589E-7365-48A8-BA5D-6F76674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2AC922-7F98-4110-A223-1EAA64B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1CFEF9-2F28-4FD6-A56A-3B840944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E6D3B5-7493-4073-B68C-B2AA9141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E0B5CB-40DF-41EB-834D-68A505D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21C7D8-F4AD-423D-B0EF-338EF05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BF0-AA9F-4FF8-B5B0-3DDA2A7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FE5E-084C-4CD6-8510-E1BD06F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D7B910-811A-4B1F-8AE1-69CEAE0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A2A4B4-704B-47E4-B997-FC88B132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7DEEB3-2328-46C6-9A3C-D500384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83F27C-1743-470D-988C-86D4FD9C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F7DCB0-D407-4EE2-9D59-E67FF0A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7C17F7-8163-42F3-920A-FA3927C7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376734-9AE6-4903-A9D6-6017E340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76F0B48-EEFC-4730-A115-E64BE6D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1C5812-24FD-4BD6-896D-508F94F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1CBB40-D7CF-4A0F-8F4B-46E81DC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0150-D3DB-4319-8E3E-6217676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DB3A7D-3F58-4B06-8B6E-4B7E82F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BAF527-E634-4372-ABB1-91784A8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48F594-28B6-4E6C-8D30-4E4B70B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BA4B29-CD6F-4E55-86CA-3817FDC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3E3E45-1D96-4953-8C16-1BFDB70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B625E4-0A58-4B0B-8BBE-E5BB1DC2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BB0A58-7231-40AC-A907-BDD6C78F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F71CF8-167F-4EB1-851B-90BD942A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F52BCE-B25E-470F-A814-FFB80995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896CC6-7326-43ED-84F7-F8BB1FC9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CFA6-C8FB-4AEE-824D-2BC7931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711D2C-32EB-4BA8-9A2C-2370578B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AE2C4E-492D-4085-A55E-FBEBCD78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3CEDA1-B8D1-47A4-A850-A8F511A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3F7963-FE74-43BE-8EDA-9D81C55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B90A92-E71E-40C3-967C-079DEA0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AC69D6-E26E-4618-AEE7-FCE9944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C2D3B0-02A8-435B-9E32-CC1BC1AC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4D37A8D-957D-4CD3-B3EB-BB67E6A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6C72E9-E46D-4C0B-A317-217C7B2B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1DC7A8-9866-45D7-A51F-CBAAF2DC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58103-2F93-4B6F-9068-2A0479CC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76A34D1-C4CD-437C-AE36-4AAA0A25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52B69E-B584-4312-9C60-A9C5DB5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977345-7054-4310-A999-47C8ED05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328025-6899-4104-8ECD-EC9D7743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8F9EFE-3AAF-46D7-9EF7-C593969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643C7D-41DB-47CA-8741-17B9ED7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B6AB66-ABDD-4851-86FC-79D855C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A7E44E-D08E-4CB8-8A34-718F602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7D6A6C-F1C7-4880-A192-BA364F14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CFFA09-1DED-4DEF-BD6C-1D0C56C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1005-A792-4750-B0E5-2BC0EE37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CF68DF-0494-4F74-BB5A-8D4001E3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C43277-108F-4572-865D-ED4A6CAA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4A36E9-416B-4F6C-A247-E8ACE68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200223-C423-4830-9D4F-2F67DA8C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62B7FD-6B33-4FD4-AF3A-9801779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519C6A-4522-49E2-B12D-8FC0E9B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4C45DC-351A-4A4A-92F8-0B73B34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74AFE8-32A2-475C-8B89-8C82EFC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BD56FAD-B3E2-4EB9-8C3D-5EF162E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EFF67E-56B5-4FAE-9936-5CDA4C4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6D3C-6B92-4C0D-BB5A-46F8F4C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5153B7-99EC-4C4E-85C5-9D2E80E9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999370-BE73-409C-B020-34A9C8B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5D4BDE-9440-4350-9514-F47DCBCC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93A423-AC87-4B1B-9822-80947FBE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842518-6A2E-4C73-A830-C8C6C5E8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540651-C571-47B4-92CC-C1CFAAF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46F070-2EC7-49E2-A0AD-D051E334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00B0BB6-E90E-40B8-AC9B-31292A9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07FF47-6B32-4AC5-A9DE-ACF146F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C1F512-28D6-4DA0-A18D-818CE60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1B05-A257-4320-9F53-271C61A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577592-925A-4804-B31A-2DEF515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CC3991-A774-4735-8934-2A82413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1C87EE-D695-4112-B4A0-782B10A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E8678D-98A7-4F84-8037-957E8D46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F15B95-09AA-4666-8193-DCE05FB3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28323A6-DD2A-4AB2-A68E-8291548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112F5F-AF5B-4ACA-959C-B44AEED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9A60BE-B42D-4DC2-90BA-CD245C6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D8FA6B-B8FD-4BB2-9336-3784084C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8115F3-4DD5-4388-8A60-22D8154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F0EA-E591-42CA-BBFB-86887F1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557C9C-C911-4156-963E-2383174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F75DC9-529D-4F77-A787-4E3B3C8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D07386-EDB6-4418-ABF0-CAD0022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E3FFD5-6B16-4FDC-B33A-0DC0530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D70DDE-AD87-4BAE-BF22-636DFCC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0BA1AD-3232-447A-A3DA-340FAC0E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6CFB167-63F4-4B85-BEFB-4E17DCC4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99F323-2454-4926-A907-A7CE9BF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051F76-66C8-45C7-962B-CB3FE4E8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7E3AF7-F9CD-4C0F-86F4-BB17B96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F5A6-F246-4812-B17F-DA60B18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81DAEFC-4D83-46F0-8B1B-E4D7D0F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26C544-D5BB-43C1-A73E-4061EED2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EB867C-934B-4F94-8CDD-2C8DAFA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2560CC-C77E-4BEB-BFD5-799DD76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1070EE-5718-44B7-A5F6-78858A8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4290F6-41E9-4710-883D-6FE55B3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F439B9-9CCA-43F1-90FB-01CD0E7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17E524-8712-4014-BF85-E8547CFB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B84671-1B89-4407-9F33-7388B46B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29AB98-9756-4310-8B71-C263FBB8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6839-2092-47DA-B1E7-B793939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096600-ABFB-4365-8A62-C4A3DF1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C2C246-C3B8-4D52-B243-33FB900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93EB575-A9A7-4B82-A522-91CA3FD5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6F993C-5173-4E93-950D-F255768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A946D3-C434-40BB-A250-D9083B8B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91AAE5-0EAD-4C39-AC01-9ED2CFA6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84394D-187F-46D2-ABC7-A4E07FE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B12027-95C8-49D3-A246-76DEDEC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99BE29-FF97-47AF-B06A-6E85D93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692070-5A32-4144-9AEA-32125C8E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84D-48B9-489E-97AC-68CBD38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B0F8-63EA-4DCB-A740-CDCE822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C9490E-40E1-4192-9DA5-A71EAE8A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83618A5-9A4E-4627-9129-6F10AE06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AB28A4-E9B1-41A5-B358-CF24B444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5FA0C49-99E8-48BA-9B3B-5DDC569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55A1CD3-1431-43E6-B677-2B64B5E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CDAAA8-6FA3-4275-9E14-4F96862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EA96C5-6B40-40DD-9EE2-32AC9E3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7DDD49-614B-42C0-85E0-CBD0C0D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351E444-CB62-4B90-ADCD-647AE2B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61FD55-9BA4-4DC5-82EF-3C0916D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CDD05-4B92-4FFB-96C3-9F502E30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025CF1-BF8B-4E13-A79D-628A8FF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89F9797-83AB-45C4-B899-704684CF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3BB3F9-66DB-4C6B-9F69-4A88A01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855BD9C-AC21-4EBA-A4D9-52B273F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D004C48-5F08-421B-BA7E-922F9D03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1A1B32-DE78-4A25-B7ED-19E12F8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087514-7CDC-421C-B6E2-CE165F26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25D07C-0E09-4F90-ABBC-64A39B1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24593C3-D9A4-4C7B-84FE-4D65D66C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F67737-5EDF-4420-9AD1-67F9947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E125-1755-4DA3-99BF-64E76534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B15F04-B431-4129-BEEA-2A316D9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7E7EA45-8BD7-47C1-82FF-129BAA3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581857-40E7-4031-8F5F-3746BCB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50DBE7-AECF-4CF8-8753-1EE681CB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E1F78DC-29AD-44C2-A048-1483986B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05BCAE-D7A4-4E61-9E5B-0877D36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227DFA-82A3-4884-A2A4-52EACBE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F89097-9E07-4D01-A116-19CBBD1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FAEB96-5420-42CB-839A-7112C9D5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FC3961-C864-4F78-8AC6-706AF145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55CB-BCE4-4574-9097-C17BAC8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B1C439-E077-4A41-ACE0-EABEDA71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ECD014-347D-4C21-88F8-5D2870C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37440F3-6621-42C6-A43B-62B637A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CB1DC6-DA80-4676-B66E-1502BD37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BCC890-6692-48E5-B6EC-55DEF5A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288B57-8DAB-463B-B926-993582C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BBF14F-6AA4-4147-9DEE-0FA523BB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E188458-2D75-485E-978B-905FBC0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284023-4909-46E6-86DC-CFC8110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22CA17-21B1-4CAA-9F58-FBE2ABC4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36B9-77F8-446C-947A-E86AFC60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A577ED-1741-4CF0-AE61-72058088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5CBEA3-9088-4211-A3CC-C23FB76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65449F-0CA3-4F4B-B2DF-0C84563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534BA3-BBE9-4B16-9C50-9D30AEC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216961-92CD-435F-8741-620E3C1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869314C-EF31-46B6-9CFF-B456451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5950FD-DA44-46F1-B53D-BF571DC3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D42670-72C6-42BB-B149-0F649E57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69472D-848D-4AE2-A1D0-3F744CF6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BCEFE4A-BD60-4F63-91AB-E411B7F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DA28-864C-4B57-B920-59BDDF3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3D6341E-E2CD-4A6B-BC12-B593AD9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F05F53-5399-4A0B-AA7C-269621B6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85D6AE-9E31-4660-82F0-2C5BE8A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3EFBB2-32B4-4CFC-AF1D-22BE4565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55E29F-71B0-4991-923B-0363B605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443B58-6357-4F6B-9108-1775290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ED52AA-D6A6-4146-A99C-EA813D9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CF4776-ED62-445B-A1BC-1A2C122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4AD80B-0B40-4806-955F-28C620BE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EE35143-6D96-4C88-B9E3-F69B497A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F378-20FA-443C-80CE-20757CE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D30F397-0C31-4EB7-A8AE-6E8A70F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554B48-D50F-431B-929D-187698D1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DACA89-5FF3-406F-805B-77DD7FE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361004-867B-447A-85CC-DBE04CB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A1DE488-2EC4-4BF8-9C20-29A48D4C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508CF7-29F1-4AF6-BA44-9457991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3248706-653D-4252-8655-5CF1FF47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1F42884-D971-4C8C-BAF5-B3EFF29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2B63F39-769F-4D1B-A5F9-F992A9D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BB448E-97BA-4FCB-8A6F-9889389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4E52-9B7C-4E86-9A38-DA2D5029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47694F6-F3C0-4643-A1C5-D9CF5B2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56CD9CB-2D16-4A33-8B49-1CA7F01F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F0E884D-7925-4311-A49E-B71ACD6D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8B398D-7DE8-4B72-94AA-0F6738E3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5335B6-2236-4840-AD57-D3BB62BA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4EC36E-C798-4DE0-9666-6427A2C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2682129-E683-4E31-80F9-0F515F7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A314C0-88FE-4EF3-8975-2AAFCB72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0AEA44-D642-4F67-A82F-1BD01DB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62C9156-10A7-42EC-BEE3-954D4F7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8F97-0810-4957-B735-59862BC9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8BDF38F-A946-4F36-A5DC-256C83D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AA5428-1496-405A-8638-305B190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BDBA6B-F756-435D-A11E-5CAAD43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137331-2BE3-49A3-97CC-6DA5AF38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740A56-259D-4111-8602-7F8DE5B8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832628A-36D5-44B8-B8E2-A6AFB28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E342F9-803F-4728-8BAA-0A68AB90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C9AE8DE-4FD0-45FB-B254-3692D38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9E05DD5-DD86-46ED-A27A-1602269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4426E9-2D61-4A4B-B00C-9D103BE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8E1A-11AC-42AE-941F-7D8D073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6126E5-AA38-47F5-8AE4-E7445D0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101295-4BFB-4A69-BD7D-06930DD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9DEE19-404E-48E2-B084-D900A6A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E7F23AF-EF8C-4579-ADE9-C6B73C3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7AAAF70-7AD0-4408-BC27-818A8C1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C2B0BE5-BC97-4C9A-881C-EAC8FFFC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CA3F6D8-B673-40CC-A8F2-8FC858E7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FBA22F8-3AE8-4282-B905-0E0636EB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6048879-754E-472B-896E-8485CB0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AA980D2-2FB2-4F38-BBFF-40A915D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BD5-928C-4824-908D-8898443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688A-19A3-4CF7-9F28-CD29F1A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AE03A0-2E44-41E3-A7F2-B808D04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7D01E2-AD0D-4CBE-987C-25F5BEA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5060F37-0372-4A37-AA6C-A6396EA7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280D3D-45AC-4B8B-831D-DDF25A6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EAD87F-3683-4CEE-8F22-8F2A2AB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165A8C-26E8-439C-9587-E4A80BC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13DA57B-FB25-4007-8CB6-000ACAE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05F9512-F732-4A67-99A2-AF905BB8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2ABAF4A-9589-4848-99C8-BBA0FA09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82ED3CE-FBAF-47B5-A250-A7C1E012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4849-B1AB-43E3-ACCF-470A3362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02A1D76-57F2-4B1A-A060-A14B36F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C320008-1655-4E30-86A9-6C9F8E3A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DD9DE08-05F2-44BC-B9DD-4427A42F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47053B9-C4FF-4004-A119-2DC2F4B7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8E9C5E0-B92E-4BFF-BED9-5D44274A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C0D9B6-908D-4B2E-AACA-8588113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228CD9-6D66-4ACD-91A3-9A3AD5F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A144376-7319-4DFE-B49D-9FBAD76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2CBE019-17E2-4F8B-B3B3-3AF8967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DFC7C9-9E18-402B-A5A5-533AC3B8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A90A-A349-46F4-BD4B-B06D249D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E80452-53A3-4E3F-9DB4-1F05EA30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A3B67D3-AE18-4B34-95E7-7AD2DD08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7553D2-8458-4B00-AE62-A4A94111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C47B1D-1247-4168-A33D-A8112E3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A4885A-704E-40D8-85C5-B6902B9E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AB95E1-9A84-4C61-8C59-A0C9FACE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E49891-C42C-4086-BA71-2C01A3B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4FD534-C815-4759-AA2D-D702F31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198810A-93E8-4549-B483-F2E643B9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9E80CF2-5F33-4E71-A924-FAAA93E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E38C-78AE-438C-B28E-306164DC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83AFAD5-60B0-4AD5-A734-D00E063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9AC898-D0F1-493B-9A6E-10AE9161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920E86-17F7-459C-A1F9-6BD59FFA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5A82-A692-40A0-AEFB-EF59167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8139-6AF6-4715-B25A-6FF972F5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B639-C694-4B38-BF90-2EDEF49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BC1FB-8ABE-4760-A82D-2BF3D8B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D7D5-4719-4832-A756-534CC53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AF4F-527E-4336-A5CB-3721194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F60-20ED-49FA-A75C-AA1378B3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1A7C-E4E1-42B2-856F-A84FDB0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F4FB-95A0-4483-8749-EF81C20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73D6-1BFC-4B8D-BA33-B3DCFE7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7A24-B04C-4B8B-9CA4-47284C89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CDEF-8303-45CE-9907-29D706B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0DFC-9F62-4957-8A19-338E97CC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9A626-1A9C-4CDF-B1B9-D60A1CB2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8B99-9E6C-4A61-8359-6F827D6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A0875-ED47-4047-8C2F-F5E6591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0F05-5F70-48D6-BE38-A26BD77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417-07BA-4912-832A-4712ECB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B2C6-163D-432B-B970-FB613446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EFFC-26AE-414F-A52B-68A979B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E4A77-E121-4E93-90A4-53089A4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08609-0919-43AE-A855-9F971EB1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CC84-BB0C-4889-955E-B6E8743D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FF86E-EAAC-425D-B94A-0D6DCC7D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2C2E6-480E-49CC-84C0-92A4E415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02915-DBAB-4A30-8EF9-1C3DF7E6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4185D-C634-45B8-BD70-A450E08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5158B-1018-4237-BF10-F1C28FE1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B67-D480-4936-87F9-C2D0836B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CF8-B73B-4D8E-8E75-6368737D0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7FE-36F6-42AA-9945-0661A806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8D3-5C7C-4927-A4ED-C57E56DF8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074-F4FE-424D-982D-9752317B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990-10E4-4EE1-B294-51BB7B01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ADA-88F1-49F4-B5EE-C6397337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2CC3-7882-4903-B9FF-65753F18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CC9-231C-4B73-A7CA-AAF4AACC6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FD9-B04A-42D8-A917-FE335542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04D4-C95B-4F44-A8E4-7D3EE51F4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E876-6D63-4564-86CC-22C57CC9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2C35-5A5E-4751-8ADD-27B61E06A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DD5F-E9EC-4475-8B5F-0A7286E1D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1D5-358C-41DE-891A-4F98E444D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0EA-0800-4169-8271-B28C57115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89A2-B7D3-4CBF-8016-480D0E233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B72-B708-4EAD-AAB0-B08A4C10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FEB-F2F7-48C1-9F64-555765EF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EA3-C059-4DAC-A708-0DA9B1473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7900-1762-4C20-B70C-4D800D7B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C08-959F-4ABB-86CA-52FFDE3A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E70C-85BD-4FFE-AA45-D8CD05E7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0B4-7D37-45D9-A2E6-3DB2B6EB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650-8BC5-4D89-B431-2E8FFDE3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DF66-DDAE-4F62-8128-484C41FF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249C-E7BF-4FDC-8B84-1205B9BE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1E70-A313-4AA8-AF85-6E5C01FA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3A5C-B5E3-475E-8E61-1191E39F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F99-E262-4500-A21E-8EC204779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2AA6-B080-4F6D-8CC9-0C5FA1D5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E9C-6864-4243-9693-D30B1E7A6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30D-6AC5-47C7-969A-B1219EE03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351-9C92-4074-B8E5-8A48772FE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299-9475-4B04-8645-F3AE2E5A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556-1AC6-418E-AE1A-CDF2C702E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8ABB-7A65-46DA-AD9B-6D7FEA47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B5D2-28C7-4F8F-992A-1E1799F8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0DA-6106-4C8F-8DBB-701278F1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624-D639-4F32-8B1D-E02FF76F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81A-D9A8-4555-87F0-07922BE5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0DE0-93B5-40B1-882B-0D82AD47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B49-1A52-4E2B-AA2E-4F4CE3DF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241-95B5-4CF3-A561-D5382CFB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0FBE-B31A-4267-8E99-9432FDB1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574-60A4-41C3-A2E0-E76DF2153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9D1-2254-41E1-9ED1-B701732C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73D-C704-43F5-8B7F-2F16B957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402-99F3-490D-93C9-7A3DE366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D0B-0D82-4EAD-ACD5-F3A87797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95C-602D-426D-955C-16C78875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6136-6E59-4545-88E9-A6F4684A5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2F9-BF8A-47BA-98A3-47557CD6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A29-6AC7-4FF7-9762-59E5038C3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9AE-BDFB-4769-A82E-BD9A576C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94C-F9CC-4011-B513-100F26A82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846-F783-49D5-AF16-7FEBA8030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7C0-6F95-46E7-ACCD-D9F89FE76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804-6C8E-48B7-AC65-0F2F8344A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A31-B55D-4483-A2D7-C44274C6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BD1-3547-4722-86BD-5E39C8BCD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8" name="Picture 2" descr="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509" name="Text Box 3"/>
          <p:cNvSpPr/>
          <p:nvPr/>
        </p:nvSpPr>
        <p:spPr>
          <a:xfrm>
            <a:off x="4098960" y="988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WordArt 4"/>
          <p:cNvSpPr txBox="1"/>
          <p:nvPr/>
        </p:nvSpPr>
        <p:spPr>
          <a:xfrm>
            <a:off x="1600200" y="152280"/>
            <a:ext cx="6248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巨人的花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4549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好容易才盼来的春天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你们又来胡闹。滚出去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Box 2"/>
          <p:cNvSpPr/>
          <p:nvPr/>
        </p:nvSpPr>
        <p:spPr>
          <a:xfrm>
            <a:off x="1116000" y="3573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鲜花凋谢，树叶飘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Times New Roman"/>
              </a:rPr>
              <a:t>喂！你赶快滚出去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5" name="Picture 4" descr="jrhy"/>
          <p:cNvPicPr/>
          <p:nvPr/>
        </p:nvPicPr>
        <p:blipFill>
          <a:blip r:embed="rId1"/>
          <a:stretch/>
        </p:blipFill>
        <p:spPr>
          <a:xfrm>
            <a:off x="0" y="-250920"/>
            <a:ext cx="9372600" cy="7359840"/>
          </a:xfrm>
          <a:prstGeom prst="rect">
            <a:avLst/>
          </a:prstGeom>
          <a:ln w="0">
            <a:noFill/>
          </a:ln>
        </p:spPr>
      </p:pic>
      <p:pic>
        <p:nvPicPr>
          <p:cNvPr id="2536" name="Picture 5" descr="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638680"/>
            <a:ext cx="12175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Text Box 1026"/>
          <p:cNvSpPr/>
          <p:nvPr/>
        </p:nvSpPr>
        <p:spPr>
          <a:xfrm>
            <a:off x="685800" y="914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小男孩的什么举动使巨人产生了哪些变化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你用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———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勾画出小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孩的举动，用“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……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勾画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巨人的变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Text Box 3"/>
          <p:cNvSpPr/>
          <p:nvPr/>
        </p:nvSpPr>
        <p:spPr>
          <a:xfrm>
            <a:off x="2498760" y="162072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4"/>
          <p:cNvSpPr/>
          <p:nvPr/>
        </p:nvSpPr>
        <p:spPr>
          <a:xfrm>
            <a:off x="2803680" y="177336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5"/>
          <p:cNvSpPr/>
          <p:nvPr/>
        </p:nvSpPr>
        <p:spPr>
          <a:xfrm>
            <a:off x="685800" y="83808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唤来寒冬的，是我那颗任性、冷酷的心啊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唤来春天的，是－ － － 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1" name="Picture 4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5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分享让我们看到更多的阳光，温馨与美丽，更多的享受快乐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3" name="4.wma" descr=""/>
          <p:cNvPicPr/>
          <p:nvPr/>
        </p:nvPicPr>
        <p:blipFill>
          <a:blip r:embed="rId2"/>
          <a:stretch/>
        </p:blipFill>
        <p:spPr>
          <a:xfrm>
            <a:off x="7696080" y="54864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54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54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训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北风呼啸    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欢笑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冷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酷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鲜花凋谢   增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添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春意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脸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展出绿芽  欢快喧闹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除    草翠花开   纷纷逃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2" name="Picture 2" descr="15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2513" name="Text Box 6"/>
          <p:cNvSpPr/>
          <p:nvPr/>
        </p:nvSpPr>
        <p:spPr>
          <a:xfrm>
            <a:off x="1042920" y="58514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（　　　　）</a:t>
            </a:r>
            <a:r>
              <a:rPr b="1" lang="zh-CN" sz="54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的春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7"/>
          <p:cNvSpPr/>
          <p:nvPr/>
        </p:nvSpPr>
        <p:spPr>
          <a:xfrm>
            <a:off x="1758960" y="585144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鲜花盛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5" name="Picture 2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2516" name="Text Box 4"/>
          <p:cNvSpPr/>
          <p:nvPr/>
        </p:nvSpPr>
        <p:spPr>
          <a:xfrm>
            <a:off x="755640" y="5442120"/>
            <a:ext cx="80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夏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"/>
          <p:cNvSpPr/>
          <p:nvPr/>
        </p:nvSpPr>
        <p:spPr>
          <a:xfrm>
            <a:off x="1403280" y="5472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绿树成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Text Box 2"/>
          <p:cNvSpPr/>
          <p:nvPr/>
        </p:nvSpPr>
        <p:spPr>
          <a:xfrm>
            <a:off x="1258920" y="5589720"/>
            <a:ext cx="676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4"/>
          <p:cNvSpPr/>
          <p:nvPr/>
        </p:nvSpPr>
        <p:spPr>
          <a:xfrm>
            <a:off x="611280" y="586440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鲜果飘香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秋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0" name="Picture 5" descr="1487598-KSOzgAE4Cp"/>
          <p:cNvPicPr/>
          <p:nvPr/>
        </p:nvPicPr>
        <p:blipFill>
          <a:blip r:embed="rId1"/>
          <a:stretch/>
        </p:blipFill>
        <p:spPr>
          <a:xfrm>
            <a:off x="0" y="-316080"/>
            <a:ext cx="9171000" cy="626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Text Box 2"/>
          <p:cNvSpPr/>
          <p:nvPr/>
        </p:nvSpPr>
        <p:spPr>
          <a:xfrm>
            <a:off x="826920" y="5805360"/>
            <a:ext cx="775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）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冬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Text Box 3"/>
          <p:cNvSpPr/>
          <p:nvPr/>
        </p:nvSpPr>
        <p:spPr>
          <a:xfrm>
            <a:off x="1692360" y="5751360"/>
            <a:ext cx="36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白雪一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3" name="Picture 4" descr="f0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616572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6" descr="2006111914412514597"/>
          <p:cNvPicPr/>
          <p:nvPr/>
        </p:nvPicPr>
        <p:blipFill>
          <a:blip r:embed="rId3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Text Box 5"/>
          <p:cNvSpPr/>
          <p:nvPr/>
        </p:nvSpPr>
        <p:spPr>
          <a:xfrm>
            <a:off x="2105640" y="1373040"/>
            <a:ext cx="55846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   </a:t>
            </a: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有一年秋天</a:t>
            </a:r>
            <a:r>
              <a:rPr b="1" lang="en-US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巨人突然回来了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Text Box 2"/>
          <p:cNvSpPr/>
          <p:nvPr/>
        </p:nvSpPr>
        <p:spPr>
          <a:xfrm>
            <a:off x="685800" y="146844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3"/>
          <p:cNvSpPr/>
          <p:nvPr/>
        </p:nvSpPr>
        <p:spPr>
          <a:xfrm>
            <a:off x="625320" y="669960"/>
            <a:ext cx="7620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谁允许你们到这儿来玩的</a:t>
            </a:r>
            <a:r>
              <a:rPr b="0" lang="en-US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!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都滚出去</a:t>
            </a:r>
            <a:r>
              <a:rPr b="0" lang="en-US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!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好容易才盼来的春天</a:t>
            </a:r>
            <a:r>
              <a:rPr b="0" lang="en-US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你们又来胡闹。滚出去！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“</a:t>
            </a:r>
            <a:r>
              <a:rPr b="0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喂！你赶快滚出去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！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Times New Roman"/>
              </a:rPr>
              <a:t>谁允许你们到这儿来玩的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!</a:t>
            </a:r>
            <a:r>
              <a:rPr b="0" lang="zh-CN" sz="6600" spc="-1" strike="noStrike">
                <a:solidFill>
                  <a:srgbClr val="c00000"/>
                </a:solidFill>
                <a:latin typeface="Times New Roman"/>
              </a:rPr>
              <a:t>都滚出去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Box 3"/>
          <p:cNvSpPr/>
          <p:nvPr/>
        </p:nvSpPr>
        <p:spPr>
          <a:xfrm>
            <a:off x="1042920" y="357336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狂风大作，雪花飞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4:17:42Z</dcterms:created>
  <dc:creator>huangwen</dc:creator>
  <dc:description/>
  <dc:language>en-US</dc:language>
  <cp:lastModifiedBy>Administrator</cp:lastModifiedBy>
  <dcterms:modified xsi:type="dcterms:W3CDTF">2011-10-06T15:37:11Z</dcterms:modified>
  <cp:revision>49</cp:revision>
  <dc:subject/>
  <dc:title>PowerPoint 演示文稿</dc:title>
</cp:coreProperties>
</file>