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B90-D5BF-4770-A7A7-A7983ECE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80E-DA87-4D46-A691-B81F90F3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6CE-B5A9-4B9A-BA26-45AC26A2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59C-A140-46DA-A5DA-CDBD0EDC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024-0552-4582-9747-26766391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F57-00B6-4EC0-B828-B7FA358E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EB6-25B8-4AF7-AAD4-349EC09A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9E6-A1F7-43BF-B8EB-A63DC5F4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CCD-824E-403F-BEA5-422AECFC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DB6-6205-42C8-AE8E-827FB261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3DF-41AF-4B98-8B7F-BAD73785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14A-AB22-4DF1-899D-703F9CF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031E-042D-490D-BAAB-4A859CCEA8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557360"/>
            <a:ext cx="619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干干净净就是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6341040" y="5357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三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048360" cy="4032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380360" y="5877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8880" y="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班级卫生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9760" y="1541520"/>
            <a:ext cx="58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在我们的第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个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---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二二班，要从哪些方面来注意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86800" y="2324160"/>
            <a:ext cx="3535560" cy="3077280"/>
            <a:chOff x="1486800" y="2324160"/>
            <a:chExt cx="3535560" cy="3077280"/>
          </a:xfrm>
        </p:grpSpPr>
        <p:sp>
          <p:nvSpPr>
            <p:cNvPr id="93" name=""/>
            <p:cNvSpPr/>
            <p:nvPr/>
          </p:nvSpPr>
          <p:spPr>
            <a:xfrm>
              <a:off x="1486800" y="232416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</a:rPr>
                <a:t>、不随地吐痰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93160" y="292428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</a:rPr>
                <a:t>、教室要注意通风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72200" y="3573360"/>
              <a:ext cx="84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</a:rPr>
                <a:t>、每天都要擦门、窗台、课桌等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31680" y="422100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</a:rPr>
                <a:t>、随时关注教室卫生，发现有垃圾随手捡起来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29480" y="49417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</a:rPr>
                <a:t>、不随手丢垃圾，不在桌子、凳子、墙壁上乱刻乱画等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85560" y="2965320"/>
            <a:ext cx="25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校  园  卫  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59240" y="1743120"/>
            <a:ext cx="5403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我们不仅要注意个人卫生，同时也要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我们的学习和生活的环境。希望大家能真正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起注意，让我们在健康积极地环境中生活。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创建一个卫生整洁的校园环境多做贡献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914560" y="2421000"/>
            <a:ext cx="3457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644480"/>
            <a:ext cx="9144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天气越来越凉，那些我们肉眼看不见的、空气中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处漂浮着的细菌可不怕冷，这时如果你不注意讲卫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细菌就会来危害我们的身体，所以我们应该怎么做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160" y="26028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个人卫生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4400" y="2492280"/>
            <a:ext cx="5403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很多细菌都通过手来传播到我们的身体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那你知道怎样预防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01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洗手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2560" y="4941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指尖摩擦掌心搓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82560" y="1308240"/>
            <a:ext cx="3204000" cy="536400"/>
            <a:chOff x="2482560" y="1308240"/>
            <a:chExt cx="3204000" cy="536400"/>
          </a:xfrm>
        </p:grpSpPr>
        <p:sp>
          <p:nvSpPr>
            <p:cNvPr id="53" name=""/>
            <p:cNvSpPr/>
            <p:nvPr/>
          </p:nvSpPr>
          <p:spPr>
            <a:xfrm>
              <a:off x="2482560" y="130824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、双手手心相互搓洗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>
              <a:off x="4643280" y="1341360"/>
              <a:ext cx="1043280" cy="503280"/>
            </a:xfrm>
            <a:custGeom>
              <a:avLst/>
              <a:gdLst>
                <a:gd name="textAreaLeft" fmla="*/ 32400 w 1043280"/>
                <a:gd name="textAreaRight" fmla="*/ 1010880 w 104328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4759" h="21600">
                  <a:moveTo>
                    <a:pt x="0" y="0"/>
                  </a:moveTo>
                  <a:lnTo>
                    <a:pt x="44759" y="0"/>
                  </a:lnTo>
                  <a:lnTo>
                    <a:pt x="44759" y="21600"/>
                  </a:lnTo>
                  <a:lnTo>
                    <a:pt x="0" y="21600"/>
                  </a:lnTo>
                  <a:close/>
                </a:path>
                <a:path fill="lightenLess" w="44759" h="21600">
                  <a:moveTo>
                    <a:pt x="0" y="0"/>
                  </a:moveTo>
                  <a:lnTo>
                    <a:pt x="44759" y="0"/>
                  </a:lnTo>
                  <a:lnTo>
                    <a:pt x="43359" y="1400"/>
                  </a:lnTo>
                  <a:lnTo>
                    <a:pt x="1400" y="1400"/>
                  </a:lnTo>
                  <a:close/>
                </a:path>
                <a:path fill="darken" w="44759" h="21600">
                  <a:moveTo>
                    <a:pt x="44759" y="0"/>
                  </a:moveTo>
                  <a:lnTo>
                    <a:pt x="44759" y="21600"/>
                  </a:lnTo>
                  <a:lnTo>
                    <a:pt x="43359" y="20200"/>
                  </a:lnTo>
                  <a:lnTo>
                    <a:pt x="43359" y="1400"/>
                  </a:lnTo>
                  <a:close/>
                </a:path>
                <a:path fill="darkenLess" w="44759" h="21600">
                  <a:moveTo>
                    <a:pt x="447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3359" y="20200"/>
                  </a:lnTo>
                  <a:close/>
                </a:path>
                <a:path fill="lighten" w="447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4759" h="21600">
                  <a:moveTo>
                    <a:pt x="15373" y="3794"/>
                  </a:moveTo>
                  <a:lnTo>
                    <a:pt x="29386" y="10800"/>
                  </a:lnTo>
                  <a:lnTo>
                    <a:pt x="1537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016080" y="2046240"/>
            <a:ext cx="3499200" cy="520560"/>
            <a:chOff x="3016080" y="2046240"/>
            <a:chExt cx="3499200" cy="520560"/>
          </a:xfrm>
        </p:grpSpPr>
        <p:sp>
          <p:nvSpPr>
            <p:cNvPr id="56" name=""/>
            <p:cNvSpPr/>
            <p:nvPr/>
          </p:nvSpPr>
          <p:spPr>
            <a:xfrm>
              <a:off x="3016080" y="204624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、手心对手背交叉相叠搓洗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>
              <a:hlinkClick r:id="rId2" action="ppaction://hlinksldjump"/>
            </p:cNvPr>
            <p:cNvSpPr/>
            <p:nvPr/>
          </p:nvSpPr>
          <p:spPr>
            <a:xfrm>
              <a:off x="5651640" y="2060640"/>
              <a:ext cx="863640" cy="431640"/>
            </a:xfrm>
            <a:custGeom>
              <a:avLst/>
              <a:gdLst>
                <a:gd name="textAreaLeft" fmla="*/ 27720 w 863640"/>
                <a:gd name="textAreaRight" fmla="*/ 835920 w 86364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43200" h="21600">
                  <a:moveTo>
                    <a:pt x="0" y="0"/>
                  </a:moveTo>
                  <a:lnTo>
                    <a:pt x="43200" y="0"/>
                  </a:lnTo>
                  <a:lnTo>
                    <a:pt x="43200" y="21600"/>
                  </a:lnTo>
                  <a:lnTo>
                    <a:pt x="0" y="21600"/>
                  </a:lnTo>
                  <a:close/>
                </a:path>
                <a:path fill="lightenLess" w="43200" h="21600">
                  <a:moveTo>
                    <a:pt x="0" y="0"/>
                  </a:moveTo>
                  <a:lnTo>
                    <a:pt x="43200" y="0"/>
                  </a:lnTo>
                  <a:lnTo>
                    <a:pt x="41800" y="1400"/>
                  </a:lnTo>
                  <a:lnTo>
                    <a:pt x="1400" y="1400"/>
                  </a:lnTo>
                  <a:close/>
                </a:path>
                <a:path fill="darken" w="43200" h="21600">
                  <a:moveTo>
                    <a:pt x="43200" y="0"/>
                  </a:moveTo>
                  <a:lnTo>
                    <a:pt x="43200" y="21600"/>
                  </a:lnTo>
                  <a:lnTo>
                    <a:pt x="41800" y="20200"/>
                  </a:lnTo>
                  <a:lnTo>
                    <a:pt x="41800" y="1400"/>
                  </a:lnTo>
                  <a:close/>
                </a:path>
                <a:path fill="darkenLess" w="43200" h="21600">
                  <a:moveTo>
                    <a:pt x="432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800" y="20200"/>
                  </a:lnTo>
                  <a:close/>
                </a:path>
                <a:path fill="lighten" w="432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200" h="21600">
                  <a:moveTo>
                    <a:pt x="14594" y="3794"/>
                  </a:moveTo>
                  <a:lnTo>
                    <a:pt x="28606" y="10800"/>
                  </a:lnTo>
                  <a:lnTo>
                    <a:pt x="14594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838240" y="2781360"/>
            <a:ext cx="3318120" cy="520560"/>
            <a:chOff x="2838240" y="2781360"/>
            <a:chExt cx="3318120" cy="520560"/>
          </a:xfrm>
        </p:grpSpPr>
        <p:sp>
          <p:nvSpPr>
            <p:cNvPr id="59" name=""/>
            <p:cNvSpPr/>
            <p:nvPr/>
          </p:nvSpPr>
          <p:spPr>
            <a:xfrm>
              <a:off x="2838240" y="278136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、手心对手心搓洗手指缝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19640" y="2852640"/>
              <a:ext cx="936720" cy="433440"/>
            </a:xfrm>
            <a:custGeom>
              <a:avLst/>
              <a:gdLst>
                <a:gd name="textAreaLeft" fmla="*/ 28080 w 936720"/>
                <a:gd name="textAreaRight" fmla="*/ 908640 w 936720"/>
                <a:gd name="textAreaTop" fmla="*/ 28080 h 433440"/>
                <a:gd name="textAreaBottom" fmla="*/ 405360 h 433440"/>
              </a:gdLst>
              <a:ahLst/>
              <a:rect l="textAreaLeft" t="textAreaTop" r="textAreaRight" b="textAreaBottom"/>
              <a:pathLst>
                <a:path w="46660" h="21600">
                  <a:moveTo>
                    <a:pt x="0" y="0"/>
                  </a:moveTo>
                  <a:lnTo>
                    <a:pt x="46660" y="0"/>
                  </a:lnTo>
                  <a:lnTo>
                    <a:pt x="46660" y="21600"/>
                  </a:lnTo>
                  <a:lnTo>
                    <a:pt x="0" y="21600"/>
                  </a:lnTo>
                  <a:close/>
                </a:path>
                <a:path fill="lightenLess" w="46660" h="21600">
                  <a:moveTo>
                    <a:pt x="0" y="0"/>
                  </a:moveTo>
                  <a:lnTo>
                    <a:pt x="46660" y="0"/>
                  </a:lnTo>
                  <a:lnTo>
                    <a:pt x="45260" y="1400"/>
                  </a:lnTo>
                  <a:lnTo>
                    <a:pt x="1400" y="1400"/>
                  </a:lnTo>
                  <a:close/>
                </a:path>
                <a:path fill="darken" w="46660" h="21600">
                  <a:moveTo>
                    <a:pt x="46660" y="0"/>
                  </a:moveTo>
                  <a:lnTo>
                    <a:pt x="46660" y="21600"/>
                  </a:lnTo>
                  <a:lnTo>
                    <a:pt x="45260" y="20200"/>
                  </a:lnTo>
                  <a:lnTo>
                    <a:pt x="45260" y="1400"/>
                  </a:lnTo>
                  <a:close/>
                </a:path>
                <a:path fill="darkenLess" w="46660" h="21600">
                  <a:moveTo>
                    <a:pt x="4666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5260" y="20200"/>
                  </a:lnTo>
                  <a:close/>
                </a:path>
                <a:path fill="lighten" w="4666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6660" h="21600">
                  <a:moveTo>
                    <a:pt x="16323" y="3794"/>
                  </a:moveTo>
                  <a:lnTo>
                    <a:pt x="30336" y="10800"/>
                  </a:lnTo>
                  <a:lnTo>
                    <a:pt x="1632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126880" y="3486240"/>
            <a:ext cx="2516400" cy="520560"/>
            <a:chOff x="2126880" y="3486240"/>
            <a:chExt cx="2516400" cy="520560"/>
          </a:xfrm>
        </p:grpSpPr>
        <p:sp>
          <p:nvSpPr>
            <p:cNvPr id="62" name=""/>
            <p:cNvSpPr/>
            <p:nvPr/>
          </p:nvSpPr>
          <p:spPr>
            <a:xfrm>
              <a:off x="2126880" y="348624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、指尖搓洗手心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51280" y="3573360"/>
              <a:ext cx="792000" cy="360360"/>
            </a:xfrm>
            <a:custGeom>
              <a:avLst/>
              <a:gdLst>
                <a:gd name="textAreaLeft" fmla="*/ 23040 w 792000"/>
                <a:gd name="textAreaRight" fmla="*/ 768960 w 79200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47447" h="21600">
                  <a:moveTo>
                    <a:pt x="0" y="0"/>
                  </a:moveTo>
                  <a:lnTo>
                    <a:pt x="47447" y="0"/>
                  </a:lnTo>
                  <a:lnTo>
                    <a:pt x="47447" y="21600"/>
                  </a:lnTo>
                  <a:lnTo>
                    <a:pt x="0" y="21600"/>
                  </a:lnTo>
                  <a:close/>
                </a:path>
                <a:path fill="lightenLess" w="47447" h="21600">
                  <a:moveTo>
                    <a:pt x="0" y="0"/>
                  </a:moveTo>
                  <a:lnTo>
                    <a:pt x="47447" y="0"/>
                  </a:lnTo>
                  <a:lnTo>
                    <a:pt x="46047" y="1400"/>
                  </a:lnTo>
                  <a:lnTo>
                    <a:pt x="1400" y="1400"/>
                  </a:lnTo>
                  <a:close/>
                </a:path>
                <a:path fill="darken" w="47447" h="21600">
                  <a:moveTo>
                    <a:pt x="47447" y="0"/>
                  </a:moveTo>
                  <a:lnTo>
                    <a:pt x="47447" y="21600"/>
                  </a:lnTo>
                  <a:lnTo>
                    <a:pt x="46047" y="20200"/>
                  </a:lnTo>
                  <a:lnTo>
                    <a:pt x="46047" y="1400"/>
                  </a:lnTo>
                  <a:close/>
                </a:path>
                <a:path fill="darkenLess" w="47447" h="21600">
                  <a:moveTo>
                    <a:pt x="474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6047" y="20200"/>
                  </a:lnTo>
                  <a:close/>
                </a:path>
                <a:path fill="lighten" w="474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7447" h="21600">
                  <a:moveTo>
                    <a:pt x="16717" y="3794"/>
                  </a:moveTo>
                  <a:lnTo>
                    <a:pt x="30730" y="10800"/>
                  </a:lnTo>
                  <a:lnTo>
                    <a:pt x="16717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924200" y="4221000"/>
            <a:ext cx="5600520" cy="520560"/>
            <a:chOff x="1924200" y="4221000"/>
            <a:chExt cx="5600520" cy="520560"/>
          </a:xfrm>
        </p:grpSpPr>
        <p:sp>
          <p:nvSpPr>
            <p:cNvPr id="65" name=""/>
            <p:cNvSpPr/>
            <p:nvPr/>
          </p:nvSpPr>
          <p:spPr>
            <a:xfrm>
              <a:off x="1924200" y="4221000"/>
              <a:ext cx="387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、一只手握住另一只手的拇指搓洗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59640" y="4292640"/>
              <a:ext cx="865080" cy="431640"/>
            </a:xfrm>
            <a:custGeom>
              <a:avLst/>
              <a:gdLst>
                <a:gd name="textAreaLeft" fmla="*/ 27720 w 865080"/>
                <a:gd name="textAreaRight" fmla="*/ 837360 w 8650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43272" h="21600">
                  <a:moveTo>
                    <a:pt x="0" y="0"/>
                  </a:moveTo>
                  <a:lnTo>
                    <a:pt x="43272" y="0"/>
                  </a:lnTo>
                  <a:lnTo>
                    <a:pt x="43272" y="21600"/>
                  </a:lnTo>
                  <a:lnTo>
                    <a:pt x="0" y="21600"/>
                  </a:lnTo>
                  <a:close/>
                </a:path>
                <a:path fill="lightenLess" w="43272" h="21600">
                  <a:moveTo>
                    <a:pt x="0" y="0"/>
                  </a:moveTo>
                  <a:lnTo>
                    <a:pt x="43272" y="0"/>
                  </a:lnTo>
                  <a:lnTo>
                    <a:pt x="41872" y="1400"/>
                  </a:lnTo>
                  <a:lnTo>
                    <a:pt x="1400" y="1400"/>
                  </a:lnTo>
                  <a:close/>
                </a:path>
                <a:path fill="darken" w="43272" h="21600">
                  <a:moveTo>
                    <a:pt x="43272" y="0"/>
                  </a:moveTo>
                  <a:lnTo>
                    <a:pt x="43272" y="21600"/>
                  </a:lnTo>
                  <a:lnTo>
                    <a:pt x="41872" y="20200"/>
                  </a:lnTo>
                  <a:lnTo>
                    <a:pt x="41872" y="1400"/>
                  </a:lnTo>
                  <a:close/>
                </a:path>
                <a:path fill="darkenLess" w="43272" h="21600">
                  <a:moveTo>
                    <a:pt x="4327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872" y="20200"/>
                  </a:lnTo>
                  <a:close/>
                </a:path>
                <a:path fill="lighten" w="4327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272" h="21600">
                  <a:moveTo>
                    <a:pt x="14630" y="3794"/>
                  </a:moveTo>
                  <a:lnTo>
                    <a:pt x="28642" y="10800"/>
                  </a:lnTo>
                  <a:lnTo>
                    <a:pt x="14630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066400" y="5718240"/>
            <a:ext cx="6177600" cy="520560"/>
            <a:chOff x="2066400" y="5718240"/>
            <a:chExt cx="6177600" cy="520560"/>
          </a:xfrm>
        </p:grpSpPr>
        <p:sp>
          <p:nvSpPr>
            <p:cNvPr id="68" name=""/>
            <p:cNvSpPr/>
            <p:nvPr/>
          </p:nvSpPr>
          <p:spPr>
            <a:xfrm>
              <a:off x="2066400" y="5718240"/>
              <a:ext cx="430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、一只手握住另一只手的手腕转动搓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80360" y="5805360"/>
              <a:ext cx="863640" cy="432000"/>
            </a:xfrm>
            <a:custGeom>
              <a:avLst/>
              <a:gdLst>
                <a:gd name="textAreaLeft" fmla="*/ 27720 w 863640"/>
                <a:gd name="textAreaRight" fmla="*/ 835920 w 86364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43164" h="21600">
                  <a:moveTo>
                    <a:pt x="0" y="0"/>
                  </a:moveTo>
                  <a:lnTo>
                    <a:pt x="43164" y="0"/>
                  </a:lnTo>
                  <a:lnTo>
                    <a:pt x="43164" y="21600"/>
                  </a:lnTo>
                  <a:lnTo>
                    <a:pt x="0" y="21600"/>
                  </a:lnTo>
                  <a:close/>
                </a:path>
                <a:path fill="lightenLess" w="43164" h="21600">
                  <a:moveTo>
                    <a:pt x="0" y="0"/>
                  </a:moveTo>
                  <a:lnTo>
                    <a:pt x="43164" y="0"/>
                  </a:lnTo>
                  <a:lnTo>
                    <a:pt x="41764" y="1400"/>
                  </a:lnTo>
                  <a:lnTo>
                    <a:pt x="1400" y="1400"/>
                  </a:lnTo>
                  <a:close/>
                </a:path>
                <a:path fill="darken" w="43164" h="21600">
                  <a:moveTo>
                    <a:pt x="43164" y="0"/>
                  </a:moveTo>
                  <a:lnTo>
                    <a:pt x="43164" y="21600"/>
                  </a:lnTo>
                  <a:lnTo>
                    <a:pt x="41764" y="20200"/>
                  </a:lnTo>
                  <a:lnTo>
                    <a:pt x="41764" y="1400"/>
                  </a:lnTo>
                  <a:close/>
                </a:path>
                <a:path fill="darkenLess" w="43164" h="21600">
                  <a:moveTo>
                    <a:pt x="4316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764" y="20200"/>
                  </a:lnTo>
                  <a:close/>
                </a:path>
                <a:path fill="lighten" w="4316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164" h="21600">
                  <a:moveTo>
                    <a:pt x="14576" y="3794"/>
                  </a:moveTo>
                  <a:lnTo>
                    <a:pt x="28588" y="10800"/>
                  </a:lnTo>
                  <a:lnTo>
                    <a:pt x="14576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24000" y="6381720"/>
            <a:ext cx="1079280" cy="476280"/>
          </a:xfrm>
          <a:custGeom>
            <a:avLst/>
            <a:gdLst>
              <a:gd name="textAreaLeft" fmla="*/ 30600 w 1079280"/>
              <a:gd name="textAreaRight" fmla="*/ 1048680 w 1079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8926" h="21600">
                <a:moveTo>
                  <a:pt x="0" y="0"/>
                </a:moveTo>
                <a:lnTo>
                  <a:pt x="48926" y="0"/>
                </a:lnTo>
                <a:lnTo>
                  <a:pt x="48926" y="21600"/>
                </a:lnTo>
                <a:lnTo>
                  <a:pt x="0" y="21600"/>
                </a:lnTo>
                <a:close/>
              </a:path>
              <a:path fill="lightenLess" w="48926" h="21600">
                <a:moveTo>
                  <a:pt x="0" y="0"/>
                </a:moveTo>
                <a:lnTo>
                  <a:pt x="48926" y="0"/>
                </a:lnTo>
                <a:lnTo>
                  <a:pt x="47526" y="1400"/>
                </a:lnTo>
                <a:lnTo>
                  <a:pt x="1400" y="1400"/>
                </a:lnTo>
                <a:close/>
              </a:path>
              <a:path fill="darken" w="48926" h="21600">
                <a:moveTo>
                  <a:pt x="48926" y="0"/>
                </a:moveTo>
                <a:lnTo>
                  <a:pt x="48926" y="21600"/>
                </a:lnTo>
                <a:lnTo>
                  <a:pt x="47526" y="20200"/>
                </a:lnTo>
                <a:lnTo>
                  <a:pt x="47526" y="1400"/>
                </a:lnTo>
                <a:close/>
              </a:path>
              <a:path fill="darkenLess" w="48926" h="21600">
                <a:moveTo>
                  <a:pt x="48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526" y="20200"/>
                </a:lnTo>
                <a:close/>
              </a:path>
              <a:path fill="lighten" w="48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926" h="21600">
                <a:moveTo>
                  <a:pt x="17457" y="3794"/>
                </a:moveTo>
                <a:lnTo>
                  <a:pt x="31470" y="10800"/>
                </a:lnTo>
                <a:lnTo>
                  <a:pt x="174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5977080" cy="446436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23291" y="10800"/>
                </a:moveTo>
                <a:lnTo>
                  <a:pt x="12786" y="17806"/>
                </a:lnTo>
                <a:lnTo>
                  <a:pt x="12786" y="3794"/>
                </a:lnTo>
                <a:close/>
              </a:path>
              <a:path fill="darken" w="39585" h="21600">
                <a:moveTo>
                  <a:pt x="25137" y="3794"/>
                </a:moveTo>
                <a:lnTo>
                  <a:pt x="25137" y="17806"/>
                </a:lnTo>
                <a:lnTo>
                  <a:pt x="26799" y="17806"/>
                </a:lnTo>
                <a:lnTo>
                  <a:pt x="2679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6050160" cy="41036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7667640" y="609300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2" h="21600">
                <a:moveTo>
                  <a:pt x="25135" y="10800"/>
                </a:moveTo>
                <a:lnTo>
                  <a:pt x="14630" y="17806"/>
                </a:lnTo>
                <a:lnTo>
                  <a:pt x="14630" y="3794"/>
                </a:lnTo>
                <a:close/>
              </a:path>
              <a:path fill="darken" w="43272" h="21600">
                <a:moveTo>
                  <a:pt x="26980" y="3794"/>
                </a:moveTo>
                <a:lnTo>
                  <a:pt x="26980" y="17806"/>
                </a:lnTo>
                <a:lnTo>
                  <a:pt x="28642" y="17806"/>
                </a:lnTo>
                <a:lnTo>
                  <a:pt x="28642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5834160" cy="3960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247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21490" y="10800"/>
                </a:moveTo>
                <a:lnTo>
                  <a:pt x="10985" y="17806"/>
                </a:lnTo>
                <a:lnTo>
                  <a:pt x="10985" y="3794"/>
                </a:lnTo>
                <a:close/>
              </a:path>
              <a:path fill="darken" w="35982" h="21600">
                <a:moveTo>
                  <a:pt x="23335" y="3794"/>
                </a:moveTo>
                <a:lnTo>
                  <a:pt x="23335" y="17806"/>
                </a:lnTo>
                <a:lnTo>
                  <a:pt x="24997" y="17806"/>
                </a:lnTo>
                <a:lnTo>
                  <a:pt x="24997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6048360" cy="403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2472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71640" y="2276640"/>
            <a:ext cx="6121440" cy="381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96360" y="5950080"/>
            <a:ext cx="936360" cy="43164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836" h="21600">
                <a:moveTo>
                  <a:pt x="0" y="0"/>
                </a:moveTo>
                <a:lnTo>
                  <a:pt x="46836" y="0"/>
                </a:lnTo>
                <a:lnTo>
                  <a:pt x="46836" y="21600"/>
                </a:lnTo>
                <a:lnTo>
                  <a:pt x="0" y="21600"/>
                </a:lnTo>
                <a:close/>
              </a:path>
              <a:path fill="lightenLess" w="46836" h="21600">
                <a:moveTo>
                  <a:pt x="0" y="0"/>
                </a:moveTo>
                <a:lnTo>
                  <a:pt x="46836" y="0"/>
                </a:lnTo>
                <a:lnTo>
                  <a:pt x="45436" y="1400"/>
                </a:lnTo>
                <a:lnTo>
                  <a:pt x="1400" y="1400"/>
                </a:lnTo>
                <a:close/>
              </a:path>
              <a:path fill="darken" w="46836" h="21600">
                <a:moveTo>
                  <a:pt x="46836" y="0"/>
                </a:moveTo>
                <a:lnTo>
                  <a:pt x="46836" y="21600"/>
                </a:lnTo>
                <a:lnTo>
                  <a:pt x="45436" y="20200"/>
                </a:lnTo>
                <a:lnTo>
                  <a:pt x="45436" y="1400"/>
                </a:lnTo>
                <a:close/>
              </a:path>
              <a:path fill="darkenLess" w="46836" h="21600">
                <a:moveTo>
                  <a:pt x="46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36" y="20200"/>
                </a:lnTo>
                <a:close/>
              </a:path>
              <a:path fill="lighten" w="46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836" h="21600">
                <a:moveTo>
                  <a:pt x="26917" y="10800"/>
                </a:moveTo>
                <a:lnTo>
                  <a:pt x="16412" y="17806"/>
                </a:lnTo>
                <a:lnTo>
                  <a:pt x="16412" y="3794"/>
                </a:lnTo>
                <a:close/>
              </a:path>
              <a:path fill="darken" w="46836" h="21600">
                <a:moveTo>
                  <a:pt x="28762" y="3794"/>
                </a:moveTo>
                <a:lnTo>
                  <a:pt x="28762" y="17806"/>
                </a:lnTo>
                <a:lnTo>
                  <a:pt x="30424" y="17806"/>
                </a:lnTo>
                <a:lnTo>
                  <a:pt x="3042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3:22:13Z</dcterms:created>
  <dc:creator>微软用户</dc:creator>
  <dc:description/>
  <cp:keywords/>
  <dc:language>en-US</dc:language>
  <cp:lastModifiedBy>微软用户</cp:lastModifiedBy>
  <cp:lastPrinted>1899-12-30T00:00:00Z</cp:lastPrinted>
  <dcterms:modified xsi:type="dcterms:W3CDTF">2011-10-21T04:23:19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