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5718-EE04-4572-9BF9-93E66DC290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5BE3F-CC97-497D-A1EF-BE36ABB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CE91-A7EE-46D0-B6BB-D5EB341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8104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6240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9968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8104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6240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FF958-44C5-449C-B153-8020EC3B2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8B9D1-A367-4B86-BC43-E948080FA8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B390E-4D3D-467C-B0E5-82D2544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CAF2-98E7-4136-A798-C9B64ED4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6839C-A3D2-479D-9421-EC801FA9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59B0-8E03-4A04-90C2-2A141B5B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401C-9DAC-4230-8773-5751E183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0E756-6830-4BA3-8A1D-EA3D9B5A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3875-85F7-43A4-8505-4AAAA4B4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69583-55EE-4B14-BDB6-109746FD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EB5A6-99E6-4A65-A5DC-208ABF13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40618-3A4B-47CA-A877-63BDFA5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9938-54CA-449F-8CE0-A9A8BA77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8104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6240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968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8104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6240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9E034-07F8-49B3-98FD-ACA04E71C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CE42-268A-4427-B68F-CADFD5813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3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5963-3BD4-4ABF-976D-1654A8CA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E467-206C-45D2-A3EE-8B87B5DB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E2B7-4129-4643-9967-1E9AA100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685-9D0F-4D4B-B0FA-C92AB1B2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537B-AB28-4794-997F-CDF50392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F82B-9BE6-45AA-B0D5-11FE1FDE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91F-73BC-4CD8-93C0-AD3CCFF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55A3-8BB6-4460-B362-7B696E45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6F3-3513-447C-A38C-637F1FE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AFFD-2431-43BD-A235-4F26F6A2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F6C1-5F92-4373-8006-EBAC34A9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8104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62400" y="11426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9968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8104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62400" y="35049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2938-BDD5-4C6B-A073-BF2DCE2E5F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9673-06BA-4705-B564-68F30B72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99F54-43BD-4565-A47B-51496ED9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38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5689-C8A9-4B3E-B1B2-13198A33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8C9B-5043-469B-B34A-337F954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5280" y="35049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8140D-5FDA-4F60-8083-EAB9BF17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96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5280" y="11426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680" y="35049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3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CA1F-DDE1-4CFD-AD4B-5002B805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17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 rot="10800000">
            <a:off x="7432560" y="6006960"/>
            <a:ext cx="642960" cy="21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6524640" y="6179760"/>
            <a:ext cx="500040" cy="29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327720" y="6340320"/>
            <a:ext cx="320760" cy="327240"/>
            <a:chOff x="6327720" y="6340320"/>
            <a:chExt cx="320760" cy="32724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6327720" y="634032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6462000" y="6479280"/>
              <a:ext cx="5040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6827760" y="6029280"/>
            <a:ext cx="320760" cy="327240"/>
            <a:chOff x="6827760" y="6029280"/>
            <a:chExt cx="320760" cy="327240"/>
          </a:xfrm>
        </p:grpSpPr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6827760" y="602928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6963480" y="6168240"/>
              <a:ext cx="4896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285840" y="62863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6A4D5B4-7B2D-42D3-932F-C89092A043A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2920" y="142920"/>
            <a:ext cx="8858160" cy="5857920"/>
          </a:xfrm>
          <a:prstGeom prst="roundRect">
            <a:avLst>
              <a:gd name="adj" fmla="val 3329"/>
            </a:avLst>
          </a:prstGeom>
          <a:gradFill rotWithShape="0">
            <a:gsLst>
              <a:gs pos="0">
                <a:srgbClr val="e5f4f7"/>
              </a:gs>
              <a:gs pos="100000">
                <a:srgbClr val="ffffff"/>
              </a:gs>
            </a:gsLst>
            <a:lin ang="17400000"/>
          </a:gra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7432560" y="6006960"/>
            <a:ext cx="642960" cy="21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524640" y="6179760"/>
            <a:ext cx="500040" cy="29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327720" y="6340320"/>
            <a:ext cx="320760" cy="327240"/>
            <a:chOff x="6327720" y="6340320"/>
            <a:chExt cx="320760" cy="3272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6327720" y="634032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462000" y="6479280"/>
              <a:ext cx="5040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27760" y="6029280"/>
            <a:ext cx="320760" cy="327240"/>
            <a:chOff x="6827760" y="6029280"/>
            <a:chExt cx="320760" cy="32724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6827760" y="602928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963480" y="6168240"/>
              <a:ext cx="4896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3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4"/>
          </p:nvPr>
        </p:nvSpPr>
        <p:spPr>
          <a:xfrm>
            <a:off x="285840" y="62863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91FD25-DB46-4D63-9440-9AE09B5312C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958" t="-8" r="292" b="720"/>
          <a:stretch/>
        </p:blipFill>
        <p:spPr>
          <a:xfrm>
            <a:off x="142920" y="0"/>
            <a:ext cx="9001080" cy="6143760"/>
          </a:xfrm>
          <a:prstGeom prst="rect">
            <a:avLst/>
          </a:prstGeom>
          <a:ln w="0">
            <a:noFill/>
          </a:ln>
          <a:effectLst>
            <a:outerShdw dist="114543" dir="11676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7" name=""/>
          <p:cNvSpPr/>
          <p:nvPr/>
        </p:nvSpPr>
        <p:spPr>
          <a:xfrm>
            <a:off x="7143840" y="6215040"/>
            <a:ext cx="192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竞岗报告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24640" y="6179760"/>
            <a:ext cx="500040" cy="2919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327720" y="6340320"/>
            <a:ext cx="320760" cy="327240"/>
            <a:chOff x="6327720" y="6340320"/>
            <a:chExt cx="320760" cy="327240"/>
          </a:xfrm>
        </p:grpSpPr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6327720" y="634032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462000" y="6479280"/>
              <a:ext cx="5040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27760" y="6029280"/>
            <a:ext cx="320760" cy="327240"/>
            <a:chOff x="6827760" y="6029280"/>
            <a:chExt cx="320760" cy="3272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6827760" y="6029280"/>
              <a:ext cx="32076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6963480" y="6168240"/>
              <a:ext cx="48960" cy="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6338160" y="65404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766560" y="6326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岗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99680" y="11426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4280" indent="-22536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00000" indent="-179280">
              <a:spcBef>
                <a:spcPts val="63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62160" indent="-179640"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623960" indent="-179280">
              <a:spcBef>
                <a:spcPts val="638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356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6"/>
          </p:nvPr>
        </p:nvSpPr>
        <p:spPr>
          <a:xfrm>
            <a:off x="285840" y="628632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914E64-C6D7-44CE-80AB-6C23881BCEE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关注细节，抓住成长机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71280" y="292896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Verdana"/>
              </a:rPr>
              <a:t>abcdef</a:t>
            </a:r>
            <a:r>
              <a:rPr b="1" lang="zh-CN" sz="2000" spc="-1" strike="noStrike">
                <a:solidFill>
                  <a:srgbClr val="898989"/>
                </a:solidFill>
                <a:latin typeface="Verdana"/>
              </a:rPr>
              <a:t>竞岗报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49120" y="400068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市场管理部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250"/>
                            </p:stCondLst>
                            <p:childTnLst>
                              <p:par>
                                <p:cTn id="13" dur="indefinite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8760" y="3286080"/>
            <a:ext cx="8429400" cy="28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28760" y="3571920"/>
            <a:ext cx="8429400" cy="1428840"/>
          </a:xfrm>
          <a:prstGeom prst="rect">
            <a:avLst/>
          </a:prstGeom>
          <a:solidFill>
            <a:srgbClr val="eeece1"/>
          </a:solidFill>
          <a:ln w="93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841920" y="28584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Verdana"/>
              </a:rPr>
              <a:t>xxxx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863880" y="1494000"/>
            <a:ext cx="14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某大学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XXX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专业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4238280" y="1089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Verdana"/>
              </a:rPr>
              <a:t>现有岗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42960" y="233532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</a:rPr>
              <a:t>自信、见解独特，行动力十足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Verdana"/>
              </a:rPr>
              <a:t>热情开朗、正直、思考、具创新的能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358880" y="1851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学位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99240" y="3573360"/>
            <a:ext cx="1905120" cy="1460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72284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35540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专业理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335556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职业技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3560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业务能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7332480" y="4280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Verdana"/>
              </a:rPr>
              <a:t>工作态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69892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99080" y="3573360"/>
            <a:ext cx="1904760" cy="1460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98400" y="3573360"/>
            <a:ext cx="1905120" cy="1460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46120" y="3843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3446280" y="38005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41656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416720" y="377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940840" y="52862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竞聘：某个岗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我在某公司的历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928800" y="4157640"/>
            <a:ext cx="7286400" cy="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787400" y="4051440"/>
            <a:ext cx="214560" cy="214200"/>
          </a:xfrm>
          <a:prstGeom prst="ellipse">
            <a:avLst/>
          </a:prstGeom>
          <a:solidFill>
            <a:srgbClr val="00b0f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273480" y="4051440"/>
            <a:ext cx="214200" cy="214200"/>
          </a:xfrm>
          <a:prstGeom prst="ellipse">
            <a:avLst/>
          </a:prstGeom>
          <a:solidFill>
            <a:srgbClr val="ff21b5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6702480" y="4051440"/>
            <a:ext cx="214200" cy="21420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57160" y="4051440"/>
            <a:ext cx="214560" cy="2142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92720" y="4336560"/>
            <a:ext cx="3628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X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1708920" y="4336560"/>
            <a:ext cx="3628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X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137400" y="4407840"/>
            <a:ext cx="3628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X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566400" y="4407840"/>
            <a:ext cx="3628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0X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42960" y="1714680"/>
            <a:ext cx="3855960" cy="1855080"/>
            <a:chOff x="642960" y="1714680"/>
            <a:chExt cx="3855960" cy="1855080"/>
          </a:xfrm>
        </p:grpSpPr>
        <p:sp>
          <p:nvSpPr>
            <p:cNvPr id="193" name=""/>
            <p:cNvSpPr/>
            <p:nvPr/>
          </p:nvSpPr>
          <p:spPr>
            <a:xfrm>
              <a:off x="642960" y="1714680"/>
              <a:ext cx="3855960" cy="337320"/>
            </a:xfrm>
            <a:prstGeom prst="rect">
              <a:avLst/>
            </a:prstGeom>
            <a:gradFill rotWithShape="0">
              <a:gsLst>
                <a:gs pos="0">
                  <a:srgbClr val="92d050"/>
                </a:gs>
                <a:gs pos="100000">
                  <a:srgbClr val="6ca62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入职实习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960" y="2071440"/>
              <a:ext cx="3855960" cy="1498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857240" y="1714680"/>
            <a:ext cx="3856320" cy="1855080"/>
            <a:chOff x="1857240" y="1714680"/>
            <a:chExt cx="3856320" cy="1855080"/>
          </a:xfrm>
        </p:grpSpPr>
        <p:sp>
          <p:nvSpPr>
            <p:cNvPr id="196" name=""/>
            <p:cNvSpPr/>
            <p:nvPr/>
          </p:nvSpPr>
          <p:spPr>
            <a:xfrm>
              <a:off x="1857240" y="1714680"/>
              <a:ext cx="3856320" cy="337320"/>
            </a:xfrm>
            <a:prstGeom prst="rect">
              <a:avLst/>
            </a:prstGeom>
            <a:gradFill rotWithShape="0">
              <a:gsLst>
                <a:gs pos="0">
                  <a:srgbClr val="00b0f0"/>
                </a:gs>
                <a:gs pos="100000">
                  <a:srgbClr val="008bbc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57240" y="2071440"/>
              <a:ext cx="3856320" cy="1498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286080" y="1714680"/>
            <a:ext cx="3855960" cy="1855080"/>
            <a:chOff x="3286080" y="1714680"/>
            <a:chExt cx="3855960" cy="1855080"/>
          </a:xfrm>
        </p:grpSpPr>
        <p:sp>
          <p:nvSpPr>
            <p:cNvPr id="199" name=""/>
            <p:cNvSpPr/>
            <p:nvPr/>
          </p:nvSpPr>
          <p:spPr>
            <a:xfrm>
              <a:off x="3286080" y="1714680"/>
              <a:ext cx="3855960" cy="337320"/>
            </a:xfrm>
            <a:prstGeom prst="rect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ff21b5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86080" y="2071440"/>
              <a:ext cx="3855960" cy="1498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57840" y="1714680"/>
            <a:ext cx="3855960" cy="1855080"/>
            <a:chOff x="4857840" y="1714680"/>
            <a:chExt cx="3855960" cy="1855080"/>
          </a:xfrm>
        </p:grpSpPr>
        <p:sp>
          <p:nvSpPr>
            <p:cNvPr id="202" name=""/>
            <p:cNvSpPr/>
            <p:nvPr/>
          </p:nvSpPr>
          <p:spPr>
            <a:xfrm>
              <a:off x="4857840" y="1714680"/>
              <a:ext cx="3855960" cy="3373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5c02b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部门</a:t>
              </a: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57840" y="2071440"/>
              <a:ext cx="3855960" cy="1498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66600" indent="-66600">
                <a:buClr>
                  <a:srgbClr val="008bbc"/>
                </a:buClr>
                <a:buFont typeface="Arial"/>
                <a:buChar char="•"/>
                <a:tabLst>
                  <a:tab algn="l" pos="66600"/>
                  <a:tab algn="l" pos="514440"/>
                  <a:tab algn="l" pos="963720"/>
                  <a:tab algn="l" pos="1413000"/>
                  <a:tab algn="l" pos="1862280"/>
                  <a:tab algn="l" pos="2311560"/>
                  <a:tab algn="l" pos="2760840"/>
                  <a:tab algn="l" pos="3209760"/>
                  <a:tab algn="l" pos="3659040"/>
                  <a:tab algn="l" pos="4108320"/>
                  <a:tab algn="l" pos="4557600"/>
                  <a:tab algn="l" pos="5006880"/>
                  <a:tab algn="l" pos="5456160"/>
                  <a:tab algn="l" pos="5905440"/>
                  <a:tab algn="l" pos="6354720"/>
                  <a:tab algn="l" pos="6804000"/>
                  <a:tab algn="l" pos="7253280"/>
                  <a:tab algn="l" pos="7702560"/>
                  <a:tab algn="l" pos="8151840"/>
                  <a:tab algn="l" pos="8601120"/>
                  <a:tab algn="l" pos="90504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8bbc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087800" y="92880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087800" y="3703680"/>
            <a:ext cx="1644840" cy="1233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087800" y="2306520"/>
            <a:ext cx="1644840" cy="1233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grpSp>
        <p:nvGrpSpPr>
          <p:cNvPr id="207" name=""/>
          <p:cNvGrpSpPr/>
          <p:nvPr/>
        </p:nvGrpSpPr>
        <p:grpSpPr>
          <a:xfrm>
            <a:off x="428760" y="928800"/>
            <a:ext cx="8248320" cy="4017600"/>
            <a:chOff x="428760" y="928800"/>
            <a:chExt cx="8248320" cy="401760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rcRect l="0" t="0" r="0" b="3273"/>
            <a:stretch/>
          </p:blipFill>
          <p:spPr>
            <a:xfrm>
              <a:off x="2285640" y="939600"/>
              <a:ext cx="1631880" cy="123264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09" name="" descr=""/>
            <p:cNvPicPr/>
            <p:nvPr/>
          </p:nvPicPr>
          <p:blipFill>
            <a:blip r:embed="rId5"/>
            <a:stretch/>
          </p:blipFill>
          <p:spPr>
            <a:xfrm>
              <a:off x="2285640" y="2326680"/>
              <a:ext cx="1644480" cy="123264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0" name="" descr=""/>
            <p:cNvPicPr/>
            <p:nvPr/>
          </p:nvPicPr>
          <p:blipFill>
            <a:blip r:embed="rId6"/>
            <a:stretch/>
          </p:blipFill>
          <p:spPr>
            <a:xfrm>
              <a:off x="2285640" y="3713760"/>
              <a:ext cx="1644480" cy="123264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463320" y="929880"/>
              <a:ext cx="1644120" cy="123300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2" name="" descr=""/>
            <p:cNvPicPr/>
            <p:nvPr/>
          </p:nvPicPr>
          <p:blipFill>
            <a:blip r:embed="rId8"/>
            <a:stretch/>
          </p:blipFill>
          <p:spPr>
            <a:xfrm>
              <a:off x="471240" y="2317320"/>
              <a:ext cx="1644480" cy="123264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3" name="" descr=""/>
            <p:cNvPicPr/>
            <p:nvPr/>
          </p:nvPicPr>
          <p:blipFill>
            <a:blip r:embed="rId9"/>
            <a:stretch/>
          </p:blipFill>
          <p:spPr>
            <a:xfrm>
              <a:off x="428760" y="3713760"/>
              <a:ext cx="1644120" cy="1232640"/>
            </a:xfrm>
            <a:prstGeom prst="rect">
              <a:avLst/>
            </a:prstGeom>
            <a:ln w="3240">
              <a:solidFill>
                <a:srgbClr val="7f7f7f"/>
              </a:solidFill>
              <a:miter/>
            </a:ln>
          </p:spPr>
        </p:pic>
        <p:pic>
          <p:nvPicPr>
            <p:cNvPr id="214" name="" descr=""/>
            <p:cNvPicPr/>
            <p:nvPr/>
          </p:nvPicPr>
          <p:blipFill>
            <a:blip r:embed="rId10"/>
            <a:stretch/>
          </p:blipFill>
          <p:spPr>
            <a:xfrm>
              <a:off x="5895000" y="3005640"/>
              <a:ext cx="2756880" cy="19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1"/>
            <a:stretch/>
          </p:blipFill>
          <p:spPr>
            <a:xfrm>
              <a:off x="7280640" y="928800"/>
              <a:ext cx="1396440" cy="195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2"/>
            <a:stretch/>
          </p:blipFill>
          <p:spPr>
            <a:xfrm>
              <a:off x="5895000" y="928800"/>
              <a:ext cx="1379160" cy="195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" name=""/>
          <p:cNvSpPr/>
          <p:nvPr/>
        </p:nvSpPr>
        <p:spPr>
          <a:xfrm>
            <a:off x="181080" y="857160"/>
            <a:ext cx="8820000" cy="44640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3595320" y="247824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年分公司月度经营分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3652920" y="10746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Verdana"/>
              </a:rPr>
              <a:t>主要工作业绩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3852000" y="3241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客户关系管理实施方案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3717360" y="2859120"/>
            <a:ext cx="16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年分公司工作思路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3948120" y="3622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网格化营销专题分析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3972600" y="400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</a:rPr>
              <a:t>月度市场分析月报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4360320" y="43862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 fill="hold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3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3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3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" fill="hold">
                                          <p:stCondLst>
                                            <p:cond delay="13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85880" y="2643120"/>
            <a:ext cx="2081160" cy="16574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近期工作目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2071800" y="1643040"/>
            <a:ext cx="1770120" cy="1298520"/>
          </a:xfrm>
          <a:prstGeom prst="pi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4077000" y="1428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000160" y="3870360"/>
            <a:ext cx="1770120" cy="272880"/>
          </a:xfrm>
          <a:prstGeom prst="pie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077000" y="3786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2800" spc="-1" strike="noStrike">
                <a:solidFill>
                  <a:srgbClr val="ff21b5"/>
                </a:solidFill>
                <a:latin typeface="Verdana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4000680" y="2000160"/>
            <a:ext cx="4643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3929040" y="4357800"/>
            <a:ext cx="4643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223920"/>
                <a:tab algn="l" pos="671400"/>
                <a:tab algn="l" pos="1120680"/>
                <a:tab algn="l" pos="1569960"/>
                <a:tab algn="l" pos="2019240"/>
                <a:tab algn="l" pos="2468520"/>
                <a:tab algn="l" pos="2917800"/>
                <a:tab algn="l" pos="3367080"/>
                <a:tab algn="l" pos="3816360"/>
                <a:tab algn="l" pos="4265640"/>
                <a:tab algn="l" pos="4714920"/>
                <a:tab algn="l" pos="5164200"/>
                <a:tab algn="l" pos="5613480"/>
                <a:tab algn="l" pos="6062760"/>
                <a:tab algn="l" pos="6512040"/>
                <a:tab algn="l" pos="6961320"/>
                <a:tab algn="l" pos="7410600"/>
                <a:tab algn="l" pos="7859880"/>
                <a:tab algn="l" pos="8308800"/>
                <a:tab algn="l" pos="8758080"/>
                <a:tab algn="l" pos="9207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500120" y="4470480"/>
            <a:ext cx="6784920" cy="1315800"/>
            <a:chOff x="1500120" y="4470480"/>
            <a:chExt cx="6784920" cy="1315800"/>
          </a:xfrm>
        </p:grpSpPr>
        <p:sp>
          <p:nvSpPr>
            <p:cNvPr id="234" name=""/>
            <p:cNvSpPr/>
            <p:nvPr/>
          </p:nvSpPr>
          <p:spPr>
            <a:xfrm>
              <a:off x="1500120" y="4470480"/>
              <a:ext cx="6784920" cy="114120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99840" y="4597200"/>
              <a:ext cx="557028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428840" y="2857680"/>
            <a:ext cx="6784920" cy="1326960"/>
            <a:chOff x="1428840" y="2857680"/>
            <a:chExt cx="6784920" cy="1326960"/>
          </a:xfrm>
        </p:grpSpPr>
        <p:sp>
          <p:nvSpPr>
            <p:cNvPr id="237" name=""/>
            <p:cNvSpPr/>
            <p:nvPr/>
          </p:nvSpPr>
          <p:spPr>
            <a:xfrm>
              <a:off x="1428840" y="2857680"/>
              <a:ext cx="6784920" cy="12841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0200" y="2995560"/>
              <a:ext cx="54986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8840" y="1285920"/>
            <a:ext cx="6784920" cy="1284120"/>
            <a:chOff x="1428840" y="1285920"/>
            <a:chExt cx="6784920" cy="1284120"/>
          </a:xfrm>
        </p:grpSpPr>
        <p:sp>
          <p:nvSpPr>
            <p:cNvPr id="240" name=""/>
            <p:cNvSpPr/>
            <p:nvPr/>
          </p:nvSpPr>
          <p:spPr>
            <a:xfrm>
              <a:off x="1428840" y="1285920"/>
              <a:ext cx="6784920" cy="1284120"/>
            </a:xfrm>
            <a:prstGeom prst="roundRect">
              <a:avLst>
                <a:gd name="adj" fmla="val 39509"/>
              </a:avLst>
            </a:prstGeom>
            <a:solidFill>
              <a:srgbClr val="f2f2f2"/>
            </a:soli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00200" y="1285920"/>
              <a:ext cx="557028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marL="223920" indent="-223920"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23920"/>
                  <a:tab algn="l" pos="671400"/>
                  <a:tab algn="l" pos="1120680"/>
                  <a:tab algn="l" pos="1569960"/>
                  <a:tab algn="l" pos="2019240"/>
                  <a:tab algn="l" pos="2468520"/>
                  <a:tab algn="l" pos="2917800"/>
                  <a:tab algn="l" pos="3367080"/>
                  <a:tab algn="l" pos="3816360"/>
                  <a:tab algn="l" pos="4265640"/>
                  <a:tab algn="l" pos="4714920"/>
                  <a:tab algn="l" pos="5164200"/>
                  <a:tab algn="l" pos="5613480"/>
                  <a:tab algn="l" pos="6062760"/>
                  <a:tab algn="l" pos="6512040"/>
                  <a:tab algn="l" pos="6961320"/>
                  <a:tab algn="l" pos="7410600"/>
                  <a:tab algn="l" pos="7859880"/>
                  <a:tab algn="l" pos="8308800"/>
                  <a:tab algn="l" pos="8758080"/>
                  <a:tab algn="l" pos="92073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在此录入内容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0200" y="1999080"/>
              <a:ext cx="56415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57200" y="27468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Verdana"/>
              </a:rPr>
              <a:t>应聘新岗位的设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000080" y="1214280"/>
            <a:ext cx="1357200" cy="13575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内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1000080" y="2786040"/>
            <a:ext cx="1357200" cy="1357200"/>
          </a:xfrm>
          <a:prstGeom prst="ellipse">
            <a:avLst/>
          </a:prstGeom>
          <a:solidFill>
            <a:srgbClr val="f5c02b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技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1000080" y="4286160"/>
            <a:ext cx="1357200" cy="1357560"/>
          </a:xfrm>
          <a:prstGeom prst="ellipse">
            <a:avLst/>
          </a:prstGeom>
          <a:solidFill>
            <a:srgbClr val="00b0f0"/>
          </a:solidFill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工作态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16:11:11Z</dcterms:created>
  <dc:creator>闃胯揪娓</dc:creator>
  <dc:description/>
  <cp:keywords/>
  <dc:language>en-US</dc:language>
  <cp:lastModifiedBy>微软用户</cp:lastModifiedBy>
  <dcterms:modified xsi:type="dcterms:W3CDTF">2013-10-29T03:54:18Z</dcterms:modified>
  <cp:revision>13</cp:revision>
  <dc:subject/>
  <dc:title>绔炲矖鎶ュ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