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2AC048E-1B3B-48B1-9DCC-C708EED86A1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74080" y="6156360"/>
            <a:ext cx="1645920" cy="37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1604520"/>
            <a:ext cx="9144000" cy="1676880"/>
            <a:chOff x="0" y="1604520"/>
            <a:chExt cx="9144000" cy="1676880"/>
          </a:xfrm>
        </p:grpSpPr>
        <p:sp>
          <p:nvSpPr>
            <p:cNvPr id="81" name="Rectangle 3"/>
            <p:cNvSpPr/>
            <p:nvPr/>
          </p:nvSpPr>
          <p:spPr>
            <a:xfrm>
              <a:off x="0" y="1984320"/>
              <a:ext cx="9144000" cy="1297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5"/>
            <p:cNvSpPr/>
            <p:nvPr/>
          </p:nvSpPr>
          <p:spPr>
            <a:xfrm flipV="1">
              <a:off x="0" y="160380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6320" cy="5083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hteck 4"/>
          <p:cNvSpPr/>
          <p:nvPr/>
        </p:nvSpPr>
        <p:spPr>
          <a:xfrm>
            <a:off x="3747960" y="2876400"/>
            <a:ext cx="53960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333333"/>
                </a:solidFill>
                <a:latin typeface="Arial"/>
              </a:rPr>
              <a:t>Coffee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7f7f7f"/>
                </a:solidFill>
                <a:latin typeface="Arial"/>
              </a:rPr>
              <a:t>10:00 – 10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-9360"/>
            <a:ext cx="9144000" cy="6865200"/>
            <a:chOff x="0" y="-9360"/>
            <a:chExt cx="9144000" cy="6865200"/>
          </a:xfrm>
        </p:grpSpPr>
        <p:sp>
          <p:nvSpPr>
            <p:cNvPr id="87" name="Rectangle 2"/>
            <p:cNvSpPr/>
            <p:nvPr/>
          </p:nvSpPr>
          <p:spPr>
            <a:xfrm flipV="1">
              <a:off x="0" y="-9360"/>
              <a:ext cx="9144000" cy="303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"/>
            <p:cNvSpPr/>
            <p:nvPr/>
          </p:nvSpPr>
          <p:spPr>
            <a:xfrm>
              <a:off x="0" y="3366000"/>
              <a:ext cx="9144000" cy="1700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 flipV="1">
              <a:off x="0" y="2927520"/>
              <a:ext cx="9144000" cy="4507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 flipV="1">
              <a:off x="0" y="5051160"/>
              <a:ext cx="9144000" cy="1804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hteck 4"/>
          <p:cNvSpPr/>
          <p:nvPr/>
        </p:nvSpPr>
        <p:spPr>
          <a:xfrm>
            <a:off x="3747960" y="2876400"/>
            <a:ext cx="539604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333333"/>
                </a:solidFill>
                <a:latin typeface="Arial"/>
              </a:rPr>
              <a:t>Coffee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7f7f7f"/>
                </a:solidFill>
                <a:latin typeface="Arial"/>
              </a:rPr>
              <a:t>10:00 – 10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6320" cy="5083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7:04:28Z</dcterms:created>
  <dc:creator>Administrator</dc:creator>
  <dc:description/>
  <dc:language>en-US</dc:language>
  <cp:lastModifiedBy/>
  <dcterms:modified xsi:type="dcterms:W3CDTF">2015-08-13T02:58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