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C94-70CF-438A-B6B8-F0F2DDC5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1C0-F9BC-4C03-BD4E-D34CDA26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FE4-6E34-4BBA-A0DA-C12DAD77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717-2472-4E25-8227-0ECFB42B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DE2-AE57-4A57-97A6-B9E3609F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7DD-116C-4328-8605-98E78D17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28B-0728-4345-9672-94C4414C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3A9-9DAD-4ACD-B822-91062A35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CA5-455A-4FFB-B8EF-734E84B7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30E-8D05-4C67-B920-0C782BB0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BEE-FCC0-4DF2-B974-53302ACE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528-912A-48F6-92B0-693936D3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6"/>
          <p:cNvSpPr/>
          <p:nvPr/>
        </p:nvSpPr>
        <p:spPr>
          <a:xfrm>
            <a:off x="0" y="1108080"/>
            <a:ext cx="9174240" cy="5749920"/>
          </a:xfrm>
          <a:custGeom>
            <a:avLst/>
            <a:gdLst>
              <a:gd name="textAreaLeft" fmla="*/ 0 w 9174240"/>
              <a:gd name="textAreaRight" fmla="*/ 9174600 w 9174240"/>
              <a:gd name="textAreaTop" fmla="*/ 0 h 5749920"/>
              <a:gd name="textAreaBottom" fmla="*/ 5750280 h 5749920"/>
            </a:gdLst>
            <a:ahLst/>
            <a:rect l="textAreaLeft" t="textAreaTop" r="textAreaRight" b="textAreaBottom"/>
            <a:pathLst>
              <a:path w="5780" h="3622">
                <a:moveTo>
                  <a:pt x="7" y="3616"/>
                </a:moveTo>
                <a:lnTo>
                  <a:pt x="5780" y="3622"/>
                </a:lnTo>
                <a:lnTo>
                  <a:pt x="5760" y="0"/>
                </a:lnTo>
                <a:lnTo>
                  <a:pt x="0" y="0"/>
                </a:lnTo>
                <a:lnTo>
                  <a:pt x="7" y="361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CA02-4AEA-4539-BD01-83003654D4F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3"/>
          <p:cNvSpPr/>
          <p:nvPr/>
        </p:nvSpPr>
        <p:spPr>
          <a:xfrm>
            <a:off x="3240" y="685800"/>
            <a:ext cx="9131400" cy="6858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39"/>
          <p:cNvSpPr/>
          <p:nvPr/>
        </p:nvSpPr>
        <p:spPr>
          <a:xfrm>
            <a:off x="3240" y="6346800"/>
            <a:ext cx="9131400" cy="5112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29"/>
          <p:cNvSpPr/>
          <p:nvPr/>
        </p:nvSpPr>
        <p:spPr>
          <a:xfrm>
            <a:off x="0" y="0"/>
            <a:ext cx="9153360" cy="493884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4938840"/>
              <a:gd name="textAreaBottom" fmla="*/ 4939200 h 4938840"/>
            </a:gdLst>
            <a:ahLst/>
            <a:rect l="textAreaLeft" t="textAreaTop" r="textAreaRight" b="textAreaBottom"/>
            <a:pathLst>
              <a:path w="5767" h="3128">
                <a:moveTo>
                  <a:pt x="8" y="3103"/>
                </a:moveTo>
                <a:lnTo>
                  <a:pt x="2913" y="3102"/>
                </a:lnTo>
                <a:cubicBezTo>
                  <a:pt x="3054" y="3102"/>
                  <a:pt x="3012" y="3128"/>
                  <a:pt x="3143" y="3022"/>
                </a:cubicBezTo>
                <a:lnTo>
                  <a:pt x="3668" y="2460"/>
                </a:lnTo>
                <a:cubicBezTo>
                  <a:pt x="3832" y="2329"/>
                  <a:pt x="3809" y="2215"/>
                  <a:pt x="4129" y="2235"/>
                </a:cubicBezTo>
                <a:lnTo>
                  <a:pt x="5761" y="2235"/>
                </a:lnTo>
                <a:lnTo>
                  <a:pt x="5767" y="0"/>
                </a:lnTo>
                <a:lnTo>
                  <a:pt x="0" y="1"/>
                </a:lnTo>
                <a:lnTo>
                  <a:pt x="8" y="3103"/>
                </a:lnTo>
                <a:close/>
              </a:path>
            </a:pathLst>
          </a:custGeom>
          <a:solidFill>
            <a:srgbClr val="768a7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28"/>
          <p:cNvSpPr/>
          <p:nvPr/>
        </p:nvSpPr>
        <p:spPr>
          <a:xfrm>
            <a:off x="0" y="0"/>
            <a:ext cx="9155160" cy="433404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4334040"/>
              <a:gd name="textAreaBottom" fmla="*/ 4334400 h 433404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30"/>
          <p:cNvSpPr/>
          <p:nvPr/>
        </p:nvSpPr>
        <p:spPr>
          <a:xfrm>
            <a:off x="0" y="0"/>
            <a:ext cx="9153360" cy="160020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6" h="1008">
                <a:moveTo>
                  <a:pt x="0" y="1008"/>
                </a:moveTo>
                <a:lnTo>
                  <a:pt x="1884" y="1008"/>
                </a:lnTo>
                <a:cubicBezTo>
                  <a:pt x="2088" y="990"/>
                  <a:pt x="2034" y="1005"/>
                  <a:pt x="2152" y="921"/>
                </a:cubicBezTo>
                <a:lnTo>
                  <a:pt x="2560" y="531"/>
                </a:lnTo>
                <a:cubicBezTo>
                  <a:pt x="2683" y="452"/>
                  <a:pt x="2611" y="454"/>
                  <a:pt x="2892" y="448"/>
                </a:cubicBezTo>
                <a:lnTo>
                  <a:pt x="5766" y="461"/>
                </a:lnTo>
                <a:lnTo>
                  <a:pt x="5758" y="0"/>
                </a:lnTo>
                <a:lnTo>
                  <a:pt x="0" y="2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37"/>
          <p:cNvSpPr/>
          <p:nvPr/>
        </p:nvSpPr>
        <p:spPr>
          <a:xfrm>
            <a:off x="3240" y="4562640"/>
            <a:ext cx="9131400" cy="51084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2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7083000" y="-230040"/>
            <a:ext cx="1906560" cy="1571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000840" y="4941720"/>
            <a:ext cx="2448000" cy="1800"/>
            <a:chOff x="6000840" y="4941720"/>
            <a:chExt cx="2448000" cy="1800"/>
          </a:xfrm>
        </p:grpSpPr>
        <p:sp>
          <p:nvSpPr>
            <p:cNvPr id="50" name="Line 53"/>
            <p:cNvSpPr/>
            <p:nvPr/>
          </p:nvSpPr>
          <p:spPr>
            <a:xfrm>
              <a:off x="6000840" y="4941720"/>
              <a:ext cx="244800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6000840" y="4941720"/>
              <a:ext cx="2448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000840" y="5572080"/>
            <a:ext cx="2448000" cy="360"/>
            <a:chOff x="6000840" y="5572080"/>
            <a:chExt cx="2448000" cy="360"/>
          </a:xfrm>
        </p:grpSpPr>
        <p:sp>
          <p:nvSpPr>
            <p:cNvPr id="53" name="Line 55"/>
            <p:cNvSpPr/>
            <p:nvPr/>
          </p:nvSpPr>
          <p:spPr>
            <a:xfrm>
              <a:off x="6000840" y="5572080"/>
              <a:ext cx="2448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6000840" y="5572080"/>
              <a:ext cx="24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38"/>
          <p:cNvSpPr/>
          <p:nvPr/>
        </p:nvSpPr>
        <p:spPr>
          <a:xfrm>
            <a:off x="642960" y="185724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35"/>
          <p:cNvSpPr/>
          <p:nvPr/>
        </p:nvSpPr>
        <p:spPr>
          <a:xfrm>
            <a:off x="4356000" y="3284640"/>
            <a:ext cx="14472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36"/>
          <p:cNvSpPr/>
          <p:nvPr/>
        </p:nvSpPr>
        <p:spPr>
          <a:xfrm>
            <a:off x="4357800" y="1714680"/>
            <a:ext cx="14436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6"/>
          <p:cNvSpPr/>
          <p:nvPr/>
        </p:nvSpPr>
        <p:spPr>
          <a:xfrm>
            <a:off x="6000840" y="5643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7E50-1D0E-4707-BB45-D8EDDB006D62}" type="datetime"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6/7/29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000840" y="6215040"/>
            <a:ext cx="2448000" cy="1440"/>
            <a:chOff x="6000840" y="6215040"/>
            <a:chExt cx="2448000" cy="1440"/>
          </a:xfrm>
        </p:grpSpPr>
        <p:sp>
          <p:nvSpPr>
            <p:cNvPr id="60" name="Line 53"/>
            <p:cNvSpPr/>
            <p:nvPr/>
          </p:nvSpPr>
          <p:spPr>
            <a:xfrm>
              <a:off x="6000840" y="6215040"/>
              <a:ext cx="24480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6000840" y="6215040"/>
              <a:ext cx="2448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50"/>
          <p:cNvSpPr/>
          <p:nvPr/>
        </p:nvSpPr>
        <p:spPr>
          <a:xfrm>
            <a:off x="285840" y="8571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开题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饼形 52"/>
          <p:cNvSpPr/>
          <p:nvPr/>
        </p:nvSpPr>
        <p:spPr>
          <a:xfrm rot="2632200">
            <a:off x="1990440" y="847440"/>
            <a:ext cx="642960" cy="642960"/>
          </a:xfrm>
          <a:custGeom>
            <a:avLst/>
            <a:gdLst>
              <a:gd name="textAreaLeft" fmla="*/ 0 w 642960"/>
              <a:gd name="textAreaRight" fmla="*/ 643320 w 64296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013" h="1013">
                <a:moveTo>
                  <a:pt x="1013" y="506"/>
                </a:moveTo>
                <a:lnTo>
                  <a:pt x="1013" y="506"/>
                </a:lnTo>
                <a:arcTo wR="506" hR="506" stAng="0" swAng="16200000"/>
                <a:lnTo>
                  <a:pt x="506" y="506"/>
                </a:lnTo>
                <a:close/>
              </a:path>
            </a:pathLst>
          </a:custGeom>
          <a:solidFill>
            <a:srgbClr val="58675c"/>
          </a:solidFill>
          <a:ln w="25560">
            <a:solidFill>
              <a:srgbClr val="90a5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4"/>
          <p:cNvSpPr/>
          <p:nvPr/>
        </p:nvSpPr>
        <p:spPr>
          <a:xfrm>
            <a:off x="2571840" y="8571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87b8"/>
                </a:solidFill>
                <a:latin typeface="华文彩云"/>
                <a:ea typeface="华文彩云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57160" y="5072040"/>
            <a:ext cx="1675080" cy="1092960"/>
            <a:chOff x="857160" y="5072040"/>
            <a:chExt cx="1675080" cy="1092960"/>
          </a:xfrm>
        </p:grpSpPr>
        <p:sp>
          <p:nvSpPr>
            <p:cNvPr id="66" name="Freeform 36"/>
            <p:cNvSpPr/>
            <p:nvPr/>
          </p:nvSpPr>
          <p:spPr>
            <a:xfrm>
              <a:off x="857160" y="5562720"/>
              <a:ext cx="219600" cy="236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08" h="87">
                  <a:moveTo>
                    <a:pt x="78" y="8"/>
                  </a:moveTo>
                  <a:cubicBezTo>
                    <a:pt x="70" y="0"/>
                    <a:pt x="20" y="1"/>
                    <a:pt x="9" y="18"/>
                  </a:cubicBezTo>
                  <a:cubicBezTo>
                    <a:pt x="4" y="25"/>
                    <a:pt x="2" y="33"/>
                    <a:pt x="0" y="41"/>
                  </a:cubicBezTo>
                  <a:cubicBezTo>
                    <a:pt x="1" y="66"/>
                    <a:pt x="9" y="85"/>
                    <a:pt x="36" y="87"/>
                  </a:cubicBezTo>
                  <a:cubicBezTo>
                    <a:pt x="70" y="86"/>
                    <a:pt x="66" y="87"/>
                    <a:pt x="90" y="81"/>
                  </a:cubicBezTo>
                  <a:cubicBezTo>
                    <a:pt x="104" y="67"/>
                    <a:pt x="99" y="74"/>
                    <a:pt x="105" y="63"/>
                  </a:cubicBezTo>
                  <a:cubicBezTo>
                    <a:pt x="108" y="45"/>
                    <a:pt x="104" y="8"/>
                    <a:pt x="78" y="8"/>
                  </a:cubicBezTo>
                  <a:close/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857160" y="5928840"/>
              <a:ext cx="219600" cy="236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08" h="87">
                  <a:moveTo>
                    <a:pt x="78" y="8"/>
                  </a:moveTo>
                  <a:cubicBezTo>
                    <a:pt x="70" y="0"/>
                    <a:pt x="20" y="1"/>
                    <a:pt x="9" y="18"/>
                  </a:cubicBezTo>
                  <a:cubicBezTo>
                    <a:pt x="4" y="25"/>
                    <a:pt x="2" y="33"/>
                    <a:pt x="0" y="41"/>
                  </a:cubicBezTo>
                  <a:cubicBezTo>
                    <a:pt x="1" y="66"/>
                    <a:pt x="9" y="85"/>
                    <a:pt x="36" y="87"/>
                  </a:cubicBezTo>
                  <a:cubicBezTo>
                    <a:pt x="70" y="86"/>
                    <a:pt x="66" y="87"/>
                    <a:pt x="90" y="81"/>
                  </a:cubicBezTo>
                  <a:cubicBezTo>
                    <a:pt x="104" y="67"/>
                    <a:pt x="99" y="74"/>
                    <a:pt x="105" y="63"/>
                  </a:cubicBezTo>
                  <a:cubicBezTo>
                    <a:pt x="108" y="45"/>
                    <a:pt x="104" y="8"/>
                    <a:pt x="78" y="8"/>
                  </a:cubicBezTo>
                  <a:close/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226160" y="5552280"/>
              <a:ext cx="217080" cy="2138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0" h="90">
                  <a:moveTo>
                    <a:pt x="100" y="0"/>
                  </a:moveTo>
                  <a:cubicBezTo>
                    <a:pt x="69" y="32"/>
                    <a:pt x="39" y="64"/>
                    <a:pt x="22" y="77"/>
                  </a:cubicBezTo>
                  <a:cubicBezTo>
                    <a:pt x="5" y="90"/>
                    <a:pt x="4" y="79"/>
                    <a:pt x="0" y="80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258560" y="5571000"/>
              <a:ext cx="162360" cy="16848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" h="62">
                  <a:moveTo>
                    <a:pt x="0" y="0"/>
                  </a:moveTo>
                  <a:cubicBezTo>
                    <a:pt x="9" y="6"/>
                    <a:pt x="19" y="13"/>
                    <a:pt x="29" y="23"/>
                  </a:cubicBezTo>
                  <a:cubicBezTo>
                    <a:pt x="39" y="33"/>
                    <a:pt x="55" y="56"/>
                    <a:pt x="60" y="62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388520" y="5072040"/>
              <a:ext cx="1143720" cy="913320"/>
              <a:chOff x="1388520" y="5072040"/>
              <a:chExt cx="1143720" cy="913320"/>
            </a:xfrm>
          </p:grpSpPr>
          <p:sp>
            <p:nvSpPr>
              <p:cNvPr id="71" name="Freeform 41"/>
              <p:cNvSpPr/>
              <p:nvPr/>
            </p:nvSpPr>
            <p:spPr>
              <a:xfrm>
                <a:off x="2217600" y="5072040"/>
                <a:ext cx="314640" cy="31716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116" h="117">
                    <a:moveTo>
                      <a:pt x="12" y="0"/>
                    </a:moveTo>
                    <a:lnTo>
                      <a:pt x="0" y="67"/>
                    </a:lnTo>
                    <a:lnTo>
                      <a:pt x="53" y="117"/>
                    </a:lnTo>
                    <a:lnTo>
                      <a:pt x="108" y="105"/>
                    </a:lnTo>
                    <a:lnTo>
                      <a:pt x="116" y="54"/>
                    </a:lnTo>
                    <a:lnTo>
                      <a:pt x="65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42"/>
              <p:cNvSpPr/>
              <p:nvPr/>
            </p:nvSpPr>
            <p:spPr>
              <a:xfrm>
                <a:off x="1632600" y="5250960"/>
                <a:ext cx="740160" cy="617760"/>
              </a:xfrm>
              <a:custGeom>
                <a:avLst/>
                <a:gdLst>
                  <a:gd name="textAreaLeft" fmla="*/ 0 w 740160"/>
                  <a:gd name="textAreaRight" fmla="*/ 740520 w 740160"/>
                  <a:gd name="textAreaTop" fmla="*/ 0 h 617760"/>
                  <a:gd name="textAreaBottom" fmla="*/ 618120 h 617760"/>
                </a:gdLst>
                <a:ahLst/>
                <a:rect l="textAreaLeft" t="textAreaTop" r="textAreaRight" b="textAreaBottom"/>
                <a:pathLst>
                  <a:path w="273" h="228">
                    <a:moveTo>
                      <a:pt x="0" y="169"/>
                    </a:moveTo>
                    <a:lnTo>
                      <a:pt x="45" y="228"/>
                    </a:lnTo>
                    <a:lnTo>
                      <a:pt x="273" y="49"/>
                    </a:lnTo>
                    <a:lnTo>
                      <a:pt x="215" y="0"/>
                    </a:lnTo>
                    <a:lnTo>
                      <a:pt x="0" y="169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3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43"/>
              <p:cNvSpPr/>
              <p:nvPr/>
            </p:nvSpPr>
            <p:spPr>
              <a:xfrm>
                <a:off x="1632600" y="5072040"/>
                <a:ext cx="617760" cy="6426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642600"/>
                  <a:gd name="textAreaBottom" fmla="*/ 642960 h 642600"/>
                </a:gdLst>
                <a:ahLst/>
                <a:rect l="textAreaLeft" t="textAreaTop" r="textAreaRight" b="textAreaBottom"/>
                <a:pathLst>
                  <a:path w="228" h="237">
                    <a:moveTo>
                      <a:pt x="21" y="172"/>
                    </a:moveTo>
                    <a:lnTo>
                      <a:pt x="0" y="237"/>
                    </a:lnTo>
                    <a:lnTo>
                      <a:pt x="219" y="64"/>
                    </a:lnTo>
                    <a:lnTo>
                      <a:pt x="228" y="0"/>
                    </a:lnTo>
                    <a:lnTo>
                      <a:pt x="21" y="172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44"/>
              <p:cNvSpPr/>
              <p:nvPr/>
            </p:nvSpPr>
            <p:spPr>
              <a:xfrm>
                <a:off x="1754280" y="5356440"/>
                <a:ext cx="761760" cy="51192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511920"/>
                  <a:gd name="textAreaBottom" fmla="*/ 512280 h 511920"/>
                </a:gdLst>
                <a:ahLst/>
                <a:rect l="textAreaLeft" t="textAreaTop" r="textAreaRight" b="textAreaBottom"/>
                <a:pathLst>
                  <a:path w="281" h="189">
                    <a:moveTo>
                      <a:pt x="63" y="178"/>
                    </a:moveTo>
                    <a:lnTo>
                      <a:pt x="0" y="189"/>
                    </a:lnTo>
                    <a:lnTo>
                      <a:pt x="227" y="10"/>
                    </a:lnTo>
                    <a:lnTo>
                      <a:pt x="281" y="0"/>
                    </a:lnTo>
                    <a:lnTo>
                      <a:pt x="63" y="1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45"/>
              <p:cNvSpPr/>
              <p:nvPr/>
            </p:nvSpPr>
            <p:spPr>
              <a:xfrm>
                <a:off x="1445400" y="5527440"/>
                <a:ext cx="436320" cy="442080"/>
              </a:xfrm>
              <a:custGeom>
                <a:avLst/>
                <a:gdLst>
                  <a:gd name="textAreaLeft" fmla="*/ 0 w 436320"/>
                  <a:gd name="textAreaRight" fmla="*/ 436680 w 436320"/>
                  <a:gd name="textAreaTop" fmla="*/ 0 h 442080"/>
                  <a:gd name="textAreaBottom" fmla="*/ 442440 h 442080"/>
                </a:gdLst>
                <a:ahLst/>
                <a:rect l="textAreaLeft" t="textAreaTop" r="textAreaRight" b="textAreaBottom"/>
                <a:pathLst>
                  <a:path w="161" h="163">
                    <a:moveTo>
                      <a:pt x="0" y="135"/>
                    </a:moveTo>
                    <a:lnTo>
                      <a:pt x="18" y="163"/>
                    </a:lnTo>
                    <a:lnTo>
                      <a:pt x="161" y="120"/>
                    </a:lnTo>
                    <a:lnTo>
                      <a:pt x="114" y="124"/>
                    </a:lnTo>
                    <a:lnTo>
                      <a:pt x="69" y="67"/>
                    </a:lnTo>
                    <a:lnTo>
                      <a:pt x="90" y="0"/>
                    </a:lnTo>
                    <a:lnTo>
                      <a:pt x="0" y="135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3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46"/>
              <p:cNvSpPr/>
              <p:nvPr/>
            </p:nvSpPr>
            <p:spPr>
              <a:xfrm>
                <a:off x="1388520" y="5896440"/>
                <a:ext cx="105480" cy="889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9" h="33">
                    <a:moveTo>
                      <a:pt x="27" y="0"/>
                    </a:moveTo>
                    <a:lnTo>
                      <a:pt x="0" y="33"/>
                    </a:lnTo>
                    <a:lnTo>
                      <a:pt x="39" y="2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1467000" y="5706000"/>
                <a:ext cx="178560" cy="194760"/>
                <a:chOff x="1467000" y="5706000"/>
                <a:chExt cx="178560" cy="194760"/>
              </a:xfrm>
            </p:grpSpPr>
            <p:sp>
              <p:nvSpPr>
                <p:cNvPr id="78" name="Line 47"/>
                <p:cNvSpPr/>
                <p:nvPr/>
              </p:nvSpPr>
              <p:spPr>
                <a:xfrm flipV="1">
                  <a:off x="1467000" y="5706000"/>
                  <a:ext cx="178560" cy="194760"/>
                </a:xfrm>
                <a:prstGeom prst="line">
                  <a:avLst/>
                </a:prstGeom>
                <a:ln w="9360">
                  <a:solidFill>
                    <a:srgbClr val="ffffff">
                      <a:alpha val="37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 txBox="1"/>
                <p:nvPr/>
              </p:nvSpPr>
              <p:spPr>
                <a:xfrm rot="10800000">
                  <a:off x="1467000" y="5706000"/>
                  <a:ext cx="178560" cy="1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491120" y="5860800"/>
                <a:ext cx="271440" cy="92160"/>
                <a:chOff x="1491120" y="5860800"/>
                <a:chExt cx="271440" cy="92160"/>
              </a:xfrm>
            </p:grpSpPr>
            <p:sp>
              <p:nvSpPr>
                <p:cNvPr id="81" name="Line 48"/>
                <p:cNvSpPr/>
                <p:nvPr/>
              </p:nvSpPr>
              <p:spPr>
                <a:xfrm flipV="1">
                  <a:off x="1491480" y="5860800"/>
                  <a:ext cx="271080" cy="92160"/>
                </a:xfrm>
                <a:prstGeom prst="line">
                  <a:avLst/>
                </a:prstGeom>
                <a:ln w="9360">
                  <a:solidFill>
                    <a:srgbClr val="ffffff">
                      <a:alpha val="37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 txBox="1"/>
                <p:nvPr/>
              </p:nvSpPr>
              <p:spPr>
                <a:xfrm rot="10800000">
                  <a:off x="1491120" y="5860800"/>
                  <a:ext cx="271080" cy="9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5360" bIns="45360" anchor="ctr" anchorCtr="1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Oval 49"/>
              <p:cNvSpPr/>
              <p:nvPr/>
            </p:nvSpPr>
            <p:spPr>
              <a:xfrm rot="1507200">
                <a:off x="2331720" y="5177160"/>
                <a:ext cx="115920" cy="7308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Freeform 50"/>
            <p:cNvSpPr/>
            <p:nvPr/>
          </p:nvSpPr>
          <p:spPr>
            <a:xfrm>
              <a:off x="1220400" y="5918400"/>
              <a:ext cx="217080" cy="2138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0" h="90">
                  <a:moveTo>
                    <a:pt x="100" y="0"/>
                  </a:moveTo>
                  <a:cubicBezTo>
                    <a:pt x="69" y="32"/>
                    <a:pt x="39" y="64"/>
                    <a:pt x="22" y="77"/>
                  </a:cubicBezTo>
                  <a:cubicBezTo>
                    <a:pt x="5" y="90"/>
                    <a:pt x="4" y="79"/>
                    <a:pt x="0" y="80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14240" y="3500280"/>
            <a:ext cx="2970360" cy="1606680"/>
            <a:chOff x="714240" y="3500280"/>
            <a:chExt cx="2970360" cy="1606680"/>
          </a:xfrm>
        </p:grpSpPr>
        <p:grpSp>
          <p:nvGrpSpPr>
            <p:cNvPr id="86" name=""/>
            <p:cNvGrpSpPr/>
            <p:nvPr/>
          </p:nvGrpSpPr>
          <p:grpSpPr>
            <a:xfrm>
              <a:off x="2009520" y="3500280"/>
              <a:ext cx="1675080" cy="1093320"/>
              <a:chOff x="2009520" y="3500280"/>
              <a:chExt cx="1675080" cy="1093320"/>
            </a:xfrm>
          </p:grpSpPr>
          <p:sp>
            <p:nvSpPr>
              <p:cNvPr id="87" name="Freeform 36"/>
              <p:cNvSpPr/>
              <p:nvPr/>
            </p:nvSpPr>
            <p:spPr>
              <a:xfrm>
                <a:off x="2009520" y="3991320"/>
                <a:ext cx="219600" cy="23616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08" h="87">
                    <a:moveTo>
                      <a:pt x="78" y="8"/>
                    </a:moveTo>
                    <a:cubicBezTo>
                      <a:pt x="70" y="0"/>
                      <a:pt x="20" y="1"/>
                      <a:pt x="9" y="18"/>
                    </a:cubicBezTo>
                    <a:cubicBezTo>
                      <a:pt x="4" y="25"/>
                      <a:pt x="2" y="33"/>
                      <a:pt x="0" y="41"/>
                    </a:cubicBezTo>
                    <a:cubicBezTo>
                      <a:pt x="1" y="66"/>
                      <a:pt x="9" y="85"/>
                      <a:pt x="36" y="87"/>
                    </a:cubicBezTo>
                    <a:cubicBezTo>
                      <a:pt x="70" y="86"/>
                      <a:pt x="66" y="87"/>
                      <a:pt x="90" y="81"/>
                    </a:cubicBezTo>
                    <a:cubicBezTo>
                      <a:pt x="104" y="67"/>
                      <a:pt x="99" y="74"/>
                      <a:pt x="105" y="63"/>
                    </a:cubicBezTo>
                    <a:cubicBezTo>
                      <a:pt x="108" y="45"/>
                      <a:pt x="104" y="8"/>
                      <a:pt x="78" y="8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37"/>
              <p:cNvSpPr/>
              <p:nvPr/>
            </p:nvSpPr>
            <p:spPr>
              <a:xfrm>
                <a:off x="2009520" y="4357440"/>
                <a:ext cx="219600" cy="23616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08" h="87">
                    <a:moveTo>
                      <a:pt x="78" y="8"/>
                    </a:moveTo>
                    <a:cubicBezTo>
                      <a:pt x="70" y="0"/>
                      <a:pt x="20" y="1"/>
                      <a:pt x="9" y="18"/>
                    </a:cubicBezTo>
                    <a:cubicBezTo>
                      <a:pt x="4" y="25"/>
                      <a:pt x="2" y="33"/>
                      <a:pt x="0" y="41"/>
                    </a:cubicBezTo>
                    <a:cubicBezTo>
                      <a:pt x="1" y="66"/>
                      <a:pt x="9" y="85"/>
                      <a:pt x="36" y="87"/>
                    </a:cubicBezTo>
                    <a:cubicBezTo>
                      <a:pt x="70" y="86"/>
                      <a:pt x="66" y="87"/>
                      <a:pt x="90" y="81"/>
                    </a:cubicBezTo>
                    <a:cubicBezTo>
                      <a:pt x="104" y="67"/>
                      <a:pt x="99" y="74"/>
                      <a:pt x="105" y="63"/>
                    </a:cubicBezTo>
                    <a:cubicBezTo>
                      <a:pt x="108" y="45"/>
                      <a:pt x="104" y="8"/>
                      <a:pt x="78" y="8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38"/>
              <p:cNvSpPr/>
              <p:nvPr/>
            </p:nvSpPr>
            <p:spPr>
              <a:xfrm>
                <a:off x="2378520" y="3980880"/>
                <a:ext cx="217080" cy="2142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100" y="0"/>
                    </a:moveTo>
                    <a:cubicBezTo>
                      <a:pt x="69" y="32"/>
                      <a:pt x="39" y="64"/>
                      <a:pt x="22" y="77"/>
                    </a:cubicBezTo>
                    <a:cubicBezTo>
                      <a:pt x="5" y="90"/>
                      <a:pt x="4" y="79"/>
                      <a:pt x="0" y="80"/>
                    </a:cubicBezTo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39"/>
              <p:cNvSpPr/>
              <p:nvPr/>
            </p:nvSpPr>
            <p:spPr>
              <a:xfrm>
                <a:off x="2410920" y="3999240"/>
                <a:ext cx="162360" cy="168480"/>
              </a:xfrm>
              <a:custGeom>
                <a:avLst/>
                <a:gdLst>
                  <a:gd name="textAreaLeft" fmla="*/ 0 w 162360"/>
                  <a:gd name="textAreaRight" fmla="*/ 162720 w 1623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60" h="62">
                    <a:moveTo>
                      <a:pt x="0" y="0"/>
                    </a:moveTo>
                    <a:cubicBezTo>
                      <a:pt x="9" y="6"/>
                      <a:pt x="19" y="13"/>
                      <a:pt x="29" y="23"/>
                    </a:cubicBezTo>
                    <a:cubicBezTo>
                      <a:pt x="39" y="33"/>
                      <a:pt x="55" y="56"/>
                      <a:pt x="60" y="62"/>
                    </a:cubicBezTo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2540880" y="3500280"/>
                <a:ext cx="1143720" cy="913680"/>
                <a:chOff x="2540880" y="3500280"/>
                <a:chExt cx="1143720" cy="913680"/>
              </a:xfrm>
            </p:grpSpPr>
            <p:sp>
              <p:nvSpPr>
                <p:cNvPr id="92" name="Freeform 41"/>
                <p:cNvSpPr/>
                <p:nvPr/>
              </p:nvSpPr>
              <p:spPr>
                <a:xfrm>
                  <a:off x="3369960" y="3500280"/>
                  <a:ext cx="314640" cy="317160"/>
                </a:xfrm>
                <a:custGeom>
                  <a:avLst/>
                  <a:gdLst>
                    <a:gd name="textAreaLeft" fmla="*/ 0 w 314640"/>
                    <a:gd name="textAreaRight" fmla="*/ 315000 w 314640"/>
                    <a:gd name="textAreaTop" fmla="*/ 0 h 317160"/>
                    <a:gd name="textAreaBottom" fmla="*/ 317520 h 317160"/>
                  </a:gdLst>
                  <a:ahLst/>
                  <a:rect l="textAreaLeft" t="textAreaTop" r="textAreaRight" b="textAreaBottom"/>
                  <a:pathLst>
                    <a:path w="116" h="117">
                      <a:moveTo>
                        <a:pt x="12" y="0"/>
                      </a:moveTo>
                      <a:lnTo>
                        <a:pt x="0" y="67"/>
                      </a:lnTo>
                      <a:lnTo>
                        <a:pt x="53" y="117"/>
                      </a:lnTo>
                      <a:lnTo>
                        <a:pt x="108" y="105"/>
                      </a:lnTo>
                      <a:lnTo>
                        <a:pt x="116" y="54"/>
                      </a:lnTo>
                      <a:lnTo>
                        <a:pt x="65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3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2"/>
                <p:cNvSpPr/>
                <p:nvPr/>
              </p:nvSpPr>
              <p:spPr>
                <a:xfrm>
                  <a:off x="2784960" y="3679200"/>
                  <a:ext cx="740160" cy="618120"/>
                </a:xfrm>
                <a:custGeom>
                  <a:avLst/>
                  <a:gdLst>
                    <a:gd name="textAreaLeft" fmla="*/ 0 w 740160"/>
                    <a:gd name="textAreaRight" fmla="*/ 740520 w 740160"/>
                    <a:gd name="textAreaTop" fmla="*/ 0 h 618120"/>
                    <a:gd name="textAreaBottom" fmla="*/ 618480 h 618120"/>
                  </a:gdLst>
                  <a:ahLst/>
                  <a:rect l="textAreaLeft" t="textAreaTop" r="textAreaRight" b="textAreaBottom"/>
                  <a:pathLst>
                    <a:path w="273" h="228">
                      <a:moveTo>
                        <a:pt x="0" y="169"/>
                      </a:moveTo>
                      <a:lnTo>
                        <a:pt x="45" y="228"/>
                      </a:lnTo>
                      <a:lnTo>
                        <a:pt x="273" y="49"/>
                      </a:lnTo>
                      <a:lnTo>
                        <a:pt x="215" y="0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>
                      <a:alpha val="3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3"/>
                <p:cNvSpPr/>
                <p:nvPr/>
              </p:nvSpPr>
              <p:spPr>
                <a:xfrm>
                  <a:off x="2784960" y="3500280"/>
                  <a:ext cx="617760" cy="642600"/>
                </a:xfrm>
                <a:custGeom>
                  <a:avLst/>
                  <a:gdLst>
                    <a:gd name="textAreaLeft" fmla="*/ 0 w 617760"/>
                    <a:gd name="textAreaRight" fmla="*/ 618120 w 617760"/>
                    <a:gd name="textAreaTop" fmla="*/ 0 h 642600"/>
                    <a:gd name="textAreaBottom" fmla="*/ 642960 h 642600"/>
                  </a:gdLst>
                  <a:ahLst/>
                  <a:rect l="textAreaLeft" t="textAreaTop" r="textAreaRight" b="textAreaBottom"/>
                  <a:pathLst>
                    <a:path w="228" h="237">
                      <a:moveTo>
                        <a:pt x="21" y="172"/>
                      </a:moveTo>
                      <a:lnTo>
                        <a:pt x="0" y="237"/>
                      </a:lnTo>
                      <a:lnTo>
                        <a:pt x="219" y="64"/>
                      </a:lnTo>
                      <a:lnTo>
                        <a:pt x="228" y="0"/>
                      </a:lnTo>
                      <a:lnTo>
                        <a:pt x="21" y="172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4"/>
                <p:cNvSpPr/>
                <p:nvPr/>
              </p:nvSpPr>
              <p:spPr>
                <a:xfrm>
                  <a:off x="2906640" y="3785040"/>
                  <a:ext cx="761760" cy="512280"/>
                </a:xfrm>
                <a:custGeom>
                  <a:avLst/>
                  <a:gdLst>
                    <a:gd name="textAreaLeft" fmla="*/ 0 w 761760"/>
                    <a:gd name="textAreaRight" fmla="*/ 762120 w 761760"/>
                    <a:gd name="textAreaTop" fmla="*/ 0 h 512280"/>
                    <a:gd name="textAreaBottom" fmla="*/ 512640 h 512280"/>
                  </a:gdLst>
                  <a:ahLst/>
                  <a:rect l="textAreaLeft" t="textAreaTop" r="textAreaRight" b="textAreaBottom"/>
                  <a:pathLst>
                    <a:path w="281" h="189">
                      <a:moveTo>
                        <a:pt x="63" y="178"/>
                      </a:moveTo>
                      <a:lnTo>
                        <a:pt x="0" y="189"/>
                      </a:lnTo>
                      <a:lnTo>
                        <a:pt x="227" y="10"/>
                      </a:lnTo>
                      <a:lnTo>
                        <a:pt x="281" y="0"/>
                      </a:lnTo>
                      <a:lnTo>
                        <a:pt x="63" y="1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5"/>
                <p:cNvSpPr/>
                <p:nvPr/>
              </p:nvSpPr>
              <p:spPr>
                <a:xfrm>
                  <a:off x="2597760" y="3956040"/>
                  <a:ext cx="436320" cy="442080"/>
                </a:xfrm>
                <a:custGeom>
                  <a:avLst/>
                  <a:gdLst>
                    <a:gd name="textAreaLeft" fmla="*/ 0 w 436320"/>
                    <a:gd name="textAreaRight" fmla="*/ 436680 w 436320"/>
                    <a:gd name="textAreaTop" fmla="*/ 0 h 442080"/>
                    <a:gd name="textAreaBottom" fmla="*/ 442440 h 442080"/>
                  </a:gdLst>
                  <a:ahLst/>
                  <a:rect l="textAreaLeft" t="textAreaTop" r="textAreaRight" b="textAreaBottom"/>
                  <a:pathLst>
                    <a:path w="161" h="163">
                      <a:moveTo>
                        <a:pt x="0" y="135"/>
                      </a:moveTo>
                      <a:lnTo>
                        <a:pt x="18" y="163"/>
                      </a:lnTo>
                      <a:lnTo>
                        <a:pt x="161" y="120"/>
                      </a:lnTo>
                      <a:lnTo>
                        <a:pt x="114" y="124"/>
                      </a:lnTo>
                      <a:lnTo>
                        <a:pt x="69" y="67"/>
                      </a:lnTo>
                      <a:lnTo>
                        <a:pt x="90" y="0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>
                      <a:alpha val="37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6"/>
                <p:cNvSpPr/>
                <p:nvPr/>
              </p:nvSpPr>
              <p:spPr>
                <a:xfrm>
                  <a:off x="2540880" y="4325040"/>
                  <a:ext cx="105480" cy="8892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9" h="33">
                      <a:moveTo>
                        <a:pt x="27" y="0"/>
                      </a:moveTo>
                      <a:lnTo>
                        <a:pt x="0" y="33"/>
                      </a:lnTo>
                      <a:lnTo>
                        <a:pt x="39" y="2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619360" y="4134600"/>
                  <a:ext cx="178560" cy="194760"/>
                  <a:chOff x="2619360" y="4134600"/>
                  <a:chExt cx="178560" cy="194760"/>
                </a:xfrm>
              </p:grpSpPr>
              <p:sp>
                <p:nvSpPr>
                  <p:cNvPr id="99" name="Line 47"/>
                  <p:cNvSpPr/>
                  <p:nvPr/>
                </p:nvSpPr>
                <p:spPr>
                  <a:xfrm flipV="1">
                    <a:off x="2619360" y="4134600"/>
                    <a:ext cx="178560" cy="194760"/>
                  </a:xfrm>
                  <a:prstGeom prst="line">
                    <a:avLst/>
                  </a:prstGeom>
                  <a:ln w="9360">
                    <a:solidFill>
                      <a:srgbClr val="ffffff">
                        <a:alpha val="37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 txBox="1"/>
                  <p:nvPr/>
                </p:nvSpPr>
                <p:spPr>
                  <a:xfrm rot="10800000">
                    <a:off x="2619360" y="4134600"/>
                    <a:ext cx="17856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ctr" anchorCtr="1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2643480" y="4289400"/>
                  <a:ext cx="271440" cy="92160"/>
                  <a:chOff x="2643480" y="4289400"/>
                  <a:chExt cx="271440" cy="92160"/>
                </a:xfrm>
              </p:grpSpPr>
              <p:sp>
                <p:nvSpPr>
                  <p:cNvPr id="102" name="Line 48"/>
                  <p:cNvSpPr/>
                  <p:nvPr/>
                </p:nvSpPr>
                <p:spPr>
                  <a:xfrm flipV="1">
                    <a:off x="2643840" y="4289400"/>
                    <a:ext cx="271080" cy="92160"/>
                  </a:xfrm>
                  <a:prstGeom prst="line">
                    <a:avLst/>
                  </a:prstGeom>
                  <a:ln w="9360">
                    <a:solidFill>
                      <a:srgbClr val="ffffff">
                        <a:alpha val="37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 txBox="1"/>
                  <p:nvPr/>
                </p:nvSpPr>
                <p:spPr>
                  <a:xfrm rot="10800000">
                    <a:off x="2643480" y="4289400"/>
                    <a:ext cx="271080" cy="9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5360" bIns="45360" anchor="ctr" anchorCtr="1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" name="Oval 49"/>
                <p:cNvSpPr/>
                <p:nvPr/>
              </p:nvSpPr>
              <p:spPr>
                <a:xfrm rot="1507200">
                  <a:off x="3484080" y="3605400"/>
                  <a:ext cx="115920" cy="73080"/>
                </a:xfrm>
                <a:prstGeom prst="ellipse">
                  <a:avLst/>
                </a:pr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50"/>
              <p:cNvSpPr/>
              <p:nvPr/>
            </p:nvSpPr>
            <p:spPr>
              <a:xfrm>
                <a:off x="2372760" y="4347000"/>
                <a:ext cx="217080" cy="2142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100" y="0"/>
                    </a:moveTo>
                    <a:cubicBezTo>
                      <a:pt x="69" y="32"/>
                      <a:pt x="39" y="64"/>
                      <a:pt x="22" y="77"/>
                    </a:cubicBezTo>
                    <a:cubicBezTo>
                      <a:pt x="5" y="90"/>
                      <a:pt x="4" y="79"/>
                      <a:pt x="0" y="80"/>
                    </a:cubicBezTo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14240" y="4221000"/>
              <a:ext cx="1870200" cy="885960"/>
              <a:chOff x="714240" y="4221000"/>
              <a:chExt cx="1870200" cy="885960"/>
            </a:xfrm>
          </p:grpSpPr>
          <p:sp>
            <p:nvSpPr>
              <p:cNvPr id="107" name="Freeform 25"/>
              <p:cNvSpPr/>
              <p:nvPr/>
            </p:nvSpPr>
            <p:spPr>
              <a:xfrm>
                <a:off x="714240" y="4221000"/>
                <a:ext cx="1857960" cy="777600"/>
              </a:xfrm>
              <a:custGeom>
                <a:avLst/>
                <a:gdLst>
                  <a:gd name="textAreaLeft" fmla="*/ 0 w 1857960"/>
                  <a:gd name="textAreaRight" fmla="*/ 1858320 w 1857960"/>
                  <a:gd name="textAreaTop" fmla="*/ 0 h 777600"/>
                  <a:gd name="textAreaBottom" fmla="*/ 777960 h 777600"/>
                </a:gdLst>
                <a:ahLst/>
                <a:rect l="textAreaLeft" t="textAreaTop" r="textAreaRight" b="textAreaBottom"/>
                <a:pathLst>
                  <a:path w="3920" h="1720">
                    <a:moveTo>
                      <a:pt x="0" y="1500"/>
                    </a:moveTo>
                    <a:cubicBezTo>
                      <a:pt x="0" y="1500"/>
                      <a:pt x="288" y="936"/>
                      <a:pt x="768" y="424"/>
                    </a:cubicBezTo>
                    <a:cubicBezTo>
                      <a:pt x="1652" y="0"/>
                      <a:pt x="2208" y="424"/>
                      <a:pt x="2208" y="424"/>
                    </a:cubicBezTo>
                    <a:cubicBezTo>
                      <a:pt x="3440" y="8"/>
                      <a:pt x="3752" y="612"/>
                      <a:pt x="3920" y="828"/>
                    </a:cubicBezTo>
                    <a:cubicBezTo>
                      <a:pt x="3660" y="1224"/>
                      <a:pt x="3216" y="1720"/>
                      <a:pt x="3216" y="1720"/>
                    </a:cubicBezTo>
                    <a:cubicBezTo>
                      <a:pt x="2844" y="1540"/>
                      <a:pt x="2504" y="1284"/>
                      <a:pt x="1524" y="1600"/>
                    </a:cubicBezTo>
                    <a:cubicBezTo>
                      <a:pt x="2400" y="1068"/>
                      <a:pt x="3000" y="1500"/>
                      <a:pt x="3232" y="1628"/>
                    </a:cubicBezTo>
                    <a:cubicBezTo>
                      <a:pt x="3512" y="1242"/>
                      <a:pt x="3672" y="1012"/>
                      <a:pt x="3748" y="820"/>
                    </a:cubicBezTo>
                    <a:cubicBezTo>
                      <a:pt x="3316" y="320"/>
                      <a:pt x="2643" y="350"/>
                      <a:pt x="2256" y="472"/>
                    </a:cubicBezTo>
                    <a:cubicBezTo>
                      <a:pt x="1872" y="1000"/>
                      <a:pt x="1484" y="1524"/>
                      <a:pt x="1468" y="1524"/>
                    </a:cubicBezTo>
                    <a:cubicBezTo>
                      <a:pt x="1700" y="948"/>
                      <a:pt x="2160" y="472"/>
                      <a:pt x="2160" y="472"/>
                    </a:cubicBezTo>
                    <a:cubicBezTo>
                      <a:pt x="2051" y="303"/>
                      <a:pt x="1280" y="296"/>
                      <a:pt x="812" y="508"/>
                    </a:cubicBezTo>
                    <a:cubicBezTo>
                      <a:pt x="452" y="988"/>
                      <a:pt x="96" y="1432"/>
                      <a:pt x="96" y="1432"/>
                    </a:cubicBezTo>
                    <a:cubicBezTo>
                      <a:pt x="1024" y="1112"/>
                      <a:pt x="1488" y="1576"/>
                      <a:pt x="1488" y="1576"/>
                    </a:cubicBezTo>
                    <a:cubicBezTo>
                      <a:pt x="1472" y="1587"/>
                      <a:pt x="792" y="1324"/>
                      <a:pt x="0" y="15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>
                <a:off x="1533240" y="4673160"/>
                <a:ext cx="1051200" cy="433800"/>
              </a:xfrm>
              <a:custGeom>
                <a:avLst/>
                <a:gdLst>
                  <a:gd name="textAreaLeft" fmla="*/ 0 w 1051200"/>
                  <a:gd name="textAreaRight" fmla="*/ 1051560 w 1051200"/>
                  <a:gd name="textAreaTop" fmla="*/ 0 h 433800"/>
                  <a:gd name="textAreaBottom" fmla="*/ 434160 h 433800"/>
                </a:gdLst>
                <a:ahLst/>
                <a:rect l="textAreaLeft" t="textAreaTop" r="textAreaRight" b="textAreaBottom"/>
                <a:pathLst>
                  <a:path w="2218" h="960">
                    <a:moveTo>
                      <a:pt x="0" y="672"/>
                    </a:moveTo>
                    <a:cubicBezTo>
                      <a:pt x="1004" y="672"/>
                      <a:pt x="1252" y="944"/>
                      <a:pt x="1640" y="960"/>
                    </a:cubicBezTo>
                    <a:cubicBezTo>
                      <a:pt x="2068" y="464"/>
                      <a:pt x="2218" y="12"/>
                      <a:pt x="2208" y="0"/>
                    </a:cubicBezTo>
                    <a:cubicBezTo>
                      <a:pt x="2148" y="40"/>
                      <a:pt x="1840" y="516"/>
                      <a:pt x="1580" y="888"/>
                    </a:cubicBezTo>
                    <a:cubicBezTo>
                      <a:pt x="740" y="544"/>
                      <a:pt x="268" y="624"/>
                      <a:pt x="0" y="67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>
                <a:off x="759600" y="4875480"/>
                <a:ext cx="750600" cy="177120"/>
              </a:xfrm>
              <a:custGeom>
                <a:avLst/>
                <a:gdLst>
                  <a:gd name="textAreaLeft" fmla="*/ 0 w 750600"/>
                  <a:gd name="textAreaRight" fmla="*/ 750960 w 75060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584" h="392">
                    <a:moveTo>
                      <a:pt x="0" y="224"/>
                    </a:moveTo>
                    <a:cubicBezTo>
                      <a:pt x="628" y="84"/>
                      <a:pt x="892" y="108"/>
                      <a:pt x="1152" y="224"/>
                    </a:cubicBezTo>
                    <a:cubicBezTo>
                      <a:pt x="1320" y="336"/>
                      <a:pt x="1380" y="392"/>
                      <a:pt x="1584" y="272"/>
                    </a:cubicBezTo>
                    <a:cubicBezTo>
                      <a:pt x="1360" y="320"/>
                      <a:pt x="1240" y="188"/>
                      <a:pt x="1144" y="144"/>
                    </a:cubicBezTo>
                    <a:cubicBezTo>
                      <a:pt x="1048" y="100"/>
                      <a:pt x="372" y="0"/>
                      <a:pt x="0" y="224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>
                <a:off x="1487520" y="4875480"/>
                <a:ext cx="820440" cy="155520"/>
              </a:xfrm>
              <a:custGeom>
                <a:avLst/>
                <a:gdLst>
                  <a:gd name="textAreaLeft" fmla="*/ 0 w 820440"/>
                  <a:gd name="textAreaRight" fmla="*/ 820800 w 8204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731" h="344">
                    <a:moveTo>
                      <a:pt x="0" y="176"/>
                    </a:moveTo>
                    <a:cubicBezTo>
                      <a:pt x="856" y="0"/>
                      <a:pt x="1604" y="344"/>
                      <a:pt x="1604" y="344"/>
                    </a:cubicBezTo>
                    <a:cubicBezTo>
                      <a:pt x="1731" y="327"/>
                      <a:pt x="1056" y="80"/>
                      <a:pt x="760" y="72"/>
                    </a:cubicBezTo>
                    <a:cubicBezTo>
                      <a:pt x="464" y="64"/>
                      <a:pt x="244" y="60"/>
                      <a:pt x="0" y="17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2272680" y="4716360"/>
                <a:ext cx="238680" cy="30348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504" h="672">
                    <a:moveTo>
                      <a:pt x="456" y="48"/>
                    </a:moveTo>
                    <a:cubicBezTo>
                      <a:pt x="504" y="0"/>
                      <a:pt x="384" y="240"/>
                      <a:pt x="312" y="336"/>
                    </a:cubicBezTo>
                    <a:cubicBezTo>
                      <a:pt x="240" y="432"/>
                      <a:pt x="0" y="672"/>
                      <a:pt x="24" y="624"/>
                    </a:cubicBezTo>
                    <a:lnTo>
                      <a:pt x="456" y="4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791000" y="4602600"/>
                <a:ext cx="512280" cy="135720"/>
              </a:xfrm>
              <a:custGeom>
                <a:avLst/>
                <a:gdLst>
                  <a:gd name="textAreaLeft" fmla="*/ 0 w 512280"/>
                  <a:gd name="textAreaRight" fmla="*/ 512640 w 5122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081" h="301">
                    <a:moveTo>
                      <a:pt x="0" y="36"/>
                    </a:moveTo>
                    <a:cubicBezTo>
                      <a:pt x="576" y="52"/>
                      <a:pt x="992" y="300"/>
                      <a:pt x="992" y="300"/>
                    </a:cubicBezTo>
                    <a:cubicBezTo>
                      <a:pt x="1081" y="301"/>
                      <a:pt x="701" y="88"/>
                      <a:pt x="536" y="44"/>
                    </a:cubicBezTo>
                    <a:cubicBezTo>
                      <a:pt x="371" y="0"/>
                      <a:pt x="216" y="0"/>
                      <a:pt x="0" y="3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rot="21463800">
                <a:off x="1838160" y="4461120"/>
                <a:ext cx="512280" cy="135720"/>
              </a:xfrm>
              <a:custGeom>
                <a:avLst/>
                <a:gdLst>
                  <a:gd name="textAreaLeft" fmla="*/ 0 w 512280"/>
                  <a:gd name="textAreaRight" fmla="*/ 512640 w 5122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081" h="301">
                    <a:moveTo>
                      <a:pt x="0" y="36"/>
                    </a:moveTo>
                    <a:cubicBezTo>
                      <a:pt x="576" y="52"/>
                      <a:pt x="992" y="300"/>
                      <a:pt x="992" y="300"/>
                    </a:cubicBezTo>
                    <a:cubicBezTo>
                      <a:pt x="1081" y="301"/>
                      <a:pt x="701" y="88"/>
                      <a:pt x="536" y="44"/>
                    </a:cubicBezTo>
                    <a:cubicBezTo>
                      <a:pt x="371" y="0"/>
                      <a:pt x="216" y="0"/>
                      <a:pt x="0" y="3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>
                <a:off x="1087560" y="4466880"/>
                <a:ext cx="479880" cy="7704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013" h="171">
                    <a:moveTo>
                      <a:pt x="0" y="116"/>
                    </a:moveTo>
                    <a:cubicBezTo>
                      <a:pt x="620" y="0"/>
                      <a:pt x="851" y="171"/>
                      <a:pt x="932" y="156"/>
                    </a:cubicBezTo>
                    <a:cubicBezTo>
                      <a:pt x="1013" y="141"/>
                      <a:pt x="640" y="30"/>
                      <a:pt x="485" y="23"/>
                    </a:cubicBezTo>
                    <a:cubicBezTo>
                      <a:pt x="337" y="16"/>
                      <a:pt x="182" y="59"/>
                      <a:pt x="0" y="11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3"/>
              <p:cNvSpPr/>
              <p:nvPr/>
            </p:nvSpPr>
            <p:spPr>
              <a:xfrm>
                <a:off x="1023120" y="4578840"/>
                <a:ext cx="479880" cy="7704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013" h="171">
                    <a:moveTo>
                      <a:pt x="0" y="116"/>
                    </a:moveTo>
                    <a:cubicBezTo>
                      <a:pt x="620" y="0"/>
                      <a:pt x="851" y="171"/>
                      <a:pt x="932" y="156"/>
                    </a:cubicBezTo>
                    <a:cubicBezTo>
                      <a:pt x="1013" y="141"/>
                      <a:pt x="640" y="30"/>
                      <a:pt x="485" y="23"/>
                    </a:cubicBezTo>
                    <a:cubicBezTo>
                      <a:pt x="337" y="16"/>
                      <a:pt x="182" y="59"/>
                      <a:pt x="0" y="11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4"/>
              <p:cNvSpPr/>
              <p:nvPr/>
            </p:nvSpPr>
            <p:spPr>
              <a:xfrm>
                <a:off x="928440" y="4714560"/>
                <a:ext cx="500760" cy="6984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057" h="155">
                    <a:moveTo>
                      <a:pt x="0" y="100"/>
                    </a:moveTo>
                    <a:cubicBezTo>
                      <a:pt x="652" y="36"/>
                      <a:pt x="888" y="155"/>
                      <a:pt x="972" y="140"/>
                    </a:cubicBezTo>
                    <a:cubicBezTo>
                      <a:pt x="1057" y="125"/>
                      <a:pt x="668" y="14"/>
                      <a:pt x="506" y="7"/>
                    </a:cubicBezTo>
                    <a:cubicBezTo>
                      <a:pt x="352" y="0"/>
                      <a:pt x="190" y="43"/>
                      <a:pt x="0" y="1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7" name="Picture 23" descr=""/>
          <p:cNvPicPr/>
          <p:nvPr/>
        </p:nvPicPr>
        <p:blipFill>
          <a:blip r:embed="rId2"/>
          <a:srcRect l="42620" t="64489" r="19467" b="0"/>
          <a:stretch/>
        </p:blipFill>
        <p:spPr>
          <a:xfrm rot="6879000">
            <a:off x="2407320" y="430200"/>
            <a:ext cx="9082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25 L -0.44115 -0.0125 L -0.44115 0.1956 L 0.44879 0.19189 L 0.44879 -0.00764 L 0.00382 -0.0125 Z">
                                      <p:cBhvr>
                                        <p:cTn id="6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2083 L 0.44896 -0.02083 L 0.44757 -0.22361 L -0.44097 -0.23079 L -0.44097 -0.02245 L 0.00052 -0.02083 Z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392" name=""/>
          <p:cNvGrpSpPr/>
          <p:nvPr/>
        </p:nvGrpSpPr>
        <p:grpSpPr>
          <a:xfrm>
            <a:off x="4357800" y="1857240"/>
            <a:ext cx="4500360" cy="1571760"/>
            <a:chOff x="4357800" y="1857240"/>
            <a:chExt cx="4500360" cy="1571760"/>
          </a:xfrm>
        </p:grpSpPr>
        <p:sp>
          <p:nvSpPr>
            <p:cNvPr id="393" name="圆角矩形标注 70"/>
            <p:cNvSpPr/>
            <p:nvPr/>
          </p:nvSpPr>
          <p:spPr>
            <a:xfrm>
              <a:off x="4357800" y="1857240"/>
              <a:ext cx="4500360" cy="1571760"/>
            </a:xfrm>
            <a:prstGeom prst="wedgeRoundRectCallout">
              <a:avLst>
                <a:gd name="adj1" fmla="val -63314"/>
                <a:gd name="adj2" fmla="val -306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5"/>
            <p:cNvSpPr/>
            <p:nvPr/>
          </p:nvSpPr>
          <p:spPr>
            <a:xfrm>
              <a:off x="4604040" y="2099880"/>
              <a:ext cx="3111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二元相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三元相图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投影图和截面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396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571320" y="2311200"/>
              <a:ext cx="3357360" cy="360"/>
              <a:chOff x="571320" y="2311200"/>
              <a:chExt cx="3357360" cy="360"/>
            </a:xfrm>
          </p:grpSpPr>
          <p:sp>
            <p:nvSpPr>
              <p:cNvPr id="399" name="Line 12"/>
              <p:cNvSpPr/>
              <p:nvPr/>
            </p:nvSpPr>
            <p:spPr>
              <a:xfrm>
                <a:off x="571320" y="231120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>
                <a:off x="571320" y="231120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49360" y="2837520"/>
              <a:ext cx="3379680" cy="45720"/>
              <a:chOff x="549360" y="2837520"/>
              <a:chExt cx="3379680" cy="45720"/>
            </a:xfrm>
          </p:grpSpPr>
          <p:sp>
            <p:nvSpPr>
              <p:cNvPr id="402" name="Line 12"/>
              <p:cNvSpPr/>
              <p:nvPr/>
            </p:nvSpPr>
            <p:spPr>
              <a:xfrm>
                <a:off x="549360" y="283752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549360" y="283752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549360" y="3383280"/>
              <a:ext cx="3379680" cy="45720"/>
              <a:chOff x="549360" y="3383280"/>
              <a:chExt cx="3379680" cy="45720"/>
            </a:xfrm>
          </p:grpSpPr>
          <p:sp>
            <p:nvSpPr>
              <p:cNvPr id="405" name="Line 12"/>
              <p:cNvSpPr/>
              <p:nvPr/>
            </p:nvSpPr>
            <p:spPr>
              <a:xfrm>
                <a:off x="549360" y="338328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 txBox="1"/>
              <p:nvPr/>
            </p:nvSpPr>
            <p:spPr>
              <a:xfrm>
                <a:off x="549360" y="338328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2560" y="-69840"/>
            <a:ext cx="2993760" cy="1915200"/>
            <a:chOff x="52560" y="-69840"/>
            <a:chExt cx="2993760" cy="1915200"/>
          </a:xfrm>
        </p:grpSpPr>
        <p:sp>
          <p:nvSpPr>
            <p:cNvPr id="409" name="圆角矩形​​ 2"/>
            <p:cNvSpPr/>
            <p:nvPr/>
          </p:nvSpPr>
          <p:spPr>
            <a:xfrm rot="21283200">
              <a:off x="112680" y="585720"/>
              <a:ext cx="2887560" cy="112896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​​ 11"/>
            <p:cNvSpPr/>
            <p:nvPr/>
          </p:nvSpPr>
          <p:spPr>
            <a:xfrm flipV="1">
              <a:off x="543240" y="122040"/>
              <a:ext cx="1147320" cy="5457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直接连接符​​ 13"/>
            <p:cNvSpPr/>
            <p:nvPr/>
          </p:nvSpPr>
          <p:spPr>
            <a:xfrm>
              <a:off x="1923120" y="122040"/>
              <a:ext cx="581040" cy="421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椭圆​​ 4"/>
            <p:cNvSpPr/>
            <p:nvPr/>
          </p:nvSpPr>
          <p:spPr>
            <a:xfrm>
              <a:off x="1643040" y="-6984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椭圆​​ 6"/>
            <p:cNvSpPr/>
            <p:nvPr/>
          </p:nvSpPr>
          <p:spPr>
            <a:xfrm>
              <a:off x="1714320" y="1440"/>
              <a:ext cx="189000" cy="12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同侧圆角矩形 30"/>
            <p:cNvSpPr/>
            <p:nvPr/>
          </p:nvSpPr>
          <p:spPr>
            <a:xfrm rot="21294600">
              <a:off x="70920" y="592920"/>
              <a:ext cx="2876400" cy="54792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圆角矩形​​ 3"/>
            <p:cNvSpPr/>
            <p:nvPr/>
          </p:nvSpPr>
          <p:spPr>
            <a:xfrm rot="21283200">
              <a:off x="239040" y="695160"/>
              <a:ext cx="2642760" cy="93132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​​ 8"/>
            <p:cNvSpPr/>
            <p:nvPr/>
          </p:nvSpPr>
          <p:spPr>
            <a:xfrm rot="21283200">
              <a:off x="487800" y="6678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​​ 9"/>
            <p:cNvSpPr/>
            <p:nvPr/>
          </p:nvSpPr>
          <p:spPr>
            <a:xfrm rot="21283200">
              <a:off x="2448720" y="5436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19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068120" y="6916680"/>
            <a:ext cx="4243320" cy="3425760"/>
            <a:chOff x="1068120" y="6916680"/>
            <a:chExt cx="4243320" cy="3425760"/>
          </a:xfrm>
        </p:grpSpPr>
        <p:pic>
          <p:nvPicPr>
            <p:cNvPr id="425" name="图片 60" descr=""/>
            <p:cNvPicPr/>
            <p:nvPr/>
          </p:nvPicPr>
          <p:blipFill>
            <a:blip r:embed="rId2"/>
            <a:stretch/>
          </p:blipFill>
          <p:spPr>
            <a:xfrm>
              <a:off x="1285920" y="6916680"/>
              <a:ext cx="385776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矩形 62"/>
            <p:cNvSpPr/>
            <p:nvPr/>
          </p:nvSpPr>
          <p:spPr>
            <a:xfrm>
              <a:off x="1068120" y="9936720"/>
              <a:ext cx="4243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O 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相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4429080" y="6916680"/>
            <a:ext cx="5214960" cy="3534120"/>
            <a:chOff x="4429080" y="6916680"/>
            <a:chExt cx="5214960" cy="3534120"/>
          </a:xfrm>
        </p:grpSpPr>
        <p:pic>
          <p:nvPicPr>
            <p:cNvPr id="428" name="图片 61" descr=""/>
            <p:cNvPicPr/>
            <p:nvPr/>
          </p:nvPicPr>
          <p:blipFill>
            <a:blip r:embed="rId3"/>
            <a:stretch/>
          </p:blipFill>
          <p:spPr>
            <a:xfrm>
              <a:off x="5397480" y="6916680"/>
              <a:ext cx="3129120" cy="30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1"/>
            <p:cNvSpPr/>
            <p:nvPr/>
          </p:nvSpPr>
          <p:spPr>
            <a:xfrm>
              <a:off x="4429080" y="10033560"/>
              <a:ext cx="52149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145 °C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下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CaO —A1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—Fe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等温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-7.40741E-007 L 0.36823 -0.75949 E">
                                      <p:cBhvr>
                                        <p:cTn id="263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111 -0.76991 L 0.00712 0.02176 E">
                                      <p:cBhvr>
                                        <p:cTn id="267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0347 L -0.04687 -0.76297 E">
                                      <p:cBhvr>
                                        <p:cTn id="269" dur="5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13 -0.76991 L 0.00625 -0.01389 E">
                                      <p:cBhvr>
                                        <p:cTn id="273" dur="5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4214880" y="1857240"/>
            <a:ext cx="4714920" cy="2453400"/>
            <a:chOff x="4214880" y="1857240"/>
            <a:chExt cx="4714920" cy="2453400"/>
          </a:xfrm>
        </p:grpSpPr>
        <p:sp>
          <p:nvSpPr>
            <p:cNvPr id="432" name="圆角矩形标注 70"/>
            <p:cNvSpPr/>
            <p:nvPr/>
          </p:nvSpPr>
          <p:spPr>
            <a:xfrm>
              <a:off x="4214880" y="1857240"/>
              <a:ext cx="4643640" cy="1642680"/>
            </a:xfrm>
            <a:prstGeom prst="wedgeRoundRectCallout">
              <a:avLst>
                <a:gd name="adj1" fmla="val -59814"/>
                <a:gd name="adj2" fmla="val 25504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5"/>
            <p:cNvSpPr/>
            <p:nvPr/>
          </p:nvSpPr>
          <p:spPr>
            <a:xfrm>
              <a:off x="4429080" y="1930680"/>
              <a:ext cx="4500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主要用来分析渣相或液相的相关及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 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其熔化规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铁酸钙领域中</a:t>
              </a: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,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尤以研究其液相为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435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571320" y="2311200"/>
              <a:ext cx="3357360" cy="360"/>
              <a:chOff x="571320" y="2311200"/>
              <a:chExt cx="3357360" cy="360"/>
            </a:xfrm>
          </p:grpSpPr>
          <p:sp>
            <p:nvSpPr>
              <p:cNvPr id="438" name="Line 12"/>
              <p:cNvSpPr/>
              <p:nvPr/>
            </p:nvSpPr>
            <p:spPr>
              <a:xfrm>
                <a:off x="571320" y="231120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>
                <a:off x="571320" y="231120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549360" y="2837520"/>
              <a:ext cx="3379680" cy="45720"/>
              <a:chOff x="549360" y="2837520"/>
              <a:chExt cx="3379680" cy="45720"/>
            </a:xfrm>
          </p:grpSpPr>
          <p:sp>
            <p:nvSpPr>
              <p:cNvPr id="441" name="Line 12"/>
              <p:cNvSpPr/>
              <p:nvPr/>
            </p:nvSpPr>
            <p:spPr>
              <a:xfrm>
                <a:off x="549360" y="283752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549360" y="283752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49360" y="3383280"/>
              <a:ext cx="3379680" cy="45720"/>
              <a:chOff x="549360" y="3383280"/>
              <a:chExt cx="3379680" cy="45720"/>
            </a:xfrm>
          </p:grpSpPr>
          <p:sp>
            <p:nvSpPr>
              <p:cNvPr id="444" name="Line 12"/>
              <p:cNvSpPr/>
              <p:nvPr/>
            </p:nvSpPr>
            <p:spPr>
              <a:xfrm>
                <a:off x="549360" y="338328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 txBox="1"/>
              <p:nvPr/>
            </p:nvSpPr>
            <p:spPr>
              <a:xfrm>
                <a:off x="549360" y="338328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2560" y="-69840"/>
            <a:ext cx="2993760" cy="1915200"/>
            <a:chOff x="52560" y="-69840"/>
            <a:chExt cx="2993760" cy="1915200"/>
          </a:xfrm>
        </p:grpSpPr>
        <p:sp>
          <p:nvSpPr>
            <p:cNvPr id="448" name="圆角矩形​​ 2"/>
            <p:cNvSpPr/>
            <p:nvPr/>
          </p:nvSpPr>
          <p:spPr>
            <a:xfrm rot="21283200">
              <a:off x="112680" y="585720"/>
              <a:ext cx="2887560" cy="112896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直接连接符​​ 11"/>
            <p:cNvSpPr/>
            <p:nvPr/>
          </p:nvSpPr>
          <p:spPr>
            <a:xfrm flipV="1">
              <a:off x="543240" y="122040"/>
              <a:ext cx="1147320" cy="5457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直接连接符​​ 13"/>
            <p:cNvSpPr/>
            <p:nvPr/>
          </p:nvSpPr>
          <p:spPr>
            <a:xfrm>
              <a:off x="1923120" y="122040"/>
              <a:ext cx="581040" cy="421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​​ 4"/>
            <p:cNvSpPr/>
            <p:nvPr/>
          </p:nvSpPr>
          <p:spPr>
            <a:xfrm>
              <a:off x="1643040" y="-6984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椭圆​​ 6"/>
            <p:cNvSpPr/>
            <p:nvPr/>
          </p:nvSpPr>
          <p:spPr>
            <a:xfrm>
              <a:off x="1714320" y="1440"/>
              <a:ext cx="189000" cy="12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同侧圆角矩形 30"/>
            <p:cNvSpPr/>
            <p:nvPr/>
          </p:nvSpPr>
          <p:spPr>
            <a:xfrm rot="21294600">
              <a:off x="70920" y="592920"/>
              <a:ext cx="2876400" cy="54792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圆角矩形​​ 3"/>
            <p:cNvSpPr/>
            <p:nvPr/>
          </p:nvSpPr>
          <p:spPr>
            <a:xfrm rot="21283200">
              <a:off x="239040" y="695160"/>
              <a:ext cx="2642760" cy="93132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​​ 8"/>
            <p:cNvSpPr/>
            <p:nvPr/>
          </p:nvSpPr>
          <p:spPr>
            <a:xfrm rot="21283200">
              <a:off x="487800" y="6678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椭圆​​ 9"/>
            <p:cNvSpPr/>
            <p:nvPr/>
          </p:nvSpPr>
          <p:spPr>
            <a:xfrm rot="21283200">
              <a:off x="2448720" y="5436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58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000680" y="6929280"/>
            <a:ext cx="4929120" cy="4635360"/>
            <a:chOff x="4000680" y="6929280"/>
            <a:chExt cx="4929120" cy="4635360"/>
          </a:xfrm>
        </p:grpSpPr>
        <p:pic>
          <p:nvPicPr>
            <p:cNvPr id="464" name="图片 35" descr=""/>
            <p:cNvPicPr/>
            <p:nvPr/>
          </p:nvPicPr>
          <p:blipFill>
            <a:blip r:embed="rId2"/>
            <a:stretch/>
          </p:blipFill>
          <p:spPr>
            <a:xfrm>
              <a:off x="4000680" y="6929280"/>
              <a:ext cx="4929120" cy="392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矩形 36"/>
            <p:cNvSpPr/>
            <p:nvPr/>
          </p:nvSpPr>
          <p:spPr>
            <a:xfrm>
              <a:off x="4402080" y="10847160"/>
              <a:ext cx="4214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aO —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系的液相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% A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%Mg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01355 -0.81158 E">
                                      <p:cBhvr>
                                        <p:cTn id="284" dur="5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55 -0.81158 L -0.00225 -0.00301 E">
                                      <p:cBhvr>
                                        <p:cTn id="288" dur="5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467" name="矩形 49"/>
          <p:cNvSpPr/>
          <p:nvPr/>
        </p:nvSpPr>
        <p:spPr>
          <a:xfrm>
            <a:off x="0" y="71424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69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任意多边形 125"/>
          <p:cNvSpPr/>
          <p:nvPr/>
        </p:nvSpPr>
        <p:spPr>
          <a:xfrm>
            <a:off x="725400" y="1924200"/>
            <a:ext cx="8355240" cy="717480"/>
          </a:xfrm>
          <a:custGeom>
            <a:avLst/>
            <a:gdLst>
              <a:gd name="textAreaLeft" fmla="*/ 0 w 8355240"/>
              <a:gd name="textAreaRight" fmla="*/ 8355600 w 83552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8355724" h="717331">
                <a:moveTo>
                  <a:pt x="0" y="0"/>
                </a:moveTo>
                <a:cubicBezTo>
                  <a:pt x="328448" y="147144"/>
                  <a:pt x="656896" y="294289"/>
                  <a:pt x="1087820" y="346841"/>
                </a:cubicBezTo>
                <a:cubicBezTo>
                  <a:pt x="1518744" y="399393"/>
                  <a:pt x="2060028" y="262758"/>
                  <a:pt x="2585545" y="315310"/>
                </a:cubicBezTo>
                <a:cubicBezTo>
                  <a:pt x="3111062" y="367862"/>
                  <a:pt x="3697014" y="606973"/>
                  <a:pt x="4240924" y="662152"/>
                </a:cubicBezTo>
                <a:cubicBezTo>
                  <a:pt x="4784834" y="717331"/>
                  <a:pt x="5320862" y="701565"/>
                  <a:pt x="5849007" y="646386"/>
                </a:cubicBezTo>
                <a:cubicBezTo>
                  <a:pt x="6377152" y="591207"/>
                  <a:pt x="6992007" y="404648"/>
                  <a:pt x="7409793" y="331076"/>
                </a:cubicBezTo>
                <a:cubicBezTo>
                  <a:pt x="7827579" y="257504"/>
                  <a:pt x="8274269" y="270642"/>
                  <a:pt x="8355724" y="2049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474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同侧圆角矩形 90"/>
            <p:cNvSpPr/>
            <p:nvPr/>
          </p:nvSpPr>
          <p:spPr>
            <a:xfrm rot="21294600">
              <a:off x="0" y="313380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484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同侧圆角矩形 100"/>
            <p:cNvSpPr/>
            <p:nvPr/>
          </p:nvSpPr>
          <p:spPr>
            <a:xfrm rot="21294600">
              <a:off x="3142800" y="34192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494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同侧圆角矩形 110"/>
            <p:cNvSpPr/>
            <p:nvPr/>
          </p:nvSpPr>
          <p:spPr>
            <a:xfrm rot="21294600">
              <a:off x="6238440" y="32050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7135920" y="5000760"/>
            <a:ext cx="1325880" cy="1164960"/>
            <a:chOff x="7135920" y="5000760"/>
            <a:chExt cx="1325880" cy="1164960"/>
          </a:xfrm>
        </p:grpSpPr>
        <p:sp>
          <p:nvSpPr>
            <p:cNvPr id="504" name="Rounded Rectangle 95"/>
            <p:cNvSpPr/>
            <p:nvPr/>
          </p:nvSpPr>
          <p:spPr>
            <a:xfrm>
              <a:off x="7366320" y="500076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ounded Rectangle 97"/>
            <p:cNvSpPr/>
            <p:nvPr/>
          </p:nvSpPr>
          <p:spPr>
            <a:xfrm>
              <a:off x="7510320" y="594036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ounded Rectangle 103"/>
            <p:cNvSpPr/>
            <p:nvPr/>
          </p:nvSpPr>
          <p:spPr>
            <a:xfrm>
              <a:off x="7978680" y="594036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ounded Rectangle 104"/>
            <p:cNvSpPr/>
            <p:nvPr/>
          </p:nvSpPr>
          <p:spPr>
            <a:xfrm rot="2700000">
              <a:off x="7195680" y="545148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ounded Rectangle 105"/>
            <p:cNvSpPr/>
            <p:nvPr/>
          </p:nvSpPr>
          <p:spPr>
            <a:xfrm flipH="1" rot="18900000">
              <a:off x="8289360" y="545148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7600680" y="5320080"/>
              <a:ext cx="396000" cy="262800"/>
              <a:chOff x="7600680" y="5320080"/>
              <a:chExt cx="396000" cy="262800"/>
            </a:xfrm>
          </p:grpSpPr>
          <p:sp>
            <p:nvSpPr>
              <p:cNvPr id="510" name="Rounded Rectangle 108"/>
              <p:cNvSpPr/>
              <p:nvPr/>
            </p:nvSpPr>
            <p:spPr>
              <a:xfrm>
                <a:off x="7600680" y="5320080"/>
                <a:ext cx="144000" cy="26280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2800"/>
                  <a:gd name="textAreaBottom" fmla="*/ 255960 h 262800"/>
                </a:gdLst>
                <a:ahLst/>
                <a:rect l="textAreaLeft" t="textAreaTop" r="textAreaRight" b="textAreaBottom"/>
                <a:pathLst>
                  <a:path w="21600" h="39376">
                    <a:moveTo>
                      <a:pt x="3600" y="0"/>
                    </a:moveTo>
                    <a:arcTo wR="3600" hR="3600" stAng="16200000" swAng="-5400000"/>
                    <a:lnTo>
                      <a:pt x="0" y="35776"/>
                    </a:lnTo>
                    <a:arcTo wR="3600" hR="3600" stAng="10800000" swAng="-5400000"/>
                    <a:lnTo>
                      <a:pt x="18000" y="393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ounded Rectangle 109"/>
              <p:cNvSpPr/>
              <p:nvPr/>
            </p:nvSpPr>
            <p:spPr>
              <a:xfrm>
                <a:off x="7852680" y="5320080"/>
                <a:ext cx="144000" cy="26280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2800"/>
                  <a:gd name="textAreaBottom" fmla="*/ 255960 h 262800"/>
                </a:gdLst>
                <a:ahLst/>
                <a:rect l="textAreaLeft" t="textAreaTop" r="textAreaRight" b="textAreaBottom"/>
                <a:pathLst>
                  <a:path w="21600" h="39376">
                    <a:moveTo>
                      <a:pt x="3600" y="0"/>
                    </a:moveTo>
                    <a:arcTo wR="3600" hR="3600" stAng="16200000" swAng="-5400000"/>
                    <a:lnTo>
                      <a:pt x="0" y="35776"/>
                    </a:lnTo>
                    <a:arcTo wR="3600" hR="3600" stAng="10800000" swAng="-5400000"/>
                    <a:lnTo>
                      <a:pt x="18000" y="393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513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514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2560" y="6858000"/>
            <a:ext cx="2993760" cy="1987920"/>
            <a:chOff x="52560" y="6858000"/>
            <a:chExt cx="2993760" cy="1987920"/>
          </a:xfrm>
        </p:grpSpPr>
        <p:sp>
          <p:nvSpPr>
            <p:cNvPr id="520" name="圆角矩形​​ 2"/>
            <p:cNvSpPr/>
            <p:nvPr/>
          </p:nvSpPr>
          <p:spPr>
            <a:xfrm rot="21283200">
              <a:off x="112680" y="7585560"/>
              <a:ext cx="2887560" cy="11296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直接连接符​​ 11"/>
            <p:cNvSpPr/>
            <p:nvPr/>
          </p:nvSpPr>
          <p:spPr>
            <a:xfrm flipV="1">
              <a:off x="543240" y="6970680"/>
              <a:ext cx="1181160" cy="6966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直接连接符​​ 13"/>
            <p:cNvSpPr/>
            <p:nvPr/>
          </p:nvSpPr>
          <p:spPr>
            <a:xfrm>
              <a:off x="2052720" y="6971040"/>
              <a:ext cx="451080" cy="5724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椭圆​​ 4"/>
            <p:cNvSpPr/>
            <p:nvPr/>
          </p:nvSpPr>
          <p:spPr>
            <a:xfrm>
              <a:off x="1724760" y="685800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椭圆​​ 6"/>
            <p:cNvSpPr/>
            <p:nvPr/>
          </p:nvSpPr>
          <p:spPr>
            <a:xfrm>
              <a:off x="1793520" y="6905520"/>
              <a:ext cx="189000" cy="129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同侧圆角矩形 45"/>
            <p:cNvSpPr/>
            <p:nvPr/>
          </p:nvSpPr>
          <p:spPr>
            <a:xfrm rot="21294600">
              <a:off x="70920" y="7592760"/>
              <a:ext cx="2876400" cy="54828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圆角矩形​​ 3"/>
            <p:cNvSpPr/>
            <p:nvPr/>
          </p:nvSpPr>
          <p:spPr>
            <a:xfrm rot="21283200">
              <a:off x="238680" y="7695000"/>
              <a:ext cx="2642760" cy="932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椭圆​​ 8"/>
            <p:cNvSpPr/>
            <p:nvPr/>
          </p:nvSpPr>
          <p:spPr>
            <a:xfrm rot="21283200">
              <a:off x="487800" y="766764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椭圆​​ 9"/>
            <p:cNvSpPr/>
            <p:nvPr/>
          </p:nvSpPr>
          <p:spPr>
            <a:xfrm rot="21283200">
              <a:off x="2448720" y="754344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42960" y="2357280"/>
            <a:ext cx="6858000" cy="2260800"/>
            <a:chOff x="642960" y="2357280"/>
            <a:chExt cx="6858000" cy="2260800"/>
          </a:xfrm>
        </p:grpSpPr>
        <p:grpSp>
          <p:nvGrpSpPr>
            <p:cNvPr id="530" name=""/>
            <p:cNvGrpSpPr/>
            <p:nvPr/>
          </p:nvGrpSpPr>
          <p:grpSpPr>
            <a:xfrm>
              <a:off x="642960" y="2357280"/>
              <a:ext cx="6858000" cy="2260800"/>
              <a:chOff x="642960" y="2357280"/>
              <a:chExt cx="6858000" cy="2260800"/>
            </a:xfrm>
          </p:grpSpPr>
          <p:sp>
            <p:nvSpPr>
              <p:cNvPr id="531" name="Rectangle 6"/>
              <p:cNvSpPr/>
              <p:nvPr/>
            </p:nvSpPr>
            <p:spPr>
              <a:xfrm>
                <a:off x="647640" y="2357280"/>
                <a:ext cx="52815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d66383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1987b8"/>
                    </a:solidFill>
                    <a:latin typeface="微软雅黑"/>
                    <a:ea typeface="微软雅黑"/>
                  </a:rPr>
                  <a:t>采集数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6"/>
              <p:cNvSpPr/>
              <p:nvPr/>
            </p:nvSpPr>
            <p:spPr>
              <a:xfrm>
                <a:off x="642960" y="4118040"/>
                <a:ext cx="685800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d66383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b05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1987b8"/>
                    </a:solidFill>
                    <a:latin typeface="微软雅黑"/>
                    <a:ea typeface="微软雅黑"/>
                  </a:rPr>
                  <a:t>建模方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直接连接符 50"/>
            <p:cNvSpPr/>
            <p:nvPr/>
          </p:nvSpPr>
          <p:spPr>
            <a:xfrm>
              <a:off x="785520" y="4616640"/>
              <a:ext cx="1785960" cy="1440"/>
            </a:xfrm>
            <a:prstGeom prst="line">
              <a:avLst/>
            </a:prstGeom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直接连接符 52"/>
            <p:cNvSpPr/>
            <p:nvPr/>
          </p:nvSpPr>
          <p:spPr>
            <a:xfrm>
              <a:off x="785520" y="2829960"/>
              <a:ext cx="1857240" cy="1440"/>
            </a:xfrm>
            <a:prstGeom prst="line">
              <a:avLst/>
            </a:prstGeom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直接连接符 54"/>
          <p:cNvSpPr/>
          <p:nvPr/>
        </p:nvSpPr>
        <p:spPr>
          <a:xfrm>
            <a:off x="3143160" y="2000160"/>
            <a:ext cx="0" cy="2500560"/>
          </a:xfrm>
          <a:prstGeom prst="line">
            <a:avLst/>
          </a:prstGeom>
          <a:ln w="76320">
            <a:solidFill>
              <a:srgbClr val="90a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4286160" y="2000160"/>
            <a:ext cx="4572000" cy="1214640"/>
            <a:chOff x="4286160" y="2000160"/>
            <a:chExt cx="4572000" cy="1214640"/>
          </a:xfrm>
        </p:grpSpPr>
        <p:sp>
          <p:nvSpPr>
            <p:cNvPr id="537" name="圆角矩形标注 58"/>
            <p:cNvSpPr/>
            <p:nvPr/>
          </p:nvSpPr>
          <p:spPr>
            <a:xfrm>
              <a:off x="4286160" y="2000160"/>
              <a:ext cx="4572000" cy="1214640"/>
            </a:xfrm>
            <a:prstGeom prst="wedgeRoundRectCallout">
              <a:avLst>
                <a:gd name="adj1" fmla="val -58004"/>
                <a:gd name="adj2" fmla="val -796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5"/>
            <p:cNvSpPr/>
            <p:nvPr/>
          </p:nvSpPr>
          <p:spPr>
            <a:xfrm>
              <a:off x="4517640" y="2127240"/>
              <a:ext cx="265860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实体的几何外形尺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材料的特征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714840" y="3571920"/>
            <a:ext cx="4714920" cy="1285920"/>
            <a:chOff x="3714840" y="3571920"/>
            <a:chExt cx="4714920" cy="1285920"/>
          </a:xfrm>
        </p:grpSpPr>
        <p:sp>
          <p:nvSpPr>
            <p:cNvPr id="540" name="圆角矩形标注 61"/>
            <p:cNvSpPr/>
            <p:nvPr/>
          </p:nvSpPr>
          <p:spPr>
            <a:xfrm>
              <a:off x="3714840" y="3571920"/>
              <a:ext cx="4714920" cy="1285920"/>
            </a:xfrm>
            <a:prstGeom prst="wedgeRoundRectCallout">
              <a:avLst>
                <a:gd name="adj1" fmla="val -58351"/>
                <a:gd name="adj2" fmla="val 10888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5"/>
            <p:cNvSpPr/>
            <p:nvPr/>
          </p:nvSpPr>
          <p:spPr>
            <a:xfrm>
              <a:off x="3861360" y="3710880"/>
              <a:ext cx="242208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线框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基于二维图像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块体构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Box 75"/>
          <p:cNvSpPr/>
          <p:nvPr/>
        </p:nvSpPr>
        <p:spPr>
          <a:xfrm>
            <a:off x="-1927080" y="55008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000160" y="5143680"/>
            <a:ext cx="4643640" cy="1350360"/>
            <a:chOff x="2000160" y="5143680"/>
            <a:chExt cx="4643640" cy="1350360"/>
          </a:xfrm>
        </p:grpSpPr>
        <p:sp>
          <p:nvSpPr>
            <p:cNvPr id="544" name="圆角矩形标注 77"/>
            <p:cNvSpPr/>
            <p:nvPr/>
          </p:nvSpPr>
          <p:spPr>
            <a:xfrm>
              <a:off x="2000160" y="5178240"/>
              <a:ext cx="4643640" cy="1315800"/>
            </a:xfrm>
            <a:prstGeom prst="wedgeRoundRectCallout">
              <a:avLst>
                <a:gd name="adj1" fmla="val -41805"/>
                <a:gd name="adj2" fmla="val -22861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79"/>
            <p:cNvSpPr/>
            <p:nvPr/>
          </p:nvSpPr>
          <p:spPr>
            <a:xfrm>
              <a:off x="2435400" y="5143680"/>
              <a:ext cx="39182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的建模软件有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CAD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/ENGINE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idWorks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S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4.44444E-006 -1.00277 E">
                                      <p:cBhvr>
                                        <p:cTn id="301" dur="5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00278 L -1.94444E-006 0.02615 E">
                                      <p:cBhvr>
                                        <p:cTn id="349" dur="5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285840" y="5715000"/>
            <a:ext cx="1428840" cy="857160"/>
            <a:chOff x="285840" y="5715000"/>
            <a:chExt cx="1428840" cy="857160"/>
          </a:xfrm>
        </p:grpSpPr>
        <p:sp>
          <p:nvSpPr>
            <p:cNvPr id="547" name="Rectangle 9"/>
            <p:cNvSpPr/>
            <p:nvPr/>
          </p:nvSpPr>
          <p:spPr>
            <a:xfrm>
              <a:off x="285840" y="5715000"/>
              <a:ext cx="1428840" cy="857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293040" y="5786280"/>
              <a:ext cx="12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550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16"/>
          <p:cNvSpPr/>
          <p:nvPr/>
        </p:nvSpPr>
        <p:spPr>
          <a:xfrm>
            <a:off x="-2641680" y="50004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14200" y="1625760"/>
            <a:ext cx="1500480" cy="941400"/>
            <a:chOff x="214200" y="1625760"/>
            <a:chExt cx="1500480" cy="941400"/>
          </a:xfrm>
        </p:grpSpPr>
        <p:sp>
          <p:nvSpPr>
            <p:cNvPr id="556" name="Rectangle 7"/>
            <p:cNvSpPr/>
            <p:nvPr/>
          </p:nvSpPr>
          <p:spPr>
            <a:xfrm>
              <a:off x="214200" y="1625760"/>
              <a:ext cx="1500480" cy="941400"/>
            </a:xfrm>
            <a:prstGeom prst="rect">
              <a:avLst/>
            </a:pr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297360" y="1714320"/>
              <a:ext cx="12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1500120" y="1714680"/>
            <a:ext cx="7416720" cy="928440"/>
            <a:chOff x="1500120" y="1714680"/>
            <a:chExt cx="7416720" cy="928440"/>
          </a:xfrm>
        </p:grpSpPr>
        <p:sp>
          <p:nvSpPr>
            <p:cNvPr id="559" name="Rectangle 4"/>
            <p:cNvSpPr/>
            <p:nvPr/>
          </p:nvSpPr>
          <p:spPr>
            <a:xfrm>
              <a:off x="1500120" y="1714680"/>
              <a:ext cx="7416720" cy="928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3"/>
            <p:cNvSpPr/>
            <p:nvPr/>
          </p:nvSpPr>
          <p:spPr>
            <a:xfrm>
              <a:off x="1857240" y="1785960"/>
              <a:ext cx="67867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酸钙粘结相影响高碱度烧结矿的质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酸钙的多元化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铁酸钙研究领域不断拓宽与深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1500120" y="2714760"/>
            <a:ext cx="7416720" cy="1140840"/>
            <a:chOff x="1500120" y="2714760"/>
            <a:chExt cx="7416720" cy="1140840"/>
          </a:xfrm>
        </p:grpSpPr>
        <p:sp>
          <p:nvSpPr>
            <p:cNvPr id="562" name="Rectangle 4"/>
            <p:cNvSpPr/>
            <p:nvPr/>
          </p:nvSpPr>
          <p:spPr>
            <a:xfrm>
              <a:off x="1500120" y="2714760"/>
              <a:ext cx="7416720" cy="929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3"/>
            <p:cNvSpPr/>
            <p:nvPr/>
          </p:nvSpPr>
          <p:spPr>
            <a:xfrm>
              <a:off x="1857240" y="2786040"/>
              <a:ext cx="67867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利用二元或三元相图进行铁酸钙的某些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借助渣系数据库，数据库不一导致研究结果各有偏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图计算软件不能生成四元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面体相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9345600" y="1714680"/>
            <a:ext cx="2513160" cy="999720"/>
            <a:chOff x="9345600" y="1714680"/>
            <a:chExt cx="2513160" cy="999720"/>
          </a:xfrm>
        </p:grpSpPr>
        <p:grpSp>
          <p:nvGrpSpPr>
            <p:cNvPr id="565" name=""/>
            <p:cNvGrpSpPr/>
            <p:nvPr/>
          </p:nvGrpSpPr>
          <p:grpSpPr>
            <a:xfrm>
              <a:off x="9358920" y="1714680"/>
              <a:ext cx="2272680" cy="999720"/>
              <a:chOff x="9358920" y="1714680"/>
              <a:chExt cx="2272680" cy="999720"/>
            </a:xfrm>
          </p:grpSpPr>
          <p:sp>
            <p:nvSpPr>
              <p:cNvPr id="566" name="AutoShape 5"/>
              <p:cNvSpPr/>
              <p:nvPr/>
            </p:nvSpPr>
            <p:spPr>
              <a:xfrm>
                <a:off x="9358920" y="1714680"/>
                <a:ext cx="2272680" cy="99972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9364320" y="1745640"/>
                <a:ext cx="2264400" cy="924480"/>
                <a:chOff x="9364320" y="1745640"/>
                <a:chExt cx="2264400" cy="924480"/>
              </a:xfrm>
            </p:grpSpPr>
            <p:sp>
              <p:nvSpPr>
                <p:cNvPr id="568" name="AutoShape 7"/>
                <p:cNvSpPr/>
                <p:nvPr/>
              </p:nvSpPr>
              <p:spPr>
                <a:xfrm>
                  <a:off x="9364320" y="2430720"/>
                  <a:ext cx="226440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AutoShape 8"/>
                <p:cNvSpPr/>
                <p:nvPr/>
              </p:nvSpPr>
              <p:spPr>
                <a:xfrm>
                  <a:off x="9364320" y="1745640"/>
                  <a:ext cx="226440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0" name="TextBox 54"/>
            <p:cNvSpPr/>
            <p:nvPr/>
          </p:nvSpPr>
          <p:spPr>
            <a:xfrm>
              <a:off x="9345600" y="1714680"/>
              <a:ext cx="25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研究环境的复杂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富铁区域研究的必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9345600" y="2786040"/>
            <a:ext cx="2155680" cy="999720"/>
            <a:chOff x="9345600" y="2786040"/>
            <a:chExt cx="2155680" cy="999720"/>
          </a:xfrm>
        </p:grpSpPr>
        <p:grpSp>
          <p:nvGrpSpPr>
            <p:cNvPr id="572" name=""/>
            <p:cNvGrpSpPr/>
            <p:nvPr/>
          </p:nvGrpSpPr>
          <p:grpSpPr>
            <a:xfrm>
              <a:off x="9358200" y="2786040"/>
              <a:ext cx="2143080" cy="999720"/>
              <a:chOff x="9358200" y="2786040"/>
              <a:chExt cx="2143080" cy="999720"/>
            </a:xfrm>
          </p:grpSpPr>
          <p:sp>
            <p:nvSpPr>
              <p:cNvPr id="573" name="AutoShape 5"/>
              <p:cNvSpPr/>
              <p:nvPr/>
            </p:nvSpPr>
            <p:spPr>
              <a:xfrm>
                <a:off x="9358200" y="2786040"/>
                <a:ext cx="2143080" cy="99972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4" name=""/>
              <p:cNvGrpSpPr/>
              <p:nvPr/>
            </p:nvGrpSpPr>
            <p:grpSpPr>
              <a:xfrm>
                <a:off x="9363240" y="2817000"/>
                <a:ext cx="2135160" cy="924480"/>
                <a:chOff x="9363240" y="2817000"/>
                <a:chExt cx="2135160" cy="924480"/>
              </a:xfrm>
            </p:grpSpPr>
            <p:sp>
              <p:nvSpPr>
                <p:cNvPr id="575" name="AutoShape 7"/>
                <p:cNvSpPr/>
                <p:nvPr/>
              </p:nvSpPr>
              <p:spPr>
                <a:xfrm>
                  <a:off x="9363240" y="3502080"/>
                  <a:ext cx="213516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AutoShape 8"/>
                <p:cNvSpPr/>
                <p:nvPr/>
              </p:nvSpPr>
              <p:spPr>
                <a:xfrm>
                  <a:off x="9363240" y="2817000"/>
                  <a:ext cx="213516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7" name="TextBox 66"/>
            <p:cNvSpPr/>
            <p:nvPr/>
          </p:nvSpPr>
          <p:spPr>
            <a:xfrm>
              <a:off x="9345600" y="2786040"/>
              <a:ext cx="2143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题的提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立四面体相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-330120" y="3929040"/>
            <a:ext cx="2558160" cy="857160"/>
            <a:chOff x="-330120" y="3929040"/>
            <a:chExt cx="2558160" cy="857160"/>
          </a:xfrm>
        </p:grpSpPr>
        <p:sp>
          <p:nvSpPr>
            <p:cNvPr id="579" name="Rectangle 8"/>
            <p:cNvSpPr/>
            <p:nvPr/>
          </p:nvSpPr>
          <p:spPr>
            <a:xfrm>
              <a:off x="285840" y="3929040"/>
              <a:ext cx="1357200" cy="857160"/>
            </a:xfrm>
            <a:prstGeom prst="rect">
              <a:avLst/>
            </a:prstGeom>
            <a:solidFill>
              <a:srgbClr val="f6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1"/>
            <p:cNvSpPr/>
            <p:nvPr/>
          </p:nvSpPr>
          <p:spPr>
            <a:xfrm>
              <a:off x="-330120" y="4014720"/>
              <a:ext cx="255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1428840" y="4071960"/>
            <a:ext cx="7416720" cy="1742760"/>
            <a:chOff x="1428840" y="4071960"/>
            <a:chExt cx="7416720" cy="1742760"/>
          </a:xfrm>
        </p:grpSpPr>
        <p:sp>
          <p:nvSpPr>
            <p:cNvPr id="582" name="Rectangle 4"/>
            <p:cNvSpPr/>
            <p:nvPr/>
          </p:nvSpPr>
          <p:spPr>
            <a:xfrm>
              <a:off x="1428840" y="4071960"/>
              <a:ext cx="7416720" cy="82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3"/>
            <p:cNvSpPr/>
            <p:nvPr/>
          </p:nvSpPr>
          <p:spPr>
            <a:xfrm>
              <a:off x="1857240" y="4135320"/>
              <a:ext cx="692964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前人关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FCA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关系及熔化行为的研究作一个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次提出富铁区域的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次建立铁酸钙四面体相图，为铁酸钙研究提供便利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并推动其发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488960" y="5857920"/>
            <a:ext cx="7226280" cy="1000080"/>
            <a:chOff x="1488960" y="5857920"/>
            <a:chExt cx="7226280" cy="1000080"/>
          </a:xfrm>
        </p:grpSpPr>
        <p:sp>
          <p:nvSpPr>
            <p:cNvPr id="585" name="Rectangle 4"/>
            <p:cNvSpPr/>
            <p:nvPr/>
          </p:nvSpPr>
          <p:spPr>
            <a:xfrm>
              <a:off x="1488960" y="5857920"/>
              <a:ext cx="5511600" cy="1000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3"/>
            <p:cNvSpPr/>
            <p:nvPr/>
          </p:nvSpPr>
          <p:spPr>
            <a:xfrm>
              <a:off x="1850760" y="5989680"/>
              <a:ext cx="68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现热力学数据与建模所需信息的对接或转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TextBox 42"/>
          <p:cNvSpPr/>
          <p:nvPr/>
        </p:nvSpPr>
        <p:spPr>
          <a:xfrm>
            <a:off x="7286760" y="5715000"/>
            <a:ext cx="92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167 0.08935 C -0.35799 0.16111 -0.32396 0.2331 -0.29341 0.20417 C -0.26285 0.17569 -0.2533 -0.04907 -0.20851 -0.08287 C -0.16372 -0.1169 -0.05539 -0.0169 -0.02518 -0.00023 E">
                                      <p:cBhvr>
                                        <p:cTn id="355" dur="5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1.38778E-017 C -0.05191 -0.01759 -0.21823 -0.13843 -0.28038 -0.10625 C -0.34236 -0.07407 -0.34358 0.16042 -0.37917 0.19306 C -0.41458 0.22569 -0.47431 0.10694 -0.49323 0.08935 E">
                                      <p:cBhvr>
                                        <p:cTn id="358" dur="5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-0.26198 -0.00139 E">
                                      <p:cBhvr>
                                        <p:cTn id="391" dur="5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-0.26198 -0.00139 E">
                                      <p:cBhvr>
                                        <p:cTn id="395" dur="5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500" autoRev="1" fill="hold"/>
                                        <p:tgtEl>
                                          <p:spTgt spid="5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98 -0.00138 L -0.01198 -0.00138 E">
                                      <p:cBhvr>
                                        <p:cTn id="436" dur="5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98 -0.00139 L -0.01198 -0.00139 E">
                                      <p:cBhvr>
                                        <p:cTn id="438" dur="5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323 0.08935 C -0.45694 0.16064 -0.42066 0.23217 -0.38611 0.19884 C -0.35156 0.1655 -0.34896 -0.07778 -0.28611 -0.11065 C -0.22326 -0.14352 -0.11632 -0.07107 -0.0092 0.00138 E">
                                      <p:cBhvr>
                                        <p:cTn id="441" dur="5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圆角矩形 113"/>
          <p:cNvSpPr/>
          <p:nvPr/>
        </p:nvSpPr>
        <p:spPr>
          <a:xfrm>
            <a:off x="1000080" y="4714920"/>
            <a:ext cx="7500960" cy="1095480"/>
          </a:xfrm>
          <a:prstGeom prst="roundRect">
            <a:avLst>
              <a:gd name="adj" fmla="val 16667"/>
            </a:avLst>
          </a:prstGeom>
          <a:solidFill>
            <a:srgbClr val="e394aa"/>
          </a:solidFill>
          <a:ln w="25560">
            <a:solidFill>
              <a:srgbClr val="a246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14200" y="1773360"/>
            <a:ext cx="8715600" cy="4226400"/>
            <a:chOff x="214200" y="1773360"/>
            <a:chExt cx="8715600" cy="4226400"/>
          </a:xfrm>
        </p:grpSpPr>
        <p:grpSp>
          <p:nvGrpSpPr>
            <p:cNvPr id="590" name=""/>
            <p:cNvGrpSpPr/>
            <p:nvPr/>
          </p:nvGrpSpPr>
          <p:grpSpPr>
            <a:xfrm>
              <a:off x="214200" y="1773360"/>
              <a:ext cx="8715600" cy="3786840"/>
              <a:chOff x="214200" y="1773360"/>
              <a:chExt cx="8715600" cy="378684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214200" y="1773360"/>
                <a:ext cx="8715600" cy="3786840"/>
                <a:chOff x="214200" y="1773360"/>
                <a:chExt cx="8715600" cy="3786840"/>
              </a:xfrm>
            </p:grpSpPr>
            <p:sp>
              <p:nvSpPr>
                <p:cNvPr id="592" name="AutoShape 4"/>
                <p:cNvSpPr/>
                <p:nvPr/>
              </p:nvSpPr>
              <p:spPr>
                <a:xfrm>
                  <a:off x="214200" y="2630520"/>
                  <a:ext cx="8715600" cy="2929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3" name=""/>
                <p:cNvGrpSpPr/>
                <p:nvPr/>
              </p:nvGrpSpPr>
              <p:grpSpPr>
                <a:xfrm>
                  <a:off x="428400" y="1773360"/>
                  <a:ext cx="1500120" cy="3072600"/>
                  <a:chOff x="428400" y="1773360"/>
                  <a:chExt cx="1500120" cy="3072600"/>
                </a:xfrm>
              </p:grpSpPr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428400" y="1773360"/>
                    <a:ext cx="1500120" cy="3072600"/>
                    <a:chOff x="428400" y="1773360"/>
                    <a:chExt cx="1500120" cy="3072600"/>
                  </a:xfrm>
                </p:grpSpPr>
                <p:sp>
                  <p:nvSpPr>
                    <p:cNvPr id="595" name="AutoShape 9"/>
                    <p:cNvSpPr/>
                    <p:nvPr/>
                  </p:nvSpPr>
                  <p:spPr>
                    <a:xfrm>
                      <a:off x="428400" y="1773360"/>
                      <a:ext cx="1500120" cy="3072600"/>
                    </a:xfrm>
                    <a:custGeom>
                      <a:avLst/>
                      <a:gdLst>
                        <a:gd name="textAreaLeft" fmla="*/ 73080 w 1500120"/>
                        <a:gd name="textAreaRight" fmla="*/ 1427040 w 1500120"/>
                        <a:gd name="textAreaTop" fmla="*/ 73080 h 3072600"/>
                        <a:gd name="textAreaBottom" fmla="*/ 2999520 h 3072600"/>
                      </a:gdLst>
                      <a:ahLst/>
                      <a:rect l="textAreaLeft" t="textAreaTop" r="textAreaRight" b="textAreaBottom"/>
                      <a:pathLst>
                        <a:path w="21600" h="4423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0636"/>
                          </a:lnTo>
                          <a:arcTo wR="3600" hR="3600" stAng="10800000" swAng="-5400000"/>
                          <a:lnTo>
                            <a:pt x="18000" y="4423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AutoShape 10"/>
                    <p:cNvSpPr/>
                    <p:nvPr/>
                  </p:nvSpPr>
                  <p:spPr>
                    <a:xfrm>
                      <a:off x="487800" y="1808640"/>
                      <a:ext cx="137700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7" name="Text Box 14"/>
                  <p:cNvSpPr/>
                  <p:nvPr/>
                </p:nvSpPr>
                <p:spPr>
                  <a:xfrm>
                    <a:off x="471600" y="2522880"/>
                    <a:ext cx="1242360" cy="2037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相图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 </a:t>
                    </a: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计算软件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源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  </a:t>
                    </a: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据组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图计算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TextBox 84"/>
                  <p:cNvSpPr/>
                  <p:nvPr/>
                </p:nvSpPr>
                <p:spPr>
                  <a:xfrm>
                    <a:off x="477720" y="1987560"/>
                    <a:ext cx="1450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相图计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2143080" y="1773360"/>
                  <a:ext cx="1428840" cy="3072600"/>
                  <a:chOff x="2143080" y="1773360"/>
                  <a:chExt cx="1428840" cy="3072600"/>
                </a:xfrm>
              </p:grpSpPr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2143080" y="1773360"/>
                    <a:ext cx="1428840" cy="3072600"/>
                    <a:chOff x="2143080" y="1773360"/>
                    <a:chExt cx="1428840" cy="3072600"/>
                  </a:xfrm>
                </p:grpSpPr>
                <p:sp>
                  <p:nvSpPr>
                    <p:cNvPr id="601" name="AutoShape 9"/>
                    <p:cNvSpPr/>
                    <p:nvPr/>
                  </p:nvSpPr>
                  <p:spPr>
                    <a:xfrm>
                      <a:off x="2143080" y="1773360"/>
                      <a:ext cx="1428840" cy="3072600"/>
                    </a:xfrm>
                    <a:custGeom>
                      <a:avLst/>
                      <a:gdLst>
                        <a:gd name="textAreaLeft" fmla="*/ 69480 w 1428840"/>
                        <a:gd name="textAreaRight" fmla="*/ 1359360 w 142884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43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43"/>
                          </a:lnTo>
                          <a:arcTo wR="3600" hR="3600" stAng="10800000" swAng="-5400000"/>
                          <a:lnTo>
                            <a:pt x="18000" y="46443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AutoShape 10"/>
                    <p:cNvSpPr/>
                    <p:nvPr/>
                  </p:nvSpPr>
                  <p:spPr>
                    <a:xfrm>
                      <a:off x="2199600" y="1808640"/>
                      <a:ext cx="131148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3" name="Text Box 14"/>
                  <p:cNvSpPr/>
                  <p:nvPr/>
                </p:nvSpPr>
                <p:spPr>
                  <a:xfrm>
                    <a:off x="2214360" y="2807280"/>
                    <a:ext cx="1263960" cy="120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导出数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统计整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格式转换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TextBox 89"/>
                  <p:cNvSpPr/>
                  <p:nvPr/>
                </p:nvSpPr>
                <p:spPr>
                  <a:xfrm>
                    <a:off x="2143080" y="198756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数据处理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3762360" y="1773360"/>
                  <a:ext cx="1452600" cy="3072600"/>
                  <a:chOff x="3762360" y="1773360"/>
                  <a:chExt cx="1452600" cy="3072600"/>
                </a:xfrm>
              </p:grpSpPr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3762360" y="1773360"/>
                    <a:ext cx="1444680" cy="3072600"/>
                    <a:chOff x="3762360" y="1773360"/>
                    <a:chExt cx="1444680" cy="3072600"/>
                  </a:xfrm>
                </p:grpSpPr>
                <p:sp>
                  <p:nvSpPr>
                    <p:cNvPr id="607" name="AutoShape 9"/>
                    <p:cNvSpPr/>
                    <p:nvPr/>
                  </p:nvSpPr>
                  <p:spPr>
                    <a:xfrm>
                      <a:off x="3775680" y="1773360"/>
                      <a:ext cx="1431000" cy="3072600"/>
                    </a:xfrm>
                    <a:custGeom>
                      <a:avLst/>
                      <a:gdLst>
                        <a:gd name="textAreaLeft" fmla="*/ 69840 w 1431000"/>
                        <a:gd name="textAreaRight" fmla="*/ 1361160 w 1431000"/>
                        <a:gd name="textAreaTop" fmla="*/ 69840 h 3072600"/>
                        <a:gd name="textAreaBottom" fmla="*/ 3002760 h 3072600"/>
                      </a:gdLst>
                      <a:ahLst/>
                      <a:rect l="textAreaLeft" t="textAreaTop" r="textAreaRight" b="textAreaBottom"/>
                      <a:pathLst>
                        <a:path w="21600" h="46373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773"/>
                          </a:lnTo>
                          <a:arcTo wR="3600" hR="3600" stAng="10800000" swAng="-5400000"/>
                          <a:lnTo>
                            <a:pt x="18000" y="46373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AutoShape 10"/>
                    <p:cNvSpPr/>
                    <p:nvPr/>
                  </p:nvSpPr>
                  <p:spPr>
                    <a:xfrm>
                      <a:off x="3762360" y="1808640"/>
                      <a:ext cx="144468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9" name="Text Box 14"/>
                  <p:cNvSpPr/>
                  <p:nvPr/>
                </p:nvSpPr>
                <p:spPr>
                  <a:xfrm>
                    <a:off x="3871440" y="2630880"/>
                    <a:ext cx="1335600" cy="162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建模软件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导入数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建立模型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直观表达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TextBox 95"/>
                  <p:cNvSpPr/>
                  <p:nvPr/>
                </p:nvSpPr>
                <p:spPr>
                  <a:xfrm>
                    <a:off x="3777840" y="1987560"/>
                    <a:ext cx="1437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建立模型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5486760" y="1773360"/>
                  <a:ext cx="1442520" cy="3072600"/>
                  <a:chOff x="5486760" y="1773360"/>
                  <a:chExt cx="1442520" cy="3072600"/>
                </a:xfrm>
              </p:grpSpPr>
              <p:grpSp>
                <p:nvGrpSpPr>
                  <p:cNvPr id="612" name=""/>
                  <p:cNvGrpSpPr/>
                  <p:nvPr/>
                </p:nvGrpSpPr>
                <p:grpSpPr>
                  <a:xfrm>
                    <a:off x="5486760" y="1773360"/>
                    <a:ext cx="1442520" cy="3072600"/>
                    <a:chOff x="5486760" y="1773360"/>
                    <a:chExt cx="1442520" cy="3072600"/>
                  </a:xfrm>
                </p:grpSpPr>
                <p:sp>
                  <p:nvSpPr>
                    <p:cNvPr id="613" name="AutoShape 9"/>
                    <p:cNvSpPr/>
                    <p:nvPr/>
                  </p:nvSpPr>
                  <p:spPr>
                    <a:xfrm>
                      <a:off x="5486760" y="1773360"/>
                      <a:ext cx="1428480" cy="307260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54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54"/>
                          </a:lnTo>
                          <a:arcTo wR="3600" hR="3600" stAng="10800000" swAng="-5400000"/>
                          <a:lnTo>
                            <a:pt x="18000" y="46454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AutoShape 10"/>
                    <p:cNvSpPr/>
                    <p:nvPr/>
                  </p:nvSpPr>
                  <p:spPr>
                    <a:xfrm>
                      <a:off x="5486760" y="1810800"/>
                      <a:ext cx="1442520" cy="4500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5" name="Text Box 14"/>
                  <p:cNvSpPr/>
                  <p:nvPr/>
                </p:nvSpPr>
                <p:spPr>
                  <a:xfrm>
                    <a:off x="5596560" y="2777760"/>
                    <a:ext cx="1247400" cy="14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与低维相图对比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d66383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d66383"/>
                        </a:solidFill>
                        <a:latin typeface="微软雅黑"/>
                        <a:ea typeface="微软雅黑"/>
                      </a:rPr>
                      <a:t>实验验证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图校正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Box 103"/>
                  <p:cNvSpPr/>
                  <p:nvPr/>
                </p:nvSpPr>
                <p:spPr>
                  <a:xfrm>
                    <a:off x="5486760" y="200052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实验验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7130160" y="1773360"/>
                  <a:ext cx="1442520" cy="3072600"/>
                  <a:chOff x="7130160" y="1773360"/>
                  <a:chExt cx="1442520" cy="3072600"/>
                </a:xfrm>
              </p:grpSpPr>
              <p:grpSp>
                <p:nvGrpSpPr>
                  <p:cNvPr id="618" name=""/>
                  <p:cNvGrpSpPr/>
                  <p:nvPr/>
                </p:nvGrpSpPr>
                <p:grpSpPr>
                  <a:xfrm>
                    <a:off x="7130160" y="1773360"/>
                    <a:ext cx="1442520" cy="3072600"/>
                    <a:chOff x="7130160" y="1773360"/>
                    <a:chExt cx="1442520" cy="3072600"/>
                  </a:xfrm>
                </p:grpSpPr>
                <p:sp>
                  <p:nvSpPr>
                    <p:cNvPr id="619" name="AutoShape 9"/>
                    <p:cNvSpPr/>
                    <p:nvPr/>
                  </p:nvSpPr>
                  <p:spPr>
                    <a:xfrm>
                      <a:off x="7130160" y="1773360"/>
                      <a:ext cx="1428480" cy="307260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54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54"/>
                          </a:lnTo>
                          <a:arcTo wR="3600" hR="3600" stAng="10800000" swAng="-5400000"/>
                          <a:lnTo>
                            <a:pt x="18000" y="46454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AutoShape 10"/>
                    <p:cNvSpPr/>
                    <p:nvPr/>
                  </p:nvSpPr>
                  <p:spPr>
                    <a:xfrm>
                      <a:off x="7130160" y="1810800"/>
                      <a:ext cx="1442520" cy="4500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1" name="Text Box 14"/>
                  <p:cNvSpPr/>
                  <p:nvPr/>
                </p:nvSpPr>
                <p:spPr>
                  <a:xfrm>
                    <a:off x="7254000" y="2825640"/>
                    <a:ext cx="1247400" cy="14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组成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熔化规律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分析组元的影响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TextBox 109"/>
                  <p:cNvSpPr/>
                  <p:nvPr/>
                </p:nvSpPr>
                <p:spPr>
                  <a:xfrm>
                    <a:off x="7130160" y="200052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相图分析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3" name=""/>
              <p:cNvGrpSpPr/>
              <p:nvPr/>
            </p:nvGrpSpPr>
            <p:grpSpPr>
              <a:xfrm>
                <a:off x="1923840" y="4845960"/>
                <a:ext cx="504000" cy="495720"/>
                <a:chOff x="1923840" y="4845960"/>
                <a:chExt cx="504000" cy="495720"/>
              </a:xfrm>
            </p:grpSpPr>
            <p:grpSp>
              <p:nvGrpSpPr>
                <p:cNvPr id="624" name=""/>
                <p:cNvGrpSpPr/>
                <p:nvPr/>
              </p:nvGrpSpPr>
              <p:grpSpPr>
                <a:xfrm>
                  <a:off x="2125440" y="4845960"/>
                  <a:ext cx="302400" cy="495720"/>
                  <a:chOff x="2125440" y="4845960"/>
                  <a:chExt cx="302400" cy="495720"/>
                </a:xfrm>
              </p:grpSpPr>
              <p:sp>
                <p:nvSpPr>
                  <p:cNvPr id="625" name="Oval 32"/>
                  <p:cNvSpPr/>
                  <p:nvPr/>
                </p:nvSpPr>
                <p:spPr>
                  <a:xfrm>
                    <a:off x="212544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33"/>
                  <p:cNvSpPr/>
                  <p:nvPr/>
                </p:nvSpPr>
                <p:spPr>
                  <a:xfrm>
                    <a:off x="222624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34"/>
                  <p:cNvSpPr/>
                  <p:nvPr/>
                </p:nvSpPr>
                <p:spPr>
                  <a:xfrm>
                    <a:off x="232704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Oval 35"/>
                  <p:cNvSpPr/>
                  <p:nvPr/>
                </p:nvSpPr>
                <p:spPr>
                  <a:xfrm>
                    <a:off x="222624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Oval 36"/>
                  <p:cNvSpPr/>
                  <p:nvPr/>
                </p:nvSpPr>
                <p:spPr>
                  <a:xfrm>
                    <a:off x="212544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1923840" y="4845960"/>
                  <a:ext cx="302400" cy="495720"/>
                  <a:chOff x="1923840" y="4845960"/>
                  <a:chExt cx="302400" cy="495720"/>
                </a:xfrm>
              </p:grpSpPr>
              <p:sp>
                <p:nvSpPr>
                  <p:cNvPr id="631" name="Oval 38"/>
                  <p:cNvSpPr/>
                  <p:nvPr/>
                </p:nvSpPr>
                <p:spPr>
                  <a:xfrm>
                    <a:off x="192384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Oval 39"/>
                  <p:cNvSpPr/>
                  <p:nvPr/>
                </p:nvSpPr>
                <p:spPr>
                  <a:xfrm>
                    <a:off x="202464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Oval 40"/>
                  <p:cNvSpPr/>
                  <p:nvPr/>
                </p:nvSpPr>
                <p:spPr>
                  <a:xfrm>
                    <a:off x="212544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Oval 41"/>
                  <p:cNvSpPr/>
                  <p:nvPr/>
                </p:nvSpPr>
                <p:spPr>
                  <a:xfrm>
                    <a:off x="202464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Oval 42"/>
                  <p:cNvSpPr/>
                  <p:nvPr/>
                </p:nvSpPr>
                <p:spPr>
                  <a:xfrm>
                    <a:off x="192384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6" name=""/>
              <p:cNvGrpSpPr/>
              <p:nvPr/>
            </p:nvGrpSpPr>
            <p:grpSpPr>
              <a:xfrm>
                <a:off x="3495600" y="4845960"/>
                <a:ext cx="504000" cy="495720"/>
                <a:chOff x="3495600" y="4845960"/>
                <a:chExt cx="504000" cy="495720"/>
              </a:xfrm>
            </p:grpSpPr>
            <p:grpSp>
              <p:nvGrpSpPr>
                <p:cNvPr id="637" name=""/>
                <p:cNvGrpSpPr/>
                <p:nvPr/>
              </p:nvGrpSpPr>
              <p:grpSpPr>
                <a:xfrm>
                  <a:off x="3697200" y="4845960"/>
                  <a:ext cx="302400" cy="495720"/>
                  <a:chOff x="3697200" y="4845960"/>
                  <a:chExt cx="302400" cy="495720"/>
                </a:xfrm>
              </p:grpSpPr>
              <p:sp>
                <p:nvSpPr>
                  <p:cNvPr id="638" name="Oval 32"/>
                  <p:cNvSpPr/>
                  <p:nvPr/>
                </p:nvSpPr>
                <p:spPr>
                  <a:xfrm>
                    <a:off x="369720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Oval 33"/>
                  <p:cNvSpPr/>
                  <p:nvPr/>
                </p:nvSpPr>
                <p:spPr>
                  <a:xfrm>
                    <a:off x="379800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Oval 34"/>
                  <p:cNvSpPr/>
                  <p:nvPr/>
                </p:nvSpPr>
                <p:spPr>
                  <a:xfrm>
                    <a:off x="389880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Oval 35"/>
                  <p:cNvSpPr/>
                  <p:nvPr/>
                </p:nvSpPr>
                <p:spPr>
                  <a:xfrm>
                    <a:off x="379800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Oval 36"/>
                  <p:cNvSpPr/>
                  <p:nvPr/>
                </p:nvSpPr>
                <p:spPr>
                  <a:xfrm>
                    <a:off x="369720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3495600" y="4845960"/>
                  <a:ext cx="302400" cy="495720"/>
                  <a:chOff x="3495600" y="4845960"/>
                  <a:chExt cx="302400" cy="495720"/>
                </a:xfrm>
              </p:grpSpPr>
              <p:sp>
                <p:nvSpPr>
                  <p:cNvPr id="644" name="Oval 38"/>
                  <p:cNvSpPr/>
                  <p:nvPr/>
                </p:nvSpPr>
                <p:spPr>
                  <a:xfrm>
                    <a:off x="349560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Oval 39"/>
                  <p:cNvSpPr/>
                  <p:nvPr/>
                </p:nvSpPr>
                <p:spPr>
                  <a:xfrm>
                    <a:off x="359640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40"/>
                  <p:cNvSpPr/>
                  <p:nvPr/>
                </p:nvSpPr>
                <p:spPr>
                  <a:xfrm>
                    <a:off x="369720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Oval 41"/>
                  <p:cNvSpPr/>
                  <p:nvPr/>
                </p:nvSpPr>
                <p:spPr>
                  <a:xfrm>
                    <a:off x="359640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Oval 42"/>
                  <p:cNvSpPr/>
                  <p:nvPr/>
                </p:nvSpPr>
                <p:spPr>
                  <a:xfrm>
                    <a:off x="349560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9" name=""/>
              <p:cNvGrpSpPr/>
              <p:nvPr/>
            </p:nvGrpSpPr>
            <p:grpSpPr>
              <a:xfrm>
                <a:off x="5210280" y="4845960"/>
                <a:ext cx="504000" cy="495720"/>
                <a:chOff x="5210280" y="4845960"/>
                <a:chExt cx="504000" cy="49572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5411880" y="4845960"/>
                  <a:ext cx="302400" cy="495720"/>
                  <a:chOff x="5411880" y="4845960"/>
                  <a:chExt cx="302400" cy="495720"/>
                </a:xfrm>
              </p:grpSpPr>
              <p:sp>
                <p:nvSpPr>
                  <p:cNvPr id="651" name="Oval 32"/>
                  <p:cNvSpPr/>
                  <p:nvPr/>
                </p:nvSpPr>
                <p:spPr>
                  <a:xfrm>
                    <a:off x="541188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Oval 33"/>
                  <p:cNvSpPr/>
                  <p:nvPr/>
                </p:nvSpPr>
                <p:spPr>
                  <a:xfrm>
                    <a:off x="551268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Oval 34"/>
                  <p:cNvSpPr/>
                  <p:nvPr/>
                </p:nvSpPr>
                <p:spPr>
                  <a:xfrm>
                    <a:off x="561348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Oval 35"/>
                  <p:cNvSpPr/>
                  <p:nvPr/>
                </p:nvSpPr>
                <p:spPr>
                  <a:xfrm>
                    <a:off x="551268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Oval 36"/>
                  <p:cNvSpPr/>
                  <p:nvPr/>
                </p:nvSpPr>
                <p:spPr>
                  <a:xfrm>
                    <a:off x="541188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5210280" y="4845960"/>
                  <a:ext cx="302400" cy="495720"/>
                  <a:chOff x="5210280" y="4845960"/>
                  <a:chExt cx="302400" cy="495720"/>
                </a:xfrm>
              </p:grpSpPr>
              <p:sp>
                <p:nvSpPr>
                  <p:cNvPr id="657" name="Oval 38"/>
                  <p:cNvSpPr/>
                  <p:nvPr/>
                </p:nvSpPr>
                <p:spPr>
                  <a:xfrm>
                    <a:off x="521028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Oval 39"/>
                  <p:cNvSpPr/>
                  <p:nvPr/>
                </p:nvSpPr>
                <p:spPr>
                  <a:xfrm>
                    <a:off x="531108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Oval 40"/>
                  <p:cNvSpPr/>
                  <p:nvPr/>
                </p:nvSpPr>
                <p:spPr>
                  <a:xfrm>
                    <a:off x="541188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Oval 41"/>
                  <p:cNvSpPr/>
                  <p:nvPr/>
                </p:nvSpPr>
                <p:spPr>
                  <a:xfrm>
                    <a:off x="531108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Oval 42"/>
                  <p:cNvSpPr/>
                  <p:nvPr/>
                </p:nvSpPr>
                <p:spPr>
                  <a:xfrm>
                    <a:off x="521028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2" name=""/>
              <p:cNvGrpSpPr/>
              <p:nvPr/>
            </p:nvGrpSpPr>
            <p:grpSpPr>
              <a:xfrm>
                <a:off x="6853320" y="4848840"/>
                <a:ext cx="504000" cy="495720"/>
                <a:chOff x="6853320" y="4848840"/>
                <a:chExt cx="504000" cy="495720"/>
              </a:xfrm>
            </p:grpSpPr>
            <p:grpSp>
              <p:nvGrpSpPr>
                <p:cNvPr id="663" name=""/>
                <p:cNvGrpSpPr/>
                <p:nvPr/>
              </p:nvGrpSpPr>
              <p:grpSpPr>
                <a:xfrm>
                  <a:off x="7054920" y="4848840"/>
                  <a:ext cx="302400" cy="495720"/>
                  <a:chOff x="7054920" y="4848840"/>
                  <a:chExt cx="302400" cy="495720"/>
                </a:xfrm>
              </p:grpSpPr>
              <p:sp>
                <p:nvSpPr>
                  <p:cNvPr id="664" name="Oval 32"/>
                  <p:cNvSpPr/>
                  <p:nvPr/>
                </p:nvSpPr>
                <p:spPr>
                  <a:xfrm>
                    <a:off x="7054920" y="484884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Oval 33"/>
                  <p:cNvSpPr/>
                  <p:nvPr/>
                </p:nvSpPr>
                <p:spPr>
                  <a:xfrm>
                    <a:off x="7155720" y="494820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Oval 34"/>
                  <p:cNvSpPr/>
                  <p:nvPr/>
                </p:nvSpPr>
                <p:spPr>
                  <a:xfrm>
                    <a:off x="7256520" y="504720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Oval 35"/>
                  <p:cNvSpPr/>
                  <p:nvPr/>
                </p:nvSpPr>
                <p:spPr>
                  <a:xfrm>
                    <a:off x="7155720" y="514656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Oval 36"/>
                  <p:cNvSpPr/>
                  <p:nvPr/>
                </p:nvSpPr>
                <p:spPr>
                  <a:xfrm>
                    <a:off x="7054920" y="524592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6853320" y="4848840"/>
                  <a:ext cx="302400" cy="495720"/>
                  <a:chOff x="6853320" y="4848840"/>
                  <a:chExt cx="302400" cy="495720"/>
                </a:xfrm>
              </p:grpSpPr>
              <p:sp>
                <p:nvSpPr>
                  <p:cNvPr id="670" name="Oval 38"/>
                  <p:cNvSpPr/>
                  <p:nvPr/>
                </p:nvSpPr>
                <p:spPr>
                  <a:xfrm>
                    <a:off x="6853320" y="484884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Oval 39"/>
                  <p:cNvSpPr/>
                  <p:nvPr/>
                </p:nvSpPr>
                <p:spPr>
                  <a:xfrm>
                    <a:off x="6954120" y="494820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Oval 40"/>
                  <p:cNvSpPr/>
                  <p:nvPr/>
                </p:nvSpPr>
                <p:spPr>
                  <a:xfrm>
                    <a:off x="7054920" y="504720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Oval 41"/>
                  <p:cNvSpPr/>
                  <p:nvPr/>
                </p:nvSpPr>
                <p:spPr>
                  <a:xfrm>
                    <a:off x="6954120" y="514656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Oval 42"/>
                  <p:cNvSpPr/>
                  <p:nvPr/>
                </p:nvSpPr>
                <p:spPr>
                  <a:xfrm>
                    <a:off x="6853320" y="524592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5" name="TextBox 184"/>
            <p:cNvSpPr/>
            <p:nvPr/>
          </p:nvSpPr>
          <p:spPr>
            <a:xfrm>
              <a:off x="2813040" y="5631480"/>
              <a:ext cx="35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实验的流程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677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411480" y="2126160"/>
            <a:ext cx="8375400" cy="2088720"/>
            <a:chOff x="411480" y="2126160"/>
            <a:chExt cx="8375400" cy="2088720"/>
          </a:xfrm>
        </p:grpSpPr>
        <p:grpSp>
          <p:nvGrpSpPr>
            <p:cNvPr id="682" name=""/>
            <p:cNvGrpSpPr/>
            <p:nvPr/>
          </p:nvGrpSpPr>
          <p:grpSpPr>
            <a:xfrm>
              <a:off x="1004400" y="2571120"/>
              <a:ext cx="7782480" cy="1643760"/>
              <a:chOff x="1004400" y="2571120"/>
              <a:chExt cx="7782480" cy="164376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1004400" y="2571120"/>
                <a:ext cx="7568280" cy="1643760"/>
                <a:chOff x="1004400" y="2571120"/>
                <a:chExt cx="7568280" cy="1643760"/>
              </a:xfrm>
            </p:grpSpPr>
            <p:sp>
              <p:nvSpPr>
                <p:cNvPr id="684" name="TextBox 11"/>
                <p:cNvSpPr/>
                <p:nvPr/>
              </p:nvSpPr>
              <p:spPr>
                <a:xfrm>
                  <a:off x="1992600" y="2639160"/>
                  <a:ext cx="196560" cy="5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圆角矩形 20"/>
                <p:cNvSpPr/>
                <p:nvPr/>
              </p:nvSpPr>
              <p:spPr>
                <a:xfrm>
                  <a:off x="1004400" y="2571120"/>
                  <a:ext cx="7568280" cy="16437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c8d0c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矩形 22"/>
              <p:cNvSpPr/>
              <p:nvPr/>
            </p:nvSpPr>
            <p:spPr>
              <a:xfrm>
                <a:off x="1714680" y="2785320"/>
                <a:ext cx="7072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建立</a:t>
                </a:r>
                <a:r>
                  <a:rPr b="1" lang="zh-CN" sz="2000" spc="-1" strike="noStrike">
                    <a:solidFill>
                      <a:srgbClr val="115a7a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—CaO —Si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—Fe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四元系的四面体相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矩形 23"/>
              <p:cNvSpPr/>
              <p:nvPr/>
            </p:nvSpPr>
            <p:spPr>
              <a:xfrm>
                <a:off x="1714680" y="3488040"/>
                <a:ext cx="671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分析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该四元系在富铁区域的相关系及其熔化规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矩形 29"/>
            <p:cNvSpPr/>
            <p:nvPr/>
          </p:nvSpPr>
          <p:spPr>
            <a:xfrm rot="20431200">
              <a:off x="428760" y="2450880"/>
              <a:ext cx="2025360" cy="451800"/>
            </a:xfrm>
            <a:prstGeom prst="rect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验目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9" name=""/>
          <p:cNvGraphicFramePr/>
          <p:nvPr/>
        </p:nvGraphicFramePr>
        <p:xfrm>
          <a:off x="1290600" y="4857840"/>
          <a:ext cx="6996240" cy="963360"/>
        </p:xfrm>
        <a:graphic>
          <a:graphicData uri="http://schemas.openxmlformats.org/drawingml/2006/table">
            <a:tbl>
              <a:tblPr/>
              <a:tblGrid>
                <a:gridCol w="1398600"/>
                <a:gridCol w="1398600"/>
                <a:gridCol w="1400040"/>
                <a:gridCol w="1400400"/>
                <a:gridCol w="1398600"/>
              </a:tblGrid>
              <a:tr h="41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成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Fe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1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Si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602 C -0.06146 -0.01944 -0.28403 -0.11898 -0.36875 -0.08681 C -0.45347 -0.05463 -0.46805 0.15833 -0.50868 0.18704 C -0.5493 0.21574 -0.57604 0.15231 -0.61215 0.08588 E">
                                      <p:cBhvr>
                                        <p:cTn id="450" dur="5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691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51"/>
          <p:cNvSpPr/>
          <p:nvPr/>
        </p:nvSpPr>
        <p:spPr>
          <a:xfrm>
            <a:off x="-69840" y="571680"/>
            <a:ext cx="27417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101"/>
          <p:cNvSpPr/>
          <p:nvPr/>
        </p:nvSpPr>
        <p:spPr>
          <a:xfrm>
            <a:off x="2694600" y="1571760"/>
            <a:ext cx="42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主要实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459800" y="4209840"/>
            <a:ext cx="6327000" cy="1076400"/>
            <a:chOff x="1459800" y="4209840"/>
            <a:chExt cx="6327000" cy="1076400"/>
          </a:xfrm>
        </p:grpSpPr>
        <p:grpSp>
          <p:nvGrpSpPr>
            <p:cNvPr id="697" name=""/>
            <p:cNvGrpSpPr/>
            <p:nvPr/>
          </p:nvGrpSpPr>
          <p:grpSpPr>
            <a:xfrm>
              <a:off x="1459800" y="4209840"/>
              <a:ext cx="6327000" cy="1076400"/>
              <a:chOff x="1459800" y="4209840"/>
              <a:chExt cx="6327000" cy="1076400"/>
            </a:xfrm>
          </p:grpSpPr>
          <p:grpSp>
            <p:nvGrpSpPr>
              <p:cNvPr id="698" name=""/>
              <p:cNvGrpSpPr/>
              <p:nvPr/>
            </p:nvGrpSpPr>
            <p:grpSpPr>
              <a:xfrm>
                <a:off x="2050560" y="4572000"/>
                <a:ext cx="5736240" cy="714240"/>
                <a:chOff x="2050560" y="4572000"/>
                <a:chExt cx="5736240" cy="714240"/>
              </a:xfrm>
            </p:grpSpPr>
            <p:sp>
              <p:nvSpPr>
                <p:cNvPr id="699" name="TextBox 11"/>
                <p:cNvSpPr/>
                <p:nvPr/>
              </p:nvSpPr>
              <p:spPr>
                <a:xfrm>
                  <a:off x="3294360" y="4630320"/>
                  <a:ext cx="1638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圆角矩形 20"/>
                <p:cNvSpPr/>
                <p:nvPr/>
              </p:nvSpPr>
              <p:spPr>
                <a:xfrm>
                  <a:off x="2050560" y="4572000"/>
                  <a:ext cx="5736240" cy="71424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d6638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矩形 29"/>
              <p:cNvSpPr/>
              <p:nvPr/>
            </p:nvSpPr>
            <p:spPr>
              <a:xfrm rot="19433400">
                <a:off x="1428840" y="4571640"/>
                <a:ext cx="1336320" cy="330840"/>
              </a:xfrm>
              <a:prstGeom prst="rect">
                <a:avLst/>
              </a:prstGeom>
              <a:solidFill>
                <a:srgbClr val="ffc0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注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矩形 121"/>
            <p:cNvSpPr/>
            <p:nvPr/>
          </p:nvSpPr>
          <p:spPr>
            <a:xfrm>
              <a:off x="3049920" y="4643280"/>
              <a:ext cx="415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1987b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坩埚中相平衡时保证固液分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1987b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RD</a:t>
              </a: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测相组成，光谱仪或微区电子探针测成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-479880" y="2286000"/>
            <a:ext cx="9493560" cy="1774800"/>
            <a:chOff x="-479880" y="2286000"/>
            <a:chExt cx="9493560" cy="1774800"/>
          </a:xfrm>
        </p:grpSpPr>
        <p:grpSp>
          <p:nvGrpSpPr>
            <p:cNvPr id="704" name=""/>
            <p:cNvGrpSpPr/>
            <p:nvPr/>
          </p:nvGrpSpPr>
          <p:grpSpPr>
            <a:xfrm>
              <a:off x="1571400" y="2643120"/>
              <a:ext cx="7357680" cy="929160"/>
              <a:chOff x="1571400" y="2643120"/>
              <a:chExt cx="7357680" cy="929160"/>
            </a:xfrm>
          </p:grpSpPr>
          <p:sp>
            <p:nvSpPr>
              <p:cNvPr id="705" name="Rectangle 40"/>
              <p:cNvSpPr/>
              <p:nvPr/>
            </p:nvSpPr>
            <p:spPr>
              <a:xfrm>
                <a:off x="1648080" y="2786040"/>
                <a:ext cx="7281000" cy="78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矩形 106"/>
              <p:cNvSpPr/>
              <p:nvPr/>
            </p:nvSpPr>
            <p:spPr>
              <a:xfrm>
                <a:off x="1571400" y="2643120"/>
                <a:ext cx="715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(2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将坩埚放入多铝红柱石试管，之后一并放入加热电炉，加热到一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定温度后恒温足够时间保证体系平衡，并保证一定的氧分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1571400" y="3643920"/>
              <a:ext cx="7442280" cy="416880"/>
              <a:chOff x="1571400" y="3643920"/>
              <a:chExt cx="7442280" cy="416880"/>
            </a:xfrm>
          </p:grpSpPr>
          <p:sp>
            <p:nvSpPr>
              <p:cNvPr id="708" name="Rectangle 40"/>
              <p:cNvSpPr/>
              <p:nvPr/>
            </p:nvSpPr>
            <p:spPr>
              <a:xfrm>
                <a:off x="1642680" y="3643920"/>
                <a:ext cx="7281720" cy="41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矩形 107"/>
              <p:cNvSpPr/>
              <p:nvPr/>
            </p:nvSpPr>
            <p:spPr>
              <a:xfrm>
                <a:off x="1571400" y="3643920"/>
                <a:ext cx="74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3</a:t>
                </a: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取出坩埚在惰性气氛下冷却，对试样进行相组成及各相成分检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-479880" y="2428560"/>
              <a:ext cx="2558160" cy="1286280"/>
              <a:chOff x="-479880" y="2428560"/>
              <a:chExt cx="2558160" cy="128628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500040" y="2428560"/>
                <a:ext cx="576000" cy="1286280"/>
                <a:chOff x="500040" y="2428560"/>
                <a:chExt cx="576000" cy="1286280"/>
              </a:xfrm>
            </p:grpSpPr>
            <p:sp>
              <p:nvSpPr>
                <p:cNvPr id="712" name="AutoShape 5"/>
                <p:cNvSpPr/>
                <p:nvPr/>
              </p:nvSpPr>
              <p:spPr>
                <a:xfrm rot="16200000">
                  <a:off x="144720" y="2783520"/>
                  <a:ext cx="1286280" cy="576000"/>
                </a:xfrm>
                <a:prstGeom prst="roundRect">
                  <a:avLst>
                    <a:gd name="adj" fmla="val 1750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3" name=""/>
                <p:cNvGrpSpPr/>
                <p:nvPr/>
              </p:nvGrpSpPr>
              <p:grpSpPr>
                <a:xfrm>
                  <a:off x="517680" y="2430360"/>
                  <a:ext cx="532440" cy="1281600"/>
                  <a:chOff x="517680" y="2430360"/>
                  <a:chExt cx="532440" cy="1281600"/>
                </a:xfrm>
              </p:grpSpPr>
              <p:sp>
                <p:nvSpPr>
                  <p:cNvPr id="714" name="AutoShape 7"/>
                  <p:cNvSpPr/>
                  <p:nvPr/>
                </p:nvSpPr>
                <p:spPr>
                  <a:xfrm rot="16200000">
                    <a:off x="340200" y="3002040"/>
                    <a:ext cx="128160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AutoShape 8"/>
                  <p:cNvSpPr/>
                  <p:nvPr/>
                </p:nvSpPr>
                <p:spPr>
                  <a:xfrm rot="16200000">
                    <a:off x="-54000" y="3002040"/>
                    <a:ext cx="128160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6" name="TextBox 128"/>
              <p:cNvSpPr/>
              <p:nvPr/>
            </p:nvSpPr>
            <p:spPr>
              <a:xfrm>
                <a:off x="-479880" y="2556000"/>
                <a:ext cx="255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rot="-5400000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相组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1571400" y="2286000"/>
              <a:ext cx="7357680" cy="428760"/>
              <a:chOff x="1571400" y="2286000"/>
              <a:chExt cx="7357680" cy="428760"/>
            </a:xfrm>
          </p:grpSpPr>
          <p:sp>
            <p:nvSpPr>
              <p:cNvPr id="718" name="Rectangle 40"/>
              <p:cNvSpPr/>
              <p:nvPr/>
            </p:nvSpPr>
            <p:spPr>
              <a:xfrm>
                <a:off x="1657440" y="2286000"/>
                <a:ext cx="727164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矩形 120"/>
              <p:cNvSpPr/>
              <p:nvPr/>
            </p:nvSpPr>
            <p:spPr>
              <a:xfrm>
                <a:off x="1571400" y="2286000"/>
                <a:ext cx="7286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1) </a:t>
                </a:r>
                <a:r>
                  <a:rPr b="0" lang="zh-CN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准备氧化物原料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aO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压粒后放入坩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左大括号 250"/>
            <p:cNvSpPr/>
            <p:nvPr/>
          </p:nvSpPr>
          <p:spPr>
            <a:xfrm>
              <a:off x="1071360" y="2428920"/>
              <a:ext cx="428400" cy="1357920"/>
            </a:xfrm>
            <a:custGeom>
              <a:avLst/>
              <a:gdLst>
                <a:gd name="textAreaLeft" fmla="*/ 273600 w 428400"/>
                <a:gd name="textAreaRight" fmla="*/ 428760 w 428400"/>
                <a:gd name="textAreaTop" fmla="*/ 10440 h 1357920"/>
                <a:gd name="textAreaBottom" fmla="*/ 1347480 h 135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3"/>
                    <a:pt x="10800" y="545"/>
                  </a:cubicBezTo>
                  <a:lnTo>
                    <a:pt x="10800" y="10255"/>
                  </a:lnTo>
                  <a:cubicBezTo>
                    <a:pt x="10800" y="10528"/>
                    <a:pt x="5400" y="10800"/>
                    <a:pt x="0" y="10800"/>
                  </a:cubicBezTo>
                  <a:cubicBezTo>
                    <a:pt x="5400" y="10800"/>
                    <a:pt x="10800" y="11073"/>
                    <a:pt x="10800" y="11345"/>
                  </a:cubicBezTo>
                  <a:lnTo>
                    <a:pt x="10800" y="21055"/>
                  </a:lnTo>
                  <a:cubicBezTo>
                    <a:pt x="10800" y="213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1428840" y="4105440"/>
            <a:ext cx="5500440" cy="2681280"/>
            <a:chOff x="1428840" y="4105440"/>
            <a:chExt cx="5500440" cy="2681280"/>
          </a:xfrm>
        </p:grpSpPr>
        <p:pic>
          <p:nvPicPr>
            <p:cNvPr id="722" name="图片 251" descr=""/>
            <p:cNvPicPr/>
            <p:nvPr/>
          </p:nvPicPr>
          <p:blipFill>
            <a:blip r:embed="rId2"/>
            <a:stretch/>
          </p:blipFill>
          <p:spPr>
            <a:xfrm>
              <a:off x="4000320" y="4105440"/>
              <a:ext cx="2928960" cy="26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Rectangle 1"/>
            <p:cNvSpPr/>
            <p:nvPr/>
          </p:nvSpPr>
          <p:spPr>
            <a:xfrm>
              <a:off x="1428840" y="6248520"/>
              <a:ext cx="26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7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法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原理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250" autoRev="1" fill="hold"/>
                                        <p:tgtEl>
                                          <p:spTgt spid="6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725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51"/>
          <p:cNvSpPr/>
          <p:nvPr/>
        </p:nvSpPr>
        <p:spPr>
          <a:xfrm>
            <a:off x="0" y="64296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-479880" y="2928960"/>
            <a:ext cx="9493560" cy="1773360"/>
            <a:chOff x="-479880" y="2928960"/>
            <a:chExt cx="9493560" cy="1773360"/>
          </a:xfrm>
        </p:grpSpPr>
        <p:grpSp>
          <p:nvGrpSpPr>
            <p:cNvPr id="729" name=""/>
            <p:cNvGrpSpPr/>
            <p:nvPr/>
          </p:nvGrpSpPr>
          <p:grpSpPr>
            <a:xfrm>
              <a:off x="1571400" y="3500280"/>
              <a:ext cx="7357680" cy="505440"/>
              <a:chOff x="1571400" y="3500280"/>
              <a:chExt cx="7357680" cy="505440"/>
            </a:xfrm>
          </p:grpSpPr>
          <p:sp>
            <p:nvSpPr>
              <p:cNvPr id="730" name="Rectangle 40"/>
              <p:cNvSpPr/>
              <p:nvPr/>
            </p:nvSpPr>
            <p:spPr>
              <a:xfrm>
                <a:off x="1648080" y="3642840"/>
                <a:ext cx="7281000" cy="28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矩形 54"/>
              <p:cNvSpPr/>
              <p:nvPr/>
            </p:nvSpPr>
            <p:spPr>
              <a:xfrm>
                <a:off x="1571400" y="3500280"/>
                <a:ext cx="73576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(2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将坩埚放入加热电炉，高温烧结并保证液相充分生成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1571400" y="4285800"/>
              <a:ext cx="7442280" cy="416520"/>
              <a:chOff x="1571400" y="4285800"/>
              <a:chExt cx="7442280" cy="416520"/>
            </a:xfrm>
          </p:grpSpPr>
          <p:sp>
            <p:nvSpPr>
              <p:cNvPr id="733" name="Rectangle 40"/>
              <p:cNvSpPr/>
              <p:nvPr/>
            </p:nvSpPr>
            <p:spPr>
              <a:xfrm>
                <a:off x="1642680" y="4285800"/>
                <a:ext cx="7281720" cy="41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矩形 48"/>
              <p:cNvSpPr/>
              <p:nvPr/>
            </p:nvSpPr>
            <p:spPr>
              <a:xfrm>
                <a:off x="1571400" y="4285800"/>
                <a:ext cx="74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3</a:t>
                </a: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取出试样在水浴中淬冷，之后对试样进行高温熔化的实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-479880" y="3071160"/>
              <a:ext cx="2558160" cy="1285560"/>
              <a:chOff x="-479880" y="3071160"/>
              <a:chExt cx="2558160" cy="128556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500040" y="3071160"/>
                <a:ext cx="576000" cy="1285560"/>
                <a:chOff x="500040" y="3071160"/>
                <a:chExt cx="576000" cy="1285560"/>
              </a:xfrm>
            </p:grpSpPr>
            <p:sp>
              <p:nvSpPr>
                <p:cNvPr id="737" name="AutoShape 5"/>
                <p:cNvSpPr/>
                <p:nvPr/>
              </p:nvSpPr>
              <p:spPr>
                <a:xfrm rot="16200000">
                  <a:off x="145080" y="3425760"/>
                  <a:ext cx="1285560" cy="576000"/>
                </a:xfrm>
                <a:prstGeom prst="roundRect">
                  <a:avLst>
                    <a:gd name="adj" fmla="val 1750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8" name=""/>
                <p:cNvGrpSpPr/>
                <p:nvPr/>
              </p:nvGrpSpPr>
              <p:grpSpPr>
                <a:xfrm>
                  <a:off x="517680" y="3072960"/>
                  <a:ext cx="532440" cy="1280880"/>
                  <a:chOff x="517680" y="3072960"/>
                  <a:chExt cx="532440" cy="1280880"/>
                </a:xfrm>
              </p:grpSpPr>
              <p:sp>
                <p:nvSpPr>
                  <p:cNvPr id="739" name="AutoShape 7"/>
                  <p:cNvSpPr/>
                  <p:nvPr/>
                </p:nvSpPr>
                <p:spPr>
                  <a:xfrm rot="16200000">
                    <a:off x="340560" y="3644280"/>
                    <a:ext cx="128088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AutoShape 8"/>
                  <p:cNvSpPr/>
                  <p:nvPr/>
                </p:nvSpPr>
                <p:spPr>
                  <a:xfrm rot="16200000">
                    <a:off x="-53640" y="3644280"/>
                    <a:ext cx="128088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1" name="TextBox 42"/>
              <p:cNvSpPr/>
              <p:nvPr/>
            </p:nvSpPr>
            <p:spPr>
              <a:xfrm>
                <a:off x="-479880" y="3198600"/>
                <a:ext cx="255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rot="-5400000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测熔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1571400" y="2928960"/>
              <a:ext cx="7357680" cy="428400"/>
              <a:chOff x="1571400" y="2928960"/>
              <a:chExt cx="7357680" cy="428400"/>
            </a:xfrm>
          </p:grpSpPr>
          <p:sp>
            <p:nvSpPr>
              <p:cNvPr id="743" name="Rectangle 40"/>
              <p:cNvSpPr/>
              <p:nvPr/>
            </p:nvSpPr>
            <p:spPr>
              <a:xfrm>
                <a:off x="1657440" y="2928960"/>
                <a:ext cx="7271640" cy="42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矩形 40"/>
              <p:cNvSpPr/>
              <p:nvPr/>
            </p:nvSpPr>
            <p:spPr>
              <a:xfrm>
                <a:off x="1571400" y="2928960"/>
                <a:ext cx="7286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1) </a:t>
                </a:r>
                <a:r>
                  <a:rPr b="0" lang="zh-CN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准备氧化物原料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aO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压粒后放入坩埚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左大括号 38"/>
            <p:cNvSpPr/>
            <p:nvPr/>
          </p:nvSpPr>
          <p:spPr>
            <a:xfrm>
              <a:off x="1071360" y="3071520"/>
              <a:ext cx="428400" cy="1356840"/>
            </a:xfrm>
            <a:custGeom>
              <a:avLst/>
              <a:gdLst>
                <a:gd name="textAreaLeft" fmla="*/ 273600 w 428400"/>
                <a:gd name="textAreaRight" fmla="*/ 428760 w 428400"/>
                <a:gd name="textAreaTop" fmla="*/ 10440 h 1356840"/>
                <a:gd name="textAreaBottom" fmla="*/ 1346400 h 13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3"/>
                    <a:pt x="10800" y="545"/>
                  </a:cubicBezTo>
                  <a:lnTo>
                    <a:pt x="10800" y="10255"/>
                  </a:lnTo>
                  <a:cubicBezTo>
                    <a:pt x="10800" y="10528"/>
                    <a:pt x="5400" y="10800"/>
                    <a:pt x="0" y="10800"/>
                  </a:cubicBezTo>
                  <a:cubicBezTo>
                    <a:pt x="5400" y="10800"/>
                    <a:pt x="10800" y="11073"/>
                    <a:pt x="10800" y="11345"/>
                  </a:cubicBezTo>
                  <a:lnTo>
                    <a:pt x="10800" y="21055"/>
                  </a:lnTo>
                  <a:cubicBezTo>
                    <a:pt x="10800" y="213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25"/>
          <p:cNvSpPr/>
          <p:nvPr/>
        </p:nvSpPr>
        <p:spPr>
          <a:xfrm>
            <a:off x="2694600" y="1571760"/>
            <a:ext cx="42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主要实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749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51"/>
          <p:cNvSpPr/>
          <p:nvPr/>
        </p:nvSpPr>
        <p:spPr>
          <a:xfrm>
            <a:off x="0" y="64296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101"/>
          <p:cNvSpPr/>
          <p:nvPr/>
        </p:nvSpPr>
        <p:spPr>
          <a:xfrm>
            <a:off x="2857680" y="1571760"/>
            <a:ext cx="183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158840" y="2071800"/>
            <a:ext cx="7270920" cy="973080"/>
            <a:chOff x="1158840" y="2071800"/>
            <a:chExt cx="7270920" cy="973080"/>
          </a:xfrm>
        </p:grpSpPr>
        <p:sp>
          <p:nvSpPr>
            <p:cNvPr id="754" name="AutoShape 8"/>
            <p:cNvSpPr/>
            <p:nvPr/>
          </p:nvSpPr>
          <p:spPr>
            <a:xfrm>
              <a:off x="1158840" y="2071800"/>
              <a:ext cx="7270920" cy="94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11"/>
            <p:cNvSpPr/>
            <p:nvPr/>
          </p:nvSpPr>
          <p:spPr>
            <a:xfrm>
              <a:off x="1231560" y="2129760"/>
              <a:ext cx="1578600" cy="808920"/>
            </a:xfrm>
            <a:prstGeom prst="roundRect">
              <a:avLst>
                <a:gd name="adj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WordArt 14"/>
            <p:cNvSpPr/>
            <p:nvPr/>
          </p:nvSpPr>
          <p:spPr>
            <a:xfrm>
              <a:off x="1442160" y="2339280"/>
              <a:ext cx="1165680" cy="334440"/>
            </a:xfrm>
            <a:custGeom>
              <a:avLst/>
              <a:gdLst>
                <a:gd name="textAreaLeft" fmla="*/ 0 w 1165680"/>
                <a:gd name="textAreaRight" fmla="*/ 1166040 w 11656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20"/>
            <p:cNvSpPr/>
            <p:nvPr/>
          </p:nvSpPr>
          <p:spPr>
            <a:xfrm>
              <a:off x="2885040" y="2071800"/>
              <a:ext cx="543456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探索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—CaO —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元系富铁区的相关系和熔化规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158840" y="3143160"/>
            <a:ext cx="7270920" cy="974880"/>
            <a:chOff x="1158840" y="3143160"/>
            <a:chExt cx="7270920" cy="974880"/>
          </a:xfrm>
        </p:grpSpPr>
        <p:sp>
          <p:nvSpPr>
            <p:cNvPr id="759" name="AutoShape 9"/>
            <p:cNvSpPr/>
            <p:nvPr/>
          </p:nvSpPr>
          <p:spPr>
            <a:xfrm>
              <a:off x="1158840" y="3174480"/>
              <a:ext cx="7270920" cy="943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AutoShape 12"/>
            <p:cNvSpPr/>
            <p:nvPr/>
          </p:nvSpPr>
          <p:spPr>
            <a:xfrm>
              <a:off x="1231560" y="3241440"/>
              <a:ext cx="1578600" cy="8082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21"/>
            <p:cNvSpPr/>
            <p:nvPr/>
          </p:nvSpPr>
          <p:spPr>
            <a:xfrm>
              <a:off x="2885040" y="3143160"/>
              <a:ext cx="5434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立该四元系的四面体相图为主，验证实验为辅进行相关研究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WordArt 14"/>
            <p:cNvSpPr/>
            <p:nvPr/>
          </p:nvSpPr>
          <p:spPr>
            <a:xfrm>
              <a:off x="1428480" y="3428640"/>
              <a:ext cx="1214280" cy="35676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2e3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1158840" y="4286160"/>
            <a:ext cx="7342200" cy="944640"/>
            <a:chOff x="1158840" y="4286160"/>
            <a:chExt cx="7342200" cy="944640"/>
          </a:xfrm>
        </p:grpSpPr>
        <p:grpSp>
          <p:nvGrpSpPr>
            <p:cNvPr id="764" name=""/>
            <p:cNvGrpSpPr/>
            <p:nvPr/>
          </p:nvGrpSpPr>
          <p:grpSpPr>
            <a:xfrm>
              <a:off x="1158840" y="4286160"/>
              <a:ext cx="7342200" cy="944640"/>
              <a:chOff x="1158840" y="4286160"/>
              <a:chExt cx="7342200" cy="944640"/>
            </a:xfrm>
          </p:grpSpPr>
          <p:sp>
            <p:nvSpPr>
              <p:cNvPr id="765" name="AutoShape 10"/>
              <p:cNvSpPr/>
              <p:nvPr/>
            </p:nvSpPr>
            <p:spPr>
              <a:xfrm>
                <a:off x="1158840" y="4286520"/>
                <a:ext cx="727092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13"/>
              <p:cNvSpPr/>
              <p:nvPr/>
            </p:nvSpPr>
            <p:spPr>
              <a:xfrm>
                <a:off x="1231560" y="4353480"/>
                <a:ext cx="1578600" cy="8089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22"/>
              <p:cNvSpPr/>
              <p:nvPr/>
            </p:nvSpPr>
            <p:spPr>
              <a:xfrm>
                <a:off x="2885040" y="4286160"/>
                <a:ext cx="5616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用软件进行相图计算和建立四面体相图；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RD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光谱仪或微区电子探针测定试样成分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；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熔点仪测定熔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WordArt 14"/>
            <p:cNvSpPr/>
            <p:nvPr/>
          </p:nvSpPr>
          <p:spPr>
            <a:xfrm>
              <a:off x="1428480" y="4572000"/>
              <a:ext cx="1214280" cy="35712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2e3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1158840" y="5429160"/>
            <a:ext cx="7270920" cy="1000080"/>
            <a:chOff x="1158840" y="5429160"/>
            <a:chExt cx="7270920" cy="1000080"/>
          </a:xfrm>
        </p:grpSpPr>
        <p:grpSp>
          <p:nvGrpSpPr>
            <p:cNvPr id="770" name=""/>
            <p:cNvGrpSpPr/>
            <p:nvPr/>
          </p:nvGrpSpPr>
          <p:grpSpPr>
            <a:xfrm>
              <a:off x="1158840" y="5429160"/>
              <a:ext cx="7270920" cy="1000080"/>
              <a:chOff x="1158840" y="5429160"/>
              <a:chExt cx="7270920" cy="1000080"/>
            </a:xfrm>
          </p:grpSpPr>
          <p:sp>
            <p:nvSpPr>
              <p:cNvPr id="771" name="AutoShape 10"/>
              <p:cNvSpPr/>
              <p:nvPr/>
            </p:nvSpPr>
            <p:spPr>
              <a:xfrm>
                <a:off x="1158840" y="5484960"/>
                <a:ext cx="727092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AutoShape 13"/>
              <p:cNvSpPr/>
              <p:nvPr/>
            </p:nvSpPr>
            <p:spPr>
              <a:xfrm>
                <a:off x="1231560" y="5551920"/>
                <a:ext cx="1578600" cy="8089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22"/>
              <p:cNvSpPr/>
              <p:nvPr/>
            </p:nvSpPr>
            <p:spPr>
              <a:xfrm>
                <a:off x="2885040" y="5429160"/>
                <a:ext cx="5472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5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建立四面体相图模型并直观表达；进行验证；在多元相图中分析铁酸钙的相关规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WordArt 14"/>
            <p:cNvSpPr/>
            <p:nvPr/>
          </p:nvSpPr>
          <p:spPr>
            <a:xfrm>
              <a:off x="1428480" y="5714640"/>
              <a:ext cx="1214280" cy="35712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2e3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TextBox 78"/>
          <p:cNvSpPr/>
          <p:nvPr/>
        </p:nvSpPr>
        <p:spPr>
          <a:xfrm>
            <a:off x="3145680" y="12142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验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0.00324 C 0.05903 0.05394 0.11823 0.11134 0.17049 0.07963 C 0.22274 0.04792 0.24167 -0.16481 0.31372 -0.19398 C 0.38559 -0.22315 0.49375 -0.15926 0.60208 -0.09514 E">
                                      <p:cBhvr>
                                        <p:cTn id="588" dur="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778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7"/>
          <p:cNvSpPr/>
          <p:nvPr/>
        </p:nvSpPr>
        <p:spPr>
          <a:xfrm>
            <a:off x="-268560" y="428616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285120" y="1257840"/>
            <a:ext cx="8672400" cy="5102640"/>
            <a:chOff x="285120" y="1257840"/>
            <a:chExt cx="8672400" cy="5102640"/>
          </a:xfrm>
        </p:grpSpPr>
        <p:grpSp>
          <p:nvGrpSpPr>
            <p:cNvPr id="784" name=""/>
            <p:cNvGrpSpPr/>
            <p:nvPr/>
          </p:nvGrpSpPr>
          <p:grpSpPr>
            <a:xfrm>
              <a:off x="2999520" y="3786120"/>
              <a:ext cx="1143360" cy="537840"/>
              <a:chOff x="2999520" y="3786120"/>
              <a:chExt cx="1143360" cy="537840"/>
            </a:xfrm>
          </p:grpSpPr>
          <p:sp>
            <p:nvSpPr>
              <p:cNvPr id="785" name="Line 18"/>
              <p:cNvSpPr/>
              <p:nvPr/>
            </p:nvSpPr>
            <p:spPr>
              <a:xfrm flipV="1">
                <a:off x="2999880" y="3786120"/>
                <a:ext cx="1143000" cy="53784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 txBox="1"/>
              <p:nvPr/>
            </p:nvSpPr>
            <p:spPr>
              <a:xfrm rot="10800000">
                <a:off x="2999520" y="3786120"/>
                <a:ext cx="1143000" cy="53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7000560" y="2214720"/>
              <a:ext cx="714240" cy="357120"/>
              <a:chOff x="7000560" y="2214720"/>
              <a:chExt cx="714240" cy="357120"/>
            </a:xfrm>
          </p:grpSpPr>
          <p:sp>
            <p:nvSpPr>
              <p:cNvPr id="788" name="Line 19"/>
              <p:cNvSpPr/>
              <p:nvPr/>
            </p:nvSpPr>
            <p:spPr>
              <a:xfrm flipV="1">
                <a:off x="7000560" y="2214720"/>
                <a:ext cx="714240" cy="35712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 txBox="1"/>
              <p:nvPr/>
            </p:nvSpPr>
            <p:spPr>
              <a:xfrm rot="10800000">
                <a:off x="7000560" y="2214720"/>
                <a:ext cx="714240" cy="357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1499400" y="3214800"/>
              <a:ext cx="571320" cy="785520"/>
              <a:chOff x="1499400" y="3214800"/>
              <a:chExt cx="571320" cy="785520"/>
            </a:xfrm>
          </p:grpSpPr>
          <p:sp>
            <p:nvSpPr>
              <p:cNvPr id="791" name="Line 17"/>
              <p:cNvSpPr/>
              <p:nvPr/>
            </p:nvSpPr>
            <p:spPr>
              <a:xfrm>
                <a:off x="1499400" y="3214800"/>
                <a:ext cx="571320" cy="78552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 txBox="1"/>
              <p:nvPr/>
            </p:nvSpPr>
            <p:spPr>
              <a:xfrm>
                <a:off x="1499400" y="3214800"/>
                <a:ext cx="571320" cy="78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285120" y="1928880"/>
              <a:ext cx="1642680" cy="2645640"/>
              <a:chOff x="285120" y="1928880"/>
              <a:chExt cx="1642680" cy="2645640"/>
            </a:xfrm>
          </p:grpSpPr>
          <p:sp>
            <p:nvSpPr>
              <p:cNvPr id="794" name="Rectangle 6"/>
              <p:cNvSpPr/>
              <p:nvPr/>
            </p:nvSpPr>
            <p:spPr>
              <a:xfrm rot="3418800">
                <a:off x="527760" y="2139120"/>
                <a:ext cx="1157040" cy="1207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d5ee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矩形 26"/>
              <p:cNvSpPr/>
              <p:nvPr/>
            </p:nvSpPr>
            <p:spPr>
              <a:xfrm>
                <a:off x="713520" y="2286000"/>
                <a:ext cx="7858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Se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1683360" y="3714840"/>
              <a:ext cx="1484640" cy="2645640"/>
              <a:chOff x="1683360" y="3714840"/>
              <a:chExt cx="1484640" cy="2645640"/>
            </a:xfrm>
          </p:grpSpPr>
          <p:sp>
            <p:nvSpPr>
              <p:cNvPr id="797" name="Rectangle 15"/>
              <p:cNvSpPr/>
              <p:nvPr/>
            </p:nvSpPr>
            <p:spPr>
              <a:xfrm rot="3418800">
                <a:off x="1873440" y="3938040"/>
                <a:ext cx="1104480" cy="1052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矩形 27"/>
              <p:cNvSpPr/>
              <p:nvPr/>
            </p:nvSpPr>
            <p:spPr>
              <a:xfrm>
                <a:off x="2070720" y="4071960"/>
                <a:ext cx="85716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No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7457400" y="1257840"/>
              <a:ext cx="1500120" cy="2204640"/>
              <a:chOff x="7457400" y="1257840"/>
              <a:chExt cx="1500120" cy="2204640"/>
            </a:xfrm>
          </p:grpSpPr>
          <p:sp>
            <p:nvSpPr>
              <p:cNvPr id="800" name="Rectangle 15"/>
              <p:cNvSpPr/>
              <p:nvPr/>
            </p:nvSpPr>
            <p:spPr>
              <a:xfrm rot="3418800">
                <a:off x="7698240" y="1427760"/>
                <a:ext cx="1017720" cy="1127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矩形 34"/>
              <p:cNvSpPr/>
              <p:nvPr/>
            </p:nvSpPr>
            <p:spPr>
              <a:xfrm>
                <a:off x="7885800" y="1539720"/>
                <a:ext cx="78588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Dec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714280" y="1954080"/>
              <a:ext cx="1500120" cy="2615040"/>
              <a:chOff x="5714280" y="1954080"/>
              <a:chExt cx="1500120" cy="2615040"/>
            </a:xfrm>
          </p:grpSpPr>
          <p:sp>
            <p:nvSpPr>
              <p:cNvPr id="803" name="Rectangle 12"/>
              <p:cNvSpPr/>
              <p:nvPr/>
            </p:nvSpPr>
            <p:spPr>
              <a:xfrm rot="3418800">
                <a:off x="5886000" y="2202480"/>
                <a:ext cx="1156320" cy="1037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矩形 37"/>
              <p:cNvSpPr/>
              <p:nvPr/>
            </p:nvSpPr>
            <p:spPr>
              <a:xfrm>
                <a:off x="6071400" y="2280600"/>
                <a:ext cx="7858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Sep,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3876840" y="2888640"/>
              <a:ext cx="1356840" cy="2574000"/>
              <a:chOff x="3876840" y="2888640"/>
              <a:chExt cx="1356840" cy="2574000"/>
            </a:xfrm>
          </p:grpSpPr>
          <p:sp>
            <p:nvSpPr>
              <p:cNvPr id="806" name="Rectangle 9"/>
              <p:cNvSpPr/>
              <p:nvPr/>
            </p:nvSpPr>
            <p:spPr>
              <a:xfrm rot="3418800">
                <a:off x="4055040" y="3087000"/>
                <a:ext cx="999720" cy="968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矩形 38"/>
              <p:cNvSpPr/>
              <p:nvPr/>
            </p:nvSpPr>
            <p:spPr>
              <a:xfrm>
                <a:off x="4162680" y="3174120"/>
                <a:ext cx="7858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Ap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071320" y="3000240"/>
              <a:ext cx="928800" cy="394920"/>
              <a:chOff x="5071320" y="3000240"/>
              <a:chExt cx="928800" cy="394920"/>
            </a:xfrm>
          </p:grpSpPr>
          <p:sp>
            <p:nvSpPr>
              <p:cNvPr id="809" name="Line 18"/>
              <p:cNvSpPr/>
              <p:nvPr/>
            </p:nvSpPr>
            <p:spPr>
              <a:xfrm flipV="1">
                <a:off x="5071680" y="3000240"/>
                <a:ext cx="928440" cy="39492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 txBox="1"/>
              <p:nvPr/>
            </p:nvSpPr>
            <p:spPr>
              <a:xfrm rot="10800000">
                <a:off x="5071320" y="3000240"/>
                <a:ext cx="928440" cy="39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Text Box 23"/>
            <p:cNvSpPr/>
            <p:nvPr/>
          </p:nvSpPr>
          <p:spPr>
            <a:xfrm>
              <a:off x="523800" y="4071960"/>
              <a:ext cx="11440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相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计算软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源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据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相图计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矩形 53"/>
            <p:cNvSpPr/>
            <p:nvPr/>
          </p:nvSpPr>
          <p:spPr>
            <a:xfrm>
              <a:off x="3214080" y="4286160"/>
              <a:ext cx="15001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建模软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导入数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建立模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直观表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矩形 54"/>
            <p:cNvSpPr/>
            <p:nvPr/>
          </p:nvSpPr>
          <p:spPr>
            <a:xfrm>
              <a:off x="5214600" y="3571920"/>
              <a:ext cx="135720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实验验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相图校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结合相图与实验进行综合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矩形 56"/>
            <p:cNvSpPr/>
            <p:nvPr/>
          </p:nvSpPr>
          <p:spPr>
            <a:xfrm>
              <a:off x="7214760" y="2857680"/>
              <a:ext cx="15001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实验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撰写报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准备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直接连接符 65"/>
          <p:cNvSpPr/>
          <p:nvPr/>
        </p:nvSpPr>
        <p:spPr>
          <a:xfrm>
            <a:off x="1785960" y="1785960"/>
            <a:ext cx="71280" cy="214200"/>
          </a:xfrm>
          <a:prstGeom prst="line">
            <a:avLst/>
          </a:prstGeom>
          <a:ln w="254160">
            <a:solidFill>
              <a:srgbClr val="de6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15"/>
          <p:cNvSpPr/>
          <p:nvPr/>
        </p:nvSpPr>
        <p:spPr>
          <a:xfrm>
            <a:off x="1844640" y="1071720"/>
            <a:ext cx="6585120" cy="2252520"/>
          </a:xfrm>
          <a:custGeom>
            <a:avLst/>
            <a:gdLst>
              <a:gd name="textAreaLeft" fmla="*/ 0 w 6585120"/>
              <a:gd name="textAreaRight" fmla="*/ 6585480 w 6585120"/>
              <a:gd name="textAreaTop" fmla="*/ 0 h 2252520"/>
              <a:gd name="textAreaBottom" fmla="*/ 2252880 h 2252520"/>
            </a:gdLst>
            <a:ahLst/>
            <a:rect l="textAreaLeft" t="textAreaTop" r="textAreaRight" b="textAreaBottom"/>
            <a:pathLst>
              <a:path w="7504386" h="2855599">
                <a:moveTo>
                  <a:pt x="0" y="1387366"/>
                </a:moveTo>
                <a:cubicBezTo>
                  <a:pt x="714703" y="1849821"/>
                  <a:pt x="696671" y="2855599"/>
                  <a:pt x="1947402" y="2624371"/>
                </a:cubicBezTo>
                <a:cubicBezTo>
                  <a:pt x="3198133" y="2393143"/>
                  <a:pt x="6578222" y="437395"/>
                  <a:pt x="7504386" y="0"/>
                </a:cubicBezTo>
                <a:lnTo>
                  <a:pt x="7504386" y="0"/>
                </a:lnTo>
              </a:path>
            </a:pathLst>
          </a:custGeom>
          <a:noFill/>
          <a:ln w="127080">
            <a:solidFill>
              <a:srgbClr val="acde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118"/>
          <p:cNvSpPr/>
          <p:nvPr/>
        </p:nvSpPr>
        <p:spPr>
          <a:xfrm>
            <a:off x="1532160" y="3357720"/>
            <a:ext cx="524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6383"/>
                </a:solidFill>
                <a:latin typeface="Arial"/>
                <a:ea typeface="Arial"/>
              </a:rPr>
              <a:t>Just do 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023 C -0.0625 -0.01875 -0.27517 -0.14398 -0.37465 -0.11296 C -0.47413 -0.08194 -0.5408 0.15301 -0.59653 0.18611 C -0.65225 0.21875 -0.69062 0.10185 -0.70868 0.08472 E">
                                      <p:cBhvr>
                                        <p:cTn id="594" dur="5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0695 C 0.04948 0.06805 0.10538 0.14305 0.24584 0.10833 C 0.38629 0.07338 0.73403 -0.16621 0.83646 -0.2169 E">
                                      <p:cBhvr>
                                        <p:cTn id="607" dur="1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7"/>
          <p:cNvSpPr/>
          <p:nvPr/>
        </p:nvSpPr>
        <p:spPr>
          <a:xfrm>
            <a:off x="1714680" y="377352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987b8"/>
                </a:solidFill>
                <a:latin typeface="时尚中黑简体"/>
                <a:ea typeface="时尚中黑简体"/>
              </a:rPr>
              <a:t>富铁区域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的 </a:t>
            </a:r>
            <a:r>
              <a:rPr b="1" lang="zh-CN" sz="2400" spc="-1" strike="noStrike">
                <a:solidFill>
                  <a:srgbClr val="5c7267"/>
                </a:solidFill>
                <a:latin typeface="MS Mincho"/>
                <a:ea typeface="MS Mincho"/>
              </a:rPr>
              <a:t>相关系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及 其 </a:t>
            </a:r>
            <a:r>
              <a:rPr b="1" lang="zh-CN" sz="2400" spc="-1" strike="noStrike">
                <a:solidFill>
                  <a:srgbClr val="ffc000"/>
                </a:solidFill>
                <a:latin typeface="MS Mincho"/>
                <a:ea typeface="MS Mincho"/>
              </a:rPr>
              <a:t>熔化规</a:t>
            </a:r>
            <a:r>
              <a:rPr b="1" lang="zh-CN" sz="1800" spc="-1" strike="noStrike">
                <a:solidFill>
                  <a:srgbClr val="ffc000"/>
                </a:solidFill>
                <a:latin typeface="MS Mincho"/>
                <a:ea typeface="MS Mincho"/>
              </a:rPr>
              <a:t> </a:t>
            </a:r>
            <a:r>
              <a:rPr b="1" lang="zh-CN" sz="2400" spc="-1" strike="noStrike">
                <a:solidFill>
                  <a:srgbClr val="ffc000"/>
                </a:solidFill>
                <a:latin typeface="MS Mincho"/>
                <a:ea typeface="MS Mincho"/>
              </a:rPr>
              <a:t>律</a:t>
            </a:r>
            <a:r>
              <a:rPr b="1" lang="zh-CN" sz="1400" spc="-1" strike="noStrike">
                <a:solidFill>
                  <a:srgbClr val="ffc000"/>
                </a:solidFill>
                <a:latin typeface="MS Mincho"/>
                <a:ea typeface="MS Mincho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进行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1376280" y="269244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6383"/>
                </a:solidFill>
                <a:latin typeface="方正舒体"/>
                <a:ea typeface="方正舒体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CaO-A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S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b050"/>
                </a:solidFill>
                <a:latin typeface="方正姚体"/>
                <a:ea typeface="方正姚体"/>
              </a:rPr>
              <a:t>四面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3" descr=""/>
          <p:cNvPicPr/>
          <p:nvPr/>
        </p:nvPicPr>
        <p:blipFill>
          <a:blip r:embed="rId1"/>
          <a:srcRect l="42620" t="64489" r="19467" b="0"/>
          <a:stretch/>
        </p:blipFill>
        <p:spPr>
          <a:xfrm rot="19936200">
            <a:off x="5862600" y="4645080"/>
            <a:ext cx="907920" cy="1165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3" descr=""/>
          <p:cNvPicPr/>
          <p:nvPr/>
        </p:nvPicPr>
        <p:blipFill>
          <a:blip r:embed="rId2"/>
          <a:srcRect l="42620" t="64489" r="19467" b="0"/>
          <a:stretch/>
        </p:blipFill>
        <p:spPr>
          <a:xfrm rot="4218600">
            <a:off x="2878200" y="2813040"/>
            <a:ext cx="598320" cy="766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3" descr=""/>
          <p:cNvPicPr/>
          <p:nvPr/>
        </p:nvPicPr>
        <p:blipFill>
          <a:blip r:embed="rId3"/>
          <a:srcRect l="42620" t="64489" r="19467" b="0"/>
          <a:stretch/>
        </p:blipFill>
        <p:spPr>
          <a:xfrm rot="13899000">
            <a:off x="7024320" y="145440"/>
            <a:ext cx="9889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50"/>
                            </p:stCondLst>
                            <p:childTnLst>
                              <p:par>
                                <p:cTn id="19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Freeform 39"/>
          <p:cNvSpPr/>
          <p:nvPr/>
        </p:nvSpPr>
        <p:spPr>
          <a:xfrm>
            <a:off x="3240" y="6346800"/>
            <a:ext cx="9131400" cy="5112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9"/>
          <p:cNvSpPr/>
          <p:nvPr/>
        </p:nvSpPr>
        <p:spPr>
          <a:xfrm>
            <a:off x="0" y="0"/>
            <a:ext cx="9153360" cy="493884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4938840"/>
              <a:gd name="textAreaBottom" fmla="*/ 4939200 h 4938840"/>
            </a:gdLst>
            <a:ahLst/>
            <a:rect l="textAreaLeft" t="textAreaTop" r="textAreaRight" b="textAreaBottom"/>
            <a:pathLst>
              <a:path w="5767" h="3128">
                <a:moveTo>
                  <a:pt x="8" y="3103"/>
                </a:moveTo>
                <a:lnTo>
                  <a:pt x="2913" y="3102"/>
                </a:lnTo>
                <a:cubicBezTo>
                  <a:pt x="3054" y="3102"/>
                  <a:pt x="3012" y="3128"/>
                  <a:pt x="3143" y="3022"/>
                </a:cubicBezTo>
                <a:lnTo>
                  <a:pt x="3668" y="2460"/>
                </a:lnTo>
                <a:cubicBezTo>
                  <a:pt x="3832" y="2329"/>
                  <a:pt x="3809" y="2215"/>
                  <a:pt x="4129" y="2235"/>
                </a:cubicBezTo>
                <a:lnTo>
                  <a:pt x="5761" y="2235"/>
                </a:lnTo>
                <a:lnTo>
                  <a:pt x="5767" y="0"/>
                </a:lnTo>
                <a:lnTo>
                  <a:pt x="0" y="1"/>
                </a:lnTo>
                <a:lnTo>
                  <a:pt x="8" y="3103"/>
                </a:lnTo>
                <a:close/>
              </a:path>
            </a:pathLst>
          </a:custGeom>
          <a:solidFill>
            <a:srgbClr val="768a7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28"/>
          <p:cNvSpPr/>
          <p:nvPr/>
        </p:nvSpPr>
        <p:spPr>
          <a:xfrm>
            <a:off x="0" y="0"/>
            <a:ext cx="9155160" cy="433404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4334040"/>
              <a:gd name="textAreaBottom" fmla="*/ 4334400 h 433404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30"/>
          <p:cNvSpPr/>
          <p:nvPr/>
        </p:nvSpPr>
        <p:spPr>
          <a:xfrm>
            <a:off x="0" y="0"/>
            <a:ext cx="9153360" cy="160020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6" h="1008">
                <a:moveTo>
                  <a:pt x="0" y="1008"/>
                </a:moveTo>
                <a:lnTo>
                  <a:pt x="1884" y="1008"/>
                </a:lnTo>
                <a:cubicBezTo>
                  <a:pt x="2088" y="990"/>
                  <a:pt x="2034" y="1005"/>
                  <a:pt x="2152" y="921"/>
                </a:cubicBezTo>
                <a:lnTo>
                  <a:pt x="2560" y="531"/>
                </a:lnTo>
                <a:cubicBezTo>
                  <a:pt x="2683" y="452"/>
                  <a:pt x="2611" y="454"/>
                  <a:pt x="2892" y="448"/>
                </a:cubicBezTo>
                <a:lnTo>
                  <a:pt x="5766" y="461"/>
                </a:lnTo>
                <a:lnTo>
                  <a:pt x="5758" y="0"/>
                </a:lnTo>
                <a:lnTo>
                  <a:pt x="0" y="2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37"/>
          <p:cNvSpPr/>
          <p:nvPr/>
        </p:nvSpPr>
        <p:spPr>
          <a:xfrm>
            <a:off x="3240" y="4562640"/>
            <a:ext cx="9131400" cy="51084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WordArt 2"/>
          <p:cNvSpPr/>
          <p:nvPr/>
        </p:nvSpPr>
        <p:spPr>
          <a:xfrm>
            <a:off x="304920" y="2371680"/>
            <a:ext cx="5181480" cy="685800"/>
          </a:xfrm>
          <a:custGeom>
            <a:avLst/>
            <a:gdLst>
              <a:gd name="textAreaLeft" fmla="*/ 0 w 5181480"/>
              <a:gd name="textAreaRight" fmla="*/ 5181840 w 5181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0"/>
                  <a:pt x="7100" y="0"/>
                  <a:pt x="10800" y="0"/>
                </a:cubicBezTo>
                <a:cubicBezTo>
                  <a:pt x="14500" y="0"/>
                  <a:pt x="18100" y="0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21600"/>
                  <a:pt x="7100" y="21600"/>
                  <a:pt x="10800" y="21600"/>
                </a:cubicBezTo>
                <a:cubicBezTo>
                  <a:pt x="14500" y="21600"/>
                  <a:pt x="181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4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725880" y="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825" name="TextBox 3"/>
          <p:cNvSpPr/>
          <p:nvPr/>
        </p:nvSpPr>
        <p:spPr>
          <a:xfrm>
            <a:off x="4357800" y="564372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lease give som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4"/>
          <p:cNvSpPr/>
          <p:nvPr/>
        </p:nvSpPr>
        <p:spPr>
          <a:xfrm>
            <a:off x="-312480" y="5286240"/>
            <a:ext cx="69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Any more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50"/>
                            </p:stCondLst>
                            <p:childTnLst>
                              <p:par>
                                <p:cTn id="671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4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4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214200" y="357120"/>
            <a:ext cx="2214720" cy="6429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主要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9"/>
          <p:cNvSpPr/>
          <p:nvPr/>
        </p:nvSpPr>
        <p:spPr>
          <a:xfrm>
            <a:off x="500040" y="200016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0"/>
          <p:cNvSpPr/>
          <p:nvPr/>
        </p:nvSpPr>
        <p:spPr>
          <a:xfrm>
            <a:off x="2143080" y="278604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1"/>
          <p:cNvSpPr/>
          <p:nvPr/>
        </p:nvSpPr>
        <p:spPr>
          <a:xfrm>
            <a:off x="3857760" y="3500280"/>
            <a:ext cx="274320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2"/>
          <p:cNvSpPr/>
          <p:nvPr/>
        </p:nvSpPr>
        <p:spPr>
          <a:xfrm>
            <a:off x="5643720" y="421488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0.00052 -0.0463 0.00157 -0.09213 0.03785 -0.10787 C 0.07396 -0.12361 0.16962 -0.07662 0.21754 -0.09422 C 0.26545 -0.11204 0.30538 -0.18056 0.32466 -0.21412 C 0.3441 -0.24769 0.33125 -0.27848 0.33282 -0.29514 E">
                                      <p:cBhvr>
                                        <p:cTn id="50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C 0.00052 -0.03565 0.00139 -0.0706 0.02378 -0.08542 C 0.04635 -0.10139 0.08837 -0.05903 0.13385 -0.09259 C 0.17934 -0.12593 0.27274 -0.23241 0.29722 -0.28542 C 0.32188 -0.33796 0.28351 -0.38403 0.28003 -0.40972 E">
                                      <p:cBhvr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3.33333E-006 C -0.0019 -0.03658 -0.00365 -0.07315 0.03039 -0.11806 C 0.06441 -0.16297 0.17501 -0.20463 0.20504 -0.27061 C 0.23525 -0.33658 0.20712 -0.47871 0.2106 -0.51389 E">
                                      <p:cBhvr>
                                        <p:cTn id="54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046 C -0.0066 -0.05995 -0.01198 -0.11805 0.00659 -0.14861 C 0.02569 -0.17893 0.08559 -0.1368 0.11284 -0.18194 C 0.13993 -0.22639 0.16337 -0.34328 0.16979 -0.41643 C 0.17639 -0.48935 0.15712 -0.57685 0.15347 -0.61852 E">
                                      <p:cBhvr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132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任意多边形 125"/>
          <p:cNvSpPr/>
          <p:nvPr/>
        </p:nvSpPr>
        <p:spPr>
          <a:xfrm>
            <a:off x="725400" y="1924200"/>
            <a:ext cx="8355240" cy="717480"/>
          </a:xfrm>
          <a:custGeom>
            <a:avLst/>
            <a:gdLst>
              <a:gd name="textAreaLeft" fmla="*/ 0 w 8355240"/>
              <a:gd name="textAreaRight" fmla="*/ 8355600 w 83552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8355724" h="717331">
                <a:moveTo>
                  <a:pt x="0" y="0"/>
                </a:moveTo>
                <a:cubicBezTo>
                  <a:pt x="328448" y="147144"/>
                  <a:pt x="656896" y="294289"/>
                  <a:pt x="1087820" y="346841"/>
                </a:cubicBezTo>
                <a:cubicBezTo>
                  <a:pt x="1518744" y="399393"/>
                  <a:pt x="2060028" y="262758"/>
                  <a:pt x="2585545" y="315310"/>
                </a:cubicBezTo>
                <a:cubicBezTo>
                  <a:pt x="3111062" y="367862"/>
                  <a:pt x="3697014" y="606973"/>
                  <a:pt x="4240924" y="662152"/>
                </a:cubicBezTo>
                <a:cubicBezTo>
                  <a:pt x="4784834" y="717331"/>
                  <a:pt x="5320862" y="701565"/>
                  <a:pt x="5849007" y="646386"/>
                </a:cubicBezTo>
                <a:cubicBezTo>
                  <a:pt x="6377152" y="591207"/>
                  <a:pt x="6992007" y="404648"/>
                  <a:pt x="7409793" y="331076"/>
                </a:cubicBezTo>
                <a:cubicBezTo>
                  <a:pt x="7827579" y="257504"/>
                  <a:pt x="8274269" y="270642"/>
                  <a:pt x="8355724" y="2049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137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同侧圆角矩形 90"/>
            <p:cNvSpPr/>
            <p:nvPr/>
          </p:nvSpPr>
          <p:spPr>
            <a:xfrm rot="21294600">
              <a:off x="0" y="313380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147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同侧圆角矩形 100"/>
            <p:cNvSpPr/>
            <p:nvPr/>
          </p:nvSpPr>
          <p:spPr>
            <a:xfrm rot="21294600">
              <a:off x="3142800" y="34192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157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同侧圆角矩形 110"/>
            <p:cNvSpPr/>
            <p:nvPr/>
          </p:nvSpPr>
          <p:spPr>
            <a:xfrm rot="21294600">
              <a:off x="6238440" y="32050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35040" y="5072040"/>
            <a:ext cx="1325880" cy="1165320"/>
            <a:chOff x="635040" y="5072040"/>
            <a:chExt cx="1325880" cy="1165320"/>
          </a:xfrm>
        </p:grpSpPr>
        <p:sp>
          <p:nvSpPr>
            <p:cNvPr id="167" name="Rounded Rectangle 95"/>
            <p:cNvSpPr/>
            <p:nvPr/>
          </p:nvSpPr>
          <p:spPr>
            <a:xfrm>
              <a:off x="865440" y="507204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ounded Rectangle 97"/>
            <p:cNvSpPr/>
            <p:nvPr/>
          </p:nvSpPr>
          <p:spPr>
            <a:xfrm>
              <a:off x="100944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ounded Rectangle 103"/>
            <p:cNvSpPr/>
            <p:nvPr/>
          </p:nvSpPr>
          <p:spPr>
            <a:xfrm>
              <a:off x="147780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ounded Rectangle 104"/>
            <p:cNvSpPr/>
            <p:nvPr/>
          </p:nvSpPr>
          <p:spPr>
            <a:xfrm rot="2700000">
              <a:off x="69480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unded Rectangle 105"/>
            <p:cNvSpPr/>
            <p:nvPr/>
          </p:nvSpPr>
          <p:spPr>
            <a:xfrm flipH="1" rot="18900000">
              <a:off x="178848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099800" y="5391360"/>
              <a:ext cx="396000" cy="263160"/>
              <a:chOff x="1099800" y="5391360"/>
              <a:chExt cx="396000" cy="263160"/>
            </a:xfrm>
          </p:grpSpPr>
          <p:sp>
            <p:nvSpPr>
              <p:cNvPr id="173" name="Rounded Rectangle 108"/>
              <p:cNvSpPr/>
              <p:nvPr/>
            </p:nvSpPr>
            <p:spPr>
              <a:xfrm>
                <a:off x="109980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ounded Rectangle 109"/>
              <p:cNvSpPr/>
              <p:nvPr/>
            </p:nvSpPr>
            <p:spPr>
              <a:xfrm>
                <a:off x="135180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69 C -0.03559 -0.01551 -0.17014 -0.1162 -0.21406 -0.0875 C -0.25799 -0.05926 -0.24375 0.12593 -0.26406 0.16944 C -0.28437 0.21296 -0.31545 0.18704 -0.33646 0.17431 C -0.35747 0.16157 -0.37882 0.11042 -0.38993 0.09375 E">
                                      <p:cBhvr>
                                        <p:cTn id="8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53640" y="6858000"/>
            <a:ext cx="2632320" cy="1829160"/>
            <a:chOff x="53640" y="6858000"/>
            <a:chExt cx="2632320" cy="1829160"/>
          </a:xfrm>
        </p:grpSpPr>
        <p:sp>
          <p:nvSpPr>
            <p:cNvPr id="177" name="圆角矩形​​ 2"/>
            <p:cNvSpPr/>
            <p:nvPr/>
          </p:nvSpPr>
          <p:spPr>
            <a:xfrm rot="21283200">
              <a:off x="107640" y="7529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​​ 11"/>
            <p:cNvSpPr/>
            <p:nvPr/>
          </p:nvSpPr>
          <p:spPr>
            <a:xfrm flipV="1">
              <a:off x="485640" y="6962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​​ 13"/>
            <p:cNvSpPr/>
            <p:nvPr/>
          </p:nvSpPr>
          <p:spPr>
            <a:xfrm>
              <a:off x="1811160" y="6962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​​ 4"/>
            <p:cNvSpPr/>
            <p:nvPr/>
          </p:nvSpPr>
          <p:spPr>
            <a:xfrm>
              <a:off x="1523160" y="685800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​​ 6"/>
            <p:cNvSpPr/>
            <p:nvPr/>
          </p:nvSpPr>
          <p:spPr>
            <a:xfrm>
              <a:off x="1583640" y="6901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同侧圆角矩形 59"/>
            <p:cNvSpPr/>
            <p:nvPr/>
          </p:nvSpPr>
          <p:spPr>
            <a:xfrm rot="21294600">
              <a:off x="70920" y="7536240"/>
              <a:ext cx="2525760" cy="506160"/>
            </a:xfrm>
            <a:custGeom>
              <a:avLst/>
              <a:gdLst>
                <a:gd name="textAreaLeft" fmla="*/ 0 w 2525760"/>
                <a:gd name="textAreaRight" fmla="*/ 2525760 w 25257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圆角矩形​​ 3"/>
            <p:cNvSpPr/>
            <p:nvPr/>
          </p:nvSpPr>
          <p:spPr>
            <a:xfrm rot="21283200">
              <a:off x="230760" y="7617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​​ 8"/>
            <p:cNvSpPr/>
            <p:nvPr/>
          </p:nvSpPr>
          <p:spPr>
            <a:xfrm rot="21283200">
              <a:off x="437400" y="7605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​​ 9"/>
            <p:cNvSpPr/>
            <p:nvPr/>
          </p:nvSpPr>
          <p:spPr>
            <a:xfrm rot="21283200">
              <a:off x="2159280" y="7490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357800" y="1714680"/>
            <a:ext cx="4500360" cy="1571400"/>
            <a:chOff x="4357800" y="1714680"/>
            <a:chExt cx="4500360" cy="1571400"/>
          </a:xfrm>
        </p:grpSpPr>
        <p:sp>
          <p:nvSpPr>
            <p:cNvPr id="187" name="圆角矩形标注 70"/>
            <p:cNvSpPr/>
            <p:nvPr/>
          </p:nvSpPr>
          <p:spPr>
            <a:xfrm>
              <a:off x="4357800" y="1714680"/>
              <a:ext cx="4500360" cy="1571400"/>
            </a:xfrm>
            <a:prstGeom prst="wedgeRoundRectCallout">
              <a:avLst>
                <a:gd name="adj1" fmla="val -59462"/>
                <a:gd name="adj2" fmla="val -33162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5"/>
            <p:cNvSpPr/>
            <p:nvPr/>
          </p:nvSpPr>
          <p:spPr>
            <a:xfrm>
              <a:off x="4593240" y="1957320"/>
              <a:ext cx="4049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从二元到多元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并提出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的概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生成区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5214960" y="3467160"/>
            <a:ext cx="3500280" cy="3105000"/>
          </a:xfrm>
          <a:prstGeom prst="rect">
            <a:avLst/>
          </a:prstGeom>
          <a:ln w="0">
            <a:noFill/>
          </a:ln>
        </p:spPr>
      </p:pic>
      <p:sp>
        <p:nvSpPr>
          <p:cNvPr id="190" name="矩形 81"/>
          <p:cNvSpPr/>
          <p:nvPr/>
        </p:nvSpPr>
        <p:spPr>
          <a:xfrm>
            <a:off x="5143680" y="64292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图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FC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FCA-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区域对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82"/>
          <p:cNvSpPr/>
          <p:nvPr/>
        </p:nvSpPr>
        <p:spPr>
          <a:xfrm>
            <a:off x="500040" y="4786200"/>
            <a:ext cx="4572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ySiO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zA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5Ca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，其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+y+z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3"/>
          <p:cNvSpPr/>
          <p:nvPr/>
        </p:nvSpPr>
        <p:spPr>
          <a:xfrm>
            <a:off x="-319320" y="5500800"/>
            <a:ext cx="523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CA-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194" name="矩形 104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114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15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28760" y="1714680"/>
            <a:ext cx="6858000" cy="2571840"/>
            <a:chOff x="428760" y="1714680"/>
            <a:chExt cx="6858000" cy="2571840"/>
          </a:xfrm>
        </p:grpSpPr>
        <p:sp>
          <p:nvSpPr>
            <p:cNvPr id="198" name="Rectangle 6"/>
            <p:cNvSpPr/>
            <p:nvPr/>
          </p:nvSpPr>
          <p:spPr>
            <a:xfrm>
              <a:off x="433440" y="171468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对铁酸钙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428760" y="228600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CaO– SiO2 –FeO</a:t>
              </a:r>
              <a:r>
                <a:rPr b="1" i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的相关系与熔化特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71320" y="2214720"/>
              <a:ext cx="3357360" cy="360"/>
              <a:chOff x="571320" y="2214720"/>
              <a:chExt cx="3357360" cy="360"/>
            </a:xfrm>
          </p:grpSpPr>
          <p:sp>
            <p:nvSpPr>
              <p:cNvPr id="201" name="Line 12"/>
              <p:cNvSpPr/>
              <p:nvPr/>
            </p:nvSpPr>
            <p:spPr>
              <a:xfrm>
                <a:off x="571320" y="221472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571320" y="221472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549360" y="3240360"/>
              <a:ext cx="3379680" cy="45720"/>
              <a:chOff x="549360" y="3240360"/>
              <a:chExt cx="3379680" cy="45720"/>
            </a:xfrm>
          </p:grpSpPr>
          <p:sp>
            <p:nvSpPr>
              <p:cNvPr id="204" name="Line 12"/>
              <p:cNvSpPr/>
              <p:nvPr/>
            </p:nvSpPr>
            <p:spPr>
              <a:xfrm>
                <a:off x="549360" y="324036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549360" y="324036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549360" y="4286160"/>
              <a:ext cx="3379680" cy="360"/>
              <a:chOff x="549360" y="4286160"/>
              <a:chExt cx="3379680" cy="360"/>
            </a:xfrm>
          </p:grpSpPr>
          <p:sp>
            <p:nvSpPr>
              <p:cNvPr id="207" name="Line 12"/>
              <p:cNvSpPr/>
              <p:nvPr/>
            </p:nvSpPr>
            <p:spPr>
              <a:xfrm>
                <a:off x="549360" y="4286160"/>
                <a:ext cx="337968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549360" y="4286160"/>
                <a:ext cx="337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Rectangle 6"/>
            <p:cNvSpPr/>
            <p:nvPr/>
          </p:nvSpPr>
          <p:spPr>
            <a:xfrm>
              <a:off x="433440" y="335772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不同组元的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响机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2.5E-006 -1.00301 E">
                                      <p:cBhvr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53640" y="0"/>
            <a:ext cx="2632320" cy="1829160"/>
            <a:chOff x="53640" y="0"/>
            <a:chExt cx="2632320" cy="1829160"/>
          </a:xfrm>
        </p:grpSpPr>
        <p:sp>
          <p:nvSpPr>
            <p:cNvPr id="212" name="圆角矩形​​ 2"/>
            <p:cNvSpPr/>
            <p:nvPr/>
          </p:nvSpPr>
          <p:spPr>
            <a:xfrm rot="21283200">
              <a:off x="107640" y="671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​​ 11"/>
            <p:cNvSpPr/>
            <p:nvPr/>
          </p:nvSpPr>
          <p:spPr>
            <a:xfrm flipV="1">
              <a:off x="485640" y="104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​​ 13"/>
            <p:cNvSpPr/>
            <p:nvPr/>
          </p:nvSpPr>
          <p:spPr>
            <a:xfrm>
              <a:off x="1811160" y="104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​​ 4"/>
            <p:cNvSpPr/>
            <p:nvPr/>
          </p:nvSpPr>
          <p:spPr>
            <a:xfrm>
              <a:off x="1523160" y="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​​ 6"/>
            <p:cNvSpPr/>
            <p:nvPr/>
          </p:nvSpPr>
          <p:spPr>
            <a:xfrm>
              <a:off x="1583640" y="43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同侧圆角矩形 59"/>
            <p:cNvSpPr/>
            <p:nvPr/>
          </p:nvSpPr>
          <p:spPr>
            <a:xfrm rot="21294600">
              <a:off x="70920" y="678240"/>
              <a:ext cx="2525760" cy="506160"/>
            </a:xfrm>
            <a:custGeom>
              <a:avLst/>
              <a:gdLst>
                <a:gd name="textAreaLeft" fmla="*/ 0 w 2525760"/>
                <a:gd name="textAreaRight" fmla="*/ 2525760 w 25257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圆角矩形​​ 3"/>
            <p:cNvSpPr/>
            <p:nvPr/>
          </p:nvSpPr>
          <p:spPr>
            <a:xfrm rot="21283200">
              <a:off x="230760" y="759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​​ 8"/>
            <p:cNvSpPr/>
            <p:nvPr/>
          </p:nvSpPr>
          <p:spPr>
            <a:xfrm rot="21283200">
              <a:off x="437400" y="747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​​ 9"/>
            <p:cNvSpPr/>
            <p:nvPr/>
          </p:nvSpPr>
          <p:spPr>
            <a:xfrm rot="21283200">
              <a:off x="2159280" y="632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6"/>
          <p:cNvSpPr/>
          <p:nvPr/>
        </p:nvSpPr>
        <p:spPr>
          <a:xfrm>
            <a:off x="433440" y="1714680"/>
            <a:ext cx="528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对铁酸钙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28760" y="2286000"/>
            <a:ext cx="685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CaO– SiO2 –FeO</a:t>
            </a:r>
            <a:r>
              <a:rPr b="1" i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x</a:t>
            </a: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中的相关系与熔化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71680" y="2214720"/>
            <a:ext cx="3357360" cy="360"/>
            <a:chOff x="571680" y="2214720"/>
            <a:chExt cx="3357360" cy="360"/>
          </a:xfrm>
        </p:grpSpPr>
        <p:sp>
          <p:nvSpPr>
            <p:cNvPr id="224" name="Line 12"/>
            <p:cNvSpPr/>
            <p:nvPr/>
          </p:nvSpPr>
          <p:spPr>
            <a:xfrm>
              <a:off x="571680" y="221472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71680" y="2214720"/>
              <a:ext cx="3357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49360" y="3240000"/>
            <a:ext cx="3379680" cy="46080"/>
            <a:chOff x="549360" y="3240000"/>
            <a:chExt cx="3379680" cy="46080"/>
          </a:xfrm>
        </p:grpSpPr>
        <p:sp>
          <p:nvSpPr>
            <p:cNvPr id="227" name="Line 12"/>
            <p:cNvSpPr/>
            <p:nvPr/>
          </p:nvSpPr>
          <p:spPr>
            <a:xfrm>
              <a:off x="549360" y="3240000"/>
              <a:ext cx="3379680" cy="4608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549360" y="3240000"/>
              <a:ext cx="3379680" cy="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00040" y="4357800"/>
            <a:ext cx="3379680" cy="1440"/>
            <a:chOff x="500040" y="4357800"/>
            <a:chExt cx="3379680" cy="1440"/>
          </a:xfrm>
        </p:grpSpPr>
        <p:sp>
          <p:nvSpPr>
            <p:cNvPr id="230" name="Line 12"/>
            <p:cNvSpPr/>
            <p:nvPr/>
          </p:nvSpPr>
          <p:spPr>
            <a:xfrm>
              <a:off x="500040" y="4357800"/>
              <a:ext cx="3379680" cy="144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500040" y="4357800"/>
              <a:ext cx="3379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286160" y="1928880"/>
            <a:ext cx="4572000" cy="1214280"/>
            <a:chOff x="4286160" y="1928880"/>
            <a:chExt cx="4572000" cy="1214280"/>
          </a:xfrm>
        </p:grpSpPr>
        <p:sp>
          <p:nvSpPr>
            <p:cNvPr id="233" name="圆角矩形标注 24"/>
            <p:cNvSpPr/>
            <p:nvPr/>
          </p:nvSpPr>
          <p:spPr>
            <a:xfrm>
              <a:off x="4286160" y="1928880"/>
              <a:ext cx="4572000" cy="1214280"/>
            </a:xfrm>
            <a:prstGeom prst="wedgeRoundRectCallout">
              <a:avLst>
                <a:gd name="adj1" fmla="val -57657"/>
                <a:gd name="adj2" fmla="val 1737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5"/>
            <p:cNvSpPr/>
            <p:nvPr/>
          </p:nvSpPr>
          <p:spPr>
            <a:xfrm>
              <a:off x="4830120" y="1959120"/>
              <a:ext cx="357300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不同氧分压下的相关系与熔化行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不同温度下的相关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071720" y="6929280"/>
            <a:ext cx="5429160" cy="4205520"/>
            <a:chOff x="1071720" y="6929280"/>
            <a:chExt cx="5429160" cy="4205520"/>
          </a:xfrm>
        </p:grpSpPr>
        <p:pic>
          <p:nvPicPr>
            <p:cNvPr id="236" name="图片 25" descr=""/>
            <p:cNvPicPr/>
            <p:nvPr/>
          </p:nvPicPr>
          <p:blipFill>
            <a:blip r:embed="rId2"/>
            <a:stretch/>
          </p:blipFill>
          <p:spPr>
            <a:xfrm>
              <a:off x="1571760" y="6929280"/>
              <a:ext cx="4500720" cy="37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矩形 28"/>
            <p:cNvSpPr/>
            <p:nvPr/>
          </p:nvSpPr>
          <p:spPr>
            <a:xfrm>
              <a:off x="1071720" y="10573200"/>
              <a:ext cx="542916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同气氛下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300 ℃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个液相区，特别在空气下渣相主要氧化物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而在低压下则是铁尖晶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064200" y="6858000"/>
            <a:ext cx="4874040" cy="4155120"/>
            <a:chOff x="6064200" y="6858000"/>
            <a:chExt cx="4874040" cy="4155120"/>
          </a:xfrm>
        </p:grpSpPr>
        <p:pic>
          <p:nvPicPr>
            <p:cNvPr id="239" name="图片 26" descr=""/>
            <p:cNvPicPr/>
            <p:nvPr/>
          </p:nvPicPr>
          <p:blipFill>
            <a:blip r:embed="rId3"/>
            <a:stretch/>
          </p:blipFill>
          <p:spPr>
            <a:xfrm>
              <a:off x="6215040" y="6858000"/>
              <a:ext cx="4500720" cy="37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矩形 29"/>
            <p:cNvSpPr/>
            <p:nvPr/>
          </p:nvSpPr>
          <p:spPr>
            <a:xfrm>
              <a:off x="6064200" y="10644840"/>
              <a:ext cx="487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70℃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CC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平面上的相组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6"/>
          <p:cNvSpPr/>
          <p:nvPr/>
        </p:nvSpPr>
        <p:spPr>
          <a:xfrm>
            <a:off x="433440" y="3357720"/>
            <a:ext cx="528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SFCA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中不同组元的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响机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43" name="矩形 32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33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34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L 0.28334 -0.84004 E">
                                      <p:cBhvr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-0.84004 L -0.00798 0.02083 E">
                                      <p:cBhvr>
                                        <p:cTn id="163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01597 L -0.22934 -0.80255 E">
                                      <p:cBhvr>
                                        <p:cTn id="165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3 -0.80324 L 0.01579 0.03658 E">
                                      <p:cBhvr>
                                        <p:cTn id="16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4214880" y="1857240"/>
            <a:ext cx="4572000" cy="2714760"/>
            <a:chOff x="4214880" y="1857240"/>
            <a:chExt cx="4572000" cy="2714760"/>
          </a:xfrm>
        </p:grpSpPr>
        <p:sp>
          <p:nvSpPr>
            <p:cNvPr id="248" name="圆角矩形标注 35"/>
            <p:cNvSpPr/>
            <p:nvPr/>
          </p:nvSpPr>
          <p:spPr>
            <a:xfrm>
              <a:off x="4214880" y="1857240"/>
              <a:ext cx="4500720" cy="2714760"/>
            </a:xfrm>
            <a:prstGeom prst="wedgeRoundRectCallout">
              <a:avLst>
                <a:gd name="adj1" fmla="val -57717"/>
                <a:gd name="adj2" fmla="val 2537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5"/>
            <p:cNvSpPr/>
            <p:nvPr/>
          </p:nvSpPr>
          <p:spPr>
            <a:xfrm>
              <a:off x="4429080" y="1956960"/>
              <a:ext cx="4357800" cy="25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：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影响液相结构和铁酸钙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组织形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1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影响铁酸钙的生成温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和不同温度下的稳定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MgO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影响液相的熔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640" y="0"/>
            <a:ext cx="2632320" cy="1829160"/>
            <a:chOff x="53640" y="0"/>
            <a:chExt cx="2632320" cy="1829160"/>
          </a:xfrm>
        </p:grpSpPr>
        <p:sp>
          <p:nvSpPr>
            <p:cNvPr id="251" name="圆角矩形​​ 2"/>
            <p:cNvSpPr/>
            <p:nvPr/>
          </p:nvSpPr>
          <p:spPr>
            <a:xfrm rot="21283200">
              <a:off x="107640" y="671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直接连接符​​ 11"/>
            <p:cNvSpPr/>
            <p:nvPr/>
          </p:nvSpPr>
          <p:spPr>
            <a:xfrm flipV="1">
              <a:off x="485640" y="104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​​ 13"/>
            <p:cNvSpPr/>
            <p:nvPr/>
          </p:nvSpPr>
          <p:spPr>
            <a:xfrm>
              <a:off x="1811160" y="104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​​ 4"/>
            <p:cNvSpPr/>
            <p:nvPr/>
          </p:nvSpPr>
          <p:spPr>
            <a:xfrm>
              <a:off x="1523160" y="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​​ 6"/>
            <p:cNvSpPr/>
            <p:nvPr/>
          </p:nvSpPr>
          <p:spPr>
            <a:xfrm>
              <a:off x="1583640" y="43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同侧圆角矩形 30"/>
            <p:cNvSpPr/>
            <p:nvPr/>
          </p:nvSpPr>
          <p:spPr>
            <a:xfrm rot="21294600">
              <a:off x="70920" y="678240"/>
              <a:ext cx="2525760" cy="506160"/>
            </a:xfrm>
            <a:custGeom>
              <a:avLst/>
              <a:gdLst>
                <a:gd name="textAreaLeft" fmla="*/ 0 w 2525760"/>
                <a:gd name="textAreaRight" fmla="*/ 2525760 w 25257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圆角矩形​​ 3"/>
            <p:cNvSpPr/>
            <p:nvPr/>
          </p:nvSpPr>
          <p:spPr>
            <a:xfrm rot="21283200">
              <a:off x="230760" y="759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​​ 8"/>
            <p:cNvSpPr/>
            <p:nvPr/>
          </p:nvSpPr>
          <p:spPr>
            <a:xfrm rot="21283200">
              <a:off x="437400" y="747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​​ 9"/>
            <p:cNvSpPr/>
            <p:nvPr/>
          </p:nvSpPr>
          <p:spPr>
            <a:xfrm rot="21283200">
              <a:off x="2159280" y="632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28760" y="1714680"/>
            <a:ext cx="6858000" cy="2571840"/>
            <a:chOff x="428760" y="1714680"/>
            <a:chExt cx="6858000" cy="2571840"/>
          </a:xfrm>
        </p:grpSpPr>
        <p:sp>
          <p:nvSpPr>
            <p:cNvPr id="261" name="Rectangle 6"/>
            <p:cNvSpPr/>
            <p:nvPr/>
          </p:nvSpPr>
          <p:spPr>
            <a:xfrm>
              <a:off x="433440" y="171468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对铁酸钙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428760" y="228600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CaO– SiO2 –FeO</a:t>
              </a:r>
              <a:r>
                <a:rPr b="1" i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的相关系与熔化特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71320" y="2214720"/>
              <a:ext cx="3357360" cy="360"/>
              <a:chOff x="571320" y="2214720"/>
              <a:chExt cx="3357360" cy="360"/>
            </a:xfrm>
          </p:grpSpPr>
          <p:sp>
            <p:nvSpPr>
              <p:cNvPr id="264" name="Line 12"/>
              <p:cNvSpPr/>
              <p:nvPr/>
            </p:nvSpPr>
            <p:spPr>
              <a:xfrm>
                <a:off x="571320" y="221472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571320" y="221472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549360" y="3240360"/>
              <a:ext cx="3379680" cy="45720"/>
              <a:chOff x="549360" y="3240360"/>
              <a:chExt cx="3379680" cy="45720"/>
            </a:xfrm>
          </p:grpSpPr>
          <p:sp>
            <p:nvSpPr>
              <p:cNvPr id="267" name="Line 12"/>
              <p:cNvSpPr/>
              <p:nvPr/>
            </p:nvSpPr>
            <p:spPr>
              <a:xfrm>
                <a:off x="549360" y="324036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549360" y="324036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9360" y="4286160"/>
              <a:ext cx="3379680" cy="360"/>
              <a:chOff x="549360" y="4286160"/>
              <a:chExt cx="3379680" cy="360"/>
            </a:xfrm>
          </p:grpSpPr>
          <p:sp>
            <p:nvSpPr>
              <p:cNvPr id="270" name="Line 12"/>
              <p:cNvSpPr/>
              <p:nvPr/>
            </p:nvSpPr>
            <p:spPr>
              <a:xfrm>
                <a:off x="549360" y="4286160"/>
                <a:ext cx="337968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549360" y="4286160"/>
                <a:ext cx="337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Rectangle 6"/>
            <p:cNvSpPr/>
            <p:nvPr/>
          </p:nvSpPr>
          <p:spPr>
            <a:xfrm>
              <a:off x="433440" y="335772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中不同组元的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响机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矩形 36"/>
          <p:cNvSpPr/>
          <p:nvPr/>
        </p:nvSpPr>
        <p:spPr>
          <a:xfrm>
            <a:off x="571680" y="52862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组元影响程度主要通过它们在烧结矿中含量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571920" y="4929120"/>
            <a:ext cx="5214960" cy="1571760"/>
            <a:chOff x="3571920" y="4929120"/>
            <a:chExt cx="5214960" cy="1571760"/>
          </a:xfrm>
        </p:grpSpPr>
        <p:grpSp>
          <p:nvGrpSpPr>
            <p:cNvPr id="275" name=""/>
            <p:cNvGrpSpPr/>
            <p:nvPr/>
          </p:nvGrpSpPr>
          <p:grpSpPr>
            <a:xfrm>
              <a:off x="3571920" y="4929120"/>
              <a:ext cx="1500120" cy="1571760"/>
              <a:chOff x="3571920" y="4929120"/>
              <a:chExt cx="1500120" cy="1571760"/>
            </a:xfrm>
          </p:grpSpPr>
          <p:sp>
            <p:nvSpPr>
              <p:cNvPr id="276" name="Enter Code"/>
              <p:cNvSpPr/>
              <p:nvPr/>
            </p:nvSpPr>
            <p:spPr>
              <a:xfrm>
                <a:off x="357192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.5%~5.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Enter Code"/>
              <p:cNvSpPr/>
              <p:nvPr/>
            </p:nvSpPr>
            <p:spPr>
              <a:xfrm>
                <a:off x="357192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O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5429160" y="4929120"/>
              <a:ext cx="1500120" cy="1571760"/>
              <a:chOff x="5429160" y="4929120"/>
              <a:chExt cx="1500120" cy="1571760"/>
            </a:xfrm>
          </p:grpSpPr>
          <p:sp>
            <p:nvSpPr>
              <p:cNvPr id="279" name="Enter Code"/>
              <p:cNvSpPr/>
              <p:nvPr/>
            </p:nvSpPr>
            <p:spPr>
              <a:xfrm>
                <a:off x="542916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0.37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Enter Code"/>
              <p:cNvSpPr/>
              <p:nvPr/>
            </p:nvSpPr>
            <p:spPr>
              <a:xfrm>
                <a:off x="542916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7286760" y="4929120"/>
              <a:ext cx="1500120" cy="1571760"/>
              <a:chOff x="7286760" y="4929120"/>
              <a:chExt cx="1500120" cy="1571760"/>
            </a:xfrm>
          </p:grpSpPr>
          <p:sp>
            <p:nvSpPr>
              <p:cNvPr id="282" name="Enter Code"/>
              <p:cNvSpPr/>
              <p:nvPr/>
            </p:nvSpPr>
            <p:spPr>
              <a:xfrm>
                <a:off x="728676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2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Enter Code"/>
              <p:cNvSpPr/>
              <p:nvPr/>
            </p:nvSpPr>
            <p:spPr>
              <a:xfrm>
                <a:off x="728676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矩形 75"/>
            <p:cNvSpPr/>
            <p:nvPr/>
          </p:nvSpPr>
          <p:spPr>
            <a:xfrm>
              <a:off x="4538520" y="4997160"/>
              <a:ext cx="31568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1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/Si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直接连接符 79"/>
          <p:cNvSpPr/>
          <p:nvPr/>
        </p:nvSpPr>
        <p:spPr>
          <a:xfrm>
            <a:off x="3286080" y="5500800"/>
            <a:ext cx="5857920" cy="1440"/>
          </a:xfrm>
          <a:prstGeom prst="line">
            <a:avLst/>
          </a:prstGeom>
          <a:ln w="25560">
            <a:solidFill>
              <a:srgbClr val="84c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87" name="矩形 87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88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89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291" name="矩形 49"/>
          <p:cNvSpPr/>
          <p:nvPr/>
        </p:nvSpPr>
        <p:spPr>
          <a:xfrm>
            <a:off x="0" y="71424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93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任意多边形 125"/>
          <p:cNvSpPr/>
          <p:nvPr/>
        </p:nvSpPr>
        <p:spPr>
          <a:xfrm>
            <a:off x="725400" y="1924200"/>
            <a:ext cx="8355240" cy="717480"/>
          </a:xfrm>
          <a:custGeom>
            <a:avLst/>
            <a:gdLst>
              <a:gd name="textAreaLeft" fmla="*/ 0 w 8355240"/>
              <a:gd name="textAreaRight" fmla="*/ 8355600 w 83552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8355724" h="717331">
                <a:moveTo>
                  <a:pt x="0" y="0"/>
                </a:moveTo>
                <a:cubicBezTo>
                  <a:pt x="328448" y="147144"/>
                  <a:pt x="656896" y="294289"/>
                  <a:pt x="1087820" y="346841"/>
                </a:cubicBezTo>
                <a:cubicBezTo>
                  <a:pt x="1518744" y="399393"/>
                  <a:pt x="2060028" y="262758"/>
                  <a:pt x="2585545" y="315310"/>
                </a:cubicBezTo>
                <a:cubicBezTo>
                  <a:pt x="3111062" y="367862"/>
                  <a:pt x="3697014" y="606973"/>
                  <a:pt x="4240924" y="662152"/>
                </a:cubicBezTo>
                <a:cubicBezTo>
                  <a:pt x="4784834" y="717331"/>
                  <a:pt x="5320862" y="701565"/>
                  <a:pt x="5849007" y="646386"/>
                </a:cubicBezTo>
                <a:cubicBezTo>
                  <a:pt x="6377152" y="591207"/>
                  <a:pt x="6992007" y="404648"/>
                  <a:pt x="7409793" y="331076"/>
                </a:cubicBezTo>
                <a:cubicBezTo>
                  <a:pt x="7827579" y="257504"/>
                  <a:pt x="8274269" y="270642"/>
                  <a:pt x="8355724" y="2049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298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同侧圆角矩形 90"/>
            <p:cNvSpPr/>
            <p:nvPr/>
          </p:nvSpPr>
          <p:spPr>
            <a:xfrm rot="21294600">
              <a:off x="0" y="313380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308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同侧圆角矩形 100"/>
            <p:cNvSpPr/>
            <p:nvPr/>
          </p:nvSpPr>
          <p:spPr>
            <a:xfrm rot="21294600">
              <a:off x="3142800" y="34192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318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同侧圆角矩形 110"/>
            <p:cNvSpPr/>
            <p:nvPr/>
          </p:nvSpPr>
          <p:spPr>
            <a:xfrm rot="21294600">
              <a:off x="6238440" y="32050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135320" y="5072040"/>
            <a:ext cx="1325880" cy="1165320"/>
            <a:chOff x="4135320" y="5072040"/>
            <a:chExt cx="1325880" cy="1165320"/>
          </a:xfrm>
        </p:grpSpPr>
        <p:sp>
          <p:nvSpPr>
            <p:cNvPr id="328" name="Rounded Rectangle 95"/>
            <p:cNvSpPr/>
            <p:nvPr/>
          </p:nvSpPr>
          <p:spPr>
            <a:xfrm>
              <a:off x="4365720" y="507204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ounded Rectangle 97"/>
            <p:cNvSpPr/>
            <p:nvPr/>
          </p:nvSpPr>
          <p:spPr>
            <a:xfrm>
              <a:off x="450972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ounded Rectangle 103"/>
            <p:cNvSpPr/>
            <p:nvPr/>
          </p:nvSpPr>
          <p:spPr>
            <a:xfrm>
              <a:off x="497808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ounded Rectangle 104"/>
            <p:cNvSpPr/>
            <p:nvPr/>
          </p:nvSpPr>
          <p:spPr>
            <a:xfrm rot="2700000">
              <a:off x="419508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ounded Rectangle 105"/>
            <p:cNvSpPr/>
            <p:nvPr/>
          </p:nvSpPr>
          <p:spPr>
            <a:xfrm flipH="1" rot="18900000">
              <a:off x="528876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4600080" y="5391360"/>
              <a:ext cx="396000" cy="263160"/>
              <a:chOff x="4600080" y="5391360"/>
              <a:chExt cx="396000" cy="263160"/>
            </a:xfrm>
          </p:grpSpPr>
          <p:sp>
            <p:nvSpPr>
              <p:cNvPr id="334" name="Rounded Rectangle 108"/>
              <p:cNvSpPr/>
              <p:nvPr/>
            </p:nvSpPr>
            <p:spPr>
              <a:xfrm>
                <a:off x="460008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ounded Rectangle 109"/>
              <p:cNvSpPr/>
              <p:nvPr/>
            </p:nvSpPr>
            <p:spPr>
              <a:xfrm>
                <a:off x="485208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F11-8502-466C-B25C-BADC7F5B5FF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4357800" y="1714680"/>
            <a:ext cx="4500360" cy="1571400"/>
            <a:chOff x="4357800" y="1714680"/>
            <a:chExt cx="4500360" cy="1571400"/>
          </a:xfrm>
        </p:grpSpPr>
        <p:sp>
          <p:nvSpPr>
            <p:cNvPr id="338" name="圆角矩形标注 70"/>
            <p:cNvSpPr/>
            <p:nvPr/>
          </p:nvSpPr>
          <p:spPr>
            <a:xfrm>
              <a:off x="4357800" y="1714680"/>
              <a:ext cx="4500360" cy="1571400"/>
            </a:xfrm>
            <a:prstGeom prst="wedgeRoundRectCallout">
              <a:avLst>
                <a:gd name="adj1" fmla="val -57712"/>
                <a:gd name="adj2" fmla="val -29148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4414680" y="1957320"/>
              <a:ext cx="2353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相图的计算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相图的绘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341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571320" y="2311200"/>
              <a:ext cx="3357360" cy="360"/>
              <a:chOff x="571320" y="2311200"/>
              <a:chExt cx="3357360" cy="360"/>
            </a:xfrm>
          </p:grpSpPr>
          <p:sp>
            <p:nvSpPr>
              <p:cNvPr id="344" name="Line 12"/>
              <p:cNvSpPr/>
              <p:nvPr/>
            </p:nvSpPr>
            <p:spPr>
              <a:xfrm>
                <a:off x="571320" y="231120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 txBox="1"/>
              <p:nvPr/>
            </p:nvSpPr>
            <p:spPr>
              <a:xfrm>
                <a:off x="571320" y="231120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549360" y="2837520"/>
              <a:ext cx="3379680" cy="45720"/>
              <a:chOff x="549360" y="2837520"/>
              <a:chExt cx="3379680" cy="45720"/>
            </a:xfrm>
          </p:grpSpPr>
          <p:sp>
            <p:nvSpPr>
              <p:cNvPr id="347" name="Line 12"/>
              <p:cNvSpPr/>
              <p:nvPr/>
            </p:nvSpPr>
            <p:spPr>
              <a:xfrm>
                <a:off x="549360" y="283752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>
                <a:off x="549360" y="283752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549360" y="3383280"/>
              <a:ext cx="3379680" cy="45720"/>
              <a:chOff x="549360" y="3383280"/>
              <a:chExt cx="3379680" cy="45720"/>
            </a:xfrm>
          </p:grpSpPr>
          <p:sp>
            <p:nvSpPr>
              <p:cNvPr id="350" name="Line 12"/>
              <p:cNvSpPr/>
              <p:nvPr/>
            </p:nvSpPr>
            <p:spPr>
              <a:xfrm>
                <a:off x="549360" y="338328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 txBox="1"/>
              <p:nvPr/>
            </p:nvSpPr>
            <p:spPr>
              <a:xfrm>
                <a:off x="549360" y="338328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2560" y="6858000"/>
            <a:ext cx="2993760" cy="1916640"/>
            <a:chOff x="52560" y="6858000"/>
            <a:chExt cx="2993760" cy="1916640"/>
          </a:xfrm>
        </p:grpSpPr>
        <p:sp>
          <p:nvSpPr>
            <p:cNvPr id="354" name="圆角矩形​​ 2"/>
            <p:cNvSpPr/>
            <p:nvPr/>
          </p:nvSpPr>
          <p:spPr>
            <a:xfrm rot="21283200">
              <a:off x="112680" y="7513920"/>
              <a:ext cx="2887560" cy="11300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直接连接符​​ 11"/>
            <p:cNvSpPr/>
            <p:nvPr/>
          </p:nvSpPr>
          <p:spPr>
            <a:xfrm flipV="1">
              <a:off x="543240" y="7049880"/>
              <a:ext cx="1147320" cy="5461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​​ 13"/>
            <p:cNvSpPr/>
            <p:nvPr/>
          </p:nvSpPr>
          <p:spPr>
            <a:xfrm>
              <a:off x="1923120" y="7050240"/>
              <a:ext cx="581040" cy="421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​​ 4"/>
            <p:cNvSpPr/>
            <p:nvPr/>
          </p:nvSpPr>
          <p:spPr>
            <a:xfrm>
              <a:off x="1643040" y="685800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​​ 6"/>
            <p:cNvSpPr/>
            <p:nvPr/>
          </p:nvSpPr>
          <p:spPr>
            <a:xfrm>
              <a:off x="1714320" y="6929280"/>
              <a:ext cx="189000" cy="129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同侧圆角矩形 30"/>
            <p:cNvSpPr/>
            <p:nvPr/>
          </p:nvSpPr>
          <p:spPr>
            <a:xfrm rot="21294600">
              <a:off x="70920" y="7521480"/>
              <a:ext cx="2876400" cy="54828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圆角矩形​​ 3"/>
            <p:cNvSpPr/>
            <p:nvPr/>
          </p:nvSpPr>
          <p:spPr>
            <a:xfrm rot="21283200">
              <a:off x="238680" y="7623720"/>
              <a:ext cx="2642760" cy="932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椭圆​​ 8"/>
            <p:cNvSpPr/>
            <p:nvPr/>
          </p:nvSpPr>
          <p:spPr>
            <a:xfrm rot="21283200">
              <a:off x="487800" y="759636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椭圆​​ 9"/>
            <p:cNvSpPr/>
            <p:nvPr/>
          </p:nvSpPr>
          <p:spPr>
            <a:xfrm rot="21283200">
              <a:off x="2448720" y="747216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364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-2880" y="4071960"/>
            <a:ext cx="5289120" cy="1393920"/>
            <a:chOff x="-2880" y="4071960"/>
            <a:chExt cx="5289120" cy="1393920"/>
          </a:xfrm>
        </p:grpSpPr>
        <p:sp>
          <p:nvSpPr>
            <p:cNvPr id="370" name="矩形 37"/>
            <p:cNvSpPr/>
            <p:nvPr/>
          </p:nvSpPr>
          <p:spPr>
            <a:xfrm>
              <a:off x="28800" y="4274280"/>
              <a:ext cx="407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自由能最小法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38"/>
            <p:cNvSpPr/>
            <p:nvPr/>
          </p:nvSpPr>
          <p:spPr>
            <a:xfrm>
              <a:off x="-2880" y="4917600"/>
              <a:ext cx="30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等化学势法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Picture 1" descr=""/>
            <p:cNvPicPr/>
            <p:nvPr/>
          </p:nvPicPr>
          <p:blipFill>
            <a:blip r:embed="rId2"/>
            <a:stretch/>
          </p:blipFill>
          <p:spPr>
            <a:xfrm>
              <a:off x="2480760" y="4071960"/>
              <a:ext cx="418320" cy="71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3" descr=""/>
            <p:cNvPicPr/>
            <p:nvPr/>
          </p:nvPicPr>
          <p:blipFill>
            <a:blip r:embed="rId3"/>
            <a:stretch/>
          </p:blipFill>
          <p:spPr>
            <a:xfrm>
              <a:off x="2428920" y="4572360"/>
              <a:ext cx="285732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"/>
          <p:cNvGrpSpPr/>
          <p:nvPr/>
        </p:nvGrpSpPr>
        <p:grpSpPr>
          <a:xfrm>
            <a:off x="1571760" y="3786120"/>
            <a:ext cx="6500520" cy="2672280"/>
            <a:chOff x="1571760" y="3786120"/>
            <a:chExt cx="6500520" cy="2672280"/>
          </a:xfrm>
        </p:grpSpPr>
        <p:grpSp>
          <p:nvGrpSpPr>
            <p:cNvPr id="375" name=""/>
            <p:cNvGrpSpPr/>
            <p:nvPr/>
          </p:nvGrpSpPr>
          <p:grpSpPr>
            <a:xfrm>
              <a:off x="1571760" y="4500360"/>
              <a:ext cx="2639880" cy="642960"/>
              <a:chOff x="1571760" y="4500360"/>
              <a:chExt cx="2639880" cy="642960"/>
            </a:xfrm>
          </p:grpSpPr>
          <p:sp>
            <p:nvSpPr>
              <p:cNvPr id="376" name="AutoShape 10"/>
              <p:cNvSpPr/>
              <p:nvPr/>
            </p:nvSpPr>
            <p:spPr>
              <a:xfrm>
                <a:off x="1571760" y="4500360"/>
                <a:ext cx="2500200" cy="64296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1720800" y="4520160"/>
                <a:ext cx="2490840" cy="594360"/>
                <a:chOff x="1720800" y="4520160"/>
                <a:chExt cx="2490840" cy="594360"/>
              </a:xfrm>
            </p:grpSpPr>
            <p:sp>
              <p:nvSpPr>
                <p:cNvPr id="378" name="AutoShape 12"/>
                <p:cNvSpPr/>
                <p:nvPr/>
              </p:nvSpPr>
              <p:spPr>
                <a:xfrm>
                  <a:off x="1720800" y="4960800"/>
                  <a:ext cx="249084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AutoShape 13"/>
                <p:cNvSpPr/>
                <p:nvPr/>
              </p:nvSpPr>
              <p:spPr>
                <a:xfrm>
                  <a:off x="1720800" y="4520160"/>
                  <a:ext cx="249084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0" name=""/>
            <p:cNvGrpSpPr/>
            <p:nvPr/>
          </p:nvGrpSpPr>
          <p:grpSpPr>
            <a:xfrm>
              <a:off x="1857240" y="3786120"/>
              <a:ext cx="6215040" cy="2672280"/>
              <a:chOff x="1857240" y="3786120"/>
              <a:chExt cx="6215040" cy="267228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1857240" y="3786120"/>
                <a:ext cx="6215040" cy="1821960"/>
                <a:chOff x="1857240" y="3786120"/>
                <a:chExt cx="6215040" cy="1821960"/>
              </a:xfrm>
            </p:grpSpPr>
            <p:cxnSp>
              <p:nvCxnSpPr>
                <p:cNvPr id="382" name="肘形连接符​​ 9"/>
                <p:cNvCxnSpPr/>
                <p:nvPr/>
              </p:nvCxnSpPr>
              <p:spPr>
                <a:xfrm flipH="1" flipV="1" rot="5400000">
                  <a:off x="3356280" y="3714120"/>
                  <a:ext cx="250560" cy="1322280"/>
                </a:xfrm>
                <a:prstGeom prst="bentConnector2">
                  <a:avLst/>
                </a:prstGeom>
                <a:ln w="19080">
                  <a:solidFill>
                    <a:srgbClr val="009ad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383" name="肘形连接符​​ 11"/>
                <p:cNvCxnSpPr/>
                <p:nvPr/>
              </p:nvCxnSpPr>
              <p:spPr>
                <a:xfrm flipH="1" rot="16200000">
                  <a:off x="3285000" y="4678920"/>
                  <a:ext cx="465120" cy="1393560"/>
                </a:xfrm>
                <a:prstGeom prst="bentConnector2">
                  <a:avLst/>
                </a:prstGeom>
                <a:ln w="19080">
                  <a:solidFill>
                    <a:srgbClr val="009ad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sp>
              <p:nvSpPr>
                <p:cNvPr id="384" name="TextBox 44"/>
                <p:cNvSpPr/>
                <p:nvPr/>
              </p:nvSpPr>
              <p:spPr>
                <a:xfrm>
                  <a:off x="1857240" y="4643280"/>
                  <a:ext cx="192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相图的研究方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"/>
                <p:cNvGrpSpPr/>
                <p:nvPr/>
              </p:nvGrpSpPr>
              <p:grpSpPr>
                <a:xfrm>
                  <a:off x="4143240" y="3786120"/>
                  <a:ext cx="3929040" cy="928800"/>
                  <a:chOff x="4143240" y="3786120"/>
                  <a:chExt cx="3929040" cy="928800"/>
                </a:xfrm>
              </p:grpSpPr>
              <p:sp>
                <p:nvSpPr>
                  <p:cNvPr id="386" name="圆角矩形​​ 4"/>
                  <p:cNvSpPr/>
                  <p:nvPr/>
                </p:nvSpPr>
                <p:spPr>
                  <a:xfrm>
                    <a:off x="4143240" y="3786120"/>
                    <a:ext cx="3929040" cy="9288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90a5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TextBox 72"/>
                  <p:cNvSpPr/>
                  <p:nvPr/>
                </p:nvSpPr>
                <p:spPr>
                  <a:xfrm>
                    <a:off x="4500360" y="3786120"/>
                    <a:ext cx="328608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914400" indent="-914400">
                      <a:lnSpc>
                        <a:spcPct val="15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             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实验方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914400" indent="-914400">
                      <a:lnSpc>
                        <a:spcPct val="15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(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测平衡相组成、成分熔点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" name=""/>
              <p:cNvGrpSpPr/>
              <p:nvPr/>
            </p:nvGrpSpPr>
            <p:grpSpPr>
              <a:xfrm>
                <a:off x="4214520" y="5130000"/>
                <a:ext cx="3857760" cy="1328400"/>
                <a:chOff x="4214520" y="5130000"/>
                <a:chExt cx="3857760" cy="1328400"/>
              </a:xfrm>
            </p:grpSpPr>
            <p:sp>
              <p:nvSpPr>
                <p:cNvPr id="389" name="圆角矩形​​ 7"/>
                <p:cNvSpPr/>
                <p:nvPr/>
              </p:nvSpPr>
              <p:spPr>
                <a:xfrm>
                  <a:off x="4214520" y="5143320"/>
                  <a:ext cx="3786480" cy="9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3240">
                  <a:solidFill>
                    <a:srgbClr val="90a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Box 76"/>
                <p:cNvSpPr/>
                <p:nvPr/>
              </p:nvSpPr>
              <p:spPr>
                <a:xfrm>
                  <a:off x="4285800" y="5130000"/>
                  <a:ext cx="3786480" cy="13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    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软件计算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CALPHA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914400" indent="-914400">
                    <a:lnSpc>
                      <a:spcPct val="15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Factsag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ANDAT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MTDATAE                          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1.94444E-006 -1.0081 E">
                                      <p:cBhvr>
                                        <p:cTn id="217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3:00Z</dcterms:created>
  <dc:creator>琪琪</dc:creator>
  <dc:description/>
  <dc:language>en-US</dc:language>
  <cp:lastModifiedBy>新萝卜家园</cp:lastModifiedBy>
  <dcterms:modified xsi:type="dcterms:W3CDTF">2015-07-23T03:20:33Z</dcterms:modified>
  <cp:revision>307</cp:revision>
  <dc:subject/>
  <dc:title>    Female Authority and Narrative Voice  A Feminist Narratological Reading of Tillie Olsen’s Work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