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17F0-80A4-4A48-B763-7ABD19A1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11E-A101-43F9-9AEE-CB7176AB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48A-931E-4FBF-AE8C-5DD8F11C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7053-C3D8-443F-90CF-A6A41CFE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FA35-B061-4A14-98A4-DFF64AD7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D5C7-9014-4017-83B8-BBEA0D45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DB26-1BEE-44B4-890B-05FF6E77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A1E6-5059-4957-83D2-C8F0C138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C002-9680-4A96-987D-5F7FD953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4499-8010-4EF1-AEFF-7DA86320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F4D4-A533-48C4-A2FC-F9B7D49C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45A3-4D49-4220-A838-C3568B93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D4DE-7F27-451E-B71C-282B2C70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98A2-6CC5-49D8-943B-940CAA40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5533-747C-4D04-BDC4-91AFFD64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AD22-C13B-484D-B191-7A844431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64BC-A8D7-4BAB-91B6-DE8CA9E6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858-8378-4DD9-86F6-B13B132A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782E-18B9-430E-9F97-2D4963AF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0C9-9C8A-4D95-95B0-2B62E19C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903-24B5-41A3-A503-7434F169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8C80-EF2C-42C1-B2E2-BF2A739B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6B09-87DA-44B3-AB32-259B3D0A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BF3-56EB-4D38-8DFF-64917B16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AC9326-0883-41B2-884E-7A4BA509297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F3B4D3-EA74-44F9-B244-B0BAE4550C5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5" name="矩形 4"/>
          <p:cNvSpPr/>
          <p:nvPr/>
        </p:nvSpPr>
        <p:spPr>
          <a:xfrm>
            <a:off x="1855080" y="3000240"/>
            <a:ext cx="49845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5d5d5d"/>
                </a:solidFill>
                <a:latin typeface="Calibri"/>
              </a:rPr>
              <a:t>喜迎我们的节日</a:t>
            </a:r>
            <a:r>
              <a:rPr b="1" lang="en-US" sz="5400" spc="-1" strike="noStrike">
                <a:solidFill>
                  <a:srgbClr val="5d5d5d"/>
                </a:solidFill>
                <a:latin typeface="Calibri"/>
              </a:rPr>
              <a:t>—开斋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5840" y="714240"/>
            <a:ext cx="432864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斋月是穆民求主喜悦的乐园，斋戒是洗涤穆民灵魂的清泉，开斋节是穆民丰收的秋天，祝你今秋的收获辉煌灿烂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深秋斋月月光明，风吹百花花正香。穆民欢乐乐开怀，普天同庆庆开斋。奉承主道道色兰，亲情友情情义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786200" y="0"/>
            <a:ext cx="4357440" cy="3499920"/>
          </a:xfrm>
          <a:prstGeom prst="rect">
            <a:avLst/>
          </a:prstGeom>
          <a:ln w="9525">
            <a:noFill/>
          </a:ln>
        </p:spPr>
      </p:pic>
      <p:sp>
        <p:nvSpPr>
          <p:cNvPr id="89" name="内容占位符 2"/>
          <p:cNvSpPr/>
          <p:nvPr/>
        </p:nvSpPr>
        <p:spPr>
          <a:xfrm>
            <a:off x="4429080" y="3286080"/>
            <a:ext cx="432864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内容占位符 2"/>
          <p:cNvSpPr/>
          <p:nvPr/>
        </p:nvSpPr>
        <p:spPr>
          <a:xfrm>
            <a:off x="4815000" y="3714840"/>
            <a:ext cx="4328640" cy="31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内容占位符 2"/>
          <p:cNvSpPr/>
          <p:nvPr/>
        </p:nvSpPr>
        <p:spPr>
          <a:xfrm>
            <a:off x="4786200" y="3571920"/>
            <a:ext cx="435744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8"/>
          <p:cNvSpPr/>
          <p:nvPr/>
        </p:nvSpPr>
        <p:spPr>
          <a:xfrm>
            <a:off x="4714920" y="3857760"/>
            <a:ext cx="3785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请每天赞念一百遍“苏布哈南啦嘿”，“我里哈目都灵俩嘿”、“我俩一俩嗨印兰啦乎”！“完啦乎哎格拜热”、“我俩哈来我俩古穆台，印俩丙俩易里尔勒易里二最咪”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43240" y="714240"/>
            <a:ext cx="3185640" cy="29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7000560"/>
          </a:xfrm>
          <a:prstGeom prst="rect">
            <a:avLst/>
          </a:prstGeom>
          <a:ln w="9525">
            <a:noFill/>
          </a:ln>
        </p:spPr>
      </p:pic>
      <p:sp>
        <p:nvSpPr>
          <p:cNvPr id="96" name="TextBox 4"/>
          <p:cNvSpPr/>
          <p:nvPr/>
        </p:nvSpPr>
        <p:spPr>
          <a:xfrm>
            <a:off x="0" y="733320"/>
            <a:ext cx="91436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安色俩目！黎明的曙光伴着初升的太阳，我们迎来了尊贵的开斋节，在这吉庆的日子里，祈求真主赐予你及你的家人身体健康、生活幸福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惜别了干功，求赎祈惠，受恩的尊贵斋月，喜迎尔德节，愿我们增强敬畏心知感真主，同庆吉祥，共享恩泽！开斋节快乐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先道一声色俩目！再说一声开斋节好！愿安拉赐予幸福、平安、吉祥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祝你体验坚守全美了贵如金的斋月，诚挚的 向你表示祝贺和羡慕！同时，我也在惶恐中祈祷我的主饶恕我的罪行。特别是在这个斋月犯下的罪行！在穆斯林大众普天同庆的日子到来的时候，我却心情很沉重和害怕，我祈求万能的真主饶恕我、护善我。我祈求真主赐福你和你的家庭，在这命运多变难料的岁月中平安、幸福、如意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7071840"/>
          </a:xfrm>
          <a:prstGeom prst="rect">
            <a:avLst/>
          </a:prstGeom>
          <a:ln w="9525">
            <a:noFill/>
          </a:ln>
        </p:spPr>
      </p:pic>
      <p:sp>
        <p:nvSpPr>
          <p:cNvPr id="99" name="TextBox 4"/>
          <p:cNvSpPr/>
          <p:nvPr/>
        </p:nvSpPr>
        <p:spPr>
          <a:xfrm>
            <a:off x="928800" y="1000080"/>
            <a:ext cx="74156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悄悄为你降临的是吉庆；静静为你散放的是温馨；默默为你祝愿的是色兰，深深为你期待的是成功。送上我最真诚的祝愿：开斋节快乐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祝开斋节日快乐！我们共同服从了主的命令，经历了饥渴睡眠的考验，主啊！求你悦纳我们的功课，郝宥我们的罪过，引导我们走上成功之路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色兰：当祥和的阳光洒落在深秋的大地时，尊贵斋月的恩典普及每位虔诚的穆民，祈万能的主为我们降福，愿你的收获成倍于播种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9143640" cy="7071840"/>
          </a:xfrm>
          <a:prstGeom prst="rect">
            <a:avLst/>
          </a:prstGeom>
          <a:ln w="9525">
            <a:noFill/>
          </a:ln>
        </p:spPr>
      </p:pic>
      <p:sp>
        <p:nvSpPr>
          <p:cNvPr id="102" name="TextBox 4"/>
          <p:cNvSpPr/>
          <p:nvPr/>
        </p:nvSpPr>
        <p:spPr>
          <a:xfrm>
            <a:off x="0" y="928800"/>
            <a:ext cx="907164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尊贵的斋月已经结束，愿安拉接受仆人们的善功！在喜庆的开斋节来临之际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**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祝福您和您的家人平安吉庆！节日快乐！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谨致色兰，开斋节快乐！祈求真主赐你拥有六件事物：佳美的食品，健康的身体，完美的智力，优雅的言辞，情投意合的爱人，优秀的子女。阿敏！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秋叶黄，斋月离，黄河之水东流去；尔德节，主恩降，无限恩泽永不断。色俩目，祝平安，幸福常伴合家欢；常记主，同努力，你我明天才能美。祝你及家人节日快乐！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致节日色兰，祝节日快乐！我们共同服从了主的命令，经历了饥渴睡眠的考验，主啊！求你悦纳我们的功课，赦宥我们的罪过，引导我们走上成功之路！阿敏！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送你一粒枣，是伊斯兰之树上结的，伊玛尼是树根，累孜给是树叶，台各瓦是枣核，斋月的恩典是枣肉，我对你的好都阿宜是枣皮！好好吃吧，开斋节快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6" name="TextBox 5"/>
          <p:cNvSpPr/>
          <p:nvPr/>
        </p:nvSpPr>
        <p:spPr>
          <a:xfrm>
            <a:off x="0" y="357120"/>
            <a:ext cx="917964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声声心忠，以信息替我相劝，句句真诚，托手机替我传送，检验一个人的理想之果是什么，不是看他从社会上得到了什么，而是看他给了人类什么，给自己准备了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社会现代化，经济网络化，爱情海外化，信仰世俗化，功修表面化，回汉一律化，人性变态化，处处性文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信仰独一化，遵行古兰化，形象圣贤化，宣传网络化，原则坚定化，生活伊教化，两世并重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异族问酒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你是什么教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酒鬼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是回教，异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有你这么色酒齐全的回教的吗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酒鬼白了一眼异族自信的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回回不吃大肉，不吃大肉的就是回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正邪之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正人喜人干好，邪人喜人干歹，正人心在不平，邪人心在不岔，不平谓之天理，不岔谓人在欲，理胜则天堂之欢，欲胜则地狱之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9" name="TextBox 4"/>
          <p:cNvSpPr/>
          <p:nvPr/>
        </p:nvSpPr>
        <p:spPr>
          <a:xfrm>
            <a:off x="357120" y="1143000"/>
            <a:ext cx="8351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送你一座天堂花园，一定去坐坐，里面栽的是认主独一苗，发的是六大信仰叶，开的是五大天命花，结的是奉主顺命果，流的是悔心自过水，架的是色兰和平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大小净这事，如果干的好就叫卫生。礼拜这是，如果干的好就叫锻炼。封斋这事，如果干的好就叫减肥，天课这事，如果干的好就叫享受，朝觐这事，如果干的就叫交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信仰已死亡，遵行已欠费，寿命已停机，祈祷是空号，回头已关机，色兰无法接通，后悔不在服务区，万物暂停使用，生命彻底死机，问教友；什么东西才能重开机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手机的震动，代表末日的震撼；铃声，代表天仙的号角；屏幕，代表后世的清算；信息，代表好歹的判决；望你时刻准备无常！才有脱离火狱进入天堂的梦想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2" name="TextBox 4"/>
          <p:cNvSpPr/>
          <p:nvPr/>
        </p:nvSpPr>
        <p:spPr>
          <a:xfrm>
            <a:off x="357120" y="857160"/>
            <a:ext cx="647964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祝★｜｜｜｜｜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｜｜★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【开】★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☆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｜【斋】｜★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☆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【节】☆｜｜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【快】｜｜｜●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【乐】☆｜●｜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14200" y="0"/>
            <a:ext cx="8929440" cy="6857640"/>
          </a:xfrm>
          <a:prstGeom prst="rect">
            <a:avLst/>
          </a:prstGeom>
          <a:ln w="9525">
            <a:noFill/>
          </a:ln>
        </p:spPr>
      </p:pic>
      <p:sp>
        <p:nvSpPr>
          <p:cNvPr id="115" name="矩形 4"/>
          <p:cNvSpPr/>
          <p:nvPr/>
        </p:nvSpPr>
        <p:spPr>
          <a:xfrm>
            <a:off x="2000160" y="1857240"/>
            <a:ext cx="4026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zh-CN" sz="9600" spc="49" strike="noStrike">
                <a:solidFill>
                  <a:schemeClr val="accent2"/>
                </a:solidFill>
                <a:latin typeface="Calibri"/>
              </a:rPr>
              <a:t>色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6143760" y="6488640"/>
            <a:ext cx="2999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制作者：马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799 -0.41297 C -0.36927 -0.4095 -0.33056 -0.40857 -0.29184 -0.40441 C -0.26163 -0.40117 -0.23195 -0.3889 -0.20156 -0.38728 C -0.00538 -0.37617 0.02535 -0.38218 0.31302 -0.3808 C 0.42378 -0.37154 0.42239 -0.41529 0.41128 -0.33566 C 0.41007 -0.32663 0.4092 -0.32547 0.40642 -0.31621 C 0.40555 -0.27385 0.40677 -0.23589 0.39844 -0.19584 C 0.39722 -0.16228 0.39774 -0.15672 0.39514 -0.12918 C 0.39479 -0.12478 0.39444 -0.12038 0.39357 -0.11621 C 0.39219 -0.10904 0.38871 -0.09468 0.38871 -0.09468 C 0.38819 -0.08681 0.38819 -0.07894 0.38715 -0.07107 C 0.38594 -0.06228 0.38229 -0.04515 0.38229 -0.04515 C 0.38125 -0.03172 0.38021 -0.01945 0.37743 -0.00649 C 0.37569 0.00138 0.37257 0.01712 0.37257 0.01712 C 0.37222 0.02036 0.37048 0.04235 0.36944 0.04721 C 0.36875 0.05092 0.36701 0.05416 0.36614 0.05786 C 0.36545 0.06064 0.3651 0.06365 0.36458 0.06666 C 0.35868 0.0655 0.35295 0.06226 0.34687 0.06226 C 0.12864 0.06226 -0.08976 0.06365 -0.30799 0.06434 C -0.32952 0.06573 -0.36702 0.06203 -0.38698 0.07082 C -0.39358 0.07684 -0.40035 0.07684 -0.40799 0.07939 C -0.41632 0.0868 -0.41424 0.09837 -0.41771 0.1118 C -0.41893 0.12731 -0.42066 0.14166 -0.42257 0.15694 C -0.42396 0.28124 -0.41597 0.25485 -0.42743 0.3118 C -0.42691 0.33124 -0.42778 0.35069 -0.4257 0.3699 C -0.42552 0.37198 -0.4224 0.37082 -0.42101 0.37198 C -0.41163 0.38032 -0.40747 0.38494 -0.3967 0.39119 C -0.37031 0.40624 -0.34323 0.41944 -0.31441 0.4236 C -0.2809 0.44351 -0.24115 0.43633 -0.20486 0.43865 C -0.16945 0.44513 -0.13333 0.44791 -0.09844 0.43657 C -0.09479 0.43402 -0.09011 0.43356 -0.08698 0.43008 C -0.08316 0.42592 -0.0809 0.41967 -0.07743 0.41504 C -0.0724 0.38402 -0.07222 0.35323 -0.06615 0.32244 C -0.06354 0.30948 -0.05799 0.28379 -0.05799 0.28379 C -0.05643 0.25555 -0.05104 0.2317 -0.04514 0.20416 C -0.03542 0.15879 -0.04531 0.19189 -0.03542 0.1611 C -0.03386 0.14397 -0.02917 0.13032 -0.0257 0.11388 C -0.02205 0.09629 -0.01997 0.07175 -0.01285 0.05578 C -0.01007 0.04027 -0.00729 0.00971 2.5E-006 -5.92593E-006 E">
                                      <p:cBhvr>
                                        <p:cTn id="14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  <Words>1344</Words>
  <Paragraphs>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21:59:57Z</dcterms:created>
  <dc:creator>Administrator</dc:creator>
  <dc:description/>
  <dc:language>en-US</dc:language>
  <cp:lastModifiedBy>Administrator</cp:lastModifiedBy>
  <dcterms:modified xsi:type="dcterms:W3CDTF">2013-07-28T04:11:49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0</vt:r8>
  </property>
</Properties>
</file>