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119-13FF-4F34-AE07-60DFB9B8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B6D-7CCE-42B1-BF3C-8AB889E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AC344-4AAB-4093-9926-97DB290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21422-D3C9-4F47-9D1E-C92FEE47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73B25-A33B-4166-A839-45614488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58651-2C93-46D9-9C64-B76199D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E124C-2BB7-4B87-8451-41462AD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120F9-CFE1-4A85-BAD7-F96DD451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44C65-04C1-4D79-9DE2-2A81B895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4E640-B402-47C8-9BF0-CD127A32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C04F0-F4D2-494B-8FC3-F3382C63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47E5A-718E-4630-852C-25AEB600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861-AEF4-4406-A61C-BD1A2884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06BA6-18D5-4E34-BBB9-2E85022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405E0-21B8-4DCF-B7B7-32ED48C1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3C493-845E-47BF-B93E-E39991A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2F1C8-21C8-4C24-8568-5A164911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F2FCA-FBDF-49E1-BC37-64894B0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1D65B-8BC4-40F5-90D2-5115BE2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6AC8F-D6E1-4BE0-ABE9-C067A573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45202-60C7-4D9D-BDAE-5DD74A4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037E4-5B5D-456A-9642-89CD85D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33990-C9DC-4E59-A5D5-6F3F2508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DAF-D58C-4465-9C6C-A884D42B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5FB17-8049-49F3-8B18-C97D8C9B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54ED7-3410-4125-B7FF-2E079989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57455-AAC7-448C-98EF-FBBCA91A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2764F-7971-493E-8A02-734AD97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C1E0-2A6F-4369-99C2-0FDFFA3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917E8-5F56-48EC-8F5E-2E91A7D8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CEEA7-73CC-49E1-8B59-14FE3FB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EE385-86EB-4862-95E8-24508875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33C5-3E3C-478A-955D-1B03C8E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AD147-2234-464B-86FB-471D7E3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AEF0-B533-4126-A3BC-05CBFDA4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EC897-5AE0-404E-B369-26ECC67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4CDF-EA33-4636-9A39-436B3A72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F2F13-3FEB-43D3-84D3-68B0A075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7C96F-776F-40F2-B717-E0C73A05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65D26-8926-48BF-833A-060E0026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CFCF2-44D0-47E7-9777-C270C79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31C18-E3EF-472A-B96E-C749988E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CE649-A73C-4BFA-8049-E36BD7D0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351BB-8BA2-4862-A44C-175499B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67FBD-6074-4761-BE9A-68D841A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331E-BCDB-454E-AD59-9BE24861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7254E-E2FA-4621-A2EC-F58D356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675AC-4402-43B1-8849-9F1C208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E5562-6A8D-4086-8E8D-DBEEF2EF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6C9EC-D113-4F96-AE94-AE017667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F9A47-0B7E-43DC-A00C-82B6C9A3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CD1E4-27F3-4AA0-B482-B2D5AB41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107FF-542F-48DF-B84F-A7F2825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17BCE-9E03-442C-8427-185AD20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971BC-2AFA-4D25-B652-15A8F8F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F20B2-428E-479D-81AD-04D9050A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8033-FBA8-4325-89FB-07C30628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8901D-996F-4BB6-9AE4-4D104C7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6B35C-BCC6-4465-9B60-493C07E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5802E-6140-41BA-A61D-74A8ECF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450C8-0CCC-435D-B1C6-84A79B5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8E795-FED0-4F99-BF35-6EDDB12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B523C-6B60-4D6D-85BB-294A47D4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060C2-BF24-442D-BEB0-2A67DCEC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6947-1C0A-47F6-8952-DB13D4F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220-B366-4B7E-9A18-94ABD5D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647-5152-49F8-8479-6B2A3B8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6A78-1398-4472-AFBE-D6F6E7C3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82B-2E70-4F48-BDCF-B8364615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F7FD-4463-4885-9C9D-6978F65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442-03F8-42BA-B3F1-89F01FC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67B-992F-4AE6-8EB3-689B928B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3898-7D7C-401F-9F33-B6AA98CE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352F-3B32-4EC8-BD95-D2E8B0A1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487D-61E7-4549-8074-307E899D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5045-CC51-4633-B625-19C26AE7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EA1C-F019-4B8A-86A1-CE5312B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AAF1-EC1A-44BD-991D-1D09BAB0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637D-2C3F-4B65-BDD8-7F7D37BD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445-E6DB-42EA-90AA-42AA3688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6666-D007-4067-9169-426B02B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53FC-610C-42A5-BA03-0821122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F2C7-FB4E-4FD6-9FE7-7118669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A692-A12F-453C-A60A-6607FA8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22A4-F604-4E54-83C1-8ECF827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7DCE-AA0A-4652-A5E1-E56A31C3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4272-0D3A-4709-82BF-806BCCFD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1281-D226-4E30-94D0-984D5662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86C2-9448-47B2-B5F5-0F47E35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6F70-6949-41BA-92EC-175FB50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608-0A35-414E-A41A-BEFBBAC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4465-167B-43F6-B973-8EA7030C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F873-95C0-4D3C-85F6-2B9A2BD3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D6E4-740C-450D-89D7-84543B0F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2031-65B9-4D54-AD67-F570E002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272C-C31D-4AE0-A749-74BDD9DA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077A-35B3-4023-B800-20F8E821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1B08-D5F0-4C60-968C-7448DCB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4476-F385-43E0-A054-CE1A025B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B011-A94C-4E96-A1DA-5F221AA6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2BBB-43FE-4A67-9176-BCFA87F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33C-09BB-48C1-BE9F-0A8E532C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C81C-CB8D-4D80-9676-218ECDEC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A822-9249-4E0C-922A-10828F69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700D-DB23-4445-A4D4-3CE1654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1952-E50B-472D-A6AA-9482B81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3E77-B95B-45BF-87A7-900AED6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B15E-D68B-4CA7-A79D-9E24D2D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2FBD6-39F7-4F5A-9937-E5C6483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E73B-A8B8-4D0F-B12A-A3969042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2F37C-A8A4-4F7B-9962-898B90F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A8B5-0DF2-444C-8208-C27F701F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A7C-5C28-4F35-9AF3-AC98BF69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8AED-AC66-4B6C-9193-9E312B19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4F5A4-C057-4D17-87BF-55DC7506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2A30-F464-4F82-8FDB-0663BDB6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872E5-0B58-4751-8BBF-857B445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BB865-1184-4884-8BDA-94095BF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CEF35-EFB8-435C-A1C7-A3F0004E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9DB8-04CE-4243-8B2A-E5E396F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4F96C-D141-4EC0-B56D-2CB9B44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CE609-A9F4-4181-8983-675B220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02F2-219A-477D-AD2E-34DB5C4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ADF-F4F7-4AD9-A806-5F48DCE2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34C0E-7BF5-4BD7-A2B3-0572D5C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61AE-D74E-4088-AD18-9930A283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A250-8484-4D22-A246-91A2C6F3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DC15-1AC4-4151-AE84-A67F1147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20805-BC0E-4CD1-883B-2F72E38D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51714-3D6E-4BA1-B202-7D85FDD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F157-F0C7-45B8-8FC4-DAD8135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2CB2-CD84-4AFD-A0BB-41A166A3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682A6-74F6-4D9A-83F2-BE50F87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9404-66B9-43DC-BBE4-AC3B60C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ADD-7BE5-4EAB-AEAB-B0C00F4A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4CFC6-14B2-4A9E-8EB2-526532E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809B-FECA-4152-8E21-0DD3BDF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17658-A168-48E2-9D08-51F0544C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464C-3CE7-4AC5-881F-090AF870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5A7C4-AE96-47E6-904E-433BFB81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8BBD8-66C2-407D-8C0B-F3638B66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CE70-679A-48B0-BD3B-ABD58BB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DDA3A-FAB0-4FC0-B255-6EA92F4D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72B81-E894-4B59-8605-F8D49F97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0288F-918F-4054-AC35-41D10DF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A49-553D-4E0C-873A-9765856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1F45-C016-4283-999D-DAA1ADF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02EDC-6BDD-46A0-9C35-95E28B9B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B86C-AD72-4FC3-9288-47AF5071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D71D7-5F0B-477B-920D-684AE09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C838E-0283-412A-BFA5-F9A68734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A818-F042-4DFE-9324-0CE84C84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BE3E-13FD-48EF-A861-6A7D603D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B0486-400F-419A-90F8-792EBFAD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0969A-2AA8-47EF-B148-B1FDA020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B7F56-7E8D-4AF1-9650-A503E7A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792-B4D2-4F3D-9592-0978E4D40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DD20-D192-41CF-930B-2F8D6B528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3425-03D4-4E11-AA17-2ECB8BF20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30C4-B055-4208-A66F-8C4EF89A3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FBB3-0BA8-4CFF-8142-15DE9659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2949-C070-4C34-A56B-BBDB267C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0678-FE3F-46AC-A698-478B647D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1BEA-8499-4E89-B3E6-77C8E6984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DC33-2A32-41FD-A2AD-44996FAC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B103-D4AF-42FA-B439-A27EACF9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47EC-559F-4864-85B7-8728F994F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296D-F202-4900-A903-DF02FDE6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6608-DE45-4898-88C4-D081DCCAF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684360" y="24915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好考试分析，把握黄金学习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619280" y="4508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三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39528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学法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79280" y="1125360"/>
            <a:ext cx="8568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答疑动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同学第八节回顾全天所学，做作业从当天有答疑老师科目开始，及时发现问题，及时和老师交流。如果有许多问题，提前和老师预约，个人不要一次问太多题目，一方面自己无法消化吸收，另外也影响他人问问题。绝对不能别人问问题时，自己在楼道干等着，无所事事。教室内的同学要养成专心于自己的学习，不受楼道答疑和同学出出进进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324000" y="62064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错题整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理并经常翻看错题集，想考一本的学生和尖子生要会变形题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24000" y="3213000"/>
            <a:ext cx="842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辅导书的利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跟住老师，高效完成课内作业，辅导书，整体平衡，一强科一弱科，齐头并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539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合理安排学习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95280" y="134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抓住课堂：晚上学习一定不要影响第二天上课的听课质量，课堂是学习的主阵地，谁失去了课堂最终肯定一无所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468360" y="3213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会利用零散时间：早、晚到校立即进入自习状态，不要左顾右盼；课间及时请教老师、同学解决课上疑惑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95280" y="5157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早起和晚睡必须选择一个，中午要适当休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5"/>
          <p:cNvSpPr/>
          <p:nvPr/>
        </p:nvSpPr>
        <p:spPr>
          <a:xfrm>
            <a:off x="395280" y="404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要有良好的学习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250920" y="1268280"/>
            <a:ext cx="871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有恒心、信心；（高三刚刚开始，一切皆有可能，要有坚持不放弃的精神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专心、静心；（有的同学这边学习，那边开着电脑或手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有狠心；（拼了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有爱心。（把眼界放的长远，帮助别人自己会取得更大的进步，学会合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不需要虚荣心。（要不耻下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有好身体才会有好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68360" y="1484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日三餐要吃好（尤其住校的同学，一天三顿火烧可不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适当锻炼提高免疫力（备战高三是个持久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84360" y="458136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困难找组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46836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老师就是你们强大的后盾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971640" y="191628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要充满激情的度过黄金学习期，更要有黄金般的收获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1219680" y="4035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考试成绩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067280" y="131040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一）学生个人对自身成绩进行分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250920" y="213372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看班级排名及年级排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看是否全科及格，对比每个科目和班级、年级各科平均分的差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看与自己相当的同学的各科成绩，确定自己的榜样以及下阶段需要赶超的科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250920" y="2924280"/>
            <a:ext cx="8531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没？学会没？熟练没？变成自己的知识没（应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高三了，你意识到了，别人也意识到了，你觉得很努力，是不是努力的效率不够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组发挥作用没？同桌同学发挥作用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下时间你利用的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课、课间、晚自习，休息时间、回到家、周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24000" y="26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视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250920" y="105264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考后不反思等于白陪别人做了两天题；不怕考不好，就怕原因找不到，更怕找到改不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0" y="4046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卷子下发后，写出本次考试的分析感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班级、年级名次，各科具体分数及其与班级、年级各科平均分的差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考前、考中、考后心理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各科失分点、失分知识能力点分析。必须分科目以错题为依托逐个分析，并将错题本交给相关学科老师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暑假补课期间的成功经验和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月考前的学习计划，如何提高自己弱科的详细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二）对班级整体成绩进行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39640" y="2637000"/>
            <a:ext cx="7058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539640" y="115560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各分数段情况统计：我们每个人都争取入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11280" y="549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感  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826920" y="350028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对进步的同学我要说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不到高考，就不能说你成功了，高考充满了变数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755640" y="1773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对退步的同学我要说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幸亏这次不是高考，你还有机会！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9361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539640" y="5773680"/>
            <a:ext cx="90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900000" y="1125360"/>
            <a:ext cx="7148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不要烦、不要急，对着错题细分析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不要慌、不要乱，认真收获每一天！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320640" y="189000"/>
            <a:ext cx="9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各科平均分情况统计分析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79280" y="1052640"/>
          <a:ext cx="8642520" cy="4214520"/>
        </p:xfrm>
        <a:graphic>
          <a:graphicData uri="http://schemas.openxmlformats.org/drawingml/2006/table">
            <a:tbl>
              <a:tblPr/>
              <a:tblGrid>
                <a:gridCol w="1152720"/>
                <a:gridCol w="1209600"/>
                <a:gridCol w="960480"/>
                <a:gridCol w="958680"/>
                <a:gridCol w="959040"/>
                <a:gridCol w="958680"/>
                <a:gridCol w="930240"/>
                <a:gridCol w="1513080"/>
              </a:tblGrid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.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8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.7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平均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1.2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.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6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.05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.8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6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3.15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.6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7.7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.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7.5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 Box 283"/>
          <p:cNvSpPr/>
          <p:nvPr/>
        </p:nvSpPr>
        <p:spPr>
          <a:xfrm>
            <a:off x="395280" y="53020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同学们一定要坚定信心，继续努力，争取更大的进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611280" y="47628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把握黄金提高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468360" y="1341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金提高期的由来  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是进入高三的最佳状态，积极、高效、平稳学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学生的高三复习来讲，大部分学科进入一轮复习，相当一部份知识是高一所学，基础性强，高考当中所占比重较大，例如，地理学科，本阶段主要进行的是自然地理复习，是高考地理复习中的重点、也是难点。谁把握住本阶段的学习，谁后续复习效率就高。其他学科也应该也具有上述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7:19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5-10-23T07:45:11Z</dcterms:modified>
  <cp:revision>38</cp:revision>
  <dc:subject>主题班会课件(分28大类): http://shop62905894.taobao.com</dc:subject>
  <dc:title>主题班会课件(分28大类): http://shop62905894.taobao.com</dc:title>
</cp:coreProperties>
</file>