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713-CC32-4A9B-A850-A921AE56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31B-726D-4C45-BAB7-8F9F738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870-19AE-4BED-AFD7-46DCE4CC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91D-F618-4524-82E4-94A2570B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A80-B9B6-47CD-A77E-6520CE5A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958-05BD-4E6A-BA74-0602DCA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6BF-AAC8-491F-BC21-F2CF4FE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235-CA19-459E-BF94-10F9C8D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7E6-C07C-4C1C-ADCD-12A676D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579-1B81-489E-936F-00263A6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DC5-A25B-4CFE-A811-13D3A70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634-7BFF-4DA2-8DDE-7748F64C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2EA-4A97-4511-B5A0-FF26F5C4FD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6F6-7E39-4E5E-BC0D-E3F2CFC4D0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:\Documents and Settings\Administrator\桌面\彩色小人\蛙人小图\精选26 (15).jpg"/>
          <p:cNvPicPr/>
          <p:nvPr/>
        </p:nvPicPr>
        <p:blipFill>
          <a:blip r:embed="rId1"/>
          <a:stretch/>
        </p:blipFill>
        <p:spPr>
          <a:xfrm>
            <a:off x="3849840" y="692280"/>
            <a:ext cx="1969920" cy="21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3" descr="C:\Documents and Settings\Administrator\桌面\彩色小人\蛙人小图\精选26 (16).jpg"/>
          <p:cNvPicPr/>
          <p:nvPr/>
        </p:nvPicPr>
        <p:blipFill>
          <a:blip r:embed="rId2"/>
          <a:stretch/>
        </p:blipFill>
        <p:spPr>
          <a:xfrm>
            <a:off x="971640" y="692280"/>
            <a:ext cx="2236680" cy="2160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5" descr="C:\Documents and Settings\Administrator\桌面\彩色小人\蛙人小图\精选26 (18).jpg"/>
          <p:cNvPicPr/>
          <p:nvPr/>
        </p:nvPicPr>
        <p:blipFill>
          <a:blip r:embed="rId3"/>
          <a:stretch/>
        </p:blipFill>
        <p:spPr>
          <a:xfrm>
            <a:off x="6505560" y="692280"/>
            <a:ext cx="192096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6" descr="C:\Documents and Settings\Administrator\桌面\彩色小人\蛙人小图\精选26 (19).jpg"/>
          <p:cNvPicPr/>
          <p:nvPr/>
        </p:nvPicPr>
        <p:blipFill>
          <a:blip r:embed="rId4"/>
          <a:stretch/>
        </p:blipFill>
        <p:spPr>
          <a:xfrm>
            <a:off x="6516720" y="3429000"/>
            <a:ext cx="20430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7" descr="C:\Documents and Settings\Administrator\桌面\彩色小人\蛙人小图\精选29 (20).jpg"/>
          <p:cNvPicPr/>
          <p:nvPr/>
        </p:nvPicPr>
        <p:blipFill>
          <a:blip r:embed="rId5"/>
          <a:stretch/>
        </p:blipFill>
        <p:spPr>
          <a:xfrm>
            <a:off x="3789360" y="34290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1" descr="C:\Documents and Settings\Administrator\桌面\彩色小人\蛙人小图\精选29 (24).jpg"/>
          <p:cNvPicPr/>
          <p:nvPr/>
        </p:nvPicPr>
        <p:blipFill>
          <a:blip r:embed="rId6"/>
          <a:stretch/>
        </p:blipFill>
        <p:spPr>
          <a:xfrm>
            <a:off x="1179360" y="342900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0" descr="C:\Documents and Settings\Administrator\桌面\彩色小人\蛙人小图\3310056641_0997b16547_o.jpg"/>
          <p:cNvPicPr/>
          <p:nvPr/>
        </p:nvPicPr>
        <p:blipFill>
          <a:blip r:embed="rId1"/>
          <a:stretch/>
        </p:blipFill>
        <p:spPr>
          <a:xfrm>
            <a:off x="5143680" y="3714840"/>
            <a:ext cx="3500280" cy="21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1" descr="C:\Documents and Settings\Administrator\桌面\彩色小人\蛙人小图\3310064931_5830d4e224_o.jpg"/>
          <p:cNvPicPr/>
          <p:nvPr/>
        </p:nvPicPr>
        <p:blipFill>
          <a:blip r:embed="rId2"/>
          <a:stretch/>
        </p:blipFill>
        <p:spPr>
          <a:xfrm>
            <a:off x="3071880" y="3714840"/>
            <a:ext cx="264636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4" descr="C:\Documents and Settings\Administrator\桌面\彩色小人\蛙人小图\精选26 (17).jpg"/>
          <p:cNvPicPr/>
          <p:nvPr/>
        </p:nvPicPr>
        <p:blipFill>
          <a:blip r:embed="rId3"/>
          <a:stretch/>
        </p:blipFill>
        <p:spPr>
          <a:xfrm>
            <a:off x="1214280" y="857160"/>
            <a:ext cx="16671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8" descr="C:\Documents and Settings\Administrator\桌面\彩色小人\蛙人小图\精选29 (21).jpg"/>
          <p:cNvPicPr/>
          <p:nvPr/>
        </p:nvPicPr>
        <p:blipFill>
          <a:blip r:embed="rId4"/>
          <a:stretch/>
        </p:blipFill>
        <p:spPr>
          <a:xfrm>
            <a:off x="1357200" y="3714840"/>
            <a:ext cx="1619280" cy="216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9" descr="C:\Documents and Settings\Administrator\桌面\彩色小人\蛙人小图\精选29 (22).jpg"/>
          <p:cNvPicPr/>
          <p:nvPr/>
        </p:nvPicPr>
        <p:blipFill>
          <a:blip r:embed="rId5"/>
          <a:stretch/>
        </p:blipFill>
        <p:spPr>
          <a:xfrm>
            <a:off x="3243240" y="8161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0" descr="C:\Documents and Settings\Administrator\桌面\彩色小人\蛙人小图\精选29 (23).jpg"/>
          <p:cNvPicPr/>
          <p:nvPr/>
        </p:nvPicPr>
        <p:blipFill>
          <a:blip r:embed="rId6"/>
          <a:stretch/>
        </p:blipFill>
        <p:spPr>
          <a:xfrm>
            <a:off x="5786280" y="857160"/>
            <a:ext cx="2098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58:00Z</dcterms:created>
  <dc:creator>微软用户</dc:creator>
  <dc:description/>
  <dc:language>en-US</dc:language>
  <cp:lastModifiedBy>USER</cp:lastModifiedBy>
  <dcterms:modified xsi:type="dcterms:W3CDTF">2015-08-20T09:40:2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