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gif" ContentType="image/gif"/>
  <Override PartName="/ppt/media/image1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CE2F-2798-4E55-9843-D227A331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990-C474-4A24-8E6E-9FB06320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1DE-A0A3-4039-A37D-2397EA85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2C0A-7157-43BC-ADDB-32116860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ED33-FD3F-497E-BD81-23AD990A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4245-8364-455C-9304-EEEED7D1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4297-C07D-435E-9D76-89676A60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F6DB-6272-4560-9A8C-7651B323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D3AD-070F-420B-9315-FEAE2ED4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B2D7-B34D-4C7C-B26E-163E62E8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7249-09F8-4459-90F2-27F1E1F8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69E-7DAA-489B-86DA-36CAFA5F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F829-D5A0-4B1D-AD5E-4AB697CD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4341-350E-4EB7-9F61-6698D414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8114-D3D6-4434-8278-8DD8E26D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E9D8-D169-4429-B727-95AD8E40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95D4-EBF4-4E71-BA66-608E4D39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69EA-01D0-428E-A4D0-623F03F1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1A8-90AB-4E7C-A0EA-55D789AC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0E16-B4E3-48A5-881D-75E9F72B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B82-92E0-498F-9663-D75D63BC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479-CA73-4EE9-BF7C-B7E08F45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6F3-67A0-4288-8BAB-E6DC73E1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84FA-07D0-4A8C-A509-16B84EDA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C1A3-68F3-44E8-AE28-22C5A16BC22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387F-7EA1-4FAD-932F-1414C23060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Group 810" descr=""/>
          <p:cNvPicPr/>
          <p:nvPr/>
        </p:nvPicPr>
        <p:blipFill>
          <a:blip r:embed="rId2"/>
          <a:stretch/>
        </p:blipFill>
        <p:spPr>
          <a:xfrm>
            <a:off x="-455760" y="-6375240"/>
            <a:ext cx="9972720" cy="5743440"/>
          </a:xfrm>
          <a:prstGeom prst="rect">
            <a:avLst/>
          </a:prstGeom>
          <a:ln w="0">
            <a:noFill/>
          </a:ln>
        </p:spPr>
      </p:pic>
      <p:pic>
        <p:nvPicPr>
          <p:cNvPr id="83" name="Group 810" descr=""/>
          <p:cNvPicPr/>
          <p:nvPr/>
        </p:nvPicPr>
        <p:blipFill>
          <a:blip r:embed="rId3"/>
          <a:stretch/>
        </p:blipFill>
        <p:spPr>
          <a:xfrm>
            <a:off x="-328680" y="-6248520"/>
            <a:ext cx="9972720" cy="5743800"/>
          </a:xfrm>
          <a:prstGeom prst="rect">
            <a:avLst/>
          </a:prstGeom>
          <a:ln w="0">
            <a:noFill/>
          </a:ln>
        </p:spPr>
      </p:pic>
      <p:sp>
        <p:nvSpPr>
          <p:cNvPr id="84" name="矩形 6"/>
          <p:cNvSpPr/>
          <p:nvPr/>
        </p:nvSpPr>
        <p:spPr>
          <a:xfrm>
            <a:off x="971640" y="595008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6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8" dur="5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未命名_副本    "/>
          <p:cNvPicPr/>
          <p:nvPr/>
        </p:nvPicPr>
        <p:blipFill>
          <a:blip r:embed="rId3"/>
          <a:stretch/>
        </p:blipFill>
        <p:spPr>
          <a:xfrm rot="360000">
            <a:off x="1661760" y="672840"/>
            <a:ext cx="5378400" cy="3584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未命名_副本a"/>
          <p:cNvPicPr/>
          <p:nvPr/>
        </p:nvPicPr>
        <p:blipFill>
          <a:blip r:embed="rId4"/>
          <a:stretch/>
        </p:blipFill>
        <p:spPr>
          <a:xfrm>
            <a:off x="1979640" y="2733840"/>
            <a:ext cx="4573440" cy="3047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未命名_副本  j"/>
          <p:cNvPicPr/>
          <p:nvPr/>
        </p:nvPicPr>
        <p:blipFill>
          <a:blip r:embed="rId5"/>
          <a:stretch/>
        </p:blipFill>
        <p:spPr>
          <a:xfrm>
            <a:off x="-3913200" y="262080"/>
            <a:ext cx="5451480" cy="36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未命名_副本q"/>
          <p:cNvPicPr/>
          <p:nvPr/>
        </p:nvPicPr>
        <p:blipFill>
          <a:blip r:embed="rId6"/>
          <a:stretch/>
        </p:blipFill>
        <p:spPr>
          <a:xfrm>
            <a:off x="-4354560" y="2292480"/>
            <a:ext cx="5892840" cy="3930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未命名_副本s"/>
          <p:cNvPicPr/>
          <p:nvPr/>
        </p:nvPicPr>
        <p:blipFill>
          <a:blip r:embed="rId7"/>
          <a:stretch/>
        </p:blipFill>
        <p:spPr>
          <a:xfrm>
            <a:off x="7885080" y="-384120"/>
            <a:ext cx="5921280" cy="3946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未命名_副本b"/>
          <p:cNvPicPr/>
          <p:nvPr/>
        </p:nvPicPr>
        <p:blipFill>
          <a:blip r:embed="rId8"/>
          <a:stretch/>
        </p:blipFill>
        <p:spPr>
          <a:xfrm>
            <a:off x="8461440" y="469908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6E-005 0 C 0.001818 0.001543 0.00755 0.006157 0.010774 0.009259 C 0.013999 0.012361 0.016493 0.015895 0.019373 0.018611 C 0.022253 0.021327 0.024819 0.022855 0.028058 0.025556 C 0.031297 0.028256 0.034866 0.032114 0.038806 0.034815 C 0.042747 0.037515 0.048107 0.040216 0.051704 0.041759 C 0.055301 0.043302 0.05715 0.042531 0.060389 0.044074 C 0.063628 0.045617 0.067555 0.049089 0.071139 0.051019 C 0.07472 0.052948 0.078303 0.054089 0.081886 0.055648 C 0.085469 0.057207 0.089396 0.059198 0.092635 0.06037 C 0.095873 0.061543 0.097722 0.061528 0.10132 0.062685 C 0.104917 0.063843 0.110276 0.066157 0.114217 0.067315 C 0.118158 0.068472 0.121727 0.069244 0.124966 0.06963 C 0.128205 0.070015 0.130054 0.070015 0.133651 0.06963 C 0.137248 0.069244 0.142607 0.068858 0.146548 0.067315 C 0.15049 0.065772 0.153714 0.062701 0.157298 0.06037 C 0.160879 0.05804 0.164448 0.056435 0.168045 0.053333 C 0.171643 0.050231 0.175641 0.045617 0.178879 0.041759 C 0.182119 0.037901 0.18497 0.034043 0.187479 0.030185 C 0.189987 0.026327 0.19142 0.022485 0.193927 0.018611 C 0.196436 0.014738 0.200363 0.010818 0.202527 0.006944 C 0.20469 0.003071 0.204389 -0.000772 0.206911 -0.00463 C 0.209433 -0.008488 0.214436 -0.012716 0.217661 -0.016204 C 0.220885 -0.019691 0.222677 -0.022454 0.226258 -0.025556 C 0.229842 -0.028657 0.23556 -0.032114 0.239157 -0.034815 C 0.242755 -0.037515 0.244603 -0.039444 0.247842 -0.041759 C 0.251082 -0.044074 0.255008 -0.046775 0.258589 -0.048704 C 0.262173 -0.050633 0.265742 -0.05179 0.269339 -0.053333 C 0.272936 -0.054877 0.276576 -0.056806 0.280173 -0.057963 C 0.283771 -0.05912 0.287339 -0.059892 0.290922 -0.060278 C 0.294504 -0.060664 0.297729 -0.060278 0.30167 -0.060278 C 0.305612 -0.060278 0.310971 -0.060278 0.314568 -0.060278 C 0.318165 -0.060278 0.320014 -0.060664 0.323253 -0.060278 C 0.326491 -0.059892 0.330419 -0.05912 0.334001 -0.057963 C 0.337585 -0.056806 0.341153 -0.055262 0.34475 -0.053333 C 0.348347 -0.051404 0.351987 -0.048318 0.355584 -0.046389 C 0.359181 -0.04446 0.364542 -0.042531 0.366333 -0.041759 E">
                                      <p:cBhvr>
                                        <p:cTn id="14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813 -0.005468 C -0.038437 -0.00785 -0.038075 -0.014995 -0.036554 -0.019759 C -0.035034 -0.024523 -0.033091 -0.029744 -0.029688 -0.03405 C -0.026284 -0.038356 -0.020276 -0.042243 -0.016135 -0.045597 C -0.011996 -0.048951 -0.007854 -0.049884 -0.004843 -0.054171 C -0.001831 -0.058459 -0.000717 -0.066556 0.001933 -0.07132 C 0.004583 -0.076084 0.007656 -0.0794 0.011058 -0.082754 C 0.014462 -0.086107 0.018587 -0.087612 0.022352 -0.091443 C 0.026116 -0.095271 0.029865 -0.102398 0.033645 -0.105733 C 0.037425 -0.109067 0.040873 -0.108592 0.045029 -0.111449 C 0.049185 -0.114307 0.05444 -0.119547 0.058581 -0.122882 C 0.062722 -0.126216 0.065718 -0.12858 0.069875 -0.131456 C 0.07403 -0.134333 0.078985 -0.137745 0.083517 -0.140145 C 0.08805 -0.142547 0.092929 -0.14348 0.097068 -0.145862 C 0.101209 -0.148244 0.10383 -0.152531 0.108362 -0.154436 C 0.112895 -0.156341 0.119354 -0.156341 0.124263 -0.157294 C 0.129172 -0.158248 0.133675 -0.159676 0.137816 -0.160153 C 0.141957 -0.160629 0.145344 -0.160153 0.149108 -0.160153 C 0.152873 -0.160153 0.156999 -0.160153 0.160402 -0.160153 C 0.163806 -0.160153 0.166124 -0.160629 0.169527 -0.160153 C 0.172931 -0.159676 0.177056 -0.159676 0.18082 -0.157294 C 0.184585 -0.154913 0.188335 -0.148244 0.192114 -0.145862 C 0.195893 -0.14348 0.199718 -0.144909 0.203498 -0.143004 C 0.207277 -0.141098 0.211027 -0.137307 0.214792 -0.134428 C 0.218556 -0.131552 0.221929 -0.12957 0.226084 -0.12574 C 0.23024 -0.121911 0.235571 -0.116213 0.239727 -0.111449 C 0.243883 -0.106685 0.248009 -0.101941 0.251021 -0.097158 C 0.254032 -0.092376 0.254408 -0.087536 0.257796 -0.082754 C 0.261184 -0.07797 0.267569 -0.073226 0.271349 -0.068463 C 0.275128 -0.063699 0.27707 -0.058459 0.280474 -0.054171 C 0.283876 -0.049884 0.288003 -0.046092 0.291767 -0.042738 C 0.295532 -0.039385 0.298919 -0.036927 0.30306 -0.03405 C 0.307202 -0.031173 0.312832 -0.027858 0.316612 -0.025476 C 0.320392 -0.023094 0.321958 -0.021664 0.325737 -0.019759 C 0.329516 -0.017854 0.335148 -0.015472 0.339289 -0.014042 C 0.34343 -0.012614 0.34718 -0.011185 0.350583 -0.011185 C 0.353985 -0.011185 0.358186 -0.013567 0.359707 -0.014042 E">
                                      <p:cBhvr>
                                        <p:cTn id="1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0579 0.00233 -0.002315 0.009722 -0.003472 0.013981 C -0.00463 0.018241 -0.005498 0.021312 -0.006944 0.025556 C -0.008391 0.029799 -0.010405 0.035185 -0.012153 0.039444 C -0.013901 0.043704 -0.015972 0.047238 -0.017431 0.051111 C -0.018889 0.054985 -0.018588 0.058441 -0.020903 0.062685 C -0.023218 0.066929 -0.027558 0.07233 -0.031319 0.076574 C -0.035081 0.080818 -0.040857 0.084275 -0.043472 0.088148 C -0.046088 0.092022 -0.044977 0.096327 -0.047014 0.099815 C -0.049051 0.103302 -0.052512 0.106373 -0.055694 0.109074 C -0.058877 0.111775 -0.062627 0.113704 -0.066111 0.116019 C -0.069595 0.118333 -0.073403 0.121034 -0.076597 0.122963 C -0.079792 0.124892 -0.082095 0.126034 -0.085278 0.127593 C -0.088461 0.129151 -0.092222 0.130756 -0.095694 0.132315 C -0.099167 0.133873 -0.102917 0.135787 -0.106111 0.136944 C -0.109306 0.138102 -0.111956 0.138102 -0.114861 0.139259 C -0.117766 0.140417 -0.120648 0.142346 -0.123542 0.143889 C -0.126435 0.145432 -0.129607 0.147361 -0.132222 0.148519 C -0.134838 0.149676 -0.136042 0.14929 -0.139236 0.150833 C -0.142431 0.152377 -0.147917 0.15662 -0.151389 0.157778 C -0.154861 0.158935 -0.157164 0.157778 -0.160069 0.157778 C -0.162975 0.157778 -0.165625 0.157778 -0.168819 0.157778 C -0.172014 0.157778 -0.175475 0.157778 -0.179236 0.157778 C -0.182998 0.157778 -0.187616 0.157778 -0.191389 0.157778 C -0.195162 0.157778 -0.198102 0.158164 -0.201875 0.157778 C -0.205648 0.157392 -0.209977 0.156235 -0.214028 0.155463 C -0.218079 0.154691 -0.222408 0.15392 -0.226181 0.153148 C -0.229954 0.152377 -0.233472 0.151605 -0.236667 0.150833 C -0.239861 0.150062 -0.241863 0.14929 -0.245347 0.148519 C -0.248831 0.147747 -0.253507 0.146975 -0.257569 0.146204 C -0.261632 0.145432 -0.26625 0.145046 -0.269722 0.143889 C -0.273194 0.142731 -0.275498 0.140802 -0.278403 0.139259 C -0.281308 0.137716 -0.283669 0.136188 -0.287153 0.13463 C -0.290637 0.133071 -0.295255 0.132238 -0.299306 0.129907 C -0.303357 0.127577 -0.308264 0.123349 -0.311458 0.120648 C -0.314653 0.117948 -0.315857 0.115633 -0.318472 0.113704 C -0.321088 0.111775 -0.324259 0.110617 -0.327153 0.109074 C -0.330046 0.107531 -0.33294 0.106759 -0.335833 0.104444 C -0.338727 0.10213 -0.341898 0.097515 -0.344514 0.095185 C -0.34713 0.092855 -0.348912 0.092793 -0.351528 0.090463 C -0.354144 0.088133 -0.357026 0.083904 -0.360208 0.081204 C -0.363391 0.078503 -0.367141 0.07696 -0.370625 0.074259 C -0.374109 0.071559 -0.377627 0.068086 -0.381111 0.065 C -0.384595 0.061914 -0.388345 0.058843 -0.391528 0.055741 C -0.394711 0.052639 -0.397593 0.049105 -0.400208 0.046389 C -0.402824 0.043673 -0.404607 0.042531 -0.407222 0.039444 C -0.409838 0.036358 -0.414456 0.029799 -0.415903 0.02787 E">
                                      <p:cBhvr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0301 -0.001929 0.002095 -0.007716 0.001806 -0.011574 C 0.001516 -0.015432 1.20000000000001E-005 -0.019661 -0.001736 -0.023148 C -0.003484 -0.026636 -0.005787 -0.029398 -0.008681 -0.0325 C -0.011574 -0.035602 -0.015914 -0.039059 -0.019097 -0.041759 C -0.02228 -0.04446 -0.024873 -0.046389 -0.027778 -0.048704 C -0.030683 -0.051019 -0.033623 -0.053719 -0.036528 -0.055648 C -0.039433 -0.057577 -0.042026 -0.058349 -0.045208 -0.060278 C -0.048391 -0.062207 -0.052431 -0.065278 -0.055625 -0.067222 C -0.058819 -0.069167 -0.061181 -0.070772 -0.064375 -0.071944 C -0.067569 -0.073117 -0.070741 -0.07233 -0.074792 -0.074259 C -0.078843 -0.076188 -0.084329 -0.08159 -0.088681 -0.083519 C -0.093032 -0.085448 -0.09713 -0.084676 -0.100903 -0.085833 C -0.104676 -0.086991 -0.108125 -0.089306 -0.111319 -0.090463 C -0.114514 -0.09162 -0.116586 -0.092006 -0.120069 -0.092778 C -0.123553 -0.093549 -0.12875 -0.094707 -0.132222 -0.095093 C -0.135694 -0.095478 -0.137708 -0.094707 -0.140903 -0.095093 C -0.144097 -0.095478 -0.147905 -0.097022 -0.151389 -0.097407 C -0.154873 -0.097793 -0.157755 -0.097407 -0.161806 -0.097407 C -0.165857 -0.097407 -0.171053 -0.097407 -0.175694 -0.097407 C -0.180336 -0.097407 -0.18588 -0.097407 -0.189653 -0.097407 C -0.193426 -0.097407 -0.19544 -0.097407 -0.198333 -0.097407 C -0.201227 -0.097407 -0.20382 -0.097407 -0.207014 -0.097407 C -0.210208 -0.097407 -0.213148 -0.098179 -0.2175 -0.097407 C -0.221852 -0.096636 -0.228773 -0.093935 -0.233125 -0.092778 C -0.237477 -0.09162 -0.239838 -0.09162 -0.243611 -0.090463 C -0.247384 -0.089306 -0.252002 -0.086991 -0.255764 -0.085833 C -0.259526 -0.084676 -0.263276 -0.085448 -0.266181 -0.083519 C -0.269086 -0.08159 -0.27 -0.076574 -0.273194 -0.074259 C -0.276389 -0.071945 -0.281586 -0.071188 -0.285347 -0.06963 C -0.289109 -0.068071 -0.29257 -0.06608 -0.295764 -0.064907 C -0.298958 -0.063735 -0.301609 -0.063364 -0.304514 -0.062593 C -0.307419 -0.061821 -0.309722 -0.062207 -0.313194 -0.060278 C -0.316667 -0.058349 -0.321863 -0.053719 -0.325347 -0.051019 C -0.328831 -0.048318 -0.331192 -0.046003 -0.334097 -0.044074 C -0.337002 -0.042145 -0.339884 -0.041374 -0.342778 -0.039444 C -0.345671 -0.037515 -0.348264 -0.034444 -0.351458 -0.0325 C -0.354653 -0.030556 -0.35875 -0.028951 -0.361944 -0.027778 C -0.365139 -0.026605 -0.367442 -0.025849 -0.370625 -0.025463 C -0.373808 -0.025077 -0.377558 -0.025849 -0.381042 -0.025463 C -0.384526 -0.025077 -0.387755 -0.02392 -0.391528 -0.023148 C -0.395301 -0.022377 -0.400208 -0.021219 -0.403681 -0.020833 C -0.407153 -0.020448 -0.409167 -0.020833 -0.412361 -0.020833 C -0.415556 -0.020833 -0.419363 -0.020833 -0.422847 -0.020833 C -0.426331 -0.020833 -0.431528 -0.020833 -0.433264 -0.020833 E">
                                      <p:cBhvr>
                                        <p:cTn id="2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未命名_副本  "/>
          <p:cNvPicPr/>
          <p:nvPr/>
        </p:nvPicPr>
        <p:blipFill>
          <a:blip r:embed="rId3"/>
          <a:stretch/>
        </p:blipFill>
        <p:spPr>
          <a:xfrm>
            <a:off x="-1185840" y="3141720"/>
            <a:ext cx="5898960" cy="3933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未命名_副本o"/>
          <p:cNvPicPr/>
          <p:nvPr/>
        </p:nvPicPr>
        <p:blipFill>
          <a:blip r:embed="rId4"/>
          <a:stretch/>
        </p:blipFill>
        <p:spPr>
          <a:xfrm>
            <a:off x="2052720" y="-96840"/>
            <a:ext cx="4859280" cy="3238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未命名_副本l"/>
          <p:cNvPicPr/>
          <p:nvPr/>
        </p:nvPicPr>
        <p:blipFill>
          <a:blip r:embed="rId3"/>
          <a:stretch/>
        </p:blipFill>
        <p:spPr>
          <a:xfrm>
            <a:off x="254160" y="-169920"/>
            <a:ext cx="4572000" cy="3046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未命名_副本qo"/>
          <p:cNvPicPr/>
          <p:nvPr/>
        </p:nvPicPr>
        <p:blipFill>
          <a:blip r:embed="rId4"/>
          <a:stretch/>
        </p:blipFill>
        <p:spPr>
          <a:xfrm>
            <a:off x="2266920" y="2876400"/>
            <a:ext cx="6769080" cy="451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未命名_副本f"/>
          <p:cNvPicPr/>
          <p:nvPr/>
        </p:nvPicPr>
        <p:blipFill>
          <a:blip r:embed="rId3"/>
          <a:stretch/>
        </p:blipFill>
        <p:spPr>
          <a:xfrm>
            <a:off x="1585800" y="2060640"/>
            <a:ext cx="6480360" cy="4321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未命名_副本oi"/>
          <p:cNvPicPr/>
          <p:nvPr/>
        </p:nvPicPr>
        <p:blipFill>
          <a:blip r:embed="rId4"/>
          <a:stretch/>
        </p:blipFill>
        <p:spPr>
          <a:xfrm>
            <a:off x="254160" y="42210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未命名_副本人、"/>
          <p:cNvPicPr/>
          <p:nvPr/>
        </p:nvPicPr>
        <p:blipFill>
          <a:blip r:embed="rId5"/>
          <a:stretch/>
        </p:blipFill>
        <p:spPr>
          <a:xfrm>
            <a:off x="4826160" y="-2833560"/>
            <a:ext cx="4105080" cy="273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177 4E-005 C -0.002177 0.00193 -0.002177 0.007149 -0.002177 0.011379 C -0.002177 0.015605 -0.002177 0.020734 -0.002177 0.025411 C -0.002177 0.030089 -0.002177 0.035215 -0.002177 0.039443 C -0.002177 0.043673 -0.001948 0.046554 -0.002177 0.050782 C -0.002407 0.05501 -0.003097 0.060138 -0.003558 0.064816 C -0.004018 0.069493 -0.004708 0.074171 -0.004938 0.078848 C -0.005168 0.083526 -0.004708 0.088652 -0.004938 0.092881 C -0.005168 0.09711 -0.006088 0.099991 -0.006317 0.104219 C -0.006548 0.108449 -0.006088 0.113576 -0.006317 0.118253 C -0.006548 0.12293 -0.007468 0.12759 -0.007697 0.132286 C -0.007928 0.136982 -0.007468 0.141267 -0.007697 0.146431 C -0.007928 0.151594 -0.008848 0.158126 -0.009079 0.163271 C -0.009309 0.168416 -0.009079 0.172625 -0.009079 0.177304 C -0.009079 0.181982 -0.008848 0.18664 -0.009079 0.191336 C -0.009309 0.196033 -0.010228 0.200785 -0.010459 0.205481 C -0.010689 0.210178 -0.010459 0.213901 -0.010459 0.219515 C -0.010459 0.225127 -0.010459 0.233997 -0.010459 0.23916 C -0.010459 0.244324 -0.010459 0.245803 -0.010459 0.250499 C -0.010459 0.255196 -0.010459 0.262193 -0.010459 0.267338 C -0.010459 0.272484 -0.010689 0.277142 -0.010459 0.281372 C -0.010228 0.2856 -0.009538 0.288014 -0.009079 0.29271 C -0.008619 0.297406 -0.007928 0.303936 -0.007697 0.30955 C -0.007468 0.315162 -0.007928 0.32029 -0.007697 0.32639 C -0.007468 0.332488 -0.006548 0.340516 -0.006317 0.346148 C -0.006088 0.351779 -0.006548 0.355035 -0.006317 0.36018 C -0.006088 0.365326 -0.005398 0.371388 -0.004938 0.377019 C -0.004477 0.382652 -0.003787 0.388807 -0.003558 0.393971 C -0.003328 0.399136 -0.003558 0.403326 -0.003558 0.408004 C -0.003558 0.412682 -0.003787 0.417361 -0.003558 0.422038 C -0.003328 0.426715 -0.002867 0.431841 -0.002177 0.436071 C -0.001488 0.440299 0.000123 0.44318 0.000583 0.447408 C 0.001044 0.451637 0.000353 0.456764 0.000583 0.461442 C 0.000813 0.46612 0.001504 0.471246 0.001963 0.475475 C 0.002423 0.479704 0.002884 0.482117 0.003344 0.486812 C 0.003803 0.49151 0.004494 0.498507 0.004724 0.503652 C 0.004954 0.508798 0.004954 0.513008 0.004724 0.517685 C 0.004494 0.522363 0.003574 0.52749 0.003344 0.531719 C 0.003113 0.535947 0.003344 0.538829 0.003344 0.543057 C 0.003344 0.547286 0.003344 0.552412 0.003344 0.55709 C 0.003344 0.561767 0.003574 0.56549 0.003344 0.571123 C 0.003113 0.576756 0.002193 0.585249 0.001963 0.590882 C 0.001733 0.596514 0.001963 0.600236 0.001963 0.604914 C 0.001963 0.609592 0.002193 0.614251 0.001963 0.618947 C 0.001733 0.623643 0.000813 0.628396 0.000583 0.633093 C 0.000353 0.637789 0.000583 0.641979 0.000583 0.647125 C 0.000583 0.65227 0.000583 0.65882 0.000583 0.663965 C 0.000583 0.66911 0.001504 0.673769 0.000583 0.677999 C -0.000337 0.682226 -0.004018 0.685107 -0.004938 0.689337 C -0.005858 0.693564 -0.004938 0.698693 -0.004938 0.70337 C -0.004938 0.708047 -0.005168 0.713173 -0.004938 0.717402 C -0.004708 0.72163 -0.003787 0.724512 -0.003558 0.728741 C -0.003328 0.732969 -0.003558 0.738096 -0.003558 0.742774 C -0.003558 0.747452 -0.003558 0.752129 -0.003558 0.756807 C -0.003558 0.761485 -0.003558 0.766142 -0.003558 0.770839 C -0.003558 0.775535 -0.003787 0.77982 -0.003558 0.784984 C -0.003328 0.790149 -0.002637 0.796679 -0.002177 0.801824 C -0.001717 0.80697 -0.001258 0.811628 -0.000797 0.815857 C -0.000337 0.820085 0.000123 0.822968 0.000583 0.827196 C 0.001044 0.831424 0.001273 0.83655 0.001963 0.841228 C 0.002653 0.845906 0.003803 0.850583 0.004724 0.85526 C 0.005644 0.859939 0.006785 0.865066 0.007484 0.869294 C 0.008183 0.873523 0.008221 0.876405 0.008919 0.880633 C 0.009619 0.884861 0.01099 0.88952 0.011681 0.894665 C 0.01237 0.899811 0.01283 0.906809 0.013061 0.911505 C 0.01329 0.916201 0.01283 0.918615 0.013061 0.922843 C 0.01329 0.927073 0.01421 0.934538 0.01444 0.936877 E">
                                      <p:cBhvr>
                                        <p:cTn id="3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未命名_副本"/>
          <p:cNvPicPr/>
          <p:nvPr/>
        </p:nvPicPr>
        <p:blipFill>
          <a:blip r:embed="rId2"/>
          <a:stretch/>
        </p:blipFill>
        <p:spPr>
          <a:xfrm>
            <a:off x="254160" y="262080"/>
            <a:ext cx="8496000" cy="640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未命名_副本d"/>
          <p:cNvPicPr/>
          <p:nvPr/>
        </p:nvPicPr>
        <p:blipFill>
          <a:blip r:embed="rId3"/>
          <a:stretch/>
        </p:blipFill>
        <p:spPr>
          <a:xfrm>
            <a:off x="7093080" y="2421000"/>
            <a:ext cx="7149960" cy="4765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未命名_副本b"/>
          <p:cNvPicPr/>
          <p:nvPr/>
        </p:nvPicPr>
        <p:blipFill>
          <a:blip r:embed="rId4"/>
          <a:stretch/>
        </p:blipFill>
        <p:spPr>
          <a:xfrm>
            <a:off x="4178160" y="-25560"/>
            <a:ext cx="4572000" cy="30466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81528 -0.000833 E">
                                      <p:cBhvr>
                                        <p:cTn id="38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Group 810" descr=""/>
          <p:cNvPicPr/>
          <p:nvPr/>
        </p:nvPicPr>
        <p:blipFill>
          <a:blip r:embed="rId2"/>
          <a:stretch/>
        </p:blipFill>
        <p:spPr>
          <a:xfrm>
            <a:off x="-455760" y="-6375240"/>
            <a:ext cx="9972720" cy="5743440"/>
          </a:xfrm>
          <a:prstGeom prst="rect">
            <a:avLst/>
          </a:prstGeom>
          <a:ln w="0">
            <a:noFill/>
          </a:ln>
        </p:spPr>
      </p:pic>
      <p:pic>
        <p:nvPicPr>
          <p:cNvPr id="106" name="Group 810" descr=""/>
          <p:cNvPicPr/>
          <p:nvPr/>
        </p:nvPicPr>
        <p:blipFill>
          <a:blip r:embed="rId3"/>
          <a:stretch/>
        </p:blipFill>
        <p:spPr>
          <a:xfrm>
            <a:off x="-328680" y="-6248520"/>
            <a:ext cx="9972720" cy="5743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4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8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0313 -0.04166 L -0.00121 -0.01296 L 0.00052 0.01806 L 0.00278 0.04885 L 0.00677 0.08056 L 0.00886 0.10695 L 0.00833 0.14051 L 0.01024 0.17361 L 0.01024 0.2007 L 0.00886 0.23287 L 0.01198 0.26042 L 0.00833 0.29213 L 0.01024 0.32176 L 0.01077 0.35232 L 0.01233 0.37917 L 0.00903 0.41158 L 0.01146 0.44815 L 0.00677 0.48519 L 0.00903 0.52662 L 0.00573 0.56297 L 0.01233 0.63658 L 0.00903 0.69584 L 0.01024 0.73473 L 0.01077 0.77385 L 0.01476 0.82593 L 0.0158 0.88287 L 0.01302 0.95371 L 0.01302 1.01667 L 0.01007 1.06922 L 0.01024 1.13287 L 0.00747 1.18334 L 0.00608 1.24584 L 0.00833 1.30857 L 0.00191 1.41806 L 0.01007 1.5044 L 0.01563 1.58773 L 0.01146 1.66829 L 0.01406 1.7301 L 0.00677 1.98287 E">
                                      <p:cBhvr>
                                        <p:cTn id="46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钟强</cp:lastModifiedBy>
  <dcterms:modified xsi:type="dcterms:W3CDTF">2015-10-23T04:49:53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