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E982-2020-40C1-B416-689F5FE66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C8D7-0E85-4C4D-ADBF-3ED4A0FB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5453-9E72-46ED-9F1C-DACB5DFBC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6C41-DB26-48D7-9A14-4485FAEC7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37FF-F3FE-4FD0-BE9C-C868C3E21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A5FC-83FE-4998-8BA7-9C48F30D1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8F79-C6F8-4D25-843B-13A50308D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748D-0D42-48BF-A7EA-23519FA4D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D6CE-DBDC-4286-A05C-831185710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F3A4-4D25-4D00-947A-9F25D6575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CE1A-86EF-4A0C-B0BE-87345214F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90D0-51AE-4C4E-8108-E4F3E7588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B962A00-BD3F-4622-952E-01627FA465F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ordridesign.cn/" TargetMode="Externa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节快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55B7-A5EE-4E4B-A0FC-6465865DA4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2103-93B6-4F90-9B62-693CECEF5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468360" y="51404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6790-FB50-4669-9E62-1630C1C105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870200"/>
            <a:ext cx="4097160" cy="166824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不限次数的用于您个人</a:t>
            </a:r>
            <a:r>
              <a:rPr b="0" lang="en-US" sz="1000" spc="-1" strike="noStrike">
                <a:solidFill>
                  <a:srgbClr val="5f5f5f"/>
                </a:solidFill>
                <a:latin typeface="华文细黑"/>
              </a:rPr>
              <a:t>/</a:t>
            </a: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5160" y="1870200"/>
            <a:ext cx="4110120" cy="166824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收集整理我们发布的免费资源后，打包上传并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华文细黑"/>
              </a:rPr>
              <a:t>把我们的创作做为您个人作品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68360" y="4132440"/>
            <a:ext cx="8207280" cy="10998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随时欢迎您访问我们的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设计交流论坛</a:t>
            </a:r>
            <a:r>
              <a:rPr b="0" lang="en-GB" sz="14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www.nordridesign.c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</a:rPr>
              <a:t>如果您有进一步的</a:t>
            </a: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</a:rPr>
              <a:t>设计需求，请登陆我们的官方网站</a:t>
            </a:r>
            <a:r>
              <a:rPr b="0" lang="en-GB" sz="10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www.nordridesign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png-0644"/>
          <p:cNvPicPr/>
          <p:nvPr/>
        </p:nvPicPr>
        <p:blipFill>
          <a:blip r:embed="rId3"/>
          <a:stretch/>
        </p:blipFill>
        <p:spPr>
          <a:xfrm>
            <a:off x="3703680" y="17924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png-0652"/>
          <p:cNvPicPr/>
          <p:nvPr/>
        </p:nvPicPr>
        <p:blipFill>
          <a:blip r:embed="rId4"/>
          <a:stretch/>
        </p:blipFill>
        <p:spPr>
          <a:xfrm>
            <a:off x="7645320" y="179244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0" t="0" r="394" b="0"/>
          <a:stretch/>
        </p:blipFill>
        <p:spPr>
          <a:xfrm>
            <a:off x="6659640" y="239760"/>
            <a:ext cx="2016000" cy="60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76F6-148D-4A24-A391-8217779E53C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cp:lastPrinted>1899-12-30T00:00:00Z</cp:lastPrinted>
  <dcterms:modified xsi:type="dcterms:W3CDTF">2012-05-30T04:28:45Z</dcterms:modified>
  <cp:revision>15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