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DE6-B434-43B0-8448-2C26746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1C1-6584-493B-BD5A-16EAFAE9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6ED-9CDE-41EC-9360-941A0F54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454-E9FD-4E60-9520-84D19602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0D3-7C7A-47C3-8B8B-347E5B6E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6DFC-8430-4195-A1E8-7E9C310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F848-5757-403A-A591-DE0D17D9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2CD2-155B-4D01-B263-0AD7A868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8982-D084-44D9-8500-F2876D7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B6CD-9EEB-4BA4-97E1-3736CEA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60B8-CA83-4C30-8E45-C05CDF5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0C6-9B9D-4207-97E2-1AF267E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87CB-3B4B-40DA-8D8E-6F0D77A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929-F279-4A35-8F7D-AE32A891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59A-EACF-41E1-BE75-1C6E5E1C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6FD-87C0-48AC-B929-17C729BE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3D81-B7E2-4D09-BF79-4D378535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F42B-2B49-451E-9157-33652F10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8BC0-330B-48E7-8987-84B1AA6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0952-DE05-4246-B5FB-CCE4436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6D0B-1FFA-47C5-813A-139A6DC5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B99A-DF7D-4C1B-AC17-5001CEF9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307-1A66-4F98-86C1-86315144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7A1E-84F7-4457-BCD4-BE1B6C35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E5009-3F4E-40FA-AC6E-7F265A6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3711-335E-47F3-8BD8-7E58ECF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FC61-B1CC-4949-BE23-68D56F82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0FEE-5F7A-41D2-BE58-AB713547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159D-1672-435B-8408-7404EC71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BDE4-B386-4A0A-B199-FDF7249B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A311-254C-4543-BF25-CA061C8F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4EF1-706E-4E9B-8F55-596579B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9F531-7856-4E89-B9FD-3FEEF006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671-5F3F-42FB-89AB-EF89C7D2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B71A-2388-4C28-A4D2-3AB46CE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69CA-7BDE-431F-867C-6FA1A78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CCE8E-C5E9-4515-A930-F61D702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BA38-5F68-4F53-9DCD-FE9ADC2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D7A4-903E-40B1-88A4-6A2B130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5FD2-E23D-4FA7-A6FA-DD520FDE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B86F-527D-4206-A2F7-F679C9D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30BC4-3F74-4DB0-B2AC-BD96171E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513C-FE5D-4550-AFEE-E90D6A72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AA33-328A-4F82-ACE2-6BDBFCF5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CBB-A28C-4BB8-9125-50D5A7D5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4212-7063-44C4-97EF-63E6DDEC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F308-96E4-4305-945A-D305A9E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4E3E-5469-4727-A8DD-3CD145D5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E137-D98A-432B-91E2-5828BFA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2A04-0447-4F3C-9FFF-A9D6D19E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8C97-2B4E-4CF7-8666-43CBDC17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6070-CC2C-49D7-975B-35619B99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20BB-0785-4FA3-8CE5-6F9BA39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EB3D7-E83B-43D6-9851-81D6CF6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8232-8970-495F-97C4-B8E82741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3E4-BF8B-4861-B476-2829B4E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2CC9-5278-4F91-A3E0-54D060CB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A25-E045-4FB3-97FC-9477F93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07D-3F88-40DC-ACCA-F875F9E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CB2-522A-4C4B-8226-1F977DD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dcd43d98f2944e139012f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15A-AB18-4DCF-8D06-0F9278790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71206_775471a332860a22f784bUMnrO4hdf7Q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9A1-B12E-4E0D-B3F0-7070CC733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9eef11b8b2db8f2af5133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5AD5-8D77-4EE5-ACA1-5F9D81A3D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01500c7400397127b151b92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EBE-0E3E-4E4C-AC13-3797FCC49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926f446f5792b4fd80cb4a5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572D-7722-4901-AE05-87A7F46C88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937440" y="515772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liuxing2_156"/>
          <p:cNvPicPr/>
          <p:nvPr/>
        </p:nvPicPr>
        <p:blipFill>
          <a:blip r:embed="rId2"/>
          <a:stretch/>
        </p:blipFill>
        <p:spPr>
          <a:xfrm>
            <a:off x="0" y="1557360"/>
            <a:ext cx="374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renwu2_076"/>
          <p:cNvPicPr/>
          <p:nvPr/>
        </p:nvPicPr>
        <p:blipFill>
          <a:blip r:embed="rId1"/>
          <a:stretch/>
        </p:blipFill>
        <p:spPr>
          <a:xfrm>
            <a:off x="0" y="2349360"/>
            <a:ext cx="1682640" cy="4508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huangyihuawen2_0495"/>
          <p:cNvPicPr/>
          <p:nvPr/>
        </p:nvPicPr>
        <p:blipFill>
          <a:blip r:embed="rId1"/>
          <a:stretch/>
        </p:blipFill>
        <p:spPr>
          <a:xfrm>
            <a:off x="250920" y="765000"/>
            <a:ext cx="5905440" cy="5905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  </a:t>
            </a:r>
            <a:r>
              <a:rPr b="1" i="1" lang="zh-CN" sz="7200" spc="-1" strike="noStrike">
                <a:solidFill>
                  <a:srgbClr val="000000"/>
                </a:solidFill>
                <a:latin typeface="Arial"/>
                <a:ea typeface="华文彩云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8:42:48Z</dcterms:created>
  <dc:creator/>
  <dc:description/>
  <cp:keywords/>
  <dc:language>en-US</dc:language>
  <cp:lastModifiedBy>Administrator</cp:lastModifiedBy>
  <cp:lastPrinted>1899-12-30T00:00:00Z</cp:lastPrinted>
  <dcterms:modified xsi:type="dcterms:W3CDTF">2015-07-13T08:11:1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