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7B8C-6141-4EAD-A829-F04A60AA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7010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4020840"/>
            <a:ext cx="7010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7FD-649C-44D8-A8F3-2CBA4BC8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6640" y="175212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402084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6640" y="402084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F0AD-6015-4608-81E6-BD0764F2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5160" y="175212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45400" y="175212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402084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5160" y="402084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45400" y="402084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8E9A-C220-4231-A7A6-433E3FD6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6CC8-ABC2-411E-9587-535D5AD1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17521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F146-8020-4EA3-9BFC-054B1FA8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41FA-A731-4F70-833B-498D854D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0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96640" y="1752120"/>
            <a:ext cx="3420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B971-AB63-4FA5-985D-81209417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A5A1-2A35-4C60-9AEF-129E193A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6F9A-2028-499E-906F-3549DB99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96640" y="1752120"/>
            <a:ext cx="3420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560" y="402084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D5DF-4145-4047-A4F5-D1BD9F6E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7521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EFFD-CAF3-4147-8F26-A2F4D208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0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96640" y="175212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96640" y="402084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DBE5-EC78-43AB-8313-951D654A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96640" y="175212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560" y="4020840"/>
            <a:ext cx="7010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7345-20B0-418B-9615-5A82D8E3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7010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560" y="4020840"/>
            <a:ext cx="7010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472D-7997-4C43-B71E-6A10FF5E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96640" y="175212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402084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96640" y="402084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B72F-7188-4071-9CF8-C3A3E6B8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75160" y="175212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45400" y="175212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560" y="402084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75160" y="402084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45400" y="402084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C1C8-7D3B-46EA-9033-5FEF4D53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928-6009-436B-8EB0-8D74C683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0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6640" y="1752120"/>
            <a:ext cx="3420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D15-15B4-4ACB-832B-DB01C355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D73-5F50-4D11-80E4-6C93476B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C2C-C7AF-447B-B7F5-55C128DA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6640" y="1752120"/>
            <a:ext cx="3420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402084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934-1A41-48D3-BDB7-C740AF4F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0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6640" y="175212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6640" y="402084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1E59-6BFC-47B7-BD63-7D028A45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6640" y="175212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4020840"/>
            <a:ext cx="7010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7143-FB3A-4021-99C5-ACE5A89A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752120"/>
            <a:ext cx="70102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  <a:p>
            <a:pPr lvl="1" marL="720720" indent="-277200">
              <a:spcBef>
                <a:spcPts val="799"/>
              </a:spcBef>
              <a:buClr>
                <a:srgbClr val="ffff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  <a:p>
            <a:pPr lvl="2" marL="1108440" indent="-221400">
              <a:spcBef>
                <a:spcPts val="799"/>
              </a:spcBef>
              <a:buClr>
                <a:srgbClr val="ffff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  <a:p>
            <a:pPr lvl="3" marL="1551960" indent="-221400">
              <a:spcBef>
                <a:spcPts val="799"/>
              </a:spcBef>
              <a:buClr>
                <a:srgbClr val="ffff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  <a:p>
            <a:pPr lvl="4" marL="1995480" indent="-221400">
              <a:spcBef>
                <a:spcPts val="799"/>
              </a:spcBef>
              <a:buClr>
                <a:srgbClr val="ffffcc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0218-C0D6-4C6D-AC4F-1764E94673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560" y="1752120"/>
            <a:ext cx="70102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  <a:p>
            <a:pPr lvl="1" marL="720720" indent="-277200">
              <a:spcBef>
                <a:spcPts val="799"/>
              </a:spcBef>
              <a:buClr>
                <a:srgbClr val="ffff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  <a:p>
            <a:pPr lvl="2" marL="1108440" indent="-221400">
              <a:spcBef>
                <a:spcPts val="799"/>
              </a:spcBef>
              <a:buClr>
                <a:srgbClr val="ffff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  <a:p>
            <a:pPr lvl="3" marL="1551960" indent="-221400">
              <a:spcBef>
                <a:spcPts val="799"/>
              </a:spcBef>
              <a:buClr>
                <a:srgbClr val="ffff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  <a:p>
            <a:pPr lvl="4" marL="1995480" indent="-221400">
              <a:spcBef>
                <a:spcPts val="799"/>
              </a:spcBef>
              <a:buClr>
                <a:srgbClr val="ffffcc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885C-31C1-43F2-9D94-D2AC364E50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4876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Impact"/>
                <a:ea typeface="宋体"/>
              </a:rPr>
              <a:t>Celebrate Good Times</a:t>
            </a:r>
            <a:endParaRPr b="0" lang="en-US" sz="40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571500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Impact"/>
                <a:ea typeface="宋体"/>
              </a:rPr>
              <a:t>A Presentation</a:t>
            </a:r>
            <a:endParaRPr b="0" lang="en-US" sz="2800" spc="-1" strike="noStrike">
              <a:solidFill>
                <a:srgbClr val="ffffcc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Impact"/>
                <a:ea typeface="宋体"/>
              </a:rPr>
              <a:t>Your Main Point Here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70102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  <a:ea typeface="宋体"/>
              </a:rPr>
              <a:t>Your Sub Points Here</a:t>
            </a: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010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  <a:ea typeface="宋体"/>
              </a:rPr>
              <a:t>Your Main Point Here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70102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宋体"/>
              </a:rPr>
              <a:t>Your Sub Point Here</a:t>
            </a:r>
            <a:endParaRPr b="0" lang="en-US" sz="3200" spc="-1" strike="noStrike">
              <a:solidFill>
                <a:srgbClr val="ffffcc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7010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Impact"/>
                <a:ea typeface="宋体"/>
              </a:rPr>
              <a:t>TRANSITION PAGE</a:t>
            </a:r>
            <a:endParaRPr b="0" lang="en-US" sz="6000" spc="-1" strike="noStrike">
              <a:solidFill>
                <a:srgbClr val="ffffcc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5:09:11Z</dcterms:created>
  <dc:creator>Billgates</dc:creator>
  <dc:description/>
  <dc:language>en-US</dc:language>
  <cp:lastModifiedBy>Administrator</cp:lastModifiedBy>
  <dcterms:modified xsi:type="dcterms:W3CDTF">2015-07-03T06:56:11Z</dcterms:modified>
  <cp:revision>3</cp:revision>
  <dc:subject/>
  <dc:title> </dc:title>
</cp:coreProperties>
</file>