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%E4%BA%A1%E7%81%B5%E5%BA%8F%E6%9B%B2.wav" ContentType="audio/x-wav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D00F-9BBB-431F-AC93-8925B5923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A617-A3A3-4242-B601-CDD13F9C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DF7A-8168-4456-BC2B-773F6BCA9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41BE-0E19-4F4E-8809-A5B89F801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DA2F-F512-4711-BF33-21286436B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36B73-E846-43A8-92C1-76C75692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80DA-87BC-4B84-9E82-142E872A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209B-376E-4236-B982-5539AB08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4A77-5BD6-4443-B387-215A6B08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6D6B-C51C-4204-BAE2-B67EF944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57E4-C37A-4100-92A9-40EDA8B4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C886-7A3A-489D-B2E0-31540167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652E-50FD-4A74-AFE0-A3174B46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4EBA-F93A-4D7A-AF49-5C01A7DC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594E-7662-4DAB-BC1F-33C34E5E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EE47-0757-4F38-BA82-22BD50213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9659-EBFE-418D-96A5-02CFE888A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4494-C49A-4A71-AC41-E1DD90FC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ADD8-CAD5-4D7B-9926-2040802A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F925-99FC-46D6-999F-E79172B9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7F16-BACF-4551-A6B4-9F86A5DA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C57B-D040-41AD-B1F1-D1B9B56E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52CC-21D4-4168-B6C8-E770F959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E5BF-4AC8-4451-BCAD-70D60B1C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2A42-836B-4024-ADE1-0437C2FFA00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AAA9-ADC3-4CD5-9AC2-25BB7314840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5A2E-165F-4EB9-9068-50F3B581009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audio" Target="../media/&#20129;&#28789;&#24207;&#26354;.wav"/><Relationship Id="rId6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1500120" y="7142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8"/>
          <p:cNvSpPr/>
          <p:nvPr/>
        </p:nvSpPr>
        <p:spPr>
          <a:xfrm>
            <a:off x="21405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/>
          <p:cNvSpPr/>
          <p:nvPr/>
        </p:nvSpPr>
        <p:spPr>
          <a:xfrm>
            <a:off x="39265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54979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306900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"/>
          <p:cNvSpPr/>
          <p:nvPr/>
        </p:nvSpPr>
        <p:spPr>
          <a:xfrm>
            <a:off x="4426560" y="5715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8"/>
          <p:cNvSpPr/>
          <p:nvPr/>
        </p:nvSpPr>
        <p:spPr>
          <a:xfrm>
            <a:off x="1774080" y="785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/>
          <p:cNvSpPr/>
          <p:nvPr/>
        </p:nvSpPr>
        <p:spPr>
          <a:xfrm>
            <a:off x="7072200" y="3714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9"/>
          <p:cNvSpPr/>
          <p:nvPr/>
        </p:nvSpPr>
        <p:spPr>
          <a:xfrm>
            <a:off x="378360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/>
          <p:cNvSpPr/>
          <p:nvPr/>
        </p:nvSpPr>
        <p:spPr>
          <a:xfrm>
            <a:off x="535500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5"/>
          <p:cNvSpPr/>
          <p:nvPr/>
        </p:nvSpPr>
        <p:spPr>
          <a:xfrm>
            <a:off x="78300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/>
          <p:cNvSpPr/>
          <p:nvPr/>
        </p:nvSpPr>
        <p:spPr>
          <a:xfrm>
            <a:off x="23547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8"/>
          <p:cNvSpPr/>
          <p:nvPr/>
        </p:nvSpPr>
        <p:spPr>
          <a:xfrm>
            <a:off x="1734120" y="78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7"/>
          <p:cNvSpPr/>
          <p:nvPr/>
        </p:nvSpPr>
        <p:spPr>
          <a:xfrm>
            <a:off x="2071800" y="23572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9"/>
          <p:cNvSpPr/>
          <p:nvPr/>
        </p:nvSpPr>
        <p:spPr>
          <a:xfrm>
            <a:off x="492660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/>
          <p:cNvSpPr/>
          <p:nvPr/>
        </p:nvSpPr>
        <p:spPr>
          <a:xfrm>
            <a:off x="22831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55695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628380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8"/>
          <p:cNvSpPr/>
          <p:nvPr/>
        </p:nvSpPr>
        <p:spPr>
          <a:xfrm>
            <a:off x="1805760" y="785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/>
          <p:cNvSpPr/>
          <p:nvPr/>
        </p:nvSpPr>
        <p:spPr>
          <a:xfrm>
            <a:off x="2000160" y="3643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/>
          <p:cNvSpPr/>
          <p:nvPr/>
        </p:nvSpPr>
        <p:spPr>
          <a:xfrm>
            <a:off x="464076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5"/>
          <p:cNvSpPr/>
          <p:nvPr/>
        </p:nvSpPr>
        <p:spPr>
          <a:xfrm>
            <a:off x="64980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/>
          <p:cNvSpPr/>
          <p:nvPr/>
        </p:nvSpPr>
        <p:spPr>
          <a:xfrm>
            <a:off x="4140720" y="5715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8"/>
          <p:cNvSpPr/>
          <p:nvPr/>
        </p:nvSpPr>
        <p:spPr>
          <a:xfrm>
            <a:off x="187704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/>
          <p:cNvSpPr/>
          <p:nvPr/>
        </p:nvSpPr>
        <p:spPr>
          <a:xfrm>
            <a:off x="2071800" y="24289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9"/>
          <p:cNvSpPr/>
          <p:nvPr/>
        </p:nvSpPr>
        <p:spPr>
          <a:xfrm>
            <a:off x="22118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7"/>
          <p:cNvSpPr/>
          <p:nvPr/>
        </p:nvSpPr>
        <p:spPr>
          <a:xfrm>
            <a:off x="59979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57121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8"/>
          <p:cNvSpPr/>
          <p:nvPr/>
        </p:nvSpPr>
        <p:spPr>
          <a:xfrm>
            <a:off x="180576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7"/>
          <p:cNvSpPr/>
          <p:nvPr/>
        </p:nvSpPr>
        <p:spPr>
          <a:xfrm>
            <a:off x="928800" y="3643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9"/>
          <p:cNvSpPr/>
          <p:nvPr/>
        </p:nvSpPr>
        <p:spPr>
          <a:xfrm>
            <a:off x="6712560" y="5857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7"/>
          <p:cNvSpPr/>
          <p:nvPr/>
        </p:nvSpPr>
        <p:spPr>
          <a:xfrm>
            <a:off x="47120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9"/>
          <p:cNvSpPr/>
          <p:nvPr/>
        </p:nvSpPr>
        <p:spPr>
          <a:xfrm>
            <a:off x="65696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6"/>
          <p:cNvSpPr/>
          <p:nvPr/>
        </p:nvSpPr>
        <p:spPr>
          <a:xfrm>
            <a:off x="30690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9" descr="云1.png"/>
          <p:cNvPicPr/>
          <p:nvPr/>
        </p:nvPicPr>
        <p:blipFill>
          <a:blip r:embed="rId2"/>
          <a:stretch/>
        </p:blipFill>
        <p:spPr>
          <a:xfrm>
            <a:off x="196920" y="1663560"/>
            <a:ext cx="2266920" cy="70668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11" descr="云3.png"/>
          <p:cNvPicPr/>
          <p:nvPr/>
        </p:nvPicPr>
        <p:blipFill>
          <a:blip r:embed="rId3"/>
          <a:stretch/>
        </p:blipFill>
        <p:spPr>
          <a:xfrm>
            <a:off x="9858240" y="2363760"/>
            <a:ext cx="2994120" cy="103500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0" y="5943600"/>
            <a:ext cx="9144000" cy="360"/>
            <a:chOff x="0" y="5943600"/>
            <a:chExt cx="9144000" cy="360"/>
          </a:xfrm>
        </p:grpSpPr>
        <p:sp>
          <p:nvSpPr>
            <p:cNvPr id="119" name="Line 7"/>
            <p:cNvSpPr/>
            <p:nvPr/>
          </p:nvSpPr>
          <p:spPr>
            <a:xfrm>
              <a:off x="0" y="5943600"/>
              <a:ext cx="914400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0" y="59436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-19080" y="1257480"/>
            <a:ext cx="9137520" cy="360"/>
            <a:chOff x="-19080" y="1257480"/>
            <a:chExt cx="9137520" cy="360"/>
          </a:xfrm>
        </p:grpSpPr>
        <p:sp>
          <p:nvSpPr>
            <p:cNvPr id="122" name="Line 33"/>
            <p:cNvSpPr/>
            <p:nvPr/>
          </p:nvSpPr>
          <p:spPr>
            <a:xfrm>
              <a:off x="-19080" y="1257480"/>
              <a:ext cx="913752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-19080" y="1257480"/>
              <a:ext cx="9137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0" y="5956200"/>
            <a:ext cx="9144000" cy="360"/>
            <a:chOff x="0" y="5956200"/>
            <a:chExt cx="9144000" cy="360"/>
          </a:xfrm>
        </p:grpSpPr>
        <p:sp>
          <p:nvSpPr>
            <p:cNvPr id="125" name="Line 36"/>
            <p:cNvSpPr/>
            <p:nvPr/>
          </p:nvSpPr>
          <p:spPr>
            <a:xfrm>
              <a:off x="0" y="5956200"/>
              <a:ext cx="914400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0" y="59562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TextBox 8"/>
          <p:cNvSpPr/>
          <p:nvPr/>
        </p:nvSpPr>
        <p:spPr>
          <a:xfrm>
            <a:off x="2987640" y="54936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致力于优秀的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PPT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分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2629080" y="2476440"/>
            <a:ext cx="532764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</a:rPr>
              <a:t>PPT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</a:rPr>
              <a:t>模板下载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http://ppt.downhot.com/moban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</a:rPr>
              <a:t>PPT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</a:rPr>
              <a:t>素材下载 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http://ppt.downhot.com/tsucai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</a:rPr>
              <a:t>PPT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</a:rPr>
              <a:t>背景图片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http://ppt.downhot.com/gaoqing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</a:rPr>
              <a:t>PPT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</a:rPr>
              <a:t>教程下载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http://ppt.downhot.com/jiaoch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PPT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作品下载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http://ppt.downhot.com/PPTzuopin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2"/>
          <p:cNvSpPr/>
          <p:nvPr/>
        </p:nvSpPr>
        <p:spPr>
          <a:xfrm>
            <a:off x="245160" y="6200640"/>
            <a:ext cx="351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更多管理资料下载：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www.downhot.com/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4" descr="logo"/>
          <p:cNvPicPr/>
          <p:nvPr/>
        </p:nvPicPr>
        <p:blipFill>
          <a:blip r:embed="rId4"/>
          <a:stretch/>
        </p:blipFill>
        <p:spPr>
          <a:xfrm>
            <a:off x="331920" y="284040"/>
            <a:ext cx="1836720" cy="7336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22"/>
          <p:cNvSpPr/>
          <p:nvPr/>
        </p:nvSpPr>
        <p:spPr>
          <a:xfrm>
            <a:off x="5185080" y="620064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更多谜语、范文：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www.xhxsw88.cn/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1111 L 1.79965 0.01111 E">
                                      <p:cBhvr>
                                        <p:cTn id="6" dur="8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0.01111 L -1.8467 0.01111 E">
                                      <p:cBhvr>
                                        <p:cTn id="8" dur="10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0" repeatCount="200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2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4-06-24T09:15:43Z</dcterms:modified>
  <cp:revision>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77</vt:lpwstr>
  </property>
</Properties>
</file>