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0.gif" ContentType="image/gif"/>
  <Override PartName="/ppt/media/image23.jpeg" ContentType="image/jpeg"/>
  <Override PartName="/ppt/media/image18.jpeg" ContentType="image/jpeg"/>
  <Override PartName="/ppt/media/image21.png" ContentType="image/png"/>
  <Override PartName="/ppt/media/image19.gif" ContentType="image/gif"/>
  <Override PartName="/ppt/media/image22.png" ContentType="image/png"/>
  <Override PartName="/ppt/media/image17.gif" ContentType="image/gif"/>
  <Override PartName="/ppt/media/image16.jpeg" ContentType="image/jpeg"/>
  <Override PartName="/ppt/media/image4.png" ContentType="image/png"/>
  <Override PartName="/ppt/media/image1.gif" ContentType="image/gif"/>
  <Override PartName="/ppt/media/image24.gif" ContentType="image/gif"/>
  <Override PartName="/ppt/media/image15.gif" ContentType="image/gif"/>
  <Override PartName="/ppt/media/image14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08A-654F-448F-B2A3-10DB0CB7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511-4BE5-414D-A912-B92B0DC8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DA9-9A4A-4E00-B974-FB4B5AF5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531-5846-473E-9099-FA1EF7A8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8F2-1B7C-4DFB-9196-1CEC6705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B5B5-8FBD-4D6B-B72A-2FF1D20B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813C-80FE-4D65-A918-63B61EE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3CA9-F13E-4FDC-9FC9-4AB9BAA2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C782-8689-452F-984E-3FB066C7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9EB3-F331-4E64-979E-468C6E32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97AC-E2B8-466E-884B-50C5471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0CC-F703-4628-99E2-5C153D05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3FA6-59F7-4CDA-BCE6-28B9579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587E-8BEF-42D6-B421-CE931171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B9CC-3997-4153-A4A8-694A4A8F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DDD7-E99E-451D-A8A9-E7A422B8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2DD3-DC9D-4632-B351-B4CF919C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397C7-19A1-4772-8E9F-93D1290B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DC106-8CDB-4CA1-8F90-42F8FD82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799B-4359-4A2C-95F6-6E51F50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6E62-5D1D-41DA-A508-F31EEF9A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97F1-B0E4-4436-B8C2-E513437B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9CB-6819-48DA-AF50-49E7EC0B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1D68-19C9-4346-86EB-2E9B3BAE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BC62-9383-440D-B312-85F221F7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6202-B442-4323-822A-BEF6380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C8EE-063E-4F07-8646-E600BCEE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B57A-1332-4C5D-ABBB-F839646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B9F5-C3B7-4ACC-9E50-AA9311A6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96AA-6BA3-4826-964D-0058620F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DDF1F-EA52-4C4C-BB40-25B572BA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A9ED-F23F-4BF9-B50E-3F0BBE9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57CD-9396-468D-B651-76EB4C7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2FC-2C09-4D2B-AC76-160D61E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5E62-8C86-4723-9D33-50148085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C6DD-814D-4CEE-8515-9C5E0E2C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7FD9-4E7D-4D5E-92AC-CCC33E7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7105-B27E-4CC3-BEDB-E0554B69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9035-A0E9-4F6D-BDEB-2069B00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F523-6BAF-49B6-85EC-0B541124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A22A-B496-40CA-A2F5-7128ED25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F3D2-A909-4B9E-9E5D-DC4569E7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D055-72D8-4DED-9834-22E4F94C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F0D-7999-4CB6-9860-AE0B5DE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6B1-4C35-4DB8-AA1D-58DEE71A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A28-32D5-4F7C-A605-7106701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3FB-9C92-4AD5-9B7C-62BD1AA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C48-7029-4CF5-B0A7-C75C8A88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5783-C49E-40EC-8265-404CC0F8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8666-90CB-4043-B2C1-4C6FF08A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2_副本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4108-FED0-49A9-90FD-1BC6FB562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CFF4-90C8-4344-95DB-3AC13ACAB3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内容占位符 3" descr="u=2946491090,6500012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矩形 5" descr=""/>
          <p:cNvPicPr/>
          <p:nvPr/>
        </p:nvPicPr>
        <p:blipFill>
          <a:blip r:embed="rId2"/>
          <a:stretch/>
        </p:blipFill>
        <p:spPr>
          <a:xfrm>
            <a:off x="1743120" y="2511360"/>
            <a:ext cx="6273720" cy="19321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2010091312431265.gif"/>
          <p:cNvPicPr/>
          <p:nvPr/>
        </p:nvPicPr>
        <p:blipFill>
          <a:blip r:embed="rId3"/>
          <a:stretch/>
        </p:blipFill>
        <p:spPr>
          <a:xfrm>
            <a:off x="0" y="189000"/>
            <a:ext cx="1403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内容占位符 3" descr="u=569883515,4169831623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2" name="图片 4" descr="u=3862777874,1935793828&amp;fm=21&amp;gp=0.gif"/>
          <p:cNvPicPr/>
          <p:nvPr/>
        </p:nvPicPr>
        <p:blipFill>
          <a:blip r:embed="rId2"/>
          <a:stretch/>
        </p:blipFill>
        <p:spPr>
          <a:xfrm>
            <a:off x="468360" y="620640"/>
            <a:ext cx="8496360" cy="561672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5" descr=""/>
          <p:cNvPicPr/>
          <p:nvPr/>
        </p:nvPicPr>
        <p:blipFill>
          <a:blip r:embed="rId3"/>
          <a:stretch/>
        </p:blipFill>
        <p:spPr>
          <a:xfrm>
            <a:off x="792000" y="-60480"/>
            <a:ext cx="7516800" cy="72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826920" y="692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叫国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3419640" y="765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中国成立的周年纪念叫国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826920" y="148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庆节是何年何月何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4859280" y="1484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4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934920" y="2133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歌原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义勇军进行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（      ）作曲，（      ）作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579600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聂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7885080" y="220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田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971640" y="2852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徽上的齿轮和麦稻穗象征着（     ）阶级与（      ）阶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543564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工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5292720" y="508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745164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农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042920" y="36450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庆节还有什么其他的称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900000" y="4365720"/>
            <a:ext cx="82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国庆节是每个国家的重要节日，但名称各有不同。许多国家叫“国庆节”或“国庆日”，还有一些国家叫“独立日”或“独立节”，也有的叫“共和日”，“共和国日”，“解放日”，“国家复兴日”，“宪法日”等，还有直接以国名加上“日”的，如“澳大利亚日”，“巴基斯坦日”，有的则以国王的生日，或登基日为国庆日，如遇国王更替，国庆的具体日期也随之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单色凌 - 隔三秋.mp3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0635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内容占位符 3" descr="2012112207345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矩形 4" descr=""/>
          <p:cNvPicPr/>
          <p:nvPr/>
        </p:nvPicPr>
        <p:blipFill>
          <a:blip r:embed="rId2"/>
          <a:stretch/>
        </p:blipFill>
        <p:spPr>
          <a:xfrm>
            <a:off x="480960" y="2590920"/>
            <a:ext cx="8175600" cy="32004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5" descr="u=1925599528,742245893&amp;fm=23&amp;gp=0.gif"/>
          <p:cNvPicPr/>
          <p:nvPr/>
        </p:nvPicPr>
        <p:blipFill>
          <a:blip r:embed="rId3"/>
          <a:stretch/>
        </p:blipFill>
        <p:spPr>
          <a:xfrm>
            <a:off x="6948360" y="2708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内容占位符 3" descr="2014092214003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矩形 4" descr=""/>
          <p:cNvPicPr/>
          <p:nvPr/>
        </p:nvPicPr>
        <p:blipFill>
          <a:blip r:embed="rId2"/>
          <a:stretch/>
        </p:blipFill>
        <p:spPr>
          <a:xfrm>
            <a:off x="1023840" y="1706400"/>
            <a:ext cx="7113600" cy="26337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" descr="u=3218559102,3475032619&amp;fm=21&amp;gp=0.gif"/>
          <p:cNvPicPr/>
          <p:nvPr/>
        </p:nvPicPr>
        <p:blipFill>
          <a:blip r:embed="rId3"/>
          <a:stretch/>
        </p:blipFill>
        <p:spPr>
          <a:xfrm>
            <a:off x="324000" y="476280"/>
            <a:ext cx="1511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内容占位符 3" descr="20131218070226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" descr="u=4075018512,858395800&amp;fm=21&amp;gp=0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250920" y="4046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能不晕车的最好方法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572000" y="404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答案：“步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324000" y="1197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为什么自由女神像老站在纽约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5724360" y="1197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答案：“她不能坐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324000" y="177336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一只小狗在沙漠中旅行，找到了电线杠，结果还是憋死了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5580000" y="20606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</a:rPr>
              <a:t>答案：“电线杠上面贴着此处不许小便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24000" y="28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什么梨子是温度最高的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5292720" y="29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答案：“梨子（离子）烫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3"/>
          <p:cNvSpPr/>
          <p:nvPr/>
        </p:nvSpPr>
        <p:spPr>
          <a:xfrm>
            <a:off x="395280" y="4005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圣诞夜，圣诞老公公放进袜子的第一件东西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6443640" y="450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答案：“脚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611280" y="836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每两个人组成一组，一轮只限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字，每一轮四个组，两两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K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，比赛将会采记时来决定胜负，所用时间最短的胜利。这时，获得胜利的两个组，也就是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个人，面临一个选择，继续，奖品升级，止步，奖品不升级，照旧，若双方都继续，则获胜的一方奖品升级，输的一方，空手而归；若双方都止步，那就见好就收，以上比赛规则，必须双方意见一致。胜利满载而归，失败空手而归，大家需谨慎选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内容占位符 3" descr="20140614153622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u=1993270311,1646851234&amp;fm=21&amp;gp=0.gif"/>
          <p:cNvPicPr/>
          <p:nvPr/>
        </p:nvPicPr>
        <p:blipFill>
          <a:blip r:embed="rId2"/>
          <a:stretch/>
        </p:blipFill>
        <p:spPr>
          <a:xfrm>
            <a:off x="4716360" y="189000"/>
            <a:ext cx="3724200" cy="20955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u=3016259695,2144458977&amp;fm=23&amp;gp=0.gif"/>
          <p:cNvPicPr/>
          <p:nvPr/>
        </p:nvPicPr>
        <p:blipFill>
          <a:blip r:embed="rId3"/>
          <a:stretch/>
        </p:blipFill>
        <p:spPr>
          <a:xfrm>
            <a:off x="4067280" y="4000680"/>
            <a:ext cx="3485880" cy="2857320"/>
          </a:xfrm>
          <a:prstGeom prst="rect">
            <a:avLst/>
          </a:prstGeom>
          <a:ln w="0">
            <a:noFill/>
          </a:ln>
        </p:spPr>
      </p:pic>
      <p:pic>
        <p:nvPicPr>
          <p:cNvPr id="214" name="矩形 6" descr=""/>
          <p:cNvPicPr/>
          <p:nvPr/>
        </p:nvPicPr>
        <p:blipFill>
          <a:blip r:embed="rId4"/>
          <a:stretch/>
        </p:blipFill>
        <p:spPr>
          <a:xfrm>
            <a:off x="1335240" y="847800"/>
            <a:ext cx="6430680" cy="1962000"/>
          </a:xfrm>
          <a:prstGeom prst="rect">
            <a:avLst/>
          </a:prstGeom>
          <a:ln w="0">
            <a:noFill/>
          </a:ln>
        </p:spPr>
      </p:pic>
      <p:pic>
        <p:nvPicPr>
          <p:cNvPr id="215" name="矩形 7" descr=""/>
          <p:cNvPicPr/>
          <p:nvPr/>
        </p:nvPicPr>
        <p:blipFill>
          <a:blip r:embed="rId5"/>
          <a:stretch/>
        </p:blipFill>
        <p:spPr>
          <a:xfrm>
            <a:off x="682560" y="3176640"/>
            <a:ext cx="79120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内容占位符 3" descr="20140514072258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4" descr="u=2704547823,3525987573&amp;fm=23&amp;gp=0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9:04:58Z</dcterms:created>
  <dc:creator>Administrator</dc:creator>
  <dc:description/>
  <dc:language>en-US</dc:language>
  <cp:lastModifiedBy>Administrator</cp:lastModifiedBy>
  <cp:lastPrinted>1899-12-30T00:00:00Z</cp:lastPrinted>
  <dcterms:modified xsi:type="dcterms:W3CDTF">2014-10-02T01:27:59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