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ba00"/>
                </a:solidFill>
                <a:latin typeface="幼圆"/>
              </a:rPr>
              <a:t>Click to move the slide</a:t>
            </a:r>
            <a:endParaRPr b="1" lang="en-US" sz="4400" spc="-1" strike="noStrike">
              <a:solidFill>
                <a:srgbClr val="f8ba00"/>
              </a:solidFill>
              <a:latin typeface="幼圆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Click to edit the notes format</a:t>
            </a:r>
            <a:endParaRPr b="0" lang="en-US" sz="1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1054-EDD4-4E91-A614-4E8CDC0377D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Calibri"/>
              </a:rPr>
              <a:t>模板来自于 </a:t>
            </a: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http://docer.mysoeasy.com</a:t>
            </a:r>
            <a:endParaRPr b="0" lang="en-US" sz="1400" spc="-1" strike="noStrike">
              <a:solidFill>
                <a:srgbClr val="ff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674A-8B6E-440C-86A8-4A5759DDFFA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Calibri"/>
              </a:rPr>
              <a:t>模板来自于 </a:t>
            </a: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http://docer.mysoeasy.com</a:t>
            </a:r>
            <a:endParaRPr b="0" lang="en-US" sz="1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6CDA-7F87-4606-A1B6-F9499C5359E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5AF5-E934-46EA-93AF-B73883425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39840" y="382716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49A0-B4B1-4EC2-86A9-E3FD0810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3984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456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CA53-7B4E-48CF-965E-8F9C13EB1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6920" y="11145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4000" y="11145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39840" y="38271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6920" y="38271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4000" y="38271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838D-2CAD-47F3-8ED4-9A1DA6A4A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A3FF-217A-4CFC-BEB6-42F217DE0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39840" y="111456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b7d3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916B-5561-4635-BF1E-7A8288A4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DF3F-CAF8-434E-A59A-D75FF0A2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3DC0-6336-4B4E-A776-51D6456B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B6D9-C70F-48C5-BB34-ED3CBF15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39840" y="101160"/>
            <a:ext cx="83707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b7d3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BD9E-A558-485D-B510-BB74217F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3984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1D78-D54E-4191-8384-5E5CF157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39840" y="111456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b7d3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CEC6-DF43-40DF-84BF-70476831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2456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B814-DA99-4E45-BECB-D32F1121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39840" y="382716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26E8-5AAC-4F6B-97AC-3915B96A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9840" y="382716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83E1-161A-4C31-98B6-8C33D90F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3984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2456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36D5-733B-4729-9AC7-CEDAB044C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66920" y="11145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4000" y="11145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39840" y="38271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66920" y="38271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4000" y="382716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7C0A-7350-4C0A-99CB-7CD496D30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7A2A-8CFA-4C34-BB54-BE551471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7E4F-BB4A-4698-B9F1-F4E8375D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820A-0AFE-4EAF-BA9F-4DB53E11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39840" y="101160"/>
            <a:ext cx="83707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b7d3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B82B-815B-4114-8B51-3F9DA0FA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3984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2010-0F86-4781-A9A6-9C66A051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4560" y="38271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6259-8753-4D00-9C97-70F3269D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4560" y="111456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39840" y="382716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815B-DFE9-4337-9003-7784A3EB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4" descr=""/>
          <p:cNvPicPr/>
          <p:nvPr/>
        </p:nvPicPr>
        <p:blipFill>
          <a:blip r:embed="rId2"/>
          <a:srcRect l="0" t="0" r="452" b="0"/>
          <a:stretch/>
        </p:blipFill>
        <p:spPr>
          <a:xfrm>
            <a:off x="-11160" y="0"/>
            <a:ext cx="9172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7a8d"/>
                </a:solidFill>
                <a:latin typeface="幼圆"/>
              </a:rPr>
              <a:t>Click to edit the title text format</a:t>
            </a: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39840" y="111456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Click to edit the outline text format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97dac9"/>
              </a:buClr>
              <a:buFont typeface="华文新魏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Second Outline Level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Third Outline Level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Fourth Outline Level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Fifth Outline Level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Sixth Outline Level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7a8d"/>
                </a:solidFill>
                <a:latin typeface="幼圆"/>
              </a:rPr>
              <a:t>Seventh Outline Level</a:t>
            </a: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C3A5-EED1-4152-A2E7-7E47B97F360F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7" descr=""/>
          <p:cNvPicPr/>
          <p:nvPr/>
        </p:nvPicPr>
        <p:blipFill>
          <a:blip r:embed="rId2"/>
          <a:srcRect l="0" t="0" r="569" b="0"/>
          <a:stretch/>
        </p:blipFill>
        <p:spPr>
          <a:xfrm>
            <a:off x="0" y="0"/>
            <a:ext cx="9161640" cy="6853320"/>
          </a:xfrm>
          <a:prstGeom prst="rect">
            <a:avLst/>
          </a:prstGeom>
          <a:ln w="0">
            <a:noFill/>
          </a:ln>
        </p:spPr>
      </p:pic>
      <p:grpSp>
        <p:nvGrpSpPr>
          <p:cNvPr id="43" name="组合 8"/>
          <p:cNvGrpSpPr/>
          <p:nvPr/>
        </p:nvGrpSpPr>
        <p:grpSpPr>
          <a:xfrm>
            <a:off x="4390920" y="2479680"/>
            <a:ext cx="4770720" cy="4384800"/>
            <a:chOff x="4390920" y="2479680"/>
            <a:chExt cx="4770720" cy="4384800"/>
          </a:xfrm>
        </p:grpSpPr>
        <p:pic>
          <p:nvPicPr>
            <p:cNvPr id="44" name="图片 9" descr=""/>
            <p:cNvPicPr/>
            <p:nvPr/>
          </p:nvPicPr>
          <p:blipFill>
            <a:blip r:embed="rId3"/>
            <a:srcRect l="0" t="0" r="0" b="6777"/>
            <a:stretch/>
          </p:blipFill>
          <p:spPr>
            <a:xfrm>
              <a:off x="4537080" y="2479680"/>
              <a:ext cx="4362840" cy="43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图片 10" descr=""/>
            <p:cNvPicPr/>
            <p:nvPr/>
          </p:nvPicPr>
          <p:blipFill>
            <a:blip r:embed="rId4"/>
            <a:srcRect l="0" t="0" r="13920" b="0"/>
            <a:stretch/>
          </p:blipFill>
          <p:spPr>
            <a:xfrm>
              <a:off x="6693840" y="5235480"/>
              <a:ext cx="2467800" cy="162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图片 11" descr=""/>
            <p:cNvPicPr/>
            <p:nvPr/>
          </p:nvPicPr>
          <p:blipFill>
            <a:blip r:embed="rId5"/>
            <a:srcRect l="0" t="0" r="0" b="35061"/>
            <a:stretch/>
          </p:blipFill>
          <p:spPr>
            <a:xfrm>
              <a:off x="4390920" y="6365880"/>
              <a:ext cx="831960" cy="49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图片 12" descr=""/>
          <p:cNvPicPr/>
          <p:nvPr/>
        </p:nvPicPr>
        <p:blipFill>
          <a:blip r:embed="rId6"/>
          <a:srcRect l="0" t="0" r="0" b="21566"/>
          <a:stretch/>
        </p:blipFill>
        <p:spPr>
          <a:xfrm>
            <a:off x="31680" y="6070680"/>
            <a:ext cx="1449360" cy="799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6480" y="1912680"/>
            <a:ext cx="574020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ba00"/>
                </a:solidFill>
                <a:latin typeface="幼圆"/>
              </a:rPr>
              <a:t>Click to edit the title text format</a:t>
            </a:r>
            <a:endParaRPr b="1" lang="en-US" sz="4400" spc="-1" strike="noStrike">
              <a:solidFill>
                <a:srgbClr val="f8ba00"/>
              </a:solidFill>
              <a:latin typeface="幼圆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A192-385A-4C16-9466-6CA84CE33725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b7d3"/>
                </a:solidFill>
                <a:latin typeface="幼圆"/>
              </a:rPr>
              <a:t>Click to edit the outline text format</a:t>
            </a:r>
            <a:endParaRPr b="0" lang="en-US" sz="2000" spc="-1" strike="noStrike">
              <a:solidFill>
                <a:srgbClr val="2bb7d3"/>
              </a:solidFill>
              <a:latin typeface="幼圆"/>
            </a:endParaRPr>
          </a:p>
          <a:p>
            <a:pPr lvl="1" indent="0" algn="ctr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d7d7d"/>
                </a:solidFill>
                <a:latin typeface="幼圆"/>
              </a:rPr>
              <a:t>Second Outline Level</a:t>
            </a:r>
            <a:endParaRPr b="0" lang="en-US" sz="1600" spc="-1" strike="noStrike">
              <a:solidFill>
                <a:srgbClr val="7d7d7d"/>
              </a:solidFill>
              <a:latin typeface="幼圆"/>
            </a:endParaRPr>
          </a:p>
          <a:p>
            <a:pPr lvl="2" marL="914400" algn="ctr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6480" y="1912680"/>
            <a:ext cx="574020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ba00"/>
              </a:solidFill>
              <a:latin typeface="幼圆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39760" y="3003480"/>
            <a:ext cx="399096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b7d3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7a8d"/>
              </a:solidFill>
              <a:latin typeface="幼圆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9840" y="111456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7a8d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02:52:00Z</dcterms:created>
  <dc:creator>admin</dc:creator>
  <dc:description/>
  <dc:language>en-US</dc:language>
  <cp:lastModifiedBy>adminh</cp:lastModifiedBy>
  <dcterms:modified xsi:type="dcterms:W3CDTF">2015-06-17T03:29:17Z</dcterms:modified>
  <cp:revision>107</cp:revision>
  <dc:subject/>
  <dc:title>fdsa</dc:title>
</cp:coreProperties>
</file>