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485-3A90-4027-ACCD-6FA4A5BC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63E3-47A2-4179-AA35-837849FF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203-3031-4DF8-AA05-0FB949B4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68D-D35D-422E-BA73-7B490219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42E-FFB6-4444-8232-27864852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4EB-FCFE-4617-9BE3-E5268A5C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C96A-F940-4A99-BA28-4D6B3821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6956-6268-46F0-AE64-C1E4CEA0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617-EF6C-4F7D-8615-5A8A8789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5A4B-BE49-470B-8FE3-E3E8EA2C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EF90-B29E-47B1-8FB9-050EFAB5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4ADE-D934-4F0D-AD20-7F4F6D50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3750-F768-48A1-86D7-CB4A16AB84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433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57720" y="540720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85776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1711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4980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997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39488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1928880" y="2928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6426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44265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39488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786040" y="4286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9"/>
          <p:cNvSpPr/>
          <p:nvPr/>
        </p:nvSpPr>
        <p:spPr>
          <a:xfrm>
            <a:off x="71409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1068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0695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5-07-22T02:12:0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