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3.png" ContentType="image/png"/>
  <Override PartName="/ppt/media/image11.png" ContentType="image/png"/>
  <Override PartName="/ppt/media/image24.gif" ContentType="image/gif"/>
  <Override PartName="/ppt/media/image16.png" ContentType="image/png"/>
  <Override PartName="/ppt/media/image22.png" ContentType="image/png"/>
  <Override PartName="/ppt/media/image2.gif" ContentType="image/gif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48B-86FD-4165-8633-04F1CE41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62E-B5FF-43C6-A8C5-DBF6808E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4A7-8B9D-425F-827A-A8360A38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ED4-FDC9-4F6A-BBA2-1D21F7DF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1944-7D50-4D55-88F7-DBE867A7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EB71-2B3E-44D4-B0C2-3B7993FD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5F0-35DA-4F1D-8748-2E12BD45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D97-A266-4D9C-BC21-E0905781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ECD-4C75-4AF2-8D21-50BD5725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30A7-13FF-4B6A-BBBF-EEAE8BEE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C47-DFD4-4652-9A43-06C26448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AF5-DE67-423E-A910-FC84D565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3704-86D2-4D99-A334-71BD635DED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46200" y="1401840"/>
            <a:ext cx="4251600" cy="4160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43000" y="53352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3399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Your friendship is :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003399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5410080"/>
            <a:ext cx="74613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latin typeface="Book Antiqua"/>
              </a:rPr>
              <a:t>a precious treasure...</a:t>
            </a:r>
            <a:endParaRPr b="1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/>
              </a:solidFill>
              <a:latin typeface="Book Antiqua"/>
              <a:ea typeface="Book Antiqua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04960" y="2057400"/>
            <a:ext cx="3932280" cy="2743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38080" y="609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Don’t keep this message... Send it to your frien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57480" y="4952880"/>
            <a:ext cx="674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So they will know that wherever you are, you are thinking of them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238880" y="5029200"/>
            <a:ext cx="1295640" cy="1255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38080" y="60948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on’t forget to send it back to the person who sent it to you, so this friend will know that they are also in your thoughts…………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0467800">
            <a:off x="504000" y="485064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hope you have </a:t>
            </a:r>
            <a:r>
              <a:rPr b="1" lang="es-GT" sz="4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 great 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 rot="20609400">
            <a:off x="8726040" y="6618240"/>
            <a:ext cx="341280" cy="74520"/>
          </a:xfrm>
          <a:prstGeom prst="rect">
            <a:avLst/>
          </a:prstGeom>
        </p:spPr>
        <p:txBody>
          <a:bodyPr wrap="none" lIns="90000" rIns="90000" tIns="28080" bIns="2808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8100000"/>
                </a:gradFill>
                <a:latin typeface="Book Antiqua"/>
              </a:rPr>
              <a:t>A.C.A.</a:t>
            </a:r>
            <a:endParaRPr b="1" lang="en-US" sz="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8100000"/>
              </a:gradFill>
              <a:latin typeface="Book Antiqua"/>
              <a:ea typeface="Book Antiqu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11680" y="2666880"/>
            <a:ext cx="1520640" cy="993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11680" y="3657600"/>
            <a:ext cx="152064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1295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I want to thank you for being a part of my lif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1752480"/>
            <a:ext cx="342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know I can count on you in difficult times</a:t>
            </a:r>
            <a:r>
              <a:rPr b="1" lang="es-GT" sz="4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32280" y="1066680"/>
            <a:ext cx="4983120" cy="4973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533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45720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I know that I can share with you happy momen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49528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And I also know that our friendship is based on mutual l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16002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Your friendship is a very special gift,</a:t>
            </a:r>
            <a:br>
              <a:rPr sz="3600"/>
            </a:b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I won’t be able 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to thank you enough for 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it</a:t>
            </a:r>
            <a:r>
              <a:rPr b="1" lang="es-GT" sz="3600" spc="-1" strike="noStrike">
                <a:solidFill>
                  <a:srgbClr val="cc0000"/>
                </a:solidFill>
                <a:latin typeface="Trebuchet MS"/>
                <a:ea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67080" y="2743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9576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1522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Thanks for filling my life with so much happines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257480" y="762120"/>
            <a:ext cx="6476760" cy="5790960"/>
            <a:chOff x="1257480" y="762120"/>
            <a:chExt cx="6476760" cy="57909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4076640" y="762120"/>
              <a:ext cx="571680" cy="5713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362320" y="1295280"/>
              <a:ext cx="571320" cy="57168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1257480" y="3619440"/>
              <a:ext cx="571320" cy="57168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6248520" y="5448240"/>
              <a:ext cx="571320" cy="57168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4305240" y="5981760"/>
              <a:ext cx="571680" cy="5713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</p:pic>
        <p:pic>
          <p:nvPicPr>
            <p:cNvPr id="71" name="" descr=""/>
            <p:cNvPicPr/>
            <p:nvPr/>
          </p:nvPicPr>
          <p:blipFill>
            <a:blip r:embed="rId6"/>
            <a:stretch/>
          </p:blipFill>
          <p:spPr>
            <a:xfrm>
              <a:off x="1447920" y="2247840"/>
              <a:ext cx="571320" cy="57168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</p:pic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162920" y="3772080"/>
              <a:ext cx="571320" cy="5713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2247840" y="5372280"/>
              <a:ext cx="571680" cy="5713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</p:pic>
        <p:pic>
          <p:nvPicPr>
            <p:cNvPr id="74" name="" descr=""/>
            <p:cNvPicPr/>
            <p:nvPr/>
          </p:nvPicPr>
          <p:blipFill>
            <a:blip r:embed="rId9"/>
            <a:stretch/>
          </p:blipFill>
          <p:spPr>
            <a:xfrm>
              <a:off x="6019920" y="1295280"/>
              <a:ext cx="571320" cy="57168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</p:pic>
        <p:pic>
          <p:nvPicPr>
            <p:cNvPr id="75" name="" descr=""/>
            <p:cNvPicPr/>
            <p:nvPr/>
          </p:nvPicPr>
          <p:blipFill>
            <a:blip r:embed="rId10"/>
            <a:stretch/>
          </p:blipFill>
          <p:spPr>
            <a:xfrm>
              <a:off x="6934320" y="2438280"/>
              <a:ext cx="571320" cy="57168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</p:pic>
      </p:grpSp>
      <p:sp>
        <p:nvSpPr>
          <p:cNvPr id="76" name=""/>
          <p:cNvSpPr/>
          <p:nvPr/>
        </p:nvSpPr>
        <p:spPr>
          <a:xfrm>
            <a:off x="2666880" y="1523880"/>
            <a:ext cx="381024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1"/>
          <a:stretch/>
        </p:blipFill>
        <p:spPr>
          <a:xfrm>
            <a:off x="3479760" y="1914480"/>
            <a:ext cx="218268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2454120"/>
            <a:ext cx="609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Remember that I am always here to listen to you, to comfort you, to share your sorrow,</a:t>
            </a:r>
            <a:br>
              <a:rPr sz="3200"/>
            </a:b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and to celebrate your su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00800" y="1914480"/>
            <a:ext cx="2057400" cy="3029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4946760"/>
            <a:ext cx="1828800" cy="1904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1520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I hope that today and every day brings you love &amp; happiness</a:t>
            </a:r>
            <a:r>
              <a:rPr b="1" lang="es-GT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24360" y="1447920"/>
            <a:ext cx="3085920" cy="1090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105520" y="2068560"/>
            <a:ext cx="1143000" cy="903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42900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3422520"/>
            <a:ext cx="838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438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3168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-Donna Levine</a:t>
            </a:r>
            <a:r>
              <a:rPr b="1" lang="es-ES" sz="1400" spc="-1" strike="noStrike">
                <a:solidFill>
                  <a:srgbClr val="ff0000"/>
                </a:solidFill>
                <a:latin typeface="Book Antiqua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3213000"/>
            <a:ext cx="3727440" cy="2733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9480" y="13716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This e-mail has been sent to you by someone who considers you a good frie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23:17:37Z</dcterms:created>
  <dc:creator>Emmanuel Alvarez</dc:creator>
  <dc:description/>
  <dc:language>en-US</dc:language>
  <cp:lastModifiedBy>user</cp:lastModifiedBy>
  <dcterms:modified xsi:type="dcterms:W3CDTF">2011-05-23T23:40:09Z</dcterms:modified>
  <cp:revision>26</cp:revision>
  <dc:subject/>
  <dc:title>Presentación de PowerPoint</dc:title>
</cp:coreProperties>
</file>