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E43-29A0-46E4-A52F-A2BB00E1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276804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879-8849-4C25-869E-CB3AED9A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778-8257-418C-8394-07D8EFD5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AD6-4862-4F43-9BF4-F9EBF9AC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7F0E-80B1-45B7-82B0-AC56CBE6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70DF-41FD-4A9E-A4CC-7C349E35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BFA1-174A-4724-ADDE-3FA05C51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7EC5-8386-4D03-A767-2C496197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6ABB-BE96-4C1C-B2A6-CE4F0689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3305160"/>
            <a:ext cx="77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451A-CA71-4DCA-AE36-1015653F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2C9E-0FD3-4BFC-AE7C-AC8EE552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8AD-A618-44AC-8286-7C064EE7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19B5-4CB1-4A22-990B-38AAD49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F3AF-2656-41F7-8428-138B779A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276804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AA8F-C02D-4F0F-A4E4-606E944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2C42-D3F3-4015-BE70-1D7E63DB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AE9B-1200-43F6-9EC5-87DB0BDA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7385-11E9-4B77-8031-41302995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C83C-EC23-44D6-8618-1727A37F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842A-4F43-47F8-985B-2F91A9D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540D-4ED2-406D-8A10-2F7A08A3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AD1E-42C3-4056-BDA2-E55B33B4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A29-A62C-46B3-8024-EFE15975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3305160"/>
            <a:ext cx="77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03DA-7EB4-4032-8137-619CDF9E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EB24-2669-42EC-B7A4-26789F8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7B18-824C-4CB7-8F3E-8965DAF3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9E37-84C2-41F7-9D64-9C26F07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276804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7C43-D52A-452F-A0A7-81924FE4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54AB-96B9-4E4C-B771-FAEB75F8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1021-EF74-4F52-AF6F-6527B524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9AE41-4B7E-42E7-83B2-0234D851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6BC1-D820-4BE7-BCA6-0734B5E8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5E127-99ED-4F3B-A645-E504A373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36D-2FD6-4E1E-84C5-66ACA1C7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42964-F0F1-4355-BB6D-F3CAD31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BB02-B82F-4C7E-86AC-C976782A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2160" y="3305160"/>
            <a:ext cx="77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03D87-0BDE-41D8-AD34-4213DFD2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5B0F-5F79-4927-B7D7-A6A73DF0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484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26B7-6641-4CD3-A8FF-0D85DAE9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12689-7CA0-40E8-AF2E-95F7748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2160" y="276804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842A2-769E-4E7F-9AEB-F88448D5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484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3C14A-293C-42BC-A216-C3DF5147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5016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7800" y="218016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216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5016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7800" y="2768040"/>
            <a:ext cx="250236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327E-B886-4B2D-BA16-62743B66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E379-FB7F-4A6C-8805-381F32A5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3305160"/>
            <a:ext cx="77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A46-87CF-4006-8D65-B588DCD2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578-0029-4E32-817D-5DEBF875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11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276804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5214-6265-4F71-A212-665AEDF7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180160"/>
            <a:ext cx="379260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2768040"/>
            <a:ext cx="7772040" cy="5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F27-6586-4C1B-B721-2A59A90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72400"/>
            <a:ext cx="77720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ME OF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E2252F-D31D-467B-B739-C46F91313E1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205920"/>
            <a:ext cx="670680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1200240"/>
            <a:ext cx="6706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D68A19-22A4-4A03-AD31-D2BFEF1F9D3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A0BF3B-D6B8-4246-ACCF-1B1A68E56C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ffffff"/>
                </a:solidFill>
                <a:latin typeface="Calibri"/>
              </a:rPr>
              <a:t>NAME OF SECTION HEA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Section He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364EF2-6B9F-48D4-90E6-211ABCCCDB6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72400"/>
            <a:ext cx="77720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ME OF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1186560"/>
            <a:ext cx="6400440" cy="5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79640" y="205920"/>
            <a:ext cx="670680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79640" y="1200240"/>
            <a:ext cx="6706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ffffff"/>
                </a:solidFill>
                <a:latin typeface="Calibri"/>
              </a:rPr>
              <a:t>NAME OF SECTION HEA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Section Hea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3305160"/>
            <a:ext cx="7772040" cy="10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1" lang="en-US" sz="40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2160" y="2180160"/>
            <a:ext cx="7772040" cy="11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0000bf"/>
                </a:solidFill>
                <a:uFillTx/>
                <a:latin typeface="Calibri"/>
                <a:hlinkClick r:id="rId1"/>
              </a:rPr>
              <a:t>www.51pptmoban.com</a:t>
            </a:r>
            <a:r>
              <a:rPr b="0" lang="en-US" sz="20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zh-CN" sz="2000" spc="-1" strike="noStrike">
                <a:solidFill>
                  <a:srgbClr val="bfbfbf"/>
                </a:solidFill>
                <a:latin typeface="Calibri"/>
              </a:rPr>
              <a:t>整理发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07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07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07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07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207</Template>
  <TotalTime>2</TotalTime>
  <Application>LibreOffice/7.4.7.2$Linux_X86_64 LibreOffice_project/40$Build-2</Application>
  <AppVersion>15.0000</AppVersion>
  <Words>60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12:54:05Z</dcterms:created>
  <dc:creator>YANGS2015</dc:creator>
  <dc:description/>
  <dc:language>en-US</dc:language>
  <cp:lastModifiedBy>YANGS2015</cp:lastModifiedBy>
  <dcterms:modified xsi:type="dcterms:W3CDTF">2015-03-17T12:56:54Z</dcterms:modified>
  <cp:revision>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5</vt:r8>
  </property>
</Properties>
</file>