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F88-D879-42F0-BA16-13DACCB7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B03-C600-433A-A392-DDC1D773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EB1-D5D6-4ABF-AFBB-85553B06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B4B-59AE-43C7-ACCC-2CAB20D8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FA2-C4DC-4586-8848-BF8F3C00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EC3-8E92-4304-A603-7ACE01B0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3FB-465F-4C78-A0AF-B167148E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5DF-E276-4755-B136-BF7D7F0C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199-80FB-4BB4-BBC3-9A04509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46F-AB90-4AB4-AC01-57B9D527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7BA-86D7-4A04-955C-FC0986B7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839-C50D-4E1B-9D9E-9DA819E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F5A8-24D4-439E-9286-28131BFDB0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0" y="27860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357280" y="3571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5-22T09:05:13Z</dcterms:modified>
  <cp:revision>79</cp:revision>
  <dc:subject/>
  <dc:title>幻灯片 1</dc:title>
</cp:coreProperties>
</file>