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904-7FBD-4ED7-BEBE-F0048587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075-AB1C-4C0F-A14F-FCC9DAD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D0F-C65F-4096-911C-B37C6511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87B-6F76-4E3E-B4C1-DB67B841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1E6A-56E5-4E29-8C65-D5170520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830-523E-459B-8D51-591F41E4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0B9A-4FC8-4D29-806E-162CCE9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6A5-D8FD-4927-BD1B-EDC409F0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6227-2C19-47C3-8D7E-E0F2180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B17-B3A6-45FC-9495-9100E56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06A3-15E7-46BD-AD1A-55C5DB5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454-EF87-4A48-92C6-23D3B12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B2E-53B4-41AF-8BBA-28A5D29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BDC0-F6E1-4ABC-9EEE-CFF47A7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9DE7-C14C-4573-B480-E7540996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F9F5-038F-4912-BAC6-10690A49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C76-D3CA-4F1B-9622-404C7B9F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9F1-2373-4ECB-831A-65F8C85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665-5177-416C-93D2-A18148D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DDF-8A5F-498F-BC14-A92855FA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218-BF34-44F6-8880-D82C925F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C10-9CAC-4A2D-AA07-4231E34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043-5EF6-465B-BD8E-49304E8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0EF-5C3F-4501-B4BA-04A5BD50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6AF-2181-47D3-8FAF-15B874E21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BAB-A5F9-4198-8016-55E810797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6.xm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57387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三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主题班会     科学的学习方法是成功的保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11560" y="2657520"/>
            <a:ext cx="4815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三阶段你们是如何学习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们觉得自己的高三跟高一、高二有不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什么困惑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1520" y="249120"/>
            <a:ext cx="16437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自己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23840"/>
            <a:ext cx="40165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8080" y="287280"/>
            <a:ext cx="2131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习好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812960"/>
            <a:ext cx="4105440" cy="302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53040" y="3038040"/>
            <a:ext cx="4667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点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要自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的科学研究都证明，人的潜力是很大的，但大多数人并没有有效地开发这种潜力，这其中，人的自信力是很重要的一个方面。无论何时何地，你做任何事情，有了这种自信力，你就有了一种必胜的信念，而且能使你很快就摆脱失败的阴影。相反，一个人如果失掉了自信，那他就会一事无成，而且很容易陷入永远的自卑之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36840" y="1411200"/>
            <a:ext cx="5807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点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的心理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因斯坦有个成功的公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成功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艰苦劳动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正确方法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少说废话。这个公式指明事业成功的三要素。对于学业来说，成功也有三要素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成功＝心理素质十学习方法十智能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00120"/>
            <a:ext cx="3206880" cy="430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52960" y="4514040"/>
            <a:ext cx="563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积极的情感同学习联系起来，防止消极情绪的滋生，可以促进学习。善于控制自己，是学习意志力培养的关键。控制和约束自己的行动，控制不需要的想法和情绪，可以使思想集中到学习上来，这点是尤为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0600" y="2178360"/>
            <a:ext cx="53244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点、掌握科学的学习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预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在测览教材的总体内容后再细读，充分发挥自己的自学能力，理清哪些内容已经了解，哪些内容有疑问或是看不明白（即找重点、难点）分别标出并记下来。这样既提高了自学能力，又为听课“铺”平了道路，形成期待老师解析的心理定势；这种需求心理定势必将调动起我们的学习热情和高度集中的注意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79640"/>
            <a:ext cx="3798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06640" y="1689120"/>
            <a:ext cx="5205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听课 听老师讲课是获取知识的最佳捷径，老师传授的是经过历史验证的真理；是老师长期学习和教学实践的精华。因为提高课堂效率是尤为重要的，那么课堂效率如何提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800" y="2389680"/>
            <a:ext cx="76104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前准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精神上的准备十分重要。保持课内精力旺盛，头脑清醒，是学好知识的前提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集中注意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思想开小差会分心等一切都要靠理智强制自己专心听讲，靠意志来排除干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认真观察、积极思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不要做一个被动的信息接受者，要充分调动自己的积极性，紧跟老师讲课的思路，对老师的讲解积极思考。结论由学生自己的观察分析和推理而得，会比先听现成结论的学习效果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抓住老师讲课的重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有的同学在听课，往往忽视老师讲课的开头和结尾，这是错误的，开头，往往寥寥数语．但却是全堂讲课的纲。只要抓住这个纲去听课，下面的内容才会眉目清楚。结尾的话虽也不多，但却是对一 节课精要的提炼和复习提示。同时还要注意老师反复强调的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堂笔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笔记记忆法，是强化记忆的最佳方法之一。笔记，一份永恒的笔录，可以克服大脑记忆方面的限制。当然，最好的做法是堂上记重、难点，课后在复习中充实整体脉络。记住：好记忆不如烂笔头！因此为了充分理解和消化，必须记笔记。同时做笔记充分调动耳、眼、手、心等器官协同工作可帮助学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注意和老师的交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目光交流，提问式交流，都可以促进学习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89160" y="1704960"/>
            <a:ext cx="65754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复习的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德国教育学家第斯多惠说：“必须时常回复到所学的东西上而加以复习…… 牢固地记住所学会的东西，这比贪学新东西而又很快忘掉好得多。”因此往往考前的“临时抱佛脚”是不起作用的。复习在于平时，如何复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后回忆，即在听课基础上把所学内容回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读教材。对教材理解的越透，掌握得越牢，效率也就自然提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整理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补缺补漏，系统掌握知识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循环复习。将甲复习完后复习乙，在复习完乙后对甲再进行一次复习，然后前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循环复习利于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97240" y="2672280"/>
            <a:ext cx="62863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叉学习效果好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少同学在读书学习时，长时间单一的学习同一内容，表面上看时间用了不少，但效果并不理想，这是为什么呢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脑卫生学者告诉我们，人的大脑皮层细胞是有分工的，学习不同学科的内容回引起不同部分的兴奋。大脑长久接受同一类信息刺激，使某一部位长久兴奋，就容易产生疲劳，降低学习效率。若及时转换学习内容，合理调节“兴奋灶”，就可以避免大脑某一兴奋区长时间过于紧张，使别的部位出现新的兴奋区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0600" y="2723400"/>
            <a:ext cx="66852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时做好笔记与作业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性好不如烂比头。记笔记是一种良好的听课习惯，好笔记不是全记，不是漏记，不能只听不记，更不能只记不听。可以记在课本上、教学内容附近，这样记录的内容不易丢失，又易和教学内容相联系，既实用，又利于今后复习。布置作业的目的是巩固学习的知识。多数学生为了完成任务，不复习就急于做作业，这不利于知识的巩固。做作业前首先阅读一遍课本内容，和老师讲课的内容对照一下，看一看是否一致。这样做等于及时地复习了一遍，然后再做作业，既快速又能保证作业质量，达到最佳的学习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1960" y="2829240"/>
            <a:ext cx="78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学习，很多同学有这样的疑惑：为什么我整天都在学习，可成绩却上不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上完课之后，老师讲过的知识我都记住了，可到了第二天，回想老师前一天讲过的知识大多都给忘了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有的同学回到家，赶忙做作业，一遇问题，赶紧翻书，看一眼书中的例题，然后继续做。就这样，看看书做做作业，总算把作业做完了，他就觉得完成了学习任务。这种做作业的习惯好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效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研究表明：学习的成功不仅要靠能力和勤奋，也要靠有效的学习方法。学习方法不当会极大的降低学习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32800" y="673200"/>
            <a:ext cx="16239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5040" y="2490480"/>
            <a:ext cx="359892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课后两分钟回忆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一节课后，先不出去，利用短暂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-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时间，立即回忆一下本节课的内容，在回忆时有想不起来的地方，就马上翻看一下书或笔记，看后再接着回忆，这样记忆才深刻，效果才好。这好比是一堵墙，在坍塌之前就开始修补，总比全部坍塌之后再修补省事得多。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步：做作业前复习一遍 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1680" y="5409720"/>
            <a:ext cx="33987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勤问解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学过的知识，在复习时发现疑点要及时间，问课本、工具书、同学或老师。千万不要把疑问带到下一节课。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0" y="3142440"/>
            <a:ext cx="3211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独立解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要自己动手动脑独立完成作业，遇到难题，不要急于问，要多想想，如果经长时间仍不能解决，再请教，在得到指点后， 要认真思考症结所在，转化为自己的知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4200" y="1774440"/>
            <a:ext cx="75754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倘若就我们的学习喻作航船，勤奋则是轮船的马达；正确的学习方法便是轮船的方向盘与航线、让我们驾上这艘希冀之船在知识的海洋中畅游，“长风破浪会有时，直挂云帆济沧海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60560" y="950760"/>
            <a:ext cx="6686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一下，你的学习习惯怎么样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固定的时间进行学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面对书桌就是没有兴趣，把时间浪费掉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身边经常备有辞典、字典之类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时有下意识动作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学习中有经常沉迷于空想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做过快速读书的练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结束之后，收拾书桌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完后，背诵所学内容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一边聊天或听音乐一边学习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开头学习方法好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分办法：上述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答“是” 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 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题答“是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难以确定的题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。将各题所得分数相加，总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下，则说明你的学习习惯非常差，应该从头培养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较差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一般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习惯较好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上，说明学习习惯非常好，应继续坚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69360" y="914400"/>
            <a:ext cx="3106800" cy="66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5920" y="1165320"/>
            <a:ext cx="573084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91800" y="425520"/>
            <a:ext cx="530136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76600" y="2404440"/>
            <a:ext cx="440856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孔子谈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教育家孔子，在学习方法上他主张“学而时习之”，“温故而知新”。他要求学生学习时，要学、思结合提出“学而不思则罔，思而不学则殆”。就是说，光学习而不积极思维，就会迷而不知所向；如果思维不以学习为基础，就会流于空想，会带来知识上的危机。要通过独立思考，学思结合，才能在接受前人知识的基础上，有所创造，有所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6080" y="893880"/>
            <a:ext cx="4095720" cy="517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1200" y="6136920"/>
            <a:ext cx="3416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公元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51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4720" y="282240"/>
            <a:ext cx="17672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名人谈学习方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9960" y="1814400"/>
            <a:ext cx="495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1640" y="407880"/>
            <a:ext cx="583236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动笔墨不读书”，他读书时，总是离不开笔墨，边读边写。在延安时读《共产党》《资本论》等马列经典著作，在不少段落都 做了圈点勾画。读《伦理学原理》原书十万字，他的批注就有一万三千字。从五十年代开始，一套线装二十四史一直陪伴毛泽东，八百五十册书，册册都 有他的圈点和批注。现在《毛泽东 评点二十四史》已出版。 此外，毛泽东为培养自己专心读书的习惯，还常常到热闹的地方看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440" y="1089000"/>
            <a:ext cx="3240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06760" y="2744640"/>
            <a:ext cx="56372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年智力发展迟缓，上小学、中学时，老师认为他是“笨头笨脑的孩子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年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的爱因斯坦提出了光量子假说和狭义相对论，并通过对布朗运动的研究证明了原子的存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又完成了广义相对论，取得了宏伟的成就，被科学界誉为“人类历史上一颗明亮的巨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因斯坦的学习方法，大致可概括成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依靠自学，独立思考，穷根究底，大胆想象，强调理解，重视实验，弄通数学，研究哲学等八个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49480"/>
            <a:ext cx="3594240" cy="43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1320" y="5681160"/>
            <a:ext cx="278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79-19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17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1T11:26:25Z</dcterms:modified>
  <cp:revision>11</cp:revision>
  <dc:subject>主题班会课件(分28大类): http://shop62905894.taobao.com</dc:subject>
  <dc:title>主题班会课件(分28大类): http://shop62905894.taobao.com</dc:title>
</cp:coreProperties>
</file>