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8B5-2FEA-42D6-A539-850B60DF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30B-E595-4EFC-A552-E2E5AE1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7DA-1C1A-4140-92FA-57A9C7E8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93E-BE00-4874-BAE5-E84C3881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C2D7-E076-438C-B294-C6420A30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34C-32CD-44E2-BC42-C15D811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6830-D445-413D-9CE0-0C1BBC2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D019-C12B-48F2-991A-3D595E84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990A-2496-40AD-B1EF-BCE4714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B82-056A-44D3-898C-FDD0E24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3EA-E534-46F2-B4B4-DACC9FE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8E6-1341-4A2B-BA4C-5993B3A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E020-A5F7-4A27-8160-D131C623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FA8D-38BA-4518-A335-CE79C83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B25B-F32D-4DB8-B5E2-58635D6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C3D8-49C0-4175-9AA5-1808A254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233B-E24B-429D-831B-746EC99E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985-877B-42C9-AFE3-373B1D13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75F-0D0C-4B79-89BF-020DDD00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BA6-C9EA-4521-8B15-7E34490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129-AB42-4C5A-BEFB-879426C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509-3283-4EA0-B7B0-AB6EB0E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334-D11F-44E8-97C8-88FFC5C5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EE9-14A9-4FC1-97F7-4D21CF6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EB1-CC8E-46CA-AB4A-F9E4439DE0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5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62D-D819-400B-BD7E-A6BEB3F7D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612720" y="278136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005-CAI978"/>
              </a:rPr>
              <a:t>PowerPoint Templat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4143240" y="3286080"/>
            <a:ext cx="500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005-CAI978"/>
              </a:rPr>
              <a:t>na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55640" y="386064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24:44Z</dcterms:created>
  <dc:creator>echo</dc:creator>
  <dc:description/>
  <dc:language>en-US</dc:language>
  <cp:lastModifiedBy>tukj</cp:lastModifiedBy>
  <dcterms:modified xsi:type="dcterms:W3CDTF">2015-07-30T08:30:29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