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6A68A-0C97-40B0-91CA-515CE8CA1E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06865-B0E2-43E6-BD29-A39674D5D2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15358-D423-4F3F-B7C1-8E8FB697BD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29133-A765-4277-A40A-8F435D844C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B0662-2188-4207-8BC5-49049593D8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0363F-97CF-4ED2-A918-6FEAA7CAAC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CA429-0BB5-464A-A265-5F510C7B94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5D4ED-3FCB-4ABA-9E73-BAA92B8A92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31D92-019A-4243-85AE-29E7CD59CB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68360" y="316080"/>
            <a:ext cx="8207280" cy="27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F9B59-6FA9-47A6-97C5-0672FF8497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EEBB2-990A-49BF-A0E6-58D9FEE818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D7121-A3EA-45C4-8BB3-343512B20C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0355D-56EC-4B0B-A624-6439AB589E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180F6-CE0A-42AF-AC6E-F268C42FCED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A9E69-5C7F-4C60-B2EB-50A02406EA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34DFF-7303-4D04-9545-C88D91FF8C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71A2A-D8CB-4835-AD9A-B5C2BEA0FD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0E0CD-3919-42A3-B4BA-E7E2A361F9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F8EE8-F14B-4D1E-9F68-B138F1DF90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03D99-766D-483F-BB8C-61D795A944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360" y="316080"/>
            <a:ext cx="8207280" cy="27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5E3D2-A456-46C5-AA6A-D8B8B4D71B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4D92D-66A2-4C55-9722-DC45D2FB65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CAF45-17E2-4927-8394-0F9DEF26FF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AE044-40E3-4828-B039-3790F3E875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1c1c1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3CA9EC2-3A3A-4875-8FBC-AA89E1B45C84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924304E-4E46-4E8B-8912-E092ACB58D13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5f5f5f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1c1c1c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1645920"/>
            <a:ext cx="861048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口才训练与电话技巧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044DC-057B-493C-9CD7-7799B5A9F28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音语调的变化会影响意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774440"/>
            <a:ext cx="82072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没说是你偷了他的钱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A32D8-7F68-4460-A6C3-116EB2A8F0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态势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电话时，即使看不见对方，也不要忘记自己的笑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电话时，只要姿势端正，声音自然会清晰明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即使在彼此看不见的电话中打躬作揖地向对方道歉，对方也会感觉到你的诚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D3290-F774-40D7-A5B4-CE000B5DED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二 、电话的基本技巧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9080" y="1680840"/>
            <a:ext cx="7756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接电话的流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拨打电话的流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FA554-65AD-426B-B07B-A3D4A7F90B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评论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774440"/>
            <a:ext cx="82072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根据录像，评论情景一中职员接听电话的错误在哪里？情景二中职员做对的地方是哪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7F602-45EA-4A9A-923E-13092E25B5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590920" y="228600"/>
            <a:ext cx="3657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接电话的流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81080" y="914400"/>
            <a:ext cx="4876920" cy="53352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接听电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81080" y="1752480"/>
            <a:ext cx="4876920" cy="53352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主动报出自己公司名称、姓名、职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81080" y="2590920"/>
            <a:ext cx="4876920" cy="53316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询问对方公司名称、姓名、职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81080" y="3429000"/>
            <a:ext cx="4876920" cy="53352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详细记录通话内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81080" y="4267080"/>
            <a:ext cx="4876920" cy="53352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复述通话内容，以便得到确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81080" y="5105520"/>
            <a:ext cx="4876920" cy="53316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整理记录提出拟办意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5867280"/>
            <a:ext cx="4876920" cy="53352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呈送上司批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14800" y="14479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14800" y="228600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39625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12408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91120" y="480060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563868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88AFF-B5BE-4B28-8E8F-FD197B8235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接电话的流程：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000" y="1310760"/>
            <a:ext cx="745164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⑴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听电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原则一：在铃响两声到三声时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拿起电话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原则二：一次电话会谈应从问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语开始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8BF8C-D0CD-4622-AA8A-70C96E23DB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接电话的流程：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3520" y="21337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⑵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主动报出自己公司的名称、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自己的姓名和职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公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部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询问对方公司的名称、姓名、职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740F5-46AD-40BC-B943-9985A95B7A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⑷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详细记录通话内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79640" y="1125000"/>
            <a:ext cx="7596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怎样详细记录通话内容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方公司名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方姓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方职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通话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记录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备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08697-0CEE-4481-BFFC-EFA7577FE5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⑸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复述通话内容，以便得到确认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以下的信息尤其要注意复述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方的电话号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方约定的时间、地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方谈妥的产品数量、种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方的解决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双方认同的地方，以及仍然存在分歧的地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其他重要的事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82B5C-5FAC-48F1-BD32-B9B9B03B47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⑹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整理记录提出拟办意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W1H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是谁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什么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什么时候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什么地方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为什么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怎么样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A442C-00A2-4D26-9406-BFF5F3C98ED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内容提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880" y="1588680"/>
            <a:ext cx="79977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电话口头表达训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电话基本技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十大电话情景应对技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B70F6-87D0-426A-BCF5-F11ED148AF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295280" y="731880"/>
            <a:ext cx="6400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电话记录单（一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第   号                                                     记录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295280" y="1981080"/>
            <a:ext cx="6378480" cy="4211640"/>
            <a:chOff x="1295280" y="1981080"/>
            <a:chExt cx="6378480" cy="4211640"/>
          </a:xfrm>
        </p:grpSpPr>
        <p:grpSp>
          <p:nvGrpSpPr>
            <p:cNvPr id="132" name=""/>
            <p:cNvGrpSpPr/>
            <p:nvPr/>
          </p:nvGrpSpPr>
          <p:grpSpPr>
            <a:xfrm>
              <a:off x="1299960" y="1985760"/>
              <a:ext cx="6369120" cy="4202280"/>
              <a:chOff x="1299960" y="1985760"/>
              <a:chExt cx="6369120" cy="4202280"/>
            </a:xfrm>
          </p:grpSpPr>
          <p:grpSp>
            <p:nvGrpSpPr>
              <p:cNvPr id="133" name=""/>
              <p:cNvGrpSpPr/>
              <p:nvPr/>
            </p:nvGrpSpPr>
            <p:grpSpPr>
              <a:xfrm>
                <a:off x="1299960" y="1985760"/>
                <a:ext cx="1862280" cy="639720"/>
                <a:chOff x="1299960" y="1985760"/>
                <a:chExt cx="1862280" cy="6397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1368360" y="1985760"/>
                  <a:ext cx="17254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来电公司（姓名）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299960" y="1985760"/>
                  <a:ext cx="1862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3162240" y="1985760"/>
                <a:ext cx="2387520" cy="639720"/>
                <a:chOff x="3162240" y="1985760"/>
                <a:chExt cx="2387520" cy="63972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3230640" y="1985760"/>
                  <a:ext cx="22510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162240" y="1985760"/>
                  <a:ext cx="23875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5549760" y="1985760"/>
                <a:ext cx="628560" cy="639720"/>
                <a:chOff x="5549760" y="1985760"/>
                <a:chExt cx="628560" cy="63972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5618160" y="1985760"/>
                  <a:ext cx="4921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电话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549760" y="1985760"/>
                  <a:ext cx="628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6178320" y="1985760"/>
                <a:ext cx="1490760" cy="639720"/>
                <a:chOff x="6178320" y="1985760"/>
                <a:chExt cx="1490760" cy="63972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6246720" y="1985760"/>
                  <a:ext cx="13539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6178320" y="1985760"/>
                  <a:ext cx="1490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1299960" y="2625480"/>
                <a:ext cx="1862280" cy="639720"/>
                <a:chOff x="1299960" y="2625480"/>
                <a:chExt cx="1862280" cy="6397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1368360" y="2625480"/>
                  <a:ext cx="17254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来电时间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9960" y="2625480"/>
                  <a:ext cx="1862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3162240" y="2625480"/>
                <a:ext cx="4506840" cy="639720"/>
                <a:chOff x="3162240" y="2625480"/>
                <a:chExt cx="4506840" cy="6397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3230640" y="2625480"/>
                  <a:ext cx="43704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年      月     日      时     分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162240" y="2625480"/>
                  <a:ext cx="45068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1299960" y="3265200"/>
                <a:ext cx="1862280" cy="1370160"/>
                <a:chOff x="1299960" y="3265200"/>
                <a:chExt cx="1862280" cy="137016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1368360" y="3265200"/>
                  <a:ext cx="172548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来电内容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299960" y="3265200"/>
                  <a:ext cx="186228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3162240" y="3265200"/>
                <a:ext cx="4506840" cy="1370160"/>
                <a:chOff x="3162240" y="3265200"/>
                <a:chExt cx="4506840" cy="137016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3230640" y="3265200"/>
                  <a:ext cx="437040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162240" y="3265200"/>
                  <a:ext cx="450684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1299960" y="4635360"/>
                <a:ext cx="1862280" cy="1552680"/>
                <a:chOff x="1299960" y="4635360"/>
                <a:chExt cx="1862280" cy="155268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1368360" y="4635360"/>
                  <a:ext cx="1725480" cy="155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处理意见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1299960" y="4635360"/>
                  <a:ext cx="1862280" cy="1552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3162240" y="4635360"/>
                <a:ext cx="4506840" cy="1552680"/>
                <a:chOff x="3162240" y="4635360"/>
                <a:chExt cx="4506840" cy="155268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3230640" y="4635360"/>
                  <a:ext cx="4370400" cy="155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162240" y="4635360"/>
                  <a:ext cx="4506840" cy="1552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3" name=""/>
            <p:cNvSpPr/>
            <p:nvPr/>
          </p:nvSpPr>
          <p:spPr>
            <a:xfrm>
              <a:off x="1295280" y="1981080"/>
              <a:ext cx="6378480" cy="42116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42ADB-E891-4A5E-8851-F06D2680E6E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240" y="-270000"/>
            <a:ext cx="91440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电话记录单（二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143000" y="838080"/>
            <a:ext cx="6926400" cy="5716800"/>
            <a:chOff x="1143000" y="838080"/>
            <a:chExt cx="6926400" cy="5716800"/>
          </a:xfrm>
        </p:grpSpPr>
        <p:grpSp>
          <p:nvGrpSpPr>
            <p:cNvPr id="166" name=""/>
            <p:cNvGrpSpPr/>
            <p:nvPr/>
          </p:nvGrpSpPr>
          <p:grpSpPr>
            <a:xfrm>
              <a:off x="1147680" y="842040"/>
              <a:ext cx="6916680" cy="5707800"/>
              <a:chOff x="1147680" y="842040"/>
              <a:chExt cx="6916680" cy="570780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1147680" y="842040"/>
                <a:ext cx="1211400" cy="734040"/>
                <a:chOff x="1147680" y="842040"/>
                <a:chExt cx="1211400" cy="734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1216080" y="842040"/>
                  <a:ext cx="1074600" cy="73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去电公司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147680" y="842040"/>
                  <a:ext cx="1211400" cy="73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2359080" y="842040"/>
                <a:ext cx="3278160" cy="734040"/>
                <a:chOff x="2359080" y="842040"/>
                <a:chExt cx="3278160" cy="73404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2427480" y="842040"/>
                  <a:ext cx="3141360" cy="73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359080" y="842040"/>
                  <a:ext cx="3278160" cy="73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5637240" y="842040"/>
                <a:ext cx="822240" cy="734040"/>
                <a:chOff x="5637240" y="842040"/>
                <a:chExt cx="822240" cy="73404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5705640" y="842040"/>
                  <a:ext cx="685800" cy="73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通话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637240" y="842040"/>
                  <a:ext cx="822240" cy="73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6459480" y="842040"/>
                <a:ext cx="1604880" cy="734040"/>
                <a:chOff x="6459480" y="842040"/>
                <a:chExt cx="1604880" cy="73404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6527880" y="842040"/>
                  <a:ext cx="1468440" cy="73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459480" y="842040"/>
                  <a:ext cx="1604880" cy="73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1147680" y="1576080"/>
                <a:ext cx="1208160" cy="734040"/>
                <a:chOff x="1147680" y="1576080"/>
                <a:chExt cx="1208160" cy="7340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1216080" y="1576080"/>
                  <a:ext cx="1071360" cy="73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接听人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1147680" y="1576080"/>
                  <a:ext cx="1208160" cy="73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2355840" y="1576080"/>
                <a:ext cx="1836720" cy="734040"/>
                <a:chOff x="2355840" y="1576080"/>
                <a:chExt cx="1836720" cy="73404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2424240" y="1576080"/>
                  <a:ext cx="1699920" cy="73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355840" y="1576080"/>
                  <a:ext cx="1836720" cy="73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4192560" y="1576080"/>
                <a:ext cx="1444680" cy="734040"/>
                <a:chOff x="4192560" y="1576080"/>
                <a:chExt cx="1444680" cy="73404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4260960" y="1576080"/>
                  <a:ext cx="1307880" cy="73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通话时间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192560" y="1576080"/>
                  <a:ext cx="1444680" cy="73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5637240" y="1576080"/>
                <a:ext cx="2427120" cy="734040"/>
                <a:chOff x="5637240" y="1576080"/>
                <a:chExt cx="2427120" cy="73404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5705640" y="1576080"/>
                  <a:ext cx="2290680" cy="73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年   月   日   时   分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637240" y="1576080"/>
                  <a:ext cx="2427120" cy="73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1147680" y="2310120"/>
                <a:ext cx="3767040" cy="2201400"/>
                <a:chOff x="1147680" y="2310120"/>
                <a:chExt cx="3767040" cy="220140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1216080" y="2310120"/>
                  <a:ext cx="3630600" cy="220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去电内容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147680" y="2310120"/>
                  <a:ext cx="3767040" cy="2201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4914720" y="2310120"/>
                <a:ext cx="3149640" cy="2201400"/>
                <a:chOff x="4914720" y="2310120"/>
                <a:chExt cx="3149640" cy="220140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4983120" y="2310120"/>
                  <a:ext cx="3012840" cy="220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通话结果与处理意见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914720" y="2310120"/>
                  <a:ext cx="3149640" cy="2201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1147680" y="4511880"/>
                <a:ext cx="6916680" cy="2037960"/>
                <a:chOff x="1147680" y="4511880"/>
                <a:chExt cx="6916680" cy="203796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1216080" y="4511880"/>
                  <a:ext cx="6780240" cy="203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备注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147680" y="4511880"/>
                  <a:ext cx="6916680" cy="203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0" name=""/>
            <p:cNvSpPr/>
            <p:nvPr/>
          </p:nvSpPr>
          <p:spPr>
            <a:xfrm>
              <a:off x="1143000" y="838080"/>
              <a:ext cx="6926400" cy="57168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22071-C945-4F39-8616-9BAD981BEF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990720" y="990720"/>
            <a:ext cx="91440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面是一份电话记录的范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990720" y="2362320"/>
            <a:ext cx="7695720" cy="3657240"/>
            <a:chOff x="990720" y="2362320"/>
            <a:chExt cx="7695720" cy="3657240"/>
          </a:xfrm>
        </p:grpSpPr>
        <p:grpSp>
          <p:nvGrpSpPr>
            <p:cNvPr id="203" name=""/>
            <p:cNvGrpSpPr/>
            <p:nvPr/>
          </p:nvGrpSpPr>
          <p:grpSpPr>
            <a:xfrm>
              <a:off x="996480" y="2368080"/>
              <a:ext cx="7682760" cy="3645000"/>
              <a:chOff x="996480" y="2368080"/>
              <a:chExt cx="7682760" cy="364500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996480" y="2368080"/>
                <a:ext cx="1557360" cy="797040"/>
                <a:chOff x="996480" y="2368080"/>
                <a:chExt cx="1557360" cy="79704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082520" y="2368080"/>
                  <a:ext cx="1385280" cy="79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时间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996480" y="2368080"/>
                  <a:ext cx="1557360" cy="79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2554200" y="2368080"/>
                <a:ext cx="2281680" cy="797040"/>
                <a:chOff x="2554200" y="2368080"/>
                <a:chExt cx="2281680" cy="7970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2640600" y="2368080"/>
                  <a:ext cx="2109240" cy="79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002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．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．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554200" y="2368080"/>
                  <a:ext cx="2281680" cy="79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4836240" y="2368080"/>
                <a:ext cx="1813680" cy="797040"/>
                <a:chOff x="4836240" y="2368080"/>
                <a:chExt cx="1813680" cy="79704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922280" y="2368080"/>
                  <a:ext cx="1640880" cy="79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地点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836240" y="2368080"/>
                  <a:ext cx="1813680" cy="79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6650280" y="2368080"/>
                <a:ext cx="2028600" cy="797040"/>
                <a:chOff x="6650280" y="2368080"/>
                <a:chExt cx="2028600" cy="7970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6736320" y="2368080"/>
                  <a:ext cx="1855800" cy="79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办公室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650280" y="2368080"/>
                  <a:ext cx="2028600" cy="79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996480" y="3165480"/>
                <a:ext cx="1557360" cy="797040"/>
                <a:chOff x="996480" y="3165480"/>
                <a:chExt cx="1557360" cy="7970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1082520" y="3165480"/>
                  <a:ext cx="1385280" cy="79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对方单位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996480" y="3165480"/>
                  <a:ext cx="1557360" cy="79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2554200" y="3165480"/>
                <a:ext cx="2281680" cy="797040"/>
                <a:chOff x="2554200" y="3165480"/>
                <a:chExt cx="2281680" cy="7970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2640600" y="3165480"/>
                  <a:ext cx="2109240" cy="79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方圆广告公司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2554200" y="3165480"/>
                  <a:ext cx="2281680" cy="79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4836240" y="3165480"/>
                <a:ext cx="1813680" cy="797040"/>
                <a:chOff x="4836240" y="3165480"/>
                <a:chExt cx="1813680" cy="7970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4922280" y="3165480"/>
                  <a:ext cx="1640880" cy="79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对方姓名及职务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4836240" y="3165480"/>
                  <a:ext cx="1813680" cy="79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6650280" y="3165480"/>
                <a:ext cx="2028600" cy="797040"/>
                <a:chOff x="6650280" y="3165480"/>
                <a:chExt cx="2028600" cy="7970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6736320" y="3165480"/>
                  <a:ext cx="1855800" cy="79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张军（业务员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650280" y="3165480"/>
                  <a:ext cx="2028600" cy="79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996480" y="3962880"/>
                <a:ext cx="1557360" cy="1024560"/>
                <a:chOff x="996480" y="3962880"/>
                <a:chExt cx="1557360" cy="102456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1082520" y="3962880"/>
                  <a:ext cx="1385280" cy="102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通话内容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996480" y="3962880"/>
                  <a:ext cx="1557360" cy="102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2554200" y="3962880"/>
                <a:ext cx="6125040" cy="1024560"/>
                <a:chOff x="2554200" y="3962880"/>
                <a:chExt cx="6125040" cy="102456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640240" y="3962880"/>
                  <a:ext cx="5952240" cy="102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我公司委托该公司制作的电视广告，已经制作完毕。对方约我公司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7/25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日前去查看效果。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554200" y="3962880"/>
                  <a:ext cx="6125040" cy="102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996480" y="4988160"/>
                <a:ext cx="1557360" cy="1024920"/>
                <a:chOff x="996480" y="4988160"/>
                <a:chExt cx="1557360" cy="102492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1082520" y="4988160"/>
                  <a:ext cx="1385280" cy="102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备注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996480" y="4988160"/>
                  <a:ext cx="1557360" cy="102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2554200" y="4988160"/>
                <a:ext cx="6125040" cy="1024920"/>
                <a:chOff x="2554200" y="4988160"/>
                <a:chExt cx="6125040" cy="10249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2640240" y="4988160"/>
                  <a:ext cx="5952240" cy="102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     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该事由公司宣传部负责，宜将该电话记录转宣传部知；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张军的联系电话是：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xxxxxxxxxxxxxxxx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54200" y="4988160"/>
                  <a:ext cx="6125040" cy="102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0" name=""/>
            <p:cNvSpPr/>
            <p:nvPr/>
          </p:nvSpPr>
          <p:spPr>
            <a:xfrm>
              <a:off x="990720" y="2362320"/>
              <a:ext cx="7695720" cy="36572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4B900-BC7B-45FE-8B4C-2943FA39887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⑺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呈送上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193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将电话记录单呈送上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请求上司批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理解并接受上司意见后执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A8133-85B9-470A-BCAE-6328CE901B7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17324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评论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17324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根据录像，评论情景一中职员打电话的错误在哪里？情景二中职员做对的地方是哪里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30D48-B645-4BBA-835F-31F6BA61A2E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438280" y="533520"/>
            <a:ext cx="4191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拨打电话的流程管理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81080" y="1295280"/>
            <a:ext cx="4876920" cy="53352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提前想好谈话要点，列出提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2133720"/>
            <a:ext cx="4876920" cy="53316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拨打电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81080" y="2971800"/>
            <a:ext cx="4876920" cy="53352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询问对方公司名称、姓名、职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81080" y="3809880"/>
            <a:ext cx="4876920" cy="53352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说明自己的公司名称、姓名、职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81080" y="4648320"/>
            <a:ext cx="4876920" cy="53316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主动询问是否需要再说一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81080" y="5486400"/>
            <a:ext cx="4876920" cy="53352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在通话记录上注明接听人及时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14800" y="182880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14800" y="266688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191120" y="434340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114800" y="35053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191120" y="518148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D9045-25F7-43DC-8E11-B4EE7F2673C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⑴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提前想好谈话要点，列出提纲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拨打电话前的思考提纲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95280" y="2743200"/>
            <a:ext cx="8077320" cy="31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的电话要打给谁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打电话的目的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要说明几件事情？它们之间的联系怎样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应该选择怎样的表达方式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688F3-1330-4059-ABFA-8DD7B4FAEFF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三  十大电话情景应对技巧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一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状况一：领导刚好不在位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看看自己可以解决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留下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便条递进会议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状况二：接到领导不愿接的电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灵活、礼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3D5B9-B26F-4B6E-97D2-C0AC46E3156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状况三：接到一些令人困惑的电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询问清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代为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状况四：当对方怒气冲天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耐心聆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细心劝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承诺对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762120" y="45684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三  十大电话情景应对技巧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二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5F35D-138D-44D2-9D4A-EC1C4B744AE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810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三  十大电话情景应对技巧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三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状况五：当对方喋喋不休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状况六：线路中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主动打电话的一方负责重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道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E297B-0208-4E89-B039-DA7BF4368F7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 电话口头表达训练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Rectangle 31" descr=""/>
          <p:cNvPicPr/>
          <p:nvPr/>
        </p:nvPicPr>
        <p:blipFill>
          <a:blip r:embed="rId2"/>
          <a:stretch/>
        </p:blipFill>
        <p:spPr>
          <a:xfrm>
            <a:off x="1312920" y="1125360"/>
            <a:ext cx="6518160" cy="5000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971800" y="2057400"/>
            <a:ext cx="3454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205D5-98D8-4668-9F83-C2EB0D69ED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状况七：对方的谈话谈不到点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归纳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状况八：拔错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抱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状况九：通话时受到干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可同时交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状况十：被问及公司机密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婉言回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三  十大电话情景应对技巧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四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79A0A-6089-47FF-9CDB-C905C268012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EF768-C280-430C-B452-8B8E3C0A2BB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言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6668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目的要明确，主题要集中，观点要鲜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陈述事实要简洁，说明要点要有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用最少的语言交待清楚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W1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文明礼貌用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96825-65BB-49E3-B966-C044088C19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传话游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2050920"/>
            <a:ext cx="82072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学员分成两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两组分别进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856DD-125F-43C9-8558-9333D6B4DB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传话游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有一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我与我的同事在出差的路上经过佛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遇见有人抢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四名匪徒冲进银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人手里拿着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人拿着匕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人拿着炸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他们头上套着丝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身上穿黑色衣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慌乱之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我把手袋丢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我的同事也丢了一把雨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公安局通知我们找到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FF684-1DF4-419A-A68B-3B336DD460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83880" y="316080"/>
            <a:ext cx="679140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声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044440" y="1125000"/>
            <a:ext cx="66308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语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发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音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语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说话节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语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B6366-A458-43A0-9E9A-1F084B84A7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提高发音准确率练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绕口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红凤凰，粉凤凰，红粉凤凰飞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绕口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四是四，十是十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十四是十四，四十是四十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四十不是十四，十四不是四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FA1EF-FF6F-4E34-BF0F-0E74FE5733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绕口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牛牛和妞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是对好朋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牛牛去放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妞妞要去摘河边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牛牛不让妞妞去摘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急坏了妞妞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吓跑了小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68360" y="316080"/>
            <a:ext cx="82072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提高发音准确率练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8560A-C230-4EBD-9F4E-2D848AC582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5T01:40:31Z</dcterms:created>
  <dc:creator>liang</dc:creator>
  <dc:description/>
  <dc:language>en-US</dc:language>
  <cp:lastModifiedBy>daiwen</cp:lastModifiedBy>
  <dcterms:modified xsi:type="dcterms:W3CDTF">2012-05-21T00:27:05Z</dcterms:modified>
  <cp:revision>23</cp:revision>
  <dc:subject/>
  <dc:title>口才训练与电话技巧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199</vt:lpwstr>
  </property>
</Properties>
</file>