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D9E1-6854-49BF-A3A6-EA99C8D6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8108-9B4A-48C2-9079-B0F334D2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AB4B-4D7B-42A1-B31A-4DBAB310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655-8753-4E65-9308-0A34B209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760B-A279-4FAC-93C7-08860A66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87A7-3477-497F-9C5A-1F65A286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27A3-F21E-4DD1-802B-AF2D6EF0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9806-B6CD-406A-982B-5093D73F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BB52-2C77-44C2-8812-442731E2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A763-7B39-4D03-8FF0-2CEC1143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F783-8850-4E34-9FF0-AD04BE41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B71F-B868-4B61-A693-FE96BF28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334A-6D4F-446F-874C-4D4CD938DE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14.png"/><Relationship Id="rId6" Type="http://schemas.openxmlformats.org/officeDocument/2006/relationships/image" Target="../media/image3.png"/><Relationship Id="rId7" Type="http://schemas.openxmlformats.org/officeDocument/2006/relationships/image" Target="../media/image15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68360" y="2565360"/>
            <a:ext cx="8351640" cy="3527280"/>
            <a:chOff x="468360" y="2565360"/>
            <a:chExt cx="8351640" cy="3527280"/>
          </a:xfrm>
        </p:grpSpPr>
        <p:sp>
          <p:nvSpPr>
            <p:cNvPr id="42" name=""/>
            <p:cNvSpPr/>
            <p:nvPr/>
          </p:nvSpPr>
          <p:spPr>
            <a:xfrm>
              <a:off x="468360" y="2565360"/>
              <a:ext cx="8351640" cy="352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2"/>
            <a:srcRect l="37453" t="21310" r="37395" b="57481"/>
            <a:stretch/>
          </p:blipFill>
          <p:spPr>
            <a:xfrm>
              <a:off x="3563640" y="2852640"/>
              <a:ext cx="2158560" cy="302256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rcRect l="8898" t="21310" r="65949" b="57964"/>
            <a:stretch/>
          </p:blipFill>
          <p:spPr>
            <a:xfrm>
              <a:off x="828360" y="2852640"/>
              <a:ext cx="2158560" cy="302436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rcRect l="66764" t="21838" r="8026" b="57481"/>
            <a:stretch/>
          </p:blipFill>
          <p:spPr>
            <a:xfrm>
              <a:off x="6295680" y="2852640"/>
              <a:ext cx="2163600" cy="302436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sp>
        <p:nvSpPr>
          <p:cNvPr id="46" name=""/>
          <p:cNvSpPr/>
          <p:nvPr/>
        </p:nvSpPr>
        <p:spPr>
          <a:xfrm>
            <a:off x="3816360" y="6093000"/>
            <a:ext cx="5327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教版小学语文一年级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155520"/>
            <a:ext cx="3887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学语文多媒体课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08000" y="1125360"/>
            <a:ext cx="482472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2556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261300"/>
                    </a:gs>
                    <a:gs pos="50000">
                      <a:srgbClr val="663300">
                        <a:alpha val="80000"/>
                      </a:srgbClr>
                    </a:gs>
                    <a:gs pos="100000">
                      <a:srgbClr val="2613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方正姚体"/>
              </a:rPr>
              <a:t>口耳目</a:t>
            </a:r>
            <a:endParaRPr b="0" lang="en-US" sz="1800" spc="1" strike="noStrike">
              <a:ln cap="rnd" w="2556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261300"/>
                  </a:gs>
                  <a:gs pos="50000">
                    <a:srgbClr val="663300">
                      <a:alpha val="80000"/>
                    </a:srgbClr>
                  </a:gs>
                  <a:gs pos="100000">
                    <a:srgbClr val="2613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方正姚体"/>
              <a:ea typeface="方正姚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1143000" y="2133720"/>
          <a:ext cx="6780240" cy="2259000"/>
        </p:xfrm>
        <a:graphic>
          <a:graphicData uri="http://schemas.openxmlformats.org/drawingml/2006/table">
            <a:tbl>
              <a:tblPr/>
              <a:tblGrid>
                <a:gridCol w="1128600"/>
                <a:gridCol w="1130400"/>
                <a:gridCol w="1130400"/>
                <a:gridCol w="1181160"/>
                <a:gridCol w="1079280"/>
                <a:gridCol w="1130400"/>
              </a:tblGrid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466560" y="69516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指导写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74880" y="5157720"/>
            <a:ext cx="7273800" cy="520560"/>
          </a:xfrm>
          <a:prstGeom prst="rect">
            <a:avLst/>
          </a:prstGeom>
          <a:solidFill>
            <a:srgbClr val="cc99ff"/>
          </a:solidFill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学生描红、临写。注意正确的书写姿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332000" y="2565360"/>
            <a:ext cx="1914480" cy="1619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6156360" y="3060720"/>
            <a:ext cx="1369800" cy="1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394320" y="2492280"/>
            <a:ext cx="770040" cy="1944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5724360" y="2840040"/>
            <a:ext cx="1265400" cy="1309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6559560" y="2781360"/>
            <a:ext cx="1440000" cy="13730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3924360" y="2492280"/>
            <a:ext cx="1209600" cy="5335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6170760" y="2421000"/>
            <a:ext cx="1209600" cy="53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rcRect l="23263" t="52696" r="4594" b="9235"/>
          <a:stretch/>
        </p:blipFill>
        <p:spPr>
          <a:xfrm>
            <a:off x="1192320" y="1409760"/>
            <a:ext cx="6553080" cy="496260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179" name=""/>
          <p:cNvSpPr/>
          <p:nvPr/>
        </p:nvSpPr>
        <p:spPr>
          <a:xfrm>
            <a:off x="469800" y="258840"/>
            <a:ext cx="20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一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611280" y="1700280"/>
            <a:ext cx="7983360" cy="3310920"/>
            <a:chOff x="611280" y="1700280"/>
            <a:chExt cx="7983360" cy="331092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43524" t="23226" r="44001" b="63265"/>
            <a:stretch/>
          </p:blipFill>
          <p:spPr>
            <a:xfrm>
              <a:off x="3996000" y="1700280"/>
              <a:ext cx="1223640" cy="201564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51" name="" descr=""/>
            <p:cNvPicPr/>
            <p:nvPr/>
          </p:nvPicPr>
          <p:blipFill>
            <a:blip r:embed="rId3"/>
            <a:srcRect l="66764" t="25126" r="9433" b="66407"/>
            <a:stretch/>
          </p:blipFill>
          <p:spPr>
            <a:xfrm>
              <a:off x="6156360" y="2131560"/>
              <a:ext cx="2438280" cy="12967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52" name="" descr=""/>
            <p:cNvPicPr/>
            <p:nvPr/>
          </p:nvPicPr>
          <p:blipFill>
            <a:blip r:embed="rId4"/>
            <a:srcRect l="8898" t="23660" r="65949" b="65977"/>
            <a:stretch/>
          </p:blipFill>
          <p:spPr>
            <a:xfrm>
              <a:off x="611280" y="2060280"/>
              <a:ext cx="2521080" cy="1547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53" name="" descr=""/>
            <p:cNvPicPr/>
            <p:nvPr/>
          </p:nvPicPr>
          <p:blipFill>
            <a:blip r:embed="rId5"/>
            <a:srcRect l="54213" t="34685" r="37395" b="57461"/>
            <a:stretch/>
          </p:blipFill>
          <p:spPr>
            <a:xfrm>
              <a:off x="4103640" y="3931920"/>
              <a:ext cx="757440" cy="1079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54" name="" descr=""/>
            <p:cNvPicPr/>
            <p:nvPr/>
          </p:nvPicPr>
          <p:blipFill>
            <a:blip r:embed="rId6"/>
            <a:srcRect l="24490" t="34385" r="65949" b="57964"/>
            <a:stretch/>
          </p:blipFill>
          <p:spPr>
            <a:xfrm>
              <a:off x="6732720" y="3752640"/>
              <a:ext cx="1006560" cy="125676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55" name="" descr=""/>
            <p:cNvPicPr/>
            <p:nvPr/>
          </p:nvPicPr>
          <p:blipFill>
            <a:blip r:embed="rId7"/>
            <a:srcRect l="80483" t="34888" r="8026" b="57481"/>
            <a:stretch/>
          </p:blipFill>
          <p:spPr>
            <a:xfrm>
              <a:off x="1403280" y="4008240"/>
              <a:ext cx="1008360" cy="100116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56" name=""/>
          <p:cNvGrpSpPr/>
          <p:nvPr/>
        </p:nvGrpSpPr>
        <p:grpSpPr>
          <a:xfrm>
            <a:off x="1192320" y="5157720"/>
            <a:ext cx="7053120" cy="1387440"/>
            <a:chOff x="1192320" y="5157720"/>
            <a:chExt cx="7053120" cy="1387440"/>
          </a:xfrm>
        </p:grpSpPr>
        <p:sp>
          <p:nvSpPr>
            <p:cNvPr id="57" name=""/>
            <p:cNvSpPr/>
            <p:nvPr/>
          </p:nvSpPr>
          <p:spPr>
            <a:xfrm>
              <a:off x="4140360" y="5157720"/>
              <a:ext cx="1441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92320" y="5232240"/>
              <a:ext cx="1441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耳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04000" y="5157720"/>
              <a:ext cx="1441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目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26920" y="620640"/>
            <a:ext cx="7489800" cy="1009800"/>
            <a:chOff x="826920" y="620640"/>
            <a:chExt cx="7489800" cy="1009800"/>
          </a:xfrm>
        </p:grpSpPr>
        <p:sp>
          <p:nvSpPr>
            <p:cNvPr id="61" name=""/>
            <p:cNvSpPr/>
            <p:nvPr/>
          </p:nvSpPr>
          <p:spPr>
            <a:xfrm>
              <a:off x="826920" y="620640"/>
              <a:ext cx="2016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kǒu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66880" y="622080"/>
              <a:ext cx="201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ěr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00720" y="620640"/>
              <a:ext cx="2016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ù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1260360" y="5084640"/>
            <a:ext cx="6838920" cy="1379520"/>
            <a:chOff x="1260360" y="5084640"/>
            <a:chExt cx="6838920" cy="1379520"/>
          </a:xfrm>
        </p:grpSpPr>
        <p:sp>
          <p:nvSpPr>
            <p:cNvPr id="65" name=""/>
            <p:cNvSpPr/>
            <p:nvPr/>
          </p:nvSpPr>
          <p:spPr>
            <a:xfrm>
              <a:off x="1260360" y="5151240"/>
              <a:ext cx="1441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羊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94200" y="5151240"/>
              <a:ext cx="1441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鸟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57840" y="5084640"/>
              <a:ext cx="1441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兔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971640" y="1557360"/>
            <a:ext cx="7126200" cy="3602160"/>
            <a:chOff x="971640" y="1557360"/>
            <a:chExt cx="7126200" cy="3602160"/>
          </a:xfrm>
        </p:grpSpPr>
        <p:pic>
          <p:nvPicPr>
            <p:cNvPr id="69" name="" descr=""/>
            <p:cNvPicPr/>
            <p:nvPr/>
          </p:nvPicPr>
          <p:blipFill>
            <a:blip r:embed="rId2"/>
            <a:srcRect l="69125" t="56016" r="15057" b="25962"/>
            <a:stretch/>
          </p:blipFill>
          <p:spPr>
            <a:xfrm>
              <a:off x="6516720" y="1557360"/>
              <a:ext cx="1581120" cy="224316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70" name="" descr=""/>
            <p:cNvPicPr/>
            <p:nvPr/>
          </p:nvPicPr>
          <p:blipFill>
            <a:blip r:embed="rId3"/>
            <a:srcRect l="9875" t="57530" r="70369" b="28182"/>
            <a:stretch/>
          </p:blipFill>
          <p:spPr>
            <a:xfrm>
              <a:off x="971640" y="1557360"/>
              <a:ext cx="1728720" cy="226044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71" name="" descr=""/>
            <p:cNvPicPr/>
            <p:nvPr/>
          </p:nvPicPr>
          <p:blipFill>
            <a:blip r:embed="rId4"/>
            <a:srcRect l="40110" t="56016" r="43623" b="26758"/>
            <a:stretch/>
          </p:blipFill>
          <p:spPr>
            <a:xfrm>
              <a:off x="3851280" y="1557360"/>
              <a:ext cx="1584360" cy="224640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72" name="" descr=""/>
            <p:cNvPicPr/>
            <p:nvPr/>
          </p:nvPicPr>
          <p:blipFill>
            <a:blip r:embed="rId5"/>
            <a:srcRect l="83815" t="69317" r="8723" b="22853"/>
            <a:stretch/>
          </p:blipFill>
          <p:spPr>
            <a:xfrm>
              <a:off x="6804000" y="4005360"/>
              <a:ext cx="903240" cy="11491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73" name="" descr=""/>
            <p:cNvPicPr/>
            <p:nvPr/>
          </p:nvPicPr>
          <p:blipFill>
            <a:blip r:embed="rId6"/>
            <a:srcRect l="23798" t="69557" r="66880" b="23665"/>
            <a:stretch/>
          </p:blipFill>
          <p:spPr>
            <a:xfrm>
              <a:off x="1476360" y="4000680"/>
              <a:ext cx="1030320" cy="115560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74" name="" descr=""/>
            <p:cNvPicPr/>
            <p:nvPr/>
          </p:nvPicPr>
          <p:blipFill>
            <a:blip r:embed="rId7"/>
            <a:srcRect l="54115" t="69317" r="37802" b="22853"/>
            <a:stretch/>
          </p:blipFill>
          <p:spPr>
            <a:xfrm>
              <a:off x="4141800" y="4008600"/>
              <a:ext cx="1006560" cy="1150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826920" y="314280"/>
            <a:ext cx="7345440" cy="2013840"/>
            <a:chOff x="826920" y="314280"/>
            <a:chExt cx="7345440" cy="2013840"/>
          </a:xfrm>
        </p:grpSpPr>
        <p:sp>
          <p:nvSpPr>
            <p:cNvPr id="76" name=""/>
            <p:cNvSpPr/>
            <p:nvPr/>
          </p:nvSpPr>
          <p:spPr>
            <a:xfrm>
              <a:off x="826920" y="314280"/>
              <a:ext cx="2016000" cy="201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y</a:t>
              </a:r>
              <a:r>
                <a:rPr b="1" lang="en-US" sz="66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á</a:t>
              </a: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g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66880" y="404640"/>
              <a:ext cx="201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i</a:t>
              </a:r>
              <a:r>
                <a:rPr b="1" lang="en-US" sz="6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ǎ</a:t>
              </a: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56000" y="404640"/>
              <a:ext cx="201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</a:t>
              </a: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ù</a:t>
              </a: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1260360" y="5084640"/>
            <a:ext cx="6908760" cy="1389240"/>
            <a:chOff x="1260360" y="5084640"/>
            <a:chExt cx="6908760" cy="1389240"/>
          </a:xfrm>
        </p:grpSpPr>
        <p:sp>
          <p:nvSpPr>
            <p:cNvPr id="80" name=""/>
            <p:cNvSpPr/>
            <p:nvPr/>
          </p:nvSpPr>
          <p:spPr>
            <a:xfrm>
              <a:off x="1260360" y="5151240"/>
              <a:ext cx="1441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日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70160" y="5160960"/>
              <a:ext cx="1441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月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27680" y="5084640"/>
              <a:ext cx="1441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火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824040" y="404640"/>
            <a:ext cx="7635240" cy="1008360"/>
            <a:chOff x="824040" y="404640"/>
            <a:chExt cx="7635240" cy="1008360"/>
          </a:xfrm>
        </p:grpSpPr>
        <p:sp>
          <p:nvSpPr>
            <p:cNvPr id="84" name=""/>
            <p:cNvSpPr/>
            <p:nvPr/>
          </p:nvSpPr>
          <p:spPr>
            <a:xfrm>
              <a:off x="824040" y="404640"/>
              <a:ext cx="2015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</a:t>
              </a: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ì</a:t>
              </a: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09800" y="404640"/>
              <a:ext cx="2015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yu</a:t>
              </a: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è</a:t>
              </a: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43280" y="404640"/>
              <a:ext cx="2016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u</a:t>
              </a: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ǒ</a:t>
              </a: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755640" y="1700280"/>
            <a:ext cx="7851600" cy="3166920"/>
            <a:chOff x="755640" y="1700280"/>
            <a:chExt cx="7851600" cy="3166920"/>
          </a:xfrm>
        </p:grpSpPr>
        <p:pic>
          <p:nvPicPr>
            <p:cNvPr id="88" name="" descr=""/>
            <p:cNvPicPr/>
            <p:nvPr/>
          </p:nvPicPr>
          <p:blipFill>
            <a:blip r:embed="rId2"/>
            <a:srcRect l="66298" t="21747" r="9305" b="64662"/>
            <a:stretch/>
          </p:blipFill>
          <p:spPr>
            <a:xfrm>
              <a:off x="6303960" y="1700280"/>
              <a:ext cx="2303280" cy="1511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89" name="" descr=""/>
            <p:cNvPicPr/>
            <p:nvPr/>
          </p:nvPicPr>
          <p:blipFill>
            <a:blip r:embed="rId3"/>
            <a:srcRect l="8142" t="23260" r="67461" b="64434"/>
            <a:stretch/>
          </p:blipFill>
          <p:spPr>
            <a:xfrm>
              <a:off x="755640" y="1700280"/>
              <a:ext cx="2232000" cy="1511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90" name="" descr=""/>
            <p:cNvPicPr/>
            <p:nvPr/>
          </p:nvPicPr>
          <p:blipFill>
            <a:blip r:embed="rId4"/>
            <a:srcRect l="37220" t="23172" r="38383" b="65005"/>
            <a:stretch/>
          </p:blipFill>
          <p:spPr>
            <a:xfrm>
              <a:off x="3705120" y="1700280"/>
              <a:ext cx="1944720" cy="148284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91" name="" descr=""/>
            <p:cNvPicPr/>
            <p:nvPr/>
          </p:nvPicPr>
          <p:blipFill>
            <a:blip r:embed="rId5"/>
            <a:srcRect l="79122" t="35271" r="9305" b="59117"/>
            <a:stretch/>
          </p:blipFill>
          <p:spPr>
            <a:xfrm>
              <a:off x="6807240" y="3575160"/>
              <a:ext cx="1525680" cy="107640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92" name="" descr=""/>
            <p:cNvPicPr/>
            <p:nvPr/>
          </p:nvPicPr>
          <p:blipFill>
            <a:blip r:embed="rId6"/>
            <a:srcRect l="23338" t="34927" r="67351" b="59137"/>
            <a:stretch/>
          </p:blipFill>
          <p:spPr>
            <a:xfrm>
              <a:off x="1185840" y="3645000"/>
              <a:ext cx="1298520" cy="115884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93" name="" descr=""/>
            <p:cNvPicPr/>
            <p:nvPr/>
          </p:nvPicPr>
          <p:blipFill>
            <a:blip r:embed="rId7"/>
            <a:srcRect l="53481" t="33462" r="38383" b="59077"/>
            <a:stretch/>
          </p:blipFill>
          <p:spPr>
            <a:xfrm>
              <a:off x="4141800" y="3495600"/>
              <a:ext cx="950760" cy="137160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403280" y="5084640"/>
            <a:ext cx="6983280" cy="1389240"/>
            <a:chOff x="1403280" y="5084640"/>
            <a:chExt cx="6983280" cy="1389240"/>
          </a:xfrm>
        </p:grpSpPr>
        <p:sp>
          <p:nvSpPr>
            <p:cNvPr id="95" name=""/>
            <p:cNvSpPr/>
            <p:nvPr/>
          </p:nvSpPr>
          <p:spPr>
            <a:xfrm>
              <a:off x="1403280" y="5151240"/>
              <a:ext cx="1441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木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38560" y="5160960"/>
              <a:ext cx="1441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禾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45120" y="5084640"/>
              <a:ext cx="1441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竹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044720" y="189000"/>
            <a:ext cx="7343640" cy="1013040"/>
            <a:chOff x="1044720" y="189000"/>
            <a:chExt cx="7343640" cy="1013040"/>
          </a:xfrm>
        </p:grpSpPr>
        <p:sp>
          <p:nvSpPr>
            <p:cNvPr id="99" name=""/>
            <p:cNvSpPr/>
            <p:nvPr/>
          </p:nvSpPr>
          <p:spPr>
            <a:xfrm>
              <a:off x="1044720" y="193680"/>
              <a:ext cx="2016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</a:t>
              </a: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ù</a:t>
              </a: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35640" y="189000"/>
              <a:ext cx="2016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</a:t>
              </a: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é</a:t>
              </a: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72360" y="189000"/>
              <a:ext cx="2016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zh</a:t>
              </a: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ú</a:t>
              </a: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042920" y="1413000"/>
            <a:ext cx="7243920" cy="3821040"/>
            <a:chOff x="1042920" y="1413000"/>
            <a:chExt cx="7243920" cy="382104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rcRect l="69927" t="55285" r="14324" b="28944"/>
            <a:stretch/>
          </p:blipFill>
          <p:spPr>
            <a:xfrm>
              <a:off x="6659640" y="1413000"/>
              <a:ext cx="1627200" cy="2374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04" name="" descr=""/>
            <p:cNvPicPr/>
            <p:nvPr/>
          </p:nvPicPr>
          <p:blipFill>
            <a:blip r:embed="rId3"/>
            <a:srcRect l="11660" t="55285" r="73236" b="28776"/>
            <a:stretch/>
          </p:blipFill>
          <p:spPr>
            <a:xfrm>
              <a:off x="1042920" y="1413000"/>
              <a:ext cx="1855800" cy="237636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05" name="" descr=""/>
            <p:cNvPicPr/>
            <p:nvPr/>
          </p:nvPicPr>
          <p:blipFill>
            <a:blip r:embed="rId4"/>
            <a:srcRect l="40733" t="55285" r="44176" b="29586"/>
            <a:stretch/>
          </p:blipFill>
          <p:spPr>
            <a:xfrm>
              <a:off x="3924360" y="1413000"/>
              <a:ext cx="1628640" cy="237636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06" name="" descr=""/>
            <p:cNvPicPr/>
            <p:nvPr/>
          </p:nvPicPr>
          <p:blipFill>
            <a:blip r:embed="rId5"/>
            <a:srcRect l="81489" t="68561" r="9305" b="24749"/>
            <a:stretch/>
          </p:blipFill>
          <p:spPr>
            <a:xfrm>
              <a:off x="6948360" y="4005360"/>
              <a:ext cx="1023840" cy="10843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07" name="" descr=""/>
            <p:cNvPicPr/>
            <p:nvPr/>
          </p:nvPicPr>
          <p:blipFill>
            <a:blip r:embed="rId6"/>
            <a:srcRect l="25624" t="68454" r="67461" b="24749"/>
            <a:stretch/>
          </p:blipFill>
          <p:spPr>
            <a:xfrm>
              <a:off x="1616040" y="3932280"/>
              <a:ext cx="865080" cy="124164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08" name="" descr=""/>
            <p:cNvPicPr/>
            <p:nvPr/>
          </p:nvPicPr>
          <p:blipFill>
            <a:blip r:embed="rId7"/>
            <a:srcRect l="54138" t="68589" r="38383" b="24749"/>
            <a:stretch/>
          </p:blipFill>
          <p:spPr>
            <a:xfrm>
              <a:off x="4284720" y="3936960"/>
              <a:ext cx="927000" cy="12970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rcRect l="37453" t="21310" r="37395" b="57481"/>
          <a:stretch/>
        </p:blipFill>
        <p:spPr>
          <a:xfrm>
            <a:off x="399960" y="2492280"/>
            <a:ext cx="1513080" cy="194148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3"/>
          <a:srcRect l="8898" t="21310" r="65949" b="57964"/>
          <a:stretch/>
        </p:blipFill>
        <p:spPr>
          <a:xfrm>
            <a:off x="392040" y="333360"/>
            <a:ext cx="1511280" cy="194328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4"/>
          <a:srcRect l="66764" t="21838" r="8026" b="57481"/>
          <a:stretch/>
        </p:blipFill>
        <p:spPr>
          <a:xfrm>
            <a:off x="395280" y="4656240"/>
            <a:ext cx="1584360" cy="194292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5"/>
          <a:srcRect l="66880" t="56016" r="8723" b="22853"/>
          <a:stretch/>
        </p:blipFill>
        <p:spPr>
          <a:xfrm>
            <a:off x="2200320" y="4657680"/>
            <a:ext cx="1554120" cy="194328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6"/>
          <a:srcRect l="8723" t="56016" r="66880" b="23665"/>
          <a:stretch/>
        </p:blipFill>
        <p:spPr>
          <a:xfrm>
            <a:off x="2200320" y="333360"/>
            <a:ext cx="1511280" cy="194328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7"/>
          <a:srcRect l="37802" t="56016" r="37802" b="22853"/>
          <a:stretch/>
        </p:blipFill>
        <p:spPr>
          <a:xfrm>
            <a:off x="2193840" y="2489040"/>
            <a:ext cx="1511280" cy="194328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8"/>
          <a:srcRect l="66298" t="20956" r="9305" b="59117"/>
          <a:stretch/>
        </p:blipFill>
        <p:spPr>
          <a:xfrm>
            <a:off x="3997440" y="4653000"/>
            <a:ext cx="1511280" cy="194472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9"/>
          <a:srcRect l="8142" t="20956" r="67461" b="58279"/>
          <a:stretch/>
        </p:blipFill>
        <p:spPr>
          <a:xfrm>
            <a:off x="3997440" y="330120"/>
            <a:ext cx="1509480" cy="194652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10"/>
          <a:srcRect l="37220" t="20956" r="38383" b="59077"/>
          <a:stretch/>
        </p:blipFill>
        <p:spPr>
          <a:xfrm>
            <a:off x="4000680" y="2489040"/>
            <a:ext cx="1511280" cy="194652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11"/>
          <a:srcRect l="66298" t="55285" r="9305" b="24749"/>
          <a:stretch/>
        </p:blipFill>
        <p:spPr>
          <a:xfrm>
            <a:off x="5791320" y="4654440"/>
            <a:ext cx="1450800" cy="194328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12"/>
          <a:srcRect l="8142" t="55285" r="67461" b="24749"/>
          <a:stretch/>
        </p:blipFill>
        <p:spPr>
          <a:xfrm>
            <a:off x="5800680" y="330120"/>
            <a:ext cx="1509840" cy="194652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13"/>
          <a:srcRect l="37220" t="55285" r="38383" b="24749"/>
          <a:stretch/>
        </p:blipFill>
        <p:spPr>
          <a:xfrm>
            <a:off x="5797440" y="2489040"/>
            <a:ext cx="1511280" cy="194328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6251040" y="1200240"/>
            <a:ext cx="26182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黑体"/>
                <a:ea typeface="黑体"/>
              </a:rPr>
              <a:t>象 形 字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352680" y="2209680"/>
          <a:ext cx="2284560" cy="2271600"/>
        </p:xfrm>
        <a:graphic>
          <a:graphicData uri="http://schemas.openxmlformats.org/drawingml/2006/table">
            <a:tbl>
              <a:tblPr/>
              <a:tblGrid>
                <a:gridCol w="1141560"/>
                <a:gridCol w="1143000"/>
              </a:tblGrid>
              <a:tr h="11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16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3" name=""/>
          <p:cNvGrpSpPr/>
          <p:nvPr/>
        </p:nvGrpSpPr>
        <p:grpSpPr>
          <a:xfrm>
            <a:off x="3733920" y="838080"/>
            <a:ext cx="1447560" cy="1447560"/>
            <a:chOff x="3733920" y="838080"/>
            <a:chExt cx="1447560" cy="1447560"/>
          </a:xfrm>
        </p:grpSpPr>
        <p:sp>
          <p:nvSpPr>
            <p:cNvPr id="124" name=""/>
            <p:cNvSpPr/>
            <p:nvPr/>
          </p:nvSpPr>
          <p:spPr>
            <a:xfrm flipV="1">
              <a:off x="4495680" y="144720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33920" y="83808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竖中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133720" y="3885840"/>
            <a:ext cx="1675800" cy="1511640"/>
            <a:chOff x="2133720" y="3885840"/>
            <a:chExt cx="1675800" cy="1511640"/>
          </a:xfrm>
        </p:grpSpPr>
        <p:sp>
          <p:nvSpPr>
            <p:cNvPr id="127" name=""/>
            <p:cNvSpPr/>
            <p:nvPr/>
          </p:nvSpPr>
          <p:spPr>
            <a:xfrm flipV="1">
              <a:off x="2971440" y="3885840"/>
              <a:ext cx="83808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33720" y="48769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左下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105520" y="3962520"/>
            <a:ext cx="1752480" cy="1358640"/>
            <a:chOff x="5105520" y="3962520"/>
            <a:chExt cx="1752480" cy="1358640"/>
          </a:xfrm>
        </p:grpSpPr>
        <p:sp>
          <p:nvSpPr>
            <p:cNvPr id="130" name=""/>
            <p:cNvSpPr/>
            <p:nvPr/>
          </p:nvSpPr>
          <p:spPr>
            <a:xfrm>
              <a:off x="5105520" y="3962520"/>
              <a:ext cx="106668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0440" y="480060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右下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981080" y="1219320"/>
            <a:ext cx="1905120" cy="1523880"/>
            <a:chOff x="1981080" y="1219320"/>
            <a:chExt cx="1905120" cy="1523880"/>
          </a:xfrm>
        </p:grpSpPr>
        <p:sp>
          <p:nvSpPr>
            <p:cNvPr id="133" name=""/>
            <p:cNvSpPr/>
            <p:nvPr/>
          </p:nvSpPr>
          <p:spPr>
            <a:xfrm>
              <a:off x="2895480" y="1828800"/>
              <a:ext cx="9907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81080" y="121932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左上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257800" y="1143000"/>
            <a:ext cx="1447920" cy="1523520"/>
            <a:chOff x="5257800" y="1143000"/>
            <a:chExt cx="1447920" cy="1523520"/>
          </a:xfrm>
        </p:grpSpPr>
        <p:sp>
          <p:nvSpPr>
            <p:cNvPr id="136" name=""/>
            <p:cNvSpPr/>
            <p:nvPr/>
          </p:nvSpPr>
          <p:spPr>
            <a:xfrm flipV="1">
              <a:off x="5257800" y="1676160"/>
              <a:ext cx="68580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10080" y="11430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右上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486400" y="2590920"/>
            <a:ext cx="1585800" cy="947160"/>
            <a:chOff x="5486400" y="2590920"/>
            <a:chExt cx="1585800" cy="947160"/>
          </a:xfrm>
        </p:grpSpPr>
        <p:sp>
          <p:nvSpPr>
            <p:cNvPr id="139" name=""/>
            <p:cNvSpPr/>
            <p:nvPr/>
          </p:nvSpPr>
          <p:spPr>
            <a:xfrm>
              <a:off x="5486400" y="335304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00800" y="2590920"/>
              <a:ext cx="671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横中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24000" y="333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认识田字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5445000"/>
            <a:ext cx="4176720" cy="1202760"/>
          </a:xfrm>
          <a:prstGeom prst="rect">
            <a:avLst/>
          </a:prstGeom>
          <a:solidFill>
            <a:srgbClr val="cc99ff"/>
          </a:solidFill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田字格，四方方，写好汉字它来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左上格、左下格，右上格、右下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横中线、竖中线，各个方位记心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143000" y="2133720"/>
          <a:ext cx="6780240" cy="2259000"/>
        </p:xfrm>
        <a:graphic>
          <a:graphicData uri="http://schemas.openxmlformats.org/drawingml/2006/table">
            <a:tbl>
              <a:tblPr/>
              <a:tblGrid>
                <a:gridCol w="1128600"/>
                <a:gridCol w="1130400"/>
                <a:gridCol w="1130400"/>
                <a:gridCol w="1181160"/>
                <a:gridCol w="1079280"/>
                <a:gridCol w="1130400"/>
              </a:tblGrid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466560" y="69516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指导写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4880" y="5157720"/>
            <a:ext cx="7273800" cy="520560"/>
          </a:xfrm>
          <a:prstGeom prst="rect">
            <a:avLst/>
          </a:prstGeom>
          <a:solidFill>
            <a:srgbClr val="cc99ff"/>
          </a:solidFill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学生描红、临写。注意正确的书写姿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08360" y="3067200"/>
            <a:ext cx="165564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516720" y="2492280"/>
            <a:ext cx="647640" cy="1662120"/>
            <a:chOff x="6516720" y="2492280"/>
            <a:chExt cx="647640" cy="1662120"/>
          </a:xfrm>
        </p:grpSpPr>
        <p:pic>
          <p:nvPicPr>
            <p:cNvPr id="148" name="" descr=""/>
            <p:cNvPicPr/>
            <p:nvPr/>
          </p:nvPicPr>
          <p:blipFill>
            <a:blip r:embed="rId2"/>
            <a:srcRect l="33843" t="47632" r="27941" b="0"/>
            <a:stretch/>
          </p:blipFill>
          <p:spPr>
            <a:xfrm>
              <a:off x="6516720" y="2854080"/>
              <a:ext cx="647640" cy="13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3"/>
            <a:srcRect l="33843" t="0" r="27941" b="73849"/>
            <a:stretch/>
          </p:blipFill>
          <p:spPr>
            <a:xfrm>
              <a:off x="6516720" y="2492280"/>
              <a:ext cx="647640" cy="43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 txBox="1"/>
          <p:nvPr/>
        </p:nvSpPr>
        <p:spPr>
          <a:xfrm>
            <a:off x="6012000" y="3071880"/>
            <a:ext cx="165564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981080" y="2492280"/>
            <a:ext cx="647640" cy="1662120"/>
            <a:chOff x="1981080" y="2492280"/>
            <a:chExt cx="647640" cy="1662120"/>
          </a:xfrm>
        </p:grpSpPr>
        <p:pic>
          <p:nvPicPr>
            <p:cNvPr id="152" name="" descr=""/>
            <p:cNvPicPr/>
            <p:nvPr/>
          </p:nvPicPr>
          <p:blipFill>
            <a:blip r:embed="rId4"/>
            <a:srcRect l="33843" t="47632" r="27941" b="0"/>
            <a:stretch/>
          </p:blipFill>
          <p:spPr>
            <a:xfrm>
              <a:off x="1981080" y="2854080"/>
              <a:ext cx="647640" cy="13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5"/>
            <a:srcRect l="33843" t="0" r="27941" b="73849"/>
            <a:stretch/>
          </p:blipFill>
          <p:spPr>
            <a:xfrm>
              <a:off x="1981080" y="2492280"/>
              <a:ext cx="647640" cy="43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"/>
          <p:cNvSpPr txBox="1"/>
          <p:nvPr/>
        </p:nvSpPr>
        <p:spPr>
          <a:xfrm>
            <a:off x="1476360" y="3071880"/>
            <a:ext cx="165564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143000" y="2133720"/>
          <a:ext cx="6780240" cy="2259000"/>
        </p:xfrm>
        <a:graphic>
          <a:graphicData uri="http://schemas.openxmlformats.org/drawingml/2006/table">
            <a:tbl>
              <a:tblPr/>
              <a:tblGrid>
                <a:gridCol w="1128600"/>
                <a:gridCol w="1130400"/>
                <a:gridCol w="1130400"/>
                <a:gridCol w="1181160"/>
                <a:gridCol w="1079280"/>
                <a:gridCol w="1130400"/>
              </a:tblGrid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466560" y="69516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指导写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74880" y="5157720"/>
            <a:ext cx="7273800" cy="520560"/>
          </a:xfrm>
          <a:prstGeom prst="rect">
            <a:avLst/>
          </a:prstGeom>
          <a:solidFill>
            <a:srgbClr val="cc99ff"/>
          </a:solidFill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学生描红、临写。注意正确的书写姿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51280" y="3067200"/>
            <a:ext cx="151272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137120" y="2282760"/>
            <a:ext cx="769680" cy="22258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1576440" y="3060720"/>
            <a:ext cx="151272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862280" y="2276640"/>
            <a:ext cx="769680" cy="2225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1144440" y="2774880"/>
            <a:ext cx="1392480" cy="1441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1979640" y="2759040"/>
            <a:ext cx="1584360" cy="1511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6113520" y="3060720"/>
            <a:ext cx="151272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6399360" y="2276640"/>
            <a:ext cx="769680" cy="2225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5681520" y="2774880"/>
            <a:ext cx="1392480" cy="14414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6516720" y="2781360"/>
            <a:ext cx="1584360" cy="15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1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2:09:45Z</dcterms:created>
  <dc:creator>USER</dc:creator>
  <dc:description/>
  <dc:language>en-US</dc:language>
  <cp:lastModifiedBy>USER</cp:lastModifiedBy>
  <dcterms:modified xsi:type="dcterms:W3CDTF">2015-10-24T02:08:11Z</dcterms:modified>
  <cp:revision>3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