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44B-5DC1-4D7E-A1C2-E95C15F2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EA4-BC8A-425B-98DA-E70681A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CE2-5E98-4C0D-AB2B-57EED688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6E2-1D18-44D6-BD01-545F7196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654B-BF82-45F1-B2C0-7F4414D8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EFA3-E8FC-43F0-B818-8825FE4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769F-EF76-4158-AE73-295CD689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374-44F7-46A0-BB04-F6DA5CD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7C25-644A-4953-BBBB-BFE22004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4BC0-2E2D-4D33-A904-729CC225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F082-3E07-490C-8969-A806A81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6B1-25D1-4A32-B098-AFA0CB54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C7A8-5EA5-4DEE-8909-3C6A3C6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4A8B-E01E-4E33-8465-FEF743C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CF3D-DAF4-4A4F-BB4C-1E7208C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6725-7581-48A8-90F7-6A20FAE5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379D-08C4-4501-9B75-A7C91C8E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CDF-2E68-4BD8-A1F5-12A704E8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070-1131-44C5-B790-EBC1962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6C0-322A-4D01-B855-6425D409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3D8-FA52-4C3C-9B5A-AAB6F17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FDD-4DA4-43AF-ADBE-1FD7315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AF2-B1B1-418D-84D2-B228BB3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088-D373-471C-A793-353A875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3AB-5CE8-42EB-ABB2-94858D921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5748-6BF8-4A5C-B4A5-DA6FF584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2352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130400" y="4221000"/>
            <a:ext cx="7276680" cy="556920"/>
            <a:chOff x="1130400" y="4221000"/>
            <a:chExt cx="7276680" cy="556920"/>
          </a:xfrm>
        </p:grpSpPr>
        <p:sp>
          <p:nvSpPr>
            <p:cNvPr id="162" name="Text Box 6"/>
            <p:cNvSpPr/>
            <p:nvPr/>
          </p:nvSpPr>
          <p:spPr>
            <a:xfrm>
              <a:off x="1240920" y="4282200"/>
              <a:ext cx="701028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本模板作品由</a:t>
              </a:r>
              <a:r>
                <a:rPr b="0" lang="en-US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PowerBar</a:t>
              </a: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模板组成员创作，部分图片素材来源于互联网，如有侵犯您的权利请即通知，立刻处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您可以自由：复制、发行、展览、表演、放映、广播或通过信息网络传播本作品 </a:t>
              </a:r>
              <a:r>
                <a:rPr b="0" lang="en-US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创作演绎作品惟须遵守下列条件：您必须按照作者或者许可人指定的方式对作品进行署名</a:t>
              </a:r>
              <a:r>
                <a:rPr b="0" lang="en-US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得以盈利为目的对本模板进行出售、收费下载或者做非实质性改动之后进行类似的行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1130400" y="422100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8"/>
          <p:cNvSpPr/>
          <p:nvPr/>
        </p:nvSpPr>
        <p:spPr>
          <a:xfrm>
            <a:off x="0" y="382284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P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模板组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Rh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849840" y="26416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065480" y="26416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292640" y="26416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579920" y="26416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794120" y="26416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5073480" y="26416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300640" y="26416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514840" y="26416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114800" y="307008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8" descr="logo"/>
          <p:cNvPicPr/>
          <p:nvPr/>
        </p:nvPicPr>
        <p:blipFill>
          <a:blip r:embed="rId2"/>
          <a:stretch/>
        </p:blipFill>
        <p:spPr>
          <a:xfrm>
            <a:off x="3152880" y="2631960"/>
            <a:ext cx="782640" cy="65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logo2"/>
          <p:cNvPicPr/>
          <p:nvPr/>
        </p:nvPicPr>
        <p:blipFill>
          <a:blip r:embed="rId3"/>
          <a:stretch/>
        </p:blipFill>
        <p:spPr>
          <a:xfrm>
            <a:off x="2600280" y="2473200"/>
            <a:ext cx="3828960" cy="1179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0">
            <a:hlinkClick r:id="rId4"/>
          </p:cNvPr>
          <p:cNvSpPr/>
          <p:nvPr/>
        </p:nvSpPr>
        <p:spPr>
          <a:xfrm>
            <a:off x="2521080" y="2219400"/>
            <a:ext cx="3987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43 -4.07407E-006 L -4.72222E-006 -4.07407E-006 E">
                                      <p:cBhvr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7T03:37:50Z</dcterms:created>
  <dc:creator>Rhea</dc:creator>
  <dc:description>www.nordridesign.cn
</dc:description>
  <cp:keywords>教育 英语 Powerbar Rhea</cp:keywords>
  <dc:language>en-US</dc:language>
  <cp:lastModifiedBy>king</cp:lastModifiedBy>
  <dcterms:modified xsi:type="dcterms:W3CDTF">2015-08-17T03:43:58Z</dcterms:modified>
  <cp:revision>6</cp:revision>
  <dc:subject>教育 英语 </dc:subject>
  <dc:title>儿童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