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66680" y="1447560"/>
            <a:ext cx="73152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3875400"/>
            <a:ext cx="73152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6668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66680" y="144756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144756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144756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387540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387540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387540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66680" y="1447560"/>
            <a:ext cx="73152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66680" y="1447560"/>
            <a:ext cx="73152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6668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1536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480" y="142920"/>
            <a:ext cx="86868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6668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1536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6668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66680" y="1447560"/>
            <a:ext cx="73152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6668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1536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1536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6668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1536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66680" y="3875400"/>
            <a:ext cx="73152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66680" y="1447560"/>
            <a:ext cx="73152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66680" y="3875400"/>
            <a:ext cx="73152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6668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1536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6668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1536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66680" y="144756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39880" y="144756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13080" y="144756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66680" y="387540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39880" y="387540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13080" y="3875400"/>
            <a:ext cx="2355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66680" y="1447560"/>
            <a:ext cx="73152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6668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480" y="142920"/>
            <a:ext cx="86868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6668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66680" y="1447560"/>
            <a:ext cx="35697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387540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480" y="-1044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6668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1447560"/>
            <a:ext cx="35697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3875400"/>
            <a:ext cx="73152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480" y="14292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66680" y="1447560"/>
            <a:ext cx="7315200" cy="464796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14480" y="14292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066680" y="1447560"/>
            <a:ext cx="7315200" cy="464796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499920"/>
            <a:ext cx="3009600" cy="6858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Microsoft Sans Serif"/>
            </a:endParaRPr>
          </a:p>
        </p:txBody>
      </p:sp>
      <p:sp>
        <p:nvSpPr>
          <p:cNvPr id="77" name="PlaceHolder 2"/>
          <p:cNvSpPr>
            <a:spLocks noGrp="1"/>
          </p:cNvSpPr>
          <p:nvPr>
            <p:ph type="title"/>
          </p:nvPr>
        </p:nvSpPr>
        <p:spPr>
          <a:xfrm>
            <a:off x="247320" y="2742480"/>
            <a:ext cx="300996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Unicode MS"/>
              <a:ea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371240" y="2130120"/>
            <a:ext cx="6705720" cy="357516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79" name="PlaceHolder 2"/>
          <p:cNvSpPr>
            <a:spLocks noGrp="1"/>
          </p:cNvSpPr>
          <p:nvPr>
            <p:ph type="title"/>
          </p:nvPr>
        </p:nvSpPr>
        <p:spPr>
          <a:xfrm>
            <a:off x="114480" y="14292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5335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1" name="PlaceHolder 2"/>
          <p:cNvSpPr>
            <a:spLocks noGrp="1"/>
          </p:cNvSpPr>
          <p:nvPr>
            <p:ph/>
          </p:nvPr>
        </p:nvSpPr>
        <p:spPr>
          <a:xfrm>
            <a:off x="1981080" y="1752480"/>
            <a:ext cx="6934320" cy="4267440"/>
          </a:xfrm>
          <a:prstGeom prst="rect">
            <a:avLst/>
          </a:prstGeom>
          <a:noFill/>
          <a:ln w="0">
            <a:noFill/>
          </a:ln>
        </p:spPr>
        <p:txBody>
          <a:bodyPr lIns="90000" rIns="90000" tIns="46800" bIns="46800" anchor="t">
            <a:normAutofit/>
          </a:bodyPr>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www.1ppt.com</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07:16:14Z</dcterms:created>
  <dc:creator>keke</dc:creator>
  <dc:description/>
  <dc:language>en-US</dc:language>
  <cp:lastModifiedBy>jccook</cp:lastModifiedBy>
  <dcterms:modified xsi:type="dcterms:W3CDTF">2015-07-30T00:45:18Z</dcterms:modified>
  <cp:revision>3</cp:revision>
  <dc:subject/>
  <dc:title>站长素材 SC.CHINA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