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E620-C365-40F5-9680-3DD95664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18CA-6C15-447B-9971-47F41D6D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ADE6-BCDF-4C1D-BFC0-F5B9FED3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0B3D-EAED-4C31-A1BC-EFD21459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07F0-B308-40A6-BC09-9AB29DA8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55F8-C201-4C67-AFC4-043B9100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0EF2-D7F9-404F-A402-9347F57D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1297-9804-4EC3-84C9-C7B25ECF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4C76-9D05-4814-8221-3C6A6759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9A4D-1F9C-4E4C-9B5E-8A90CB64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ABB0-8D04-4571-80EF-E1A2340E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B2CF-3187-4038-BDC3-03E35AE7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D583-64B8-4500-916D-AD8617CC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6050-4154-4BAE-AB6A-882B45A1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AD64-6F58-482F-A213-DCA2A738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8A3C-E4A2-4A71-8ED7-CFA4D72E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B86B-B9AF-40A7-98B3-17096396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297A4-6B15-4692-985A-8DF4E3EB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82055-35FE-47D0-9EF5-E40233C7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FBF8F-C8DA-4032-AC95-76307DED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22AAF-E49C-413E-891E-1125BE1A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0EEF1-0BF9-45FD-89E1-C50EC4A4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1696-A64D-4898-927C-AF0A6DC4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4D0C8-F950-4BA6-BAED-A29B4DB2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47C1E-CD28-49DB-A52C-525D7E8B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A79DC-2593-4C5A-AFEB-DB5A929F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430F8-2EAC-4892-8040-5F015B57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F47D5-93F8-4489-89AC-74353B66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D8454-7568-4D20-AE0A-1EC8A34D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1285D-28F3-4BEB-A538-FAFB4D11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D537-BA07-4635-AF3C-A8B2EF50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2BDE-092D-4D1D-BDF2-0D2DFC75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9971-0FBA-4640-8F8A-10C08D3C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95A2-1B1E-4C07-AE22-799A1E26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FA66-221C-45B6-9F54-0546E41C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795D-7B22-4E4E-A3D2-A1C94D71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6832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73E2-5F94-4E8D-A264-CFB7F9353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ED9C-2662-4970-B3BF-A84CB4078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D3E5-E9C7-447F-8CAD-A6CEF4B8C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4T01:11:48Z</dcterms:created>
  <dc:creator/>
  <dc:description/>
  <dc:language>en-US</dc:language>
  <cp:lastModifiedBy>雨林木风</cp:lastModifiedBy>
  <dcterms:modified xsi:type="dcterms:W3CDTF">2015-08-24T01:24:5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