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7F9-A3F6-48FF-A2A4-48503C5D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452-268F-40FD-A947-6BF49E9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166-45DC-49C1-9850-16A30378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B38-E1CE-4266-887D-764A4D6E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00F12-A6AB-405E-879E-E9A89FE4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2E97-E8BE-4E44-91E7-4DA68341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C7E41-B8D5-4F71-BFEC-B156257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0EE7-BC18-459C-9536-86A56ABB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17D6E-AEF8-4ACB-B6BB-EA77217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CB912-F207-43C8-94AE-F7F8F144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F9206-8D94-4461-871E-207EEAF6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0A4-DACB-450E-8D00-8ABD61C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AB831-6DF2-4D7B-AAEB-9A1BF44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2639D-E3E8-4782-A177-1B152FB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B2A4B-786E-4B2E-B008-2B9CA601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35DDB-0648-435E-806C-F69A82AD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35FD8-85F4-4A9B-A340-CF2C4DFB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B6C-0520-4DED-8606-D0187AB8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40C-495C-490F-8A79-A87F1C54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6C7-2B7C-43B8-8325-E331029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A32-E45F-48FD-A55B-D95DA1C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79E-8B3B-460C-A4E2-35D9DF7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35B-61BE-405F-A8F7-F278E3DD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DD0-A8B4-4A88-B73F-44F8D8C0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75B-09C4-4927-A538-C2A11E5F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685-285D-45ED-A303-5B9B467A5F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.youku.com/v_show/id_XMTQwOTE0OTI=.html" TargetMode="External"/><Relationship Id="rId2" Type="http://schemas.openxmlformats.org/officeDocument/2006/relationships/hyperlink" Target="http://v.youku.com/v_show/id_XMTQwOTE0OTI=.html" TargetMode="External"/><Relationship Id="rId3" Type="http://schemas.openxmlformats.org/officeDocument/2006/relationships/hyperlink" Target="http://v.youku.com/v_show/id_XMTQwOTE0OTI=.htm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851f30f4db666f3aa6457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990720" y="106668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会宽容 、快乐生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有关宽容的故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有一次，理发师正在给周总理刮胡须时，总理突然咳嗽了 一声，刀子立即把脸给刮破了。理发师十分紧张，不知所措， 但令他惊讶的是，周总理并没有责怪他，反而和蔼地对他说：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并不怪你，我咳嗽前没有向你打招呼，你怎么知道我要动 呢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虽然是一件小事，却使我们看到了周总理身上的美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宽容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有关宽容的故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公共汽车上人很多，一位女士无意间踩到了一位男士的脚，赶紧红着脸道歉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对不起，踩到你了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料男士却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不，应由我来说对不起，我的脚长得也太不苗条了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哄的一声，车里响起了一片笑声。显然，这笑声是对这位优雅男士由衷的赞美。而且，身临其境的人们也不会怀疑，这美丽的宽容给这女士留下了深刻印象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有关宽容的故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位女士不小心摔倒在一家整洁的铺着木板的商店里，手中的奶油蛋糕弄脏了商店的地板。便歉意的向老板笑笑，不料老板却说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真对不起，我代表我们的地板向您致歉，它太喜欢吃您的蛋糕了！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于是女士笑了，笑的挺灿烂。而且，既然老板的热情和幽默打动了她，她也就立刻下决心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投桃报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买了好几样东西后才离开这里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《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爱心构建和谐社会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》 -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视频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优酷视频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线观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WordArt 4"/>
          <p:cNvSpPr txBox="1"/>
          <p:nvPr/>
        </p:nvSpPr>
        <p:spPr>
          <a:xfrm>
            <a:off x="1371600" y="10666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当今社会需要和谐，宽容！！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446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2125080" y="4845960"/>
            <a:ext cx="456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听了这些故事，你有什么收获？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7" descr="42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6741000" y="990720"/>
            <a:ext cx="1642680" cy="3124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行楷"/>
              </a:rPr>
              <a:t>感悟宽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76356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宽容度测试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33520" y="1569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10199"/>
                </a:solidFill>
                <a:latin typeface="Arial"/>
              </a:rPr>
              <a:t>以下各项，你认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是</a:t>
            </a:r>
            <a:r>
              <a:rPr b="0" lang="zh-CN" sz="3600" spc="-1" strike="noStrike">
                <a:solidFill>
                  <a:srgbClr val="010199"/>
                </a:solidFill>
                <a:latin typeface="Arial"/>
              </a:rPr>
              <a:t>这样的，就请说是，如果你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不赞同</a:t>
            </a:r>
            <a:r>
              <a:rPr b="0" lang="zh-CN" sz="3600" spc="-1" strike="noStrike">
                <a:solidFill>
                  <a:srgbClr val="010199"/>
                </a:solidFill>
                <a:latin typeface="Arial"/>
              </a:rPr>
              <a:t>，就请说否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09480" y="3178080"/>
            <a:ext cx="7925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1 </a:t>
            </a:r>
            <a:r>
              <a:rPr b="1" lang="zh-CN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有很多人总是故意跟我过不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2 </a:t>
            </a:r>
            <a:r>
              <a:rPr b="1" lang="zh-CN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碰到熟人我向他打招呼时，他视而不见最令我难堪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3 </a:t>
            </a:r>
            <a:r>
              <a:rPr b="1" lang="zh-CN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我讨厌和沉默寡言的人一起学习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4 </a:t>
            </a:r>
            <a:r>
              <a:rPr b="1" lang="zh-CN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有的人哗众取宠，说些浅薄无聊的笑话居然也能博得喝彩，我听到和看到都很生气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5 </a:t>
            </a:r>
            <a:r>
              <a:rPr b="1" lang="zh-CN" sz="2800" spc="-1" strike="noStrike">
                <a:solidFill>
                  <a:srgbClr val="333333"/>
                </a:solidFill>
                <a:latin typeface="仿宋_GB2312"/>
                <a:ea typeface="仿宋_GB2312"/>
              </a:rPr>
              <a:t>我能原谅对我态度很坏的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762120" y="1200960"/>
            <a:ext cx="79246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6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晚上躺在床上，我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会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回想白天与人发生争执的情景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7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很多人自己不怎么样却总是嘲笑他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8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不能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理解为什么自以为是的人也能得到赏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9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的人笨头笨脑反应迟钝，真让人窝火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0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不能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忍受上课时老师为照顾差生而把讲课的速度放慢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1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和事事争强好胜的人呆在一起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使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感到紧张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2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不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喜欢独断专行的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57200" y="1544040"/>
            <a:ext cx="83818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3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不少人明知方法不对，还非要别人按照他的意见行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4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的人成天牢骚满腹，我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认为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这种处境全是他们自己造成的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5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和怨天尤人的人打交道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能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使自己的生活变得灰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6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不少人总喜欢对别人百般挑剔，而不顾他人的情绪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7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当我辛辛苦苦做完一件事情却得不到认可和赏识时，我就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会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大发雷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18 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有些蛮横无礼的人常常事事畅通无阻，这真</a:t>
            </a: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令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我看不惯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Tahoma"/>
              </a:rPr>
              <a:t>评价标准： “ 是 ”得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 </a:t>
            </a:r>
            <a:r>
              <a:rPr b="0" lang="zh-CN" sz="3200" spc="-1" strike="noStrike">
                <a:solidFill>
                  <a:srgbClr val="ccffff"/>
                </a:solidFill>
                <a:latin typeface="Tahoma"/>
              </a:rPr>
              <a:t>分，“ 否 ”得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0 </a:t>
            </a:r>
            <a:r>
              <a:rPr b="0" lang="zh-CN" sz="3200" spc="-1" strike="noStrike">
                <a:solidFill>
                  <a:srgbClr val="ccffff"/>
                </a:solidFill>
                <a:latin typeface="Tahoma"/>
              </a:rPr>
              <a:t>分</a:t>
            </a:r>
            <a:r>
              <a:rPr b="0" lang="zh-CN" sz="32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62120" y="1586880"/>
            <a:ext cx="74674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总分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3—18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分的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你不够宽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说明你需要在生活中加强自己的灵活性，培养宽容精神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总分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—1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分的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表明你具有常人的心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尽管时时碰到难相处的人，有时也会被他们的态度所激怒，但总的来说尚能容忍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、总分为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—6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分 的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你有颗宽容的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说明外界的纷繁复杂很难左右你平和的心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46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3"/>
          <p:cNvSpPr txBox="1"/>
          <p:nvPr/>
        </p:nvSpPr>
        <p:spPr>
          <a:xfrm>
            <a:off x="152280" y="266760"/>
            <a:ext cx="33530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亲身体验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AutoShape 4"/>
          <p:cNvSpPr/>
          <p:nvPr/>
        </p:nvSpPr>
        <p:spPr>
          <a:xfrm flipH="1">
            <a:off x="7009560" y="304920"/>
            <a:ext cx="2133720" cy="64008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华文行楷"/>
                <a:ea typeface="华文行楷"/>
              </a:rPr>
              <a:t>学 会 宽 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9480" y="1708560"/>
            <a:ext cx="685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仿宋_GB2312"/>
                <a:ea typeface="仿宋_GB2312"/>
              </a:rPr>
              <a:t>①   </a:t>
            </a:r>
            <a:r>
              <a:rPr b="1" lang="zh-CN" sz="2800" spc="-1" strike="noStrike">
                <a:solidFill>
                  <a:srgbClr val="cc00ff"/>
                </a:solidFill>
                <a:latin typeface="仿宋_GB2312"/>
                <a:ea typeface="仿宋_GB2312"/>
              </a:rPr>
              <a:t>鼓起勇气，亲口跟她（他）说对不起，请求她（他）原谅你。我想她（他）可能很希望你能样做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33520" y="2895480"/>
            <a:ext cx="67816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②   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你也可以把你认为应该对她（他）说而以前没有说的话写在纸条上</a:t>
            </a:r>
            <a:r>
              <a:rPr b="1" lang="en-US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然后把纸条对折，在正面写上他（她）的姓名，再直接走到他面前郑重交给他，通过纸条在你们之间搭起一座宽容的桥梁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cc"/>
                </a:solidFill>
                <a:latin typeface="Tahoma"/>
              </a:rPr>
              <a:t>古代有关宽容的故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清朝康熙年间有个大学士名叫张英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一天张英收到家信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说家人为了争三尺宽的宅基地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与邻居发生纠纷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要他用职权疏通关系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打赢这场官司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张英阅信后坦然一笑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挥笔写了一封信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并附诗一首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千里修书只为墙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让他三尺又何妨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?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万里长城今犹在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黑体"/>
              </a:rPr>
              <a:t>不见当年秦始皇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  <a:ea typeface="黑体"/>
              </a:rPr>
              <a:t>.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家人接信后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让出三尺宅基地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邻居见了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也主动相让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结果成了六尺巷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99ccff"/>
                </a:solidFill>
                <a:latin typeface="Tahoma"/>
              </a:rPr>
              <a:t>这个化干戈为玉帛的故事流传至今</a:t>
            </a:r>
            <a:r>
              <a:rPr b="0" lang="en-US" sz="3200" spc="-1" strike="noStrike">
                <a:solidFill>
                  <a:srgbClr val="99cc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819520" y="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我  心 宽  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88280" y="990720"/>
            <a:ext cx="1716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开口大笑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笑天下刻薄之人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817680" y="914400"/>
            <a:ext cx="2326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大肚能容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容天下难容之事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4467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295280" y="4952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990720" y="99072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宽容是有原则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523880" y="36576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宽容不是无原则的饶恕和纵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914400" y="2209680"/>
            <a:ext cx="6324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是一个宽容的人吗？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身上有不宽容的影子吗？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1219320" y="457200"/>
            <a:ext cx="3581280" cy="1219320"/>
          </a:xfrm>
          <a:prstGeom prst="foldedCorner">
            <a:avLst>
              <a:gd name="adj" fmla="val 12500"/>
            </a:avLst>
          </a:prstGeom>
          <a:solidFill>
            <a:srgbClr val="ff3399"/>
          </a:solidFill>
          <a:ln w="763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反省自己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06128x128d051102307"/>
          <p:cNvPicPr/>
          <p:nvPr/>
        </p:nvPicPr>
        <p:blipFill>
          <a:blip r:embed="rId1"/>
          <a:stretch/>
        </p:blipFill>
        <p:spPr>
          <a:xfrm>
            <a:off x="7543800" y="4800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914400" y="41148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曾经发生的那件事情，我觉得当时自己不够宽容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……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45"/>
          <p:cNvPicPr/>
          <p:nvPr/>
        </p:nvPicPr>
        <p:blipFill>
          <a:blip r:embed="rId1"/>
          <a:stretch/>
        </p:blipFill>
        <p:spPr>
          <a:xfrm>
            <a:off x="-152280" y="-304920"/>
            <a:ext cx="9524880" cy="7515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85800" y="53352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学会宽容</a:t>
            </a:r>
            <a:r>
              <a:rPr b="1" lang="en-US" sz="4400" spc="-1" strike="noStrike">
                <a:solidFill>
                  <a:srgbClr val="66ff33"/>
                </a:solidFill>
                <a:latin typeface="Arial"/>
                <a:ea typeface="华文行楷"/>
              </a:rPr>
              <a:t>——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行楷"/>
              </a:rPr>
              <a:t>快乐生活的作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90720" y="1295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每天对身边的人多微笑三次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</a:rPr>
              <a:t>把欢乐传递下去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990720" y="22860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每天原谅一个伤害你的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让痛苦的能量到你这里为止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做“痛苦的终结者”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990720" y="3429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每天做一件帮助他人的好事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066680" y="3886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当别人让你感到不愉快时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尽量去理解他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试着去了解他的苦衷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666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为别人的成绩鼓掌</a:t>
            </a:r>
            <a:r>
              <a:rPr b="1" lang="en-US" sz="3200" spc="-1" strike="noStrike">
                <a:solidFill>
                  <a:srgbClr val="9966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996600"/>
                </a:solidFill>
                <a:latin typeface="宋体"/>
              </a:rPr>
              <a:t>而不去嫉妒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66680" y="54100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cc9900"/>
                </a:solidFill>
                <a:latin typeface="宋体"/>
              </a:rPr>
              <a:t>每天写出一个令你反感的人的一条优点</a:t>
            </a:r>
            <a:r>
              <a:rPr b="1" lang="en-US" sz="3200" spc="-1" strike="noStrike">
                <a:solidFill>
                  <a:srgbClr val="cc99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3048120" cy="764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用心朗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9880" y="763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新宋体"/>
              </a:rPr>
              <a:t>宽 容 宣 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" y="9907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9999ff"/>
                </a:solidFill>
                <a:latin typeface="宋体"/>
              </a:rPr>
              <a:t>宽容与刻薄相比</a:t>
            </a:r>
            <a:r>
              <a:rPr b="1" lang="en-US" sz="3200" spc="-1" strike="noStrike">
                <a:solidFill>
                  <a:srgbClr val="9999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宋体"/>
              </a:rPr>
              <a:t>我选择宽容。因为宽容失去的只是过去，刻薄失去的却是将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28600" y="19051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一个不懂得宽容的人</a:t>
            </a:r>
            <a:r>
              <a:rPr b="1" lang="en-US" sz="32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将失去别人的尊重，一个一味宽容的人，将失去自己的尊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2280" y="2819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宽容者让别人愉悦，自己也快乐；刻薄者让别人痛苦，自己也难受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28600" y="3733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宽容需要不断求知，求同存异，需要学会把握自己的情绪，多一分宽容，就多一分融洽、少一分怨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52280" y="5151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宽容是一种信任，是一种品德，更是一种境界。为了使我们彼此心灵的距离不再遥远，让我们紧紧握住宽容的双手吧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younimeili3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19320"/>
            <a:ext cx="60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学会宽容，快乐生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f773238ce586805b9998f6e"/>
          <p:cNvPicPr/>
          <p:nvPr/>
        </p:nvPicPr>
        <p:blipFill>
          <a:blip r:embed="rId1"/>
          <a:stretch/>
        </p:blipFill>
        <p:spPr>
          <a:xfrm>
            <a:off x="0" y="0"/>
            <a:ext cx="94471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219320" y="2278080"/>
            <a:ext cx="5333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876920" y="609480"/>
            <a:ext cx="3429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轻轻地捧起你的脸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为你把眼泪擦干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这颗心永远属于你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告诉我不再孤单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深深地凝望你的眼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不需要更多的语言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紧紧地握住你的手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这温暖依旧未改变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同欢乐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同忍受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怀着同样的期待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共风雨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共追求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我们珍存同一样的爱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无论你我可曾相识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无论在眼前在天边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真心的为你祝愿</a:t>
            </a:r>
            <a:br>
              <a:rPr sz="2000"/>
            </a:br>
            <a:r>
              <a:rPr b="1" lang="zh-CN" sz="2000" spc="-1" strike="noStrike">
                <a:solidFill>
                  <a:srgbClr val="6666ff"/>
                </a:solidFill>
                <a:latin typeface="Arial"/>
              </a:rPr>
              <a:t>祝愿你幸福平安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457200" y="7621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66ff"/>
                </a:solidFill>
                <a:latin typeface="Arial"/>
              </a:rPr>
              <a:t>让世界充满爱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804040" y="38052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199"/>
                </a:solidFill>
                <a:latin typeface="Arial"/>
              </a:rPr>
              <a:t>二、看短文，思考：</a:t>
            </a:r>
            <a:r>
              <a:rPr b="0" lang="zh-CN" sz="3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62120" y="188964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Arial"/>
              </a:rPr>
              <a:t>两者是否都有错误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Arial"/>
              </a:rPr>
              <a:t>如果一方让步，矛盾是否会有所缓和呢？</a:t>
            </a:r>
            <a:r>
              <a:rPr b="0" lang="zh-CN" sz="32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928800" y="4321080"/>
            <a:ext cx="72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学会宽容 </a:t>
            </a: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, 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</a:rPr>
              <a:t>快乐生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5181480" y="4495680"/>
            <a:ext cx="3353040" cy="12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感悟理解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Picture 3" descr="4"/>
          <p:cNvPicPr/>
          <p:nvPr/>
        </p:nvPicPr>
        <p:blipFill>
          <a:blip r:embed="rId1"/>
          <a:stretch/>
        </p:blipFill>
        <p:spPr>
          <a:xfrm>
            <a:off x="914400" y="28195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4419720" y="1600200"/>
            <a:ext cx="3276360" cy="1752480"/>
          </a:xfrm>
          <a:prstGeom prst="wedgeEllipseCallout">
            <a:avLst>
              <a:gd name="adj1" fmla="val -44333"/>
              <a:gd name="adj2" fmla="val 48277"/>
            </a:avLst>
          </a:prstGeom>
          <a:solidFill>
            <a:srgbClr val="000099"/>
          </a:solidFill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我认为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宽容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5335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结合自己的理解，你能说说“宽容”是什么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宽容是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宽容是一缕阳光，它照亮人的心间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宽容是一种气量。它磨练人的意志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宽容是一种气质，它能增加你和朋友之间的友谊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</a:rPr>
              <a:t>宽容是一种胸怀，一种睿智，一种乐观的面对人生的勇气。它能驱散生活中的痛苦和眼泪，它能传播心灵的快乐和微笑。宽容盛产幽默，减少人生的沉重感，让人生充满快乐和欢笑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宽容是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迎接阳光暴雨的天空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容纳大树小草的田野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嵌满繁星的美丽夜空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夕阳落下时的那片最灿烂的红霞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带来甘霖的明媚彩虹 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宽容是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冬日后的春风，有了宽容就可以吹开你我的心扉，让世界更温馨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天上的细雨滋润着大地，有了宽容就可以让世界充满生的气息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理解，而不是纵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对别人，而不是对自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换位思考，而不是强人所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高山流水，而不是针尖麦芒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真心包容，而不是欲擒故纵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高洁心态，而不是惺惺作态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别人给你机会，而不是自己给自己借口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宽容是包括对待敌人，而不是仅仅针对朋友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ahoma"/>
              </a:rPr>
              <a:t>宽容是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宽容是文明的唯一考核（海尔普斯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最高贵的复仇是宽容（雨果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责人要宽，责已要严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严以律已，宽以待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刻苦自己，厚待别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以春风待人，以寒风自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ahoma"/>
              </a:rPr>
              <a:t>得放手时须放手，得饶人处且饶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62120" y="327672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4920" y="137160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不会宽容别人的人，是不配受到别人宽容的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俄罗斯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屠格涅夫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一个伟大的人有两颗心：一颗心流血，一颗心宽    容。  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黎巴嫩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纪伯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紫罗兰把它的香气留在那踩扁了它的脚踝上。这就是宽怒。”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马克吐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4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宽容就像天上的细雨滋润着大地。它赐福于宽容的人，也赐福于被宽容的人。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莎士比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宽容是文明的唯一考核。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（海尔普斯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正义之神，宽容是我们最完美的所作所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（华兹华斯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1143000" y="2286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宽容是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30T01:51:08Z</dcterms:modified>
  <cp:revision>2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