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DC2-06FC-4B36-A12B-558594D1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2B6-3EB0-4D64-A2F1-8B24128C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6FC-6777-4839-A9A0-2B5D7E3A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2B0-E5B3-4FAF-962F-CEA244B1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EFF8-1FC4-435C-A7FF-7EA46657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A236-C072-4591-9FEF-3A7069E8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7503-868E-4932-8C69-45C302BB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11BD-BC14-4EAB-AEE3-C2CD0601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BA21-305E-4F06-9B28-692A7019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F160-6EAD-4D50-946F-F6EB6A38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D2B-30E2-47B7-BA1F-07DC1C9E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1B0-F75E-4523-8186-D706529A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E97E-BE04-4791-87D4-BBD87BC5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7938-CB88-4CF7-A97F-5BD3D7F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A52E-8352-42C6-BC8B-EBE2D6B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CC3B-C8E0-45F6-B4C0-18F8DCE1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3607-8B70-468C-9020-D8B8AD77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E010-BB18-46FE-A644-CA88634E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789A-AAA5-4618-8BC0-264D7945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E5C5-FCA5-4729-A916-A1016578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D943-20EB-47FC-B618-1D8D3D4B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696B-B290-4930-B633-BC1F5F5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0DF-A8B7-4716-95E5-48014041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B998-769F-4DF3-BAF2-36B6A406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C823-5C02-4951-A504-BB1667B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901D-C192-4953-A45F-FEF775F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A064-DAC4-43A8-8D9A-AD4001E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6AC8-471A-4407-BCDD-0BCEDF77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A8E4-8269-4061-9CA3-548EBBB1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CC7D-D6B0-4530-961D-E7512EF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261-1EAF-43FD-9092-04F90C37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0FD-D00D-4B0A-843D-1184F64B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036-D0E1-4FFE-AF67-1F0BECCC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5DF-D3A3-40FD-B637-B2128BAA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D69-BF5F-44B9-91FA-05D2683A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A7D-342D-413D-BFF1-A995948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80720" cy="688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3CB0-5C23-4BB2-BFF0-B3A27DA1A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6840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29E7-00E1-49E3-BF0F-932F9A488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A44E-62CC-4B0E-BCE5-87E0174ED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6840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4000" y="2278080"/>
            <a:ext cx="68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052720" y="371772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矩形 837" descr=""/>
          <p:cNvPicPr/>
          <p:nvPr/>
        </p:nvPicPr>
        <p:blipFill>
          <a:blip r:embed="rId1"/>
          <a:stretch/>
        </p:blipFill>
        <p:spPr>
          <a:xfrm>
            <a:off x="5724360" y="1917720"/>
            <a:ext cx="26593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0:58:54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