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1T22:53:00Z</dcterms:created>
  <dc:creator>微软中国</dc:creator>
  <dc:description>free, PowerPoint template, download, PPT template, PowerPoint templates, slideshow template, POT, POTX, Power Point template, slide show template, celebration, Wedding, Wedding PowerPoint template</dc:description>
  <cp:keywords>free PowerPoint template download PPT template PowerPoint templates slideshow template POT POTX Power Point template slide show template celebration Wedding Wedding PowerPoint template</cp:keywords>
  <dc:language>en-US</dc:language>
  <cp:lastModifiedBy>微软中国</cp:lastModifiedBy>
  <dcterms:modified xsi:type="dcterms:W3CDTF">2015-08-17T00:39:34Z</dcterms:modified>
  <cp:revision>1</cp:revision>
  <dc:subject>Wedding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