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B9BD-E1DB-4C4E-A998-02BB398F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40000" y="5517720"/>
            <a:ext cx="6400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40000" y="5819040"/>
            <a:ext cx="6400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1758-A95B-4D97-90F2-DFF0A7D3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40000" y="5517720"/>
            <a:ext cx="312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19960" y="5517720"/>
            <a:ext cx="312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40000" y="5819040"/>
            <a:ext cx="312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19960" y="5819040"/>
            <a:ext cx="312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E59-DAEF-4FFB-8614-7E514B97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40000" y="5517720"/>
            <a:ext cx="2060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03960" y="5517720"/>
            <a:ext cx="2060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68280" y="5517720"/>
            <a:ext cx="2060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40000" y="5819040"/>
            <a:ext cx="2060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03960" y="5819040"/>
            <a:ext cx="2060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68280" y="5819040"/>
            <a:ext cx="2060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214-84D4-4CAB-99ED-BF3FC6DD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5D7C-11B4-414A-93C2-607A24B7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340000" y="551772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E2FA-47C6-4E42-AA61-51EC5C61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40000" y="551772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5E23-0791-4AC4-AA06-8202058F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40000" y="5517720"/>
            <a:ext cx="3123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619960" y="5517720"/>
            <a:ext cx="3123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C1BC-8F3B-4A91-BA2F-A420E6F4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668A-8325-4B18-B97F-2E40941F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492280"/>
            <a:ext cx="7772400" cy="513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B66F-400A-4B4F-AE4C-323524A7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40000" y="5517720"/>
            <a:ext cx="312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19960" y="5517720"/>
            <a:ext cx="3123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340000" y="5819040"/>
            <a:ext cx="312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8D85-6E2B-42ED-AE3E-873549BC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40000" y="551772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F09E-A612-46D5-BB36-5D80DF3E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340000" y="5517720"/>
            <a:ext cx="3123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19960" y="5517720"/>
            <a:ext cx="312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19960" y="5819040"/>
            <a:ext cx="312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E774-EAA0-43B3-932C-B80A5836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40000" y="5517720"/>
            <a:ext cx="312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19960" y="5517720"/>
            <a:ext cx="312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340000" y="5819040"/>
            <a:ext cx="6400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C317-053A-4A90-AC0F-967975B1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40000" y="5517720"/>
            <a:ext cx="6400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340000" y="5819040"/>
            <a:ext cx="6400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1A07-2125-448B-A03F-0FB783F8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40000" y="5517720"/>
            <a:ext cx="312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19960" y="5517720"/>
            <a:ext cx="312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340000" y="5819040"/>
            <a:ext cx="312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619960" y="5819040"/>
            <a:ext cx="312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13EA-C47A-4AE0-8345-E95E3542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0000" y="5517720"/>
            <a:ext cx="2060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03960" y="5517720"/>
            <a:ext cx="2060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68280" y="5517720"/>
            <a:ext cx="2060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340000" y="5819040"/>
            <a:ext cx="2060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503960" y="5819040"/>
            <a:ext cx="2060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68280" y="5819040"/>
            <a:ext cx="2060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A472-2ACA-4F3D-9B9D-F1576442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40000" y="551772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4CE-4D2F-4CFB-8C65-54BF2BB7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40000" y="5517720"/>
            <a:ext cx="3123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19960" y="5517720"/>
            <a:ext cx="3123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30B-007A-40CD-A49B-5678F42B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CCA0-A5A0-4D6F-A646-44BBC2DE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492280"/>
            <a:ext cx="7772400" cy="513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A69A-0F17-426C-8D83-1486E660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40000" y="5517720"/>
            <a:ext cx="312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19960" y="5517720"/>
            <a:ext cx="3123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40000" y="5819040"/>
            <a:ext cx="312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25C9-5D91-4A9B-9B27-6D2E0BF6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40000" y="5517720"/>
            <a:ext cx="3123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19960" y="5517720"/>
            <a:ext cx="312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19960" y="5819040"/>
            <a:ext cx="312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1ADD-2E3C-4F48-BD6B-21E8D9F1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40000" y="5517720"/>
            <a:ext cx="312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19960" y="5517720"/>
            <a:ext cx="312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40000" y="5819040"/>
            <a:ext cx="6400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5651-F53A-441B-A2CE-73733922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09720"/>
            <a:ext cx="9144000" cy="51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7F7D-26FC-4044-8F42-198EC2416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4F12-CD58-4410-AE2A-1FDD654E5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40000" y="551772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者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95640" y="2276640"/>
            <a:ext cx="3989160" cy="16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谢谢观看</a:t>
            </a:r>
            <a:endParaRPr b="1" lang="en-US" sz="72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1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11:01:23Z</dcterms:created>
  <dc:creator/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