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D59-74E5-4432-999C-61B3C84C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AEC-00C5-4B4F-B3BC-69B014E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993-B962-44C6-BA49-069CFA89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490-85B5-4AFA-A80B-DC184AC0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6BB-657F-4F2A-93E9-6377943D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E94-D919-42FE-B166-0D999E92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BD2-4845-414C-800C-ED1BD7B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7FB-F8BE-481C-97D2-7E7887CE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F6D-0947-4418-9484-6B33ED81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F46-72AE-4F84-AC6F-B1C2117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C27-0F7D-4323-8F0C-68703FBC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54C-3518-404D-A4D1-4CEDFCB2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87D7-1CD1-4B84-BBEC-01E042AF92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500480" y="192888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194200" y="5195520"/>
            <a:ext cx="79020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904840" y="1714680"/>
            <a:ext cx="66708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6783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7836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997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926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85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854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8772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57184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8548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5212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426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3734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00024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9978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52008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21200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3663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1997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855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8-15T08:59:34Z</dcterms:modified>
  <cp:revision>46</cp:revision>
  <dc:subject/>
  <dc:title>幻灯片 1</dc:title>
</cp:coreProperties>
</file>