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52EC-6633-4AFB-BECD-D97C76FC7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7163-B7F0-4C05-85BE-14FD0AC6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E694-A910-4F33-9E6A-8B490CE80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DAB9-A532-40C3-89BB-84DC8EBE2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504D-CF23-4C5C-A1A9-691F9446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4FE5-D0E6-4003-B1A3-4EEA4978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F55F-C5CE-47DD-B82F-E2507A00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D8A5-8B79-4614-A0CE-C1D4BC9B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D47E-5C9D-4A9D-B012-D08121C8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A58F-BF03-4475-A6E6-FD1B7A69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4649-A110-41EB-AE4B-4622CAD5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D9EE-F4B4-4373-B949-036F87FF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0B59-6A14-4FDF-94A7-46A7AA3FD25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11.png"/>
          <p:cNvPicPr/>
          <p:nvPr/>
        </p:nvPicPr>
        <p:blipFill>
          <a:blip r:embed="rId2"/>
          <a:stretch/>
        </p:blipFill>
        <p:spPr>
          <a:xfrm>
            <a:off x="4680" y="4680"/>
            <a:ext cx="9134640" cy="5708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5" descr="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组合 6"/>
          <p:cNvGrpSpPr/>
          <p:nvPr/>
        </p:nvGrpSpPr>
        <p:grpSpPr>
          <a:xfrm>
            <a:off x="500040" y="1754280"/>
            <a:ext cx="7572240" cy="2460600"/>
            <a:chOff x="500040" y="1754280"/>
            <a:chExt cx="7572240" cy="2460600"/>
          </a:xfrm>
        </p:grpSpPr>
        <p:grpSp>
          <p:nvGrpSpPr>
            <p:cNvPr id="82" name="组合 2"/>
            <p:cNvGrpSpPr/>
            <p:nvPr/>
          </p:nvGrpSpPr>
          <p:grpSpPr>
            <a:xfrm>
              <a:off x="500040" y="1754280"/>
              <a:ext cx="7572240" cy="2460600"/>
              <a:chOff x="500040" y="1754280"/>
              <a:chExt cx="7572240" cy="2460600"/>
            </a:xfrm>
          </p:grpSpPr>
          <p:sp>
            <p:nvSpPr>
              <p:cNvPr id="83" name="AutoShape 3"/>
              <p:cNvSpPr/>
              <p:nvPr/>
            </p:nvSpPr>
            <p:spPr>
              <a:xfrm>
                <a:off x="500040" y="1754280"/>
                <a:ext cx="7572240" cy="2460600"/>
              </a:xfrm>
              <a:prstGeom prst="roundRect">
                <a:avLst>
                  <a:gd name="adj" fmla="val 2449"/>
                </a:avLst>
              </a:prstGeom>
              <a:gradFill rotWithShape="0">
                <a:gsLst>
                  <a:gs pos="0">
                    <a:srgbClr val="00b0f0"/>
                  </a:gs>
                  <a:gs pos="100000">
                    <a:srgbClr val="004376"/>
                  </a:gs>
                </a:gsLst>
                <a:lin ang="8100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AutoShape 3"/>
              <p:cNvSpPr/>
              <p:nvPr/>
            </p:nvSpPr>
            <p:spPr>
              <a:xfrm>
                <a:off x="502920" y="1839960"/>
                <a:ext cx="7566120" cy="2289240"/>
              </a:xfrm>
              <a:prstGeom prst="roundRect">
                <a:avLst>
                  <a:gd name="adj" fmla="val 2731"/>
                </a:avLst>
              </a:prstGeom>
              <a:solidFill>
                <a:srgbClr val="f2f2f2">
                  <a:alpha val="92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Text Box 11"/>
            <p:cNvSpPr/>
            <p:nvPr/>
          </p:nvSpPr>
          <p:spPr>
            <a:xfrm>
              <a:off x="709560" y="2138040"/>
              <a:ext cx="7220160" cy="16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 Box 26"/>
          <p:cNvSpPr/>
          <p:nvPr/>
        </p:nvSpPr>
        <p:spPr>
          <a:xfrm>
            <a:off x="8429760" y="142920"/>
            <a:ext cx="48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  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6"/>
          <p:cNvSpPr/>
          <p:nvPr/>
        </p:nvSpPr>
        <p:spPr>
          <a:xfrm>
            <a:off x="8429760" y="142920"/>
            <a:ext cx="48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35"/>
          <p:cNvGrpSpPr/>
          <p:nvPr/>
        </p:nvGrpSpPr>
        <p:grpSpPr>
          <a:xfrm>
            <a:off x="3147840" y="1311120"/>
            <a:ext cx="2928960" cy="794880"/>
            <a:chOff x="3147840" y="1311120"/>
            <a:chExt cx="2928960" cy="794880"/>
          </a:xfrm>
        </p:grpSpPr>
        <p:grpSp>
          <p:nvGrpSpPr>
            <p:cNvPr id="89" name="组合 17"/>
            <p:cNvGrpSpPr/>
            <p:nvPr/>
          </p:nvGrpSpPr>
          <p:grpSpPr>
            <a:xfrm>
              <a:off x="3147840" y="1311120"/>
              <a:ext cx="2928960" cy="794880"/>
              <a:chOff x="3147840" y="1311120"/>
              <a:chExt cx="2928960" cy="794880"/>
            </a:xfrm>
          </p:grpSpPr>
          <p:sp>
            <p:nvSpPr>
              <p:cNvPr id="90" name="TextBox 15"/>
              <p:cNvSpPr/>
              <p:nvPr/>
            </p:nvSpPr>
            <p:spPr>
              <a:xfrm>
                <a:off x="3147840" y="1311120"/>
                <a:ext cx="571320" cy="79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600" spc="-1" strike="noStrike">
                    <a:solidFill>
                      <a:srgbClr val="ffffff"/>
                    </a:solidFill>
                    <a:latin typeface="方正综艺简体"/>
                    <a:ea typeface="方正综艺简体"/>
                  </a:rPr>
                  <a:t>1</a:t>
                </a:r>
                <a:endParaRPr b="0" lang="en-US" sz="4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TextBox 16"/>
              <p:cNvSpPr/>
              <p:nvPr/>
            </p:nvSpPr>
            <p:spPr>
              <a:xfrm>
                <a:off x="3647880" y="1591920"/>
                <a:ext cx="242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矩形 34"/>
            <p:cNvSpPr/>
            <p:nvPr/>
          </p:nvSpPr>
          <p:spPr>
            <a:xfrm>
              <a:off x="3597120" y="1512720"/>
              <a:ext cx="102960" cy="10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66"/>
          <p:cNvGrpSpPr/>
          <p:nvPr/>
        </p:nvGrpSpPr>
        <p:grpSpPr>
          <a:xfrm>
            <a:off x="3147840" y="2093760"/>
            <a:ext cx="2928960" cy="794880"/>
            <a:chOff x="3147840" y="2093760"/>
            <a:chExt cx="2928960" cy="794880"/>
          </a:xfrm>
        </p:grpSpPr>
        <p:grpSp>
          <p:nvGrpSpPr>
            <p:cNvPr id="94" name="组合 67"/>
            <p:cNvGrpSpPr/>
            <p:nvPr/>
          </p:nvGrpSpPr>
          <p:grpSpPr>
            <a:xfrm>
              <a:off x="3147840" y="2093760"/>
              <a:ext cx="2928960" cy="794880"/>
              <a:chOff x="3147840" y="2093760"/>
              <a:chExt cx="2928960" cy="794880"/>
            </a:xfrm>
          </p:grpSpPr>
          <p:sp>
            <p:nvSpPr>
              <p:cNvPr id="95" name="TextBox 69"/>
              <p:cNvSpPr/>
              <p:nvPr/>
            </p:nvSpPr>
            <p:spPr>
              <a:xfrm>
                <a:off x="3147840" y="2093760"/>
                <a:ext cx="571320" cy="79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600" spc="-1" strike="noStrike">
                    <a:solidFill>
                      <a:srgbClr val="ffffff"/>
                    </a:solidFill>
                    <a:latin typeface="方正综艺简体"/>
                    <a:ea typeface="方正综艺简体"/>
                  </a:rPr>
                  <a:t>2</a:t>
                </a:r>
                <a:endParaRPr b="0" lang="en-US" sz="4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TextBox 70"/>
              <p:cNvSpPr/>
              <p:nvPr/>
            </p:nvSpPr>
            <p:spPr>
              <a:xfrm>
                <a:off x="3647880" y="2374920"/>
                <a:ext cx="242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矩形 68"/>
            <p:cNvSpPr/>
            <p:nvPr/>
          </p:nvSpPr>
          <p:spPr>
            <a:xfrm>
              <a:off x="3597120" y="2295360"/>
              <a:ext cx="102960" cy="10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71"/>
          <p:cNvGrpSpPr/>
          <p:nvPr/>
        </p:nvGrpSpPr>
        <p:grpSpPr>
          <a:xfrm>
            <a:off x="3147840" y="2878200"/>
            <a:ext cx="2928960" cy="794880"/>
            <a:chOff x="3147840" y="2878200"/>
            <a:chExt cx="2928960" cy="794880"/>
          </a:xfrm>
        </p:grpSpPr>
        <p:grpSp>
          <p:nvGrpSpPr>
            <p:cNvPr id="99" name="组合 72"/>
            <p:cNvGrpSpPr/>
            <p:nvPr/>
          </p:nvGrpSpPr>
          <p:grpSpPr>
            <a:xfrm>
              <a:off x="3147840" y="2878200"/>
              <a:ext cx="2928960" cy="794880"/>
              <a:chOff x="3147840" y="2878200"/>
              <a:chExt cx="2928960" cy="794880"/>
            </a:xfrm>
          </p:grpSpPr>
          <p:sp>
            <p:nvSpPr>
              <p:cNvPr id="100" name="TextBox 74"/>
              <p:cNvSpPr/>
              <p:nvPr/>
            </p:nvSpPr>
            <p:spPr>
              <a:xfrm>
                <a:off x="3147840" y="2878200"/>
                <a:ext cx="571320" cy="79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600" spc="-1" strike="noStrike">
                    <a:solidFill>
                      <a:srgbClr val="ffffff"/>
                    </a:solidFill>
                    <a:latin typeface="方正综艺简体"/>
                    <a:ea typeface="方正综艺简体"/>
                  </a:rPr>
                  <a:t>3</a:t>
                </a:r>
                <a:endParaRPr b="0" lang="en-US" sz="4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75"/>
              <p:cNvSpPr/>
              <p:nvPr/>
            </p:nvSpPr>
            <p:spPr>
              <a:xfrm>
                <a:off x="3647880" y="3159000"/>
                <a:ext cx="242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矩形 73"/>
            <p:cNvSpPr/>
            <p:nvPr/>
          </p:nvSpPr>
          <p:spPr>
            <a:xfrm>
              <a:off x="3597120" y="3079800"/>
              <a:ext cx="102960" cy="10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组合 76"/>
          <p:cNvGrpSpPr/>
          <p:nvPr/>
        </p:nvGrpSpPr>
        <p:grpSpPr>
          <a:xfrm>
            <a:off x="3147840" y="3660840"/>
            <a:ext cx="2928960" cy="794880"/>
            <a:chOff x="3147840" y="3660840"/>
            <a:chExt cx="2928960" cy="794880"/>
          </a:xfrm>
        </p:grpSpPr>
        <p:grpSp>
          <p:nvGrpSpPr>
            <p:cNvPr id="104" name="组合 77"/>
            <p:cNvGrpSpPr/>
            <p:nvPr/>
          </p:nvGrpSpPr>
          <p:grpSpPr>
            <a:xfrm>
              <a:off x="3147840" y="3660840"/>
              <a:ext cx="2928960" cy="794880"/>
              <a:chOff x="3147840" y="3660840"/>
              <a:chExt cx="2928960" cy="794880"/>
            </a:xfrm>
          </p:grpSpPr>
          <p:sp>
            <p:nvSpPr>
              <p:cNvPr id="105" name="TextBox 79"/>
              <p:cNvSpPr/>
              <p:nvPr/>
            </p:nvSpPr>
            <p:spPr>
              <a:xfrm>
                <a:off x="3147840" y="3660840"/>
                <a:ext cx="571320" cy="79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600" spc="-1" strike="noStrike">
                    <a:solidFill>
                      <a:srgbClr val="ffffff"/>
                    </a:solidFill>
                    <a:latin typeface="方正综艺简体"/>
                    <a:ea typeface="方正综艺简体"/>
                  </a:rPr>
                  <a:t>4</a:t>
                </a:r>
                <a:endParaRPr b="0" lang="en-US" sz="4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TextBox 80"/>
              <p:cNvSpPr/>
              <p:nvPr/>
            </p:nvSpPr>
            <p:spPr>
              <a:xfrm>
                <a:off x="3647880" y="3941640"/>
                <a:ext cx="242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矩形 78"/>
            <p:cNvSpPr/>
            <p:nvPr/>
          </p:nvSpPr>
          <p:spPr>
            <a:xfrm>
              <a:off x="3597120" y="3862440"/>
              <a:ext cx="102960" cy="10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组合 4"/>
          <p:cNvGrpSpPr/>
          <p:nvPr/>
        </p:nvGrpSpPr>
        <p:grpSpPr>
          <a:xfrm>
            <a:off x="3147840" y="2441520"/>
            <a:ext cx="2928960" cy="794880"/>
            <a:chOff x="3147840" y="2441520"/>
            <a:chExt cx="2928960" cy="794880"/>
          </a:xfrm>
        </p:grpSpPr>
        <p:grpSp>
          <p:nvGrpSpPr>
            <p:cNvPr id="109" name="组合 17"/>
            <p:cNvGrpSpPr/>
            <p:nvPr/>
          </p:nvGrpSpPr>
          <p:grpSpPr>
            <a:xfrm>
              <a:off x="3147840" y="2441520"/>
              <a:ext cx="2928960" cy="794880"/>
              <a:chOff x="3147840" y="2441520"/>
              <a:chExt cx="2928960" cy="794880"/>
            </a:xfrm>
          </p:grpSpPr>
          <p:sp>
            <p:nvSpPr>
              <p:cNvPr id="110" name="TextBox 7"/>
              <p:cNvSpPr/>
              <p:nvPr/>
            </p:nvSpPr>
            <p:spPr>
              <a:xfrm>
                <a:off x="3147840" y="2441520"/>
                <a:ext cx="571320" cy="79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600" spc="-1" strike="noStrike">
                    <a:solidFill>
                      <a:srgbClr val="ffffff"/>
                    </a:solidFill>
                    <a:latin typeface="方正综艺简体"/>
                    <a:ea typeface="方正综艺简体"/>
                  </a:rPr>
                  <a:t>1</a:t>
                </a:r>
                <a:endParaRPr b="0" lang="en-US" sz="4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Box 8"/>
              <p:cNvSpPr/>
              <p:nvPr/>
            </p:nvSpPr>
            <p:spPr>
              <a:xfrm>
                <a:off x="3647880" y="2722680"/>
                <a:ext cx="242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矩形 6"/>
            <p:cNvSpPr/>
            <p:nvPr/>
          </p:nvSpPr>
          <p:spPr>
            <a:xfrm>
              <a:off x="3597120" y="2643120"/>
              <a:ext cx="102960" cy="10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组合 71"/>
          <p:cNvGrpSpPr/>
          <p:nvPr/>
        </p:nvGrpSpPr>
        <p:grpSpPr>
          <a:xfrm>
            <a:off x="820800" y="1434960"/>
            <a:ext cx="6883200" cy="3224520"/>
            <a:chOff x="820800" y="1434960"/>
            <a:chExt cx="6883200" cy="3224520"/>
          </a:xfrm>
        </p:grpSpPr>
        <p:grpSp>
          <p:nvGrpSpPr>
            <p:cNvPr id="114" name="组合 68"/>
            <p:cNvGrpSpPr/>
            <p:nvPr/>
          </p:nvGrpSpPr>
          <p:grpSpPr>
            <a:xfrm>
              <a:off x="3517920" y="2319120"/>
              <a:ext cx="1503360" cy="1477440"/>
              <a:chOff x="3517920" y="2319120"/>
              <a:chExt cx="1503360" cy="1477440"/>
            </a:xfrm>
          </p:grpSpPr>
          <p:grpSp>
            <p:nvGrpSpPr>
              <p:cNvPr id="115" name="组合 31"/>
              <p:cNvGrpSpPr/>
              <p:nvPr/>
            </p:nvGrpSpPr>
            <p:grpSpPr>
              <a:xfrm>
                <a:off x="3517920" y="2319120"/>
                <a:ext cx="1503360" cy="1477440"/>
                <a:chOff x="3517920" y="2319120"/>
                <a:chExt cx="1503360" cy="1477440"/>
              </a:xfrm>
            </p:grpSpPr>
            <p:sp>
              <p:nvSpPr>
                <p:cNvPr id="116" name="Oval 93"/>
                <p:cNvSpPr/>
                <p:nvPr/>
              </p:nvSpPr>
              <p:spPr>
                <a:xfrm>
                  <a:off x="3517920" y="2319120"/>
                  <a:ext cx="1503360" cy="147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33"/>
                    </a:gs>
                    <a:gs pos="100000">
                      <a:srgbClr val="80808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Oval 94"/>
                <p:cNvSpPr/>
                <p:nvPr/>
              </p:nvSpPr>
              <p:spPr>
                <a:xfrm>
                  <a:off x="3578040" y="2368080"/>
                  <a:ext cx="1295640" cy="127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0f0"/>
                    </a:gs>
                    <a:gs pos="100000">
                      <a:srgbClr val="004376"/>
                    </a:gs>
                  </a:gsLst>
                  <a:lin ang="8100000"/>
                </a:gradFill>
                <a:ln w="25560">
                  <a:solidFill>
                    <a:srgbClr val="ffffff"/>
                  </a:solidFill>
                  <a:miter/>
                </a:ln>
                <a:effectLst>
                  <a:outerShdw dist="38183" dir="2700000" blurRad="0" rotWithShape="0">
                    <a:srgbClr val="000000">
                      <a:alpha val="39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Text Box 18"/>
              <p:cNvSpPr/>
              <p:nvPr/>
            </p:nvSpPr>
            <p:spPr>
              <a:xfrm>
                <a:off x="3592800" y="2705040"/>
                <a:ext cx="1195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组合 67"/>
            <p:cNvGrpSpPr/>
            <p:nvPr/>
          </p:nvGrpSpPr>
          <p:grpSpPr>
            <a:xfrm>
              <a:off x="1508040" y="1434960"/>
              <a:ext cx="2779200" cy="1262160"/>
              <a:chOff x="1508040" y="1434960"/>
              <a:chExt cx="2779200" cy="1262160"/>
            </a:xfrm>
          </p:grpSpPr>
          <p:grpSp>
            <p:nvGrpSpPr>
              <p:cNvPr id="120" name="组合 8"/>
              <p:cNvGrpSpPr/>
              <p:nvPr/>
            </p:nvGrpSpPr>
            <p:grpSpPr>
              <a:xfrm>
                <a:off x="1508040" y="1434960"/>
                <a:ext cx="2779200" cy="1262160"/>
                <a:chOff x="1508040" y="1434960"/>
                <a:chExt cx="2779200" cy="1262160"/>
              </a:xfrm>
            </p:grpSpPr>
            <p:grpSp>
              <p:nvGrpSpPr>
                <p:cNvPr id="121" name="组合 76"/>
                <p:cNvGrpSpPr/>
                <p:nvPr/>
              </p:nvGrpSpPr>
              <p:grpSpPr>
                <a:xfrm>
                  <a:off x="1508040" y="1434960"/>
                  <a:ext cx="2779200" cy="1262160"/>
                  <a:chOff x="1508040" y="1434960"/>
                  <a:chExt cx="2779200" cy="1262160"/>
                </a:xfrm>
              </p:grpSpPr>
              <p:sp>
                <p:nvSpPr>
                  <p:cNvPr id="122" name="AutoShape 73"/>
                  <p:cNvSpPr/>
                  <p:nvPr/>
                </p:nvSpPr>
                <p:spPr>
                  <a:xfrm rot="2700000">
                    <a:off x="3293280" y="1585800"/>
                    <a:ext cx="754560" cy="988920"/>
                  </a:xfrm>
                  <a:prstGeom prst="rightArrow">
                    <a:avLst>
                      <a:gd name="adj1" fmla="val 70389"/>
                      <a:gd name="adj2" fmla="val 63769"/>
                    </a:avLst>
                  </a:prstGeom>
                  <a:solidFill>
                    <a:srgbClr val="ffffff">
                      <a:alpha val="72000"/>
                    </a:srgbClr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圆角矩形 14"/>
                  <p:cNvSpPr/>
                  <p:nvPr/>
                </p:nvSpPr>
                <p:spPr>
                  <a:xfrm>
                    <a:off x="1508040" y="1434960"/>
                    <a:ext cx="1836720" cy="68904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ffffff">
                      <a:alpha val="72000"/>
                    </a:srgbClr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组合 28"/>
                <p:cNvGrpSpPr/>
                <p:nvPr/>
              </p:nvGrpSpPr>
              <p:grpSpPr>
                <a:xfrm>
                  <a:off x="3015720" y="1434960"/>
                  <a:ext cx="702000" cy="689760"/>
                  <a:chOff x="3015720" y="1434960"/>
                  <a:chExt cx="702000" cy="689760"/>
                </a:xfrm>
              </p:grpSpPr>
              <p:sp>
                <p:nvSpPr>
                  <p:cNvPr id="125" name="椭圆 11"/>
                  <p:cNvSpPr/>
                  <p:nvPr/>
                </p:nvSpPr>
                <p:spPr>
                  <a:xfrm>
                    <a:off x="3015720" y="1434960"/>
                    <a:ext cx="702000" cy="689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808080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椭圆 117"/>
                  <p:cNvSpPr/>
                  <p:nvPr/>
                </p:nvSpPr>
                <p:spPr>
                  <a:xfrm>
                    <a:off x="3038040" y="1453680"/>
                    <a:ext cx="600120" cy="59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b0f0"/>
                      </a:gs>
                      <a:gs pos="100000">
                        <a:srgbClr val="004376"/>
                      </a:gs>
                    </a:gsLst>
                    <a:lin ang="8100000"/>
                  </a:gradFill>
                  <a:ln w="25560">
                    <a:solidFill>
                      <a:srgbClr val="ffffff"/>
                    </a:solidFill>
                    <a:miter/>
                  </a:ln>
                  <a:effectLst>
                    <a:outerShdw dist="38183" dir="2700000" blurRad="0" rotWithShape="0">
                      <a:srgbClr val="000000">
                        <a:alpha val="39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7" name="Text Box 18"/>
              <p:cNvSpPr/>
              <p:nvPr/>
            </p:nvSpPr>
            <p:spPr>
              <a:xfrm>
                <a:off x="1588320" y="1625400"/>
                <a:ext cx="1444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152160" y="161784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组合 69"/>
            <p:cNvGrpSpPr/>
            <p:nvPr/>
          </p:nvGrpSpPr>
          <p:grpSpPr>
            <a:xfrm>
              <a:off x="4326480" y="1434960"/>
              <a:ext cx="2679120" cy="1343520"/>
              <a:chOff x="4326480" y="1434960"/>
              <a:chExt cx="2679120" cy="1343520"/>
            </a:xfrm>
          </p:grpSpPr>
          <p:grpSp>
            <p:nvGrpSpPr>
              <p:cNvPr id="130" name="组合 62"/>
              <p:cNvGrpSpPr/>
              <p:nvPr/>
            </p:nvGrpSpPr>
            <p:grpSpPr>
              <a:xfrm>
                <a:off x="4326480" y="1434960"/>
                <a:ext cx="2679120" cy="1343520"/>
                <a:chOff x="4326480" y="1434960"/>
                <a:chExt cx="2679120" cy="1343520"/>
              </a:xfrm>
            </p:grpSpPr>
            <p:grpSp>
              <p:nvGrpSpPr>
                <p:cNvPr id="131" name="组合 48"/>
                <p:cNvGrpSpPr/>
                <p:nvPr/>
              </p:nvGrpSpPr>
              <p:grpSpPr>
                <a:xfrm>
                  <a:off x="4326480" y="1434960"/>
                  <a:ext cx="2679120" cy="1343520"/>
                  <a:chOff x="4326480" y="1434960"/>
                  <a:chExt cx="2679120" cy="1343520"/>
                </a:xfrm>
              </p:grpSpPr>
              <p:grpSp>
                <p:nvGrpSpPr>
                  <p:cNvPr id="132" name="组合 74"/>
                  <p:cNvGrpSpPr/>
                  <p:nvPr/>
                </p:nvGrpSpPr>
                <p:grpSpPr>
                  <a:xfrm>
                    <a:off x="4326480" y="1434960"/>
                    <a:ext cx="2679120" cy="1343520"/>
                    <a:chOff x="4326480" y="1434960"/>
                    <a:chExt cx="2679120" cy="1343520"/>
                  </a:xfrm>
                </p:grpSpPr>
                <p:sp>
                  <p:nvSpPr>
                    <p:cNvPr id="133" name="AutoShape 67"/>
                    <p:cNvSpPr/>
                    <p:nvPr/>
                  </p:nvSpPr>
                  <p:spPr>
                    <a:xfrm flipH="1" rot="18900000">
                      <a:off x="4538880" y="1675440"/>
                      <a:ext cx="834480" cy="946440"/>
                    </a:xfrm>
                    <a:prstGeom prst="rightArrow">
                      <a:avLst>
                        <a:gd name="adj1" fmla="val 70389"/>
                        <a:gd name="adj2" fmla="val 63769"/>
                      </a:avLst>
                    </a:prstGeom>
                    <a:solidFill>
                      <a:srgbClr val="ffffff">
                        <a:alpha val="72000"/>
                      </a:srgbClr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圆角矩形 54"/>
                    <p:cNvSpPr/>
                    <p:nvPr/>
                  </p:nvSpPr>
                  <p:spPr>
                    <a:xfrm>
                      <a:off x="5245200" y="1434960"/>
                      <a:ext cx="1760400" cy="762120"/>
                    </a:xfrm>
                    <a:prstGeom prst="roundRect">
                      <a:avLst>
                        <a:gd name="adj" fmla="val 3278"/>
                      </a:avLst>
                    </a:prstGeom>
                    <a:solidFill>
                      <a:srgbClr val="ffffff">
                        <a:alpha val="72000"/>
                      </a:srgbClr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" name="组合 44"/>
                  <p:cNvGrpSpPr/>
                  <p:nvPr/>
                </p:nvGrpSpPr>
                <p:grpSpPr>
                  <a:xfrm>
                    <a:off x="4798080" y="1434960"/>
                    <a:ext cx="701640" cy="689760"/>
                    <a:chOff x="4798080" y="1434960"/>
                    <a:chExt cx="701640" cy="689760"/>
                  </a:xfrm>
                </p:grpSpPr>
                <p:sp>
                  <p:nvSpPr>
                    <p:cNvPr id="136" name="椭圆 51"/>
                    <p:cNvSpPr/>
                    <p:nvPr/>
                  </p:nvSpPr>
                  <p:spPr>
                    <a:xfrm>
                      <a:off x="4798080" y="1434960"/>
                      <a:ext cx="701640" cy="6897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333333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椭圆 117"/>
                    <p:cNvSpPr/>
                    <p:nvPr/>
                  </p:nvSpPr>
                  <p:spPr>
                    <a:xfrm>
                      <a:off x="4819320" y="1453680"/>
                      <a:ext cx="601560" cy="594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b0f0"/>
                        </a:gs>
                        <a:gs pos="100000">
                          <a:srgbClr val="004376"/>
                        </a:gs>
                      </a:gsLst>
                      <a:lin ang="8100000"/>
                    </a:gradFill>
                    <a:ln w="25560">
                      <a:solidFill>
                        <a:srgbClr val="ffffff"/>
                      </a:solidFill>
                      <a:miter/>
                    </a:ln>
                    <a:effectLst>
                      <a:outerShdw dist="38183" dir="2700000" blurRad="0" rotWithShape="0">
                        <a:srgbClr val="000000">
                          <a:alpha val="39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38" name="Rectangle 26"/>
                <p:cNvSpPr/>
                <p:nvPr/>
              </p:nvSpPr>
              <p:spPr>
                <a:xfrm>
                  <a:off x="4944960" y="161784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ffffff"/>
                      </a:solidFill>
                      <a:latin typeface="Calibri"/>
                      <a:ea typeface="微软雅黑"/>
                    </a:rPr>
                    <a:t>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Text Box 18"/>
              <p:cNvSpPr/>
              <p:nvPr/>
            </p:nvSpPr>
            <p:spPr>
              <a:xfrm>
                <a:off x="5546520" y="1625400"/>
                <a:ext cx="1444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组合 70"/>
            <p:cNvGrpSpPr/>
            <p:nvPr/>
          </p:nvGrpSpPr>
          <p:grpSpPr>
            <a:xfrm>
              <a:off x="5067360" y="2572200"/>
              <a:ext cx="2636640" cy="970920"/>
              <a:chOff x="5067360" y="2572200"/>
              <a:chExt cx="2636640" cy="970920"/>
            </a:xfrm>
          </p:grpSpPr>
          <p:grpSp>
            <p:nvGrpSpPr>
              <p:cNvPr id="141" name="组合 63"/>
              <p:cNvGrpSpPr/>
              <p:nvPr/>
            </p:nvGrpSpPr>
            <p:grpSpPr>
              <a:xfrm>
                <a:off x="5067360" y="2572200"/>
                <a:ext cx="2636640" cy="970920"/>
                <a:chOff x="5067360" y="2572200"/>
                <a:chExt cx="2636640" cy="970920"/>
              </a:xfrm>
            </p:grpSpPr>
            <p:grpSp>
              <p:nvGrpSpPr>
                <p:cNvPr id="142" name="组合 39"/>
                <p:cNvGrpSpPr/>
                <p:nvPr/>
              </p:nvGrpSpPr>
              <p:grpSpPr>
                <a:xfrm>
                  <a:off x="5067360" y="2572200"/>
                  <a:ext cx="2636640" cy="970920"/>
                  <a:chOff x="5067360" y="2572200"/>
                  <a:chExt cx="2636640" cy="970920"/>
                </a:xfrm>
              </p:grpSpPr>
              <p:grpSp>
                <p:nvGrpSpPr>
                  <p:cNvPr id="143" name="组合 60"/>
                  <p:cNvGrpSpPr/>
                  <p:nvPr/>
                </p:nvGrpSpPr>
                <p:grpSpPr>
                  <a:xfrm>
                    <a:off x="5067360" y="2572200"/>
                    <a:ext cx="2636640" cy="970920"/>
                    <a:chOff x="5067360" y="2572200"/>
                    <a:chExt cx="2636640" cy="970920"/>
                  </a:xfrm>
                </p:grpSpPr>
                <p:sp>
                  <p:nvSpPr>
                    <p:cNvPr id="144" name="AutoShape 49"/>
                    <p:cNvSpPr/>
                    <p:nvPr/>
                  </p:nvSpPr>
                  <p:spPr>
                    <a:xfrm flipH="1">
                      <a:off x="5067360" y="2572200"/>
                      <a:ext cx="768240" cy="970920"/>
                    </a:xfrm>
                    <a:prstGeom prst="rightArrow">
                      <a:avLst>
                        <a:gd name="adj1" fmla="val 70389"/>
                        <a:gd name="adj2" fmla="val 68255"/>
                      </a:avLst>
                    </a:prstGeom>
                    <a:solidFill>
                      <a:srgbClr val="ffffff">
                        <a:alpha val="72000"/>
                      </a:srgbClr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圆角矩形 47"/>
                    <p:cNvSpPr/>
                    <p:nvPr/>
                  </p:nvSpPr>
                  <p:spPr>
                    <a:xfrm>
                      <a:off x="5867280" y="2712240"/>
                      <a:ext cx="1836720" cy="690480"/>
                    </a:xfrm>
                    <a:prstGeom prst="roundRect">
                      <a:avLst>
                        <a:gd name="adj" fmla="val 3278"/>
                      </a:avLst>
                    </a:prstGeom>
                    <a:solidFill>
                      <a:srgbClr val="ffffff">
                        <a:alpha val="72000"/>
                      </a:srgbClr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" name="组合 41"/>
                  <p:cNvGrpSpPr/>
                  <p:nvPr/>
                </p:nvGrpSpPr>
                <p:grpSpPr>
                  <a:xfrm>
                    <a:off x="5506560" y="2712960"/>
                    <a:ext cx="702000" cy="689040"/>
                    <a:chOff x="5506560" y="2712960"/>
                    <a:chExt cx="702000" cy="689040"/>
                  </a:xfrm>
                </p:grpSpPr>
                <p:sp>
                  <p:nvSpPr>
                    <p:cNvPr id="147" name="椭圆 42"/>
                    <p:cNvSpPr/>
                    <p:nvPr/>
                  </p:nvSpPr>
                  <p:spPr>
                    <a:xfrm>
                      <a:off x="5506560" y="2712960"/>
                      <a:ext cx="702000" cy="6890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333333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椭圆 117"/>
                    <p:cNvSpPr/>
                    <p:nvPr/>
                  </p:nvSpPr>
                  <p:spPr>
                    <a:xfrm>
                      <a:off x="5528880" y="2731680"/>
                      <a:ext cx="600120" cy="5922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b0f0"/>
                        </a:gs>
                        <a:gs pos="100000">
                          <a:srgbClr val="004376"/>
                        </a:gs>
                      </a:gsLst>
                      <a:lin ang="8100000"/>
                    </a:gradFill>
                    <a:ln w="25560">
                      <a:solidFill>
                        <a:srgbClr val="ffffff"/>
                      </a:solidFill>
                      <a:miter/>
                    </a:ln>
                    <a:effectLst>
                      <a:outerShdw dist="38183" dir="2700000" blurRad="0" rotWithShape="0">
                        <a:srgbClr val="000000">
                          <a:alpha val="39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49" name="Rectangle 26"/>
                <p:cNvSpPr/>
                <p:nvPr/>
              </p:nvSpPr>
              <p:spPr>
                <a:xfrm>
                  <a:off x="5643000" y="288540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ffffff"/>
                      </a:solidFill>
                      <a:latin typeface="Calibri"/>
                      <a:ea typeface="微软雅黑"/>
                    </a:rPr>
                    <a:t>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18"/>
              <p:cNvSpPr/>
              <p:nvPr/>
            </p:nvSpPr>
            <p:spPr>
              <a:xfrm>
                <a:off x="6216840" y="2903400"/>
                <a:ext cx="1444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组合 66"/>
            <p:cNvGrpSpPr/>
            <p:nvPr/>
          </p:nvGrpSpPr>
          <p:grpSpPr>
            <a:xfrm>
              <a:off x="820800" y="2572200"/>
              <a:ext cx="2647800" cy="970920"/>
              <a:chOff x="820800" y="2572200"/>
              <a:chExt cx="2647800" cy="970920"/>
            </a:xfrm>
          </p:grpSpPr>
          <p:grpSp>
            <p:nvGrpSpPr>
              <p:cNvPr id="152" name="组合 15"/>
              <p:cNvGrpSpPr/>
              <p:nvPr/>
            </p:nvGrpSpPr>
            <p:grpSpPr>
              <a:xfrm>
                <a:off x="820800" y="2572200"/>
                <a:ext cx="2647800" cy="970920"/>
                <a:chOff x="820800" y="2572200"/>
                <a:chExt cx="2647800" cy="970920"/>
              </a:xfrm>
            </p:grpSpPr>
            <p:grpSp>
              <p:nvGrpSpPr>
                <p:cNvPr id="153" name="组合 57"/>
                <p:cNvGrpSpPr/>
                <p:nvPr/>
              </p:nvGrpSpPr>
              <p:grpSpPr>
                <a:xfrm>
                  <a:off x="820800" y="2572200"/>
                  <a:ext cx="2647800" cy="970920"/>
                  <a:chOff x="820800" y="2572200"/>
                  <a:chExt cx="2647800" cy="970920"/>
                </a:xfrm>
              </p:grpSpPr>
              <p:sp>
                <p:nvSpPr>
                  <p:cNvPr id="154" name="AutoShape 71"/>
                  <p:cNvSpPr/>
                  <p:nvPr/>
                </p:nvSpPr>
                <p:spPr>
                  <a:xfrm>
                    <a:off x="2700360" y="2572200"/>
                    <a:ext cx="768240" cy="970920"/>
                  </a:xfrm>
                  <a:prstGeom prst="rightArrow">
                    <a:avLst>
                      <a:gd name="adj1" fmla="val 70389"/>
                      <a:gd name="adj2" fmla="val 62116"/>
                    </a:avLst>
                  </a:prstGeom>
                  <a:solidFill>
                    <a:srgbClr val="ffffff">
                      <a:alpha val="72000"/>
                    </a:srgbClr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圆角矩形 21"/>
                  <p:cNvSpPr/>
                  <p:nvPr/>
                </p:nvSpPr>
                <p:spPr>
                  <a:xfrm>
                    <a:off x="820800" y="2712240"/>
                    <a:ext cx="1836720" cy="69048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ffffff">
                      <a:alpha val="72000"/>
                    </a:srgbClr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组合 24"/>
                <p:cNvGrpSpPr/>
                <p:nvPr/>
              </p:nvGrpSpPr>
              <p:grpSpPr>
                <a:xfrm>
                  <a:off x="2328120" y="2712960"/>
                  <a:ext cx="702000" cy="689040"/>
                  <a:chOff x="2328120" y="2712960"/>
                  <a:chExt cx="702000" cy="689040"/>
                </a:xfrm>
              </p:grpSpPr>
              <p:sp>
                <p:nvSpPr>
                  <p:cNvPr id="157" name="椭圆 18"/>
                  <p:cNvSpPr/>
                  <p:nvPr/>
                </p:nvSpPr>
                <p:spPr>
                  <a:xfrm>
                    <a:off x="2328120" y="2712960"/>
                    <a:ext cx="702000" cy="689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808080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椭圆 117"/>
                  <p:cNvSpPr/>
                  <p:nvPr/>
                </p:nvSpPr>
                <p:spPr>
                  <a:xfrm>
                    <a:off x="2350800" y="2731680"/>
                    <a:ext cx="600120" cy="592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b0f0"/>
                      </a:gs>
                      <a:gs pos="100000">
                        <a:srgbClr val="004376"/>
                      </a:gs>
                    </a:gsLst>
                    <a:lin ang="8100000"/>
                  </a:gradFill>
                  <a:ln w="25560">
                    <a:solidFill>
                      <a:srgbClr val="ffffff"/>
                    </a:solidFill>
                    <a:miter/>
                  </a:ln>
                  <a:effectLst>
                    <a:outerShdw dist="38183" dir="2700000" blurRad="0" rotWithShape="0">
                      <a:srgbClr val="000000">
                        <a:alpha val="39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9" name="Text Box 18"/>
              <p:cNvSpPr/>
              <p:nvPr/>
            </p:nvSpPr>
            <p:spPr>
              <a:xfrm>
                <a:off x="933480" y="2903400"/>
                <a:ext cx="1458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26"/>
              <p:cNvSpPr/>
              <p:nvPr/>
            </p:nvSpPr>
            <p:spPr>
              <a:xfrm>
                <a:off x="2464560" y="288540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组合 65"/>
            <p:cNvGrpSpPr/>
            <p:nvPr/>
          </p:nvGrpSpPr>
          <p:grpSpPr>
            <a:xfrm>
              <a:off x="1508040" y="3326760"/>
              <a:ext cx="2699280" cy="1332720"/>
              <a:chOff x="1508040" y="3326760"/>
              <a:chExt cx="2699280" cy="1332720"/>
            </a:xfrm>
          </p:grpSpPr>
          <p:grpSp>
            <p:nvGrpSpPr>
              <p:cNvPr id="162" name="组合 22"/>
              <p:cNvGrpSpPr/>
              <p:nvPr/>
            </p:nvGrpSpPr>
            <p:grpSpPr>
              <a:xfrm>
                <a:off x="1508040" y="3326760"/>
                <a:ext cx="2699280" cy="1332720"/>
                <a:chOff x="1508040" y="3326760"/>
                <a:chExt cx="2699280" cy="1332720"/>
              </a:xfrm>
            </p:grpSpPr>
            <p:grpSp>
              <p:nvGrpSpPr>
                <p:cNvPr id="163" name="组合 78"/>
                <p:cNvGrpSpPr/>
                <p:nvPr/>
              </p:nvGrpSpPr>
              <p:grpSpPr>
                <a:xfrm>
                  <a:off x="1508040" y="3326760"/>
                  <a:ext cx="2699280" cy="1332720"/>
                  <a:chOff x="1508040" y="3326760"/>
                  <a:chExt cx="2699280" cy="1332720"/>
                </a:xfrm>
              </p:grpSpPr>
              <p:sp>
                <p:nvSpPr>
                  <p:cNvPr id="164" name="AutoShape 75"/>
                  <p:cNvSpPr/>
                  <p:nvPr/>
                </p:nvSpPr>
                <p:spPr>
                  <a:xfrm rot="18900000">
                    <a:off x="3092400" y="3541680"/>
                    <a:ext cx="957240" cy="842040"/>
                  </a:xfrm>
                  <a:prstGeom prst="rightArrow">
                    <a:avLst>
                      <a:gd name="adj1" fmla="val 70389"/>
                      <a:gd name="adj2" fmla="val 74682"/>
                    </a:avLst>
                  </a:prstGeom>
                  <a:solidFill>
                    <a:srgbClr val="ffffff">
                      <a:alpha val="72000"/>
                    </a:srgbClr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圆角矩形 31"/>
                  <p:cNvSpPr/>
                  <p:nvPr/>
                </p:nvSpPr>
                <p:spPr>
                  <a:xfrm>
                    <a:off x="1508040" y="3891600"/>
                    <a:ext cx="1756440" cy="76788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ffffff">
                      <a:alpha val="72000"/>
                    </a:srgbClr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组合 35"/>
                <p:cNvGrpSpPr/>
                <p:nvPr/>
              </p:nvGrpSpPr>
              <p:grpSpPr>
                <a:xfrm>
                  <a:off x="3015360" y="3969720"/>
                  <a:ext cx="702000" cy="689760"/>
                  <a:chOff x="3015360" y="3969720"/>
                  <a:chExt cx="702000" cy="689760"/>
                </a:xfrm>
              </p:grpSpPr>
              <p:sp>
                <p:nvSpPr>
                  <p:cNvPr id="167" name="椭圆 26"/>
                  <p:cNvSpPr/>
                  <p:nvPr/>
                </p:nvSpPr>
                <p:spPr>
                  <a:xfrm>
                    <a:off x="3015360" y="3969720"/>
                    <a:ext cx="702000" cy="689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808080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椭圆 117"/>
                  <p:cNvSpPr/>
                  <p:nvPr/>
                </p:nvSpPr>
                <p:spPr>
                  <a:xfrm>
                    <a:off x="3036960" y="3990960"/>
                    <a:ext cx="601920" cy="589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b0f0"/>
                      </a:gs>
                      <a:gs pos="100000">
                        <a:srgbClr val="004376"/>
                      </a:gs>
                    </a:gsLst>
                    <a:lin ang="8100000"/>
                  </a:gradFill>
                  <a:ln w="25560">
                    <a:solidFill>
                      <a:srgbClr val="ffffff"/>
                    </a:solidFill>
                    <a:miter/>
                  </a:ln>
                  <a:effectLst>
                    <a:outerShdw dist="38183" dir="2700000" blurRad="0" rotWithShape="0">
                      <a:srgbClr val="000000">
                        <a:alpha val="39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9" name="Text Box 18"/>
              <p:cNvSpPr/>
              <p:nvPr/>
            </p:nvSpPr>
            <p:spPr>
              <a:xfrm>
                <a:off x="1539720" y="4160160"/>
                <a:ext cx="1451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26"/>
              <p:cNvSpPr/>
              <p:nvPr/>
            </p:nvSpPr>
            <p:spPr>
              <a:xfrm>
                <a:off x="3151440" y="414216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组合 71"/>
            <p:cNvGrpSpPr/>
            <p:nvPr/>
          </p:nvGrpSpPr>
          <p:grpSpPr>
            <a:xfrm>
              <a:off x="4249080" y="3415680"/>
              <a:ext cx="2756160" cy="1243800"/>
              <a:chOff x="4249080" y="3415680"/>
              <a:chExt cx="2756160" cy="1243800"/>
            </a:xfrm>
          </p:grpSpPr>
          <p:grpSp>
            <p:nvGrpSpPr>
              <p:cNvPr id="172" name="组合 64"/>
              <p:cNvGrpSpPr/>
              <p:nvPr/>
            </p:nvGrpSpPr>
            <p:grpSpPr>
              <a:xfrm>
                <a:off x="4249080" y="3415680"/>
                <a:ext cx="2756160" cy="1243800"/>
                <a:chOff x="4249080" y="3415680"/>
                <a:chExt cx="2756160" cy="1243800"/>
              </a:xfrm>
            </p:grpSpPr>
            <p:grpSp>
              <p:nvGrpSpPr>
                <p:cNvPr id="173" name="组合 32"/>
                <p:cNvGrpSpPr/>
                <p:nvPr/>
              </p:nvGrpSpPr>
              <p:grpSpPr>
                <a:xfrm>
                  <a:off x="4249080" y="3415680"/>
                  <a:ext cx="2756160" cy="1243800"/>
                  <a:chOff x="4249080" y="3415680"/>
                  <a:chExt cx="2756160" cy="1243800"/>
                </a:xfrm>
              </p:grpSpPr>
              <p:grpSp>
                <p:nvGrpSpPr>
                  <p:cNvPr id="174" name="组合 72"/>
                  <p:cNvGrpSpPr/>
                  <p:nvPr/>
                </p:nvGrpSpPr>
                <p:grpSpPr>
                  <a:xfrm>
                    <a:off x="4249080" y="3415680"/>
                    <a:ext cx="2756160" cy="1243800"/>
                    <a:chOff x="4249080" y="3415680"/>
                    <a:chExt cx="2756160" cy="1243800"/>
                  </a:xfrm>
                </p:grpSpPr>
                <p:sp>
                  <p:nvSpPr>
                    <p:cNvPr id="175" name="AutoShape 69"/>
                    <p:cNvSpPr/>
                    <p:nvPr/>
                  </p:nvSpPr>
                  <p:spPr>
                    <a:xfrm flipH="1" rot="2700000">
                      <a:off x="4371120" y="3654360"/>
                      <a:ext cx="988560" cy="756000"/>
                    </a:xfrm>
                    <a:prstGeom prst="rightArrow">
                      <a:avLst>
                        <a:gd name="adj1" fmla="val 70389"/>
                        <a:gd name="adj2" fmla="val 84450"/>
                      </a:avLst>
                    </a:prstGeom>
                    <a:solidFill>
                      <a:srgbClr val="ffffff">
                        <a:alpha val="72000"/>
                      </a:srgbClr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圆角矩形 38"/>
                    <p:cNvSpPr/>
                    <p:nvPr/>
                  </p:nvSpPr>
                  <p:spPr>
                    <a:xfrm>
                      <a:off x="5169240" y="3968640"/>
                      <a:ext cx="1836000" cy="690840"/>
                    </a:xfrm>
                    <a:prstGeom prst="roundRect">
                      <a:avLst>
                        <a:gd name="adj" fmla="val 3278"/>
                      </a:avLst>
                    </a:prstGeom>
                    <a:solidFill>
                      <a:srgbClr val="ffffff">
                        <a:alpha val="72000"/>
                      </a:srgbClr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7" name="组合 38"/>
                  <p:cNvGrpSpPr/>
                  <p:nvPr/>
                </p:nvGrpSpPr>
                <p:grpSpPr>
                  <a:xfrm>
                    <a:off x="4797000" y="3969360"/>
                    <a:ext cx="702000" cy="690120"/>
                    <a:chOff x="4797000" y="3969360"/>
                    <a:chExt cx="702000" cy="690120"/>
                  </a:xfrm>
                </p:grpSpPr>
                <p:sp>
                  <p:nvSpPr>
                    <p:cNvPr id="178" name="椭圆 35"/>
                    <p:cNvSpPr/>
                    <p:nvPr/>
                  </p:nvSpPr>
                  <p:spPr>
                    <a:xfrm>
                      <a:off x="4797000" y="3969360"/>
                      <a:ext cx="702000" cy="6901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333333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椭圆 117"/>
                    <p:cNvSpPr/>
                    <p:nvPr/>
                  </p:nvSpPr>
                  <p:spPr>
                    <a:xfrm>
                      <a:off x="4819320" y="3987360"/>
                      <a:ext cx="600120" cy="5925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b0f0"/>
                        </a:gs>
                        <a:gs pos="100000">
                          <a:srgbClr val="004376"/>
                        </a:gs>
                      </a:gsLst>
                      <a:lin ang="8100000"/>
                    </a:gradFill>
                    <a:ln w="25560">
                      <a:solidFill>
                        <a:srgbClr val="ffffff"/>
                      </a:solidFill>
                      <a:miter/>
                    </a:ln>
                    <a:effectLst>
                      <a:outerShdw dist="38183" dir="2700000" blurRad="0" rotWithShape="0">
                        <a:srgbClr val="000000">
                          <a:alpha val="39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80" name="Rectangle 26"/>
                <p:cNvSpPr/>
                <p:nvPr/>
              </p:nvSpPr>
              <p:spPr>
                <a:xfrm>
                  <a:off x="4933080" y="414216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ffffff"/>
                      </a:solidFill>
                      <a:latin typeface="Calibri"/>
                      <a:ea typeface="微软雅黑"/>
                    </a:rPr>
                    <a:t>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Text Box 18"/>
              <p:cNvSpPr/>
              <p:nvPr/>
            </p:nvSpPr>
            <p:spPr>
              <a:xfrm>
                <a:off x="5449320" y="4160160"/>
                <a:ext cx="1513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2" name="Text Box 26"/>
          <p:cNvSpPr/>
          <p:nvPr/>
        </p:nvSpPr>
        <p:spPr>
          <a:xfrm>
            <a:off x="8429760" y="142920"/>
            <a:ext cx="48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组合 37"/>
          <p:cNvGrpSpPr/>
          <p:nvPr/>
        </p:nvGrpSpPr>
        <p:grpSpPr>
          <a:xfrm>
            <a:off x="797040" y="1235160"/>
            <a:ext cx="7000920" cy="3781440"/>
            <a:chOff x="797040" y="1235160"/>
            <a:chExt cx="7000920" cy="3781440"/>
          </a:xfrm>
        </p:grpSpPr>
        <p:grpSp>
          <p:nvGrpSpPr>
            <p:cNvPr id="184" name="组合 35"/>
            <p:cNvGrpSpPr/>
            <p:nvPr/>
          </p:nvGrpSpPr>
          <p:grpSpPr>
            <a:xfrm>
              <a:off x="797040" y="1492920"/>
              <a:ext cx="7000920" cy="3523680"/>
              <a:chOff x="797040" y="1492920"/>
              <a:chExt cx="7000920" cy="3523680"/>
            </a:xfrm>
          </p:grpSpPr>
          <p:sp>
            <p:nvSpPr>
              <p:cNvPr id="185" name="AutoShape 5"/>
              <p:cNvSpPr/>
              <p:nvPr/>
            </p:nvSpPr>
            <p:spPr>
              <a:xfrm>
                <a:off x="797040" y="1492920"/>
                <a:ext cx="7000920" cy="3523680"/>
              </a:xfrm>
              <a:prstGeom prst="roundRect">
                <a:avLst>
                  <a:gd name="adj" fmla="val 3231"/>
                </a:avLst>
              </a:prstGeom>
              <a:noFill/>
              <a:ln w="255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9"/>
              <p:cNvSpPr/>
              <p:nvPr/>
            </p:nvSpPr>
            <p:spPr>
              <a:xfrm>
                <a:off x="911880" y="1598400"/>
                <a:ext cx="6770880" cy="3312000"/>
              </a:xfrm>
              <a:prstGeom prst="roundRect">
                <a:avLst>
                  <a:gd name="adj" fmla="val 3486"/>
                </a:avLst>
              </a:prstGeom>
              <a:solidFill>
                <a:srgbClr val="ffffff">
                  <a:alpha val="72000"/>
                </a:srgbClr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组合 34"/>
            <p:cNvGrpSpPr/>
            <p:nvPr/>
          </p:nvGrpSpPr>
          <p:grpSpPr>
            <a:xfrm>
              <a:off x="1437480" y="1235160"/>
              <a:ext cx="5765400" cy="508680"/>
              <a:chOff x="1437480" y="1235160"/>
              <a:chExt cx="5765400" cy="508680"/>
            </a:xfrm>
          </p:grpSpPr>
          <p:grpSp>
            <p:nvGrpSpPr>
              <p:cNvPr id="188" name="组合 53"/>
              <p:cNvGrpSpPr/>
              <p:nvPr/>
            </p:nvGrpSpPr>
            <p:grpSpPr>
              <a:xfrm>
                <a:off x="1437480" y="1235160"/>
                <a:ext cx="5765400" cy="508680"/>
                <a:chOff x="1437480" y="1235160"/>
                <a:chExt cx="5765400" cy="508680"/>
              </a:xfrm>
            </p:grpSpPr>
            <p:sp>
              <p:nvSpPr>
                <p:cNvPr id="189" name="AutoShape 3"/>
                <p:cNvSpPr/>
                <p:nvPr/>
              </p:nvSpPr>
              <p:spPr>
                <a:xfrm>
                  <a:off x="1437840" y="1235160"/>
                  <a:ext cx="5765040" cy="50868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AutoShape 3"/>
                <p:cNvSpPr/>
                <p:nvPr/>
              </p:nvSpPr>
              <p:spPr>
                <a:xfrm>
                  <a:off x="1437480" y="1312920"/>
                  <a:ext cx="5763600" cy="35424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00b0f0"/>
                    </a:gs>
                    <a:gs pos="100000">
                      <a:srgbClr val="004376"/>
                    </a:gs>
                  </a:gsLst>
                  <a:lin ang="8100000"/>
                </a:gradFill>
                <a:ln w="25560">
                  <a:solidFill>
                    <a:srgbClr val="ffffff"/>
                  </a:solidFill>
                  <a:miter/>
                </a:ln>
                <a:effectLst>
                  <a:outerShdw dist="38183" dir="2700000" blurRad="0" rotWithShape="0">
                    <a:srgbClr val="000000">
                      <a:alpha val="39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Rectangle 13"/>
              <p:cNvSpPr/>
              <p:nvPr/>
            </p:nvSpPr>
            <p:spPr>
              <a:xfrm>
                <a:off x="3815640" y="130968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组合 36"/>
            <p:cNvGrpSpPr/>
            <p:nvPr/>
          </p:nvGrpSpPr>
          <p:grpSpPr>
            <a:xfrm>
              <a:off x="1200240" y="2079360"/>
              <a:ext cx="6119280" cy="2663640"/>
              <a:chOff x="1200240" y="2079360"/>
              <a:chExt cx="6119280" cy="2663640"/>
            </a:xfrm>
          </p:grpSpPr>
          <p:sp>
            <p:nvSpPr>
              <p:cNvPr id="193" name="Line 11"/>
              <p:cNvSpPr/>
              <p:nvPr/>
            </p:nvSpPr>
            <p:spPr>
              <a:xfrm>
                <a:off x="2719800" y="2474640"/>
                <a:ext cx="1080" cy="191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12"/>
              <p:cNvSpPr/>
              <p:nvPr/>
            </p:nvSpPr>
            <p:spPr>
              <a:xfrm>
                <a:off x="4289040" y="2474640"/>
                <a:ext cx="1080" cy="191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13"/>
              <p:cNvSpPr/>
              <p:nvPr/>
            </p:nvSpPr>
            <p:spPr>
              <a:xfrm>
                <a:off x="5848200" y="2474640"/>
                <a:ext cx="2520" cy="191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56"/>
              <p:cNvSpPr/>
              <p:nvPr/>
            </p:nvSpPr>
            <p:spPr>
              <a:xfrm>
                <a:off x="1648440" y="44359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 Box 57"/>
              <p:cNvSpPr/>
              <p:nvPr/>
            </p:nvSpPr>
            <p:spPr>
              <a:xfrm>
                <a:off x="3216600" y="44359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4787280" y="44359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59"/>
              <p:cNvSpPr/>
              <p:nvPr/>
            </p:nvSpPr>
            <p:spPr>
              <a:xfrm>
                <a:off x="6364800" y="44359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AutoShape 25"/>
              <p:cNvSpPr/>
              <p:nvPr/>
            </p:nvSpPr>
            <p:spPr>
              <a:xfrm>
                <a:off x="1485720" y="4275360"/>
                <a:ext cx="452160" cy="1206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12600">
                <a:solidFill>
                  <a:srgbClr val="a6a6a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AutoShape 26"/>
              <p:cNvSpPr/>
              <p:nvPr/>
            </p:nvSpPr>
            <p:spPr>
              <a:xfrm>
                <a:off x="3048120" y="3999240"/>
                <a:ext cx="450720" cy="39672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12600">
                <a:solidFill>
                  <a:srgbClr val="a6a6a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AutoShape 27"/>
              <p:cNvSpPr/>
              <p:nvPr/>
            </p:nvSpPr>
            <p:spPr>
              <a:xfrm>
                <a:off x="4618080" y="3608640"/>
                <a:ext cx="452160" cy="78732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12600">
                <a:solidFill>
                  <a:srgbClr val="a6a6a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AutoShape 28"/>
              <p:cNvSpPr/>
              <p:nvPr/>
            </p:nvSpPr>
            <p:spPr>
              <a:xfrm>
                <a:off x="6179040" y="3490920"/>
                <a:ext cx="450720" cy="90504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12600">
                <a:solidFill>
                  <a:srgbClr val="a6a6a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AutoShape 29"/>
              <p:cNvSpPr/>
              <p:nvPr/>
            </p:nvSpPr>
            <p:spPr>
              <a:xfrm>
                <a:off x="1938600" y="3413160"/>
                <a:ext cx="439920" cy="983160"/>
              </a:xfrm>
              <a:prstGeom prst="rect">
                <a:avLst/>
              </a:prstGeom>
              <a:solidFill>
                <a:srgbClr val="0070c0">
                  <a:alpha val="50000"/>
                </a:srgbClr>
              </a:solidFill>
              <a:ln w="1260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AutoShape 30"/>
              <p:cNvSpPr/>
              <p:nvPr/>
            </p:nvSpPr>
            <p:spPr>
              <a:xfrm>
                <a:off x="3498120" y="3568320"/>
                <a:ext cx="452880" cy="828000"/>
              </a:xfrm>
              <a:prstGeom prst="rect">
                <a:avLst/>
              </a:prstGeom>
              <a:solidFill>
                <a:srgbClr val="0070c0">
                  <a:alpha val="50000"/>
                </a:srgbClr>
              </a:solidFill>
              <a:ln w="1260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AutoShape 31"/>
              <p:cNvSpPr/>
              <p:nvPr/>
            </p:nvSpPr>
            <p:spPr>
              <a:xfrm>
                <a:off x="5070240" y="3092400"/>
                <a:ext cx="439920" cy="1303920"/>
              </a:xfrm>
              <a:prstGeom prst="rect">
                <a:avLst/>
              </a:prstGeom>
              <a:solidFill>
                <a:srgbClr val="0070c0">
                  <a:alpha val="50000"/>
                </a:srgbClr>
              </a:solidFill>
              <a:ln w="1260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AutoShape 32"/>
              <p:cNvSpPr/>
              <p:nvPr/>
            </p:nvSpPr>
            <p:spPr>
              <a:xfrm>
                <a:off x="6629400" y="3329640"/>
                <a:ext cx="442800" cy="1066680"/>
              </a:xfrm>
              <a:prstGeom prst="rect">
                <a:avLst/>
              </a:prstGeom>
              <a:solidFill>
                <a:srgbClr val="0070c0">
                  <a:alpha val="50000"/>
                </a:srgbClr>
              </a:solidFill>
              <a:ln w="1260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6"/>
              <p:cNvSpPr/>
              <p:nvPr/>
            </p:nvSpPr>
            <p:spPr>
              <a:xfrm>
                <a:off x="1967760" y="31510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Text Box 56"/>
              <p:cNvSpPr/>
              <p:nvPr/>
            </p:nvSpPr>
            <p:spPr>
              <a:xfrm>
                <a:off x="1524960" y="401652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 Box 56"/>
              <p:cNvSpPr/>
              <p:nvPr/>
            </p:nvSpPr>
            <p:spPr>
              <a:xfrm>
                <a:off x="3343320" y="3292560"/>
                <a:ext cx="75564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56"/>
              <p:cNvSpPr/>
              <p:nvPr/>
            </p:nvSpPr>
            <p:spPr>
              <a:xfrm>
                <a:off x="3082320" y="37306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Text Box 56"/>
              <p:cNvSpPr/>
              <p:nvPr/>
            </p:nvSpPr>
            <p:spPr>
              <a:xfrm>
                <a:off x="4962600" y="2793960"/>
                <a:ext cx="6840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56"/>
              <p:cNvSpPr/>
              <p:nvPr/>
            </p:nvSpPr>
            <p:spPr>
              <a:xfrm>
                <a:off x="4638240" y="334332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56"/>
              <p:cNvSpPr/>
              <p:nvPr/>
            </p:nvSpPr>
            <p:spPr>
              <a:xfrm>
                <a:off x="6601320" y="3079800"/>
                <a:ext cx="5904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Text Box 56"/>
              <p:cNvSpPr/>
              <p:nvPr/>
            </p:nvSpPr>
            <p:spPr>
              <a:xfrm>
                <a:off x="6206760" y="322596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8"/>
              <p:cNvSpPr/>
              <p:nvPr/>
            </p:nvSpPr>
            <p:spPr>
              <a:xfrm>
                <a:off x="1208520" y="2079360"/>
                <a:ext cx="0" cy="231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8"/>
              <p:cNvSpPr/>
              <p:nvPr/>
            </p:nvSpPr>
            <p:spPr>
              <a:xfrm>
                <a:off x="1200240" y="4391640"/>
                <a:ext cx="6119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8" name="Text Box 26"/>
          <p:cNvSpPr/>
          <p:nvPr/>
        </p:nvSpPr>
        <p:spPr>
          <a:xfrm>
            <a:off x="8429760" y="142920"/>
            <a:ext cx="48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1"/>
          <p:cNvSpPr/>
          <p:nvPr/>
        </p:nvSpPr>
        <p:spPr>
          <a:xfrm>
            <a:off x="1913040" y="4411800"/>
            <a:ext cx="528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海锐普广告有限公司是中国第一家精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机构。拥有国内顶尖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技术、顶级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坚持精益求精、拒绝平庸的做事精神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6"/>
          <p:cNvSpPr/>
          <p:nvPr/>
        </p:nvSpPr>
        <p:spPr>
          <a:xfrm>
            <a:off x="8429760" y="142920"/>
            <a:ext cx="48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9" descr=""/>
          <p:cNvPicPr/>
          <p:nvPr/>
        </p:nvPicPr>
        <p:blipFill>
          <a:blip r:embed="rId1"/>
          <a:stretch/>
        </p:blipFill>
        <p:spPr>
          <a:xfrm>
            <a:off x="1731960" y="835200"/>
            <a:ext cx="5668920" cy="3749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图片 5" descr="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223" name="TextBox 6" descr=""/>
          <p:cNvPicPr/>
          <p:nvPr/>
        </p:nvPicPr>
        <p:blipFill>
          <a:blip r:embed="rId2"/>
          <a:stretch/>
        </p:blipFill>
        <p:spPr>
          <a:xfrm>
            <a:off x="6199200" y="4632480"/>
            <a:ext cx="2816280" cy="7682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C:\Documents and Settings\Administrator\桌面\新建文件夹 (2)\LOGO白副本.png"/>
          <p:cNvPicPr/>
          <p:nvPr/>
        </p:nvPicPr>
        <p:blipFill>
          <a:blip r:embed="rId3"/>
          <a:stretch/>
        </p:blipFill>
        <p:spPr>
          <a:xfrm>
            <a:off x="8005680" y="181080"/>
            <a:ext cx="924120" cy="428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07:16:09Z</dcterms:created>
  <dc:creator>rapid</dc:creator>
  <dc:description/>
  <dc:language>en-US</dc:language>
  <cp:lastModifiedBy>Administrator</cp:lastModifiedBy>
  <dcterms:modified xsi:type="dcterms:W3CDTF">2015-08-16T01:28:11Z</dcterms:modified>
  <cp:revision>2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55</vt:lpwstr>
  </property>
</Properties>
</file>