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64DB-23A8-4DCF-9CD9-6D8A98D80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BE02-3902-49DC-8DD9-35694D471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B93D-5128-48E3-9196-0C189A6AC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C5FE-E76D-4C43-965F-4267C119C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9168-6C1C-44B6-A50C-AFBE32C19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EA08-0661-4789-8DCB-85942E307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FDDF-FABC-449E-AE3E-BC5990527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14EC-0237-4099-81B1-69D546E73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743D-203F-4226-8486-F12C8D96C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D74A-CFF4-4F45-A96C-9CE6881C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DA91-ADDE-49BD-86BD-E33508F0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6245-A025-41AA-970C-CB2E9DD0B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BE538-C784-44B6-9D79-E48E9BDAC95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643120" y="1928880"/>
            <a:ext cx="528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2928960" y="275904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抽象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4-12-26T07:51:47Z</dcterms:modified>
  <cp:revision>75</cp:revision>
  <dc:subject/>
  <dc:title>幻灯片 1</dc:title>
</cp:coreProperties>
</file>