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7530-8DDF-4AC6-B106-EB4F0EA37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68AC-024C-417C-975F-FF0A91E3D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B636-6F4E-47F7-B151-201A11E104A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317520" y="-12600"/>
            <a:ext cx="6224400" cy="46702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247680" y="4882680"/>
            <a:ext cx="6432480" cy="37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777AE-9498-47ED-BE6B-A88D50822A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292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2CBE2-B77E-4098-996F-122184F6D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D3AA-7563-4B48-B6AD-C67DFCE86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292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3903F-3D39-447D-9AA2-62171A0AE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4292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292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4292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4292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42920" y="19692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292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292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F1956-B4C7-4E2E-B121-F3F9336EFF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4292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4292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4292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292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292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3E09F-4398-49DC-A60C-7776900DC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292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BA585-402B-4A44-BF81-78074ED44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D579A-CB3D-410A-B9F1-4E601721A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2920" y="19692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21386-C25B-4BF6-A5FB-429C1A23C5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292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55BD7-B77F-483C-8776-CF77CE02F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292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20FCE-C197-4DFD-893D-1D0AA2DEFE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292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1F2EF-B7EF-419F-9FA7-0887AFDDB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5" descr="4"/>
          <p:cNvPicPr/>
          <p:nvPr/>
        </p:nvPicPr>
        <p:blipFill>
          <a:blip r:embed="rId2"/>
          <a:srcRect l="0" t="0" r="0" b="6641"/>
          <a:stretch/>
        </p:blipFill>
        <p:spPr>
          <a:xfrm>
            <a:off x="0" y="0"/>
            <a:ext cx="9144000" cy="89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5acd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937244F-B2F6-408B-BBD4-4D7082711521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468360" y="3207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37"/>
          <p:cNvSpPr/>
          <p:nvPr/>
        </p:nvSpPr>
        <p:spPr>
          <a:xfrm>
            <a:off x="0" y="901800"/>
            <a:ext cx="9144000" cy="0"/>
          </a:xfrm>
          <a:prstGeom prst="line">
            <a:avLst/>
          </a:prstGeom>
          <a:ln w="316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284292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3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7286760" y="3207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2" descr="2"/>
          <p:cNvPicPr/>
          <p:nvPr/>
        </p:nvPicPr>
        <p:blipFill>
          <a:blip r:embed="rId3"/>
          <a:stretch/>
        </p:blipFill>
        <p:spPr>
          <a:xfrm>
            <a:off x="-36360" y="3495600"/>
            <a:ext cx="9180360" cy="3362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4" descr="3"/>
          <p:cNvPicPr/>
          <p:nvPr/>
        </p:nvPicPr>
        <p:blipFill>
          <a:blip r:embed="rId4"/>
          <a:stretch/>
        </p:blipFill>
        <p:spPr>
          <a:xfrm>
            <a:off x="0" y="0"/>
            <a:ext cx="7485120" cy="4957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5acd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284292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76360" y="4094280"/>
            <a:ext cx="53989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274920" y="517320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6058080"/>
            <a:ext cx="23385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4F6AE0E2-B003-4A28-8CEF-9956781A0117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4292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00CA3836-8552-445C-947A-2D1578CABC16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2"/>
          <p:cNvPicPr/>
          <p:nvPr/>
        </p:nvPicPr>
        <p:blipFill>
          <a:blip r:embed="rId2"/>
          <a:stretch/>
        </p:blipFill>
        <p:spPr>
          <a:xfrm>
            <a:off x="-36360" y="3495600"/>
            <a:ext cx="9180360" cy="3362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3"/>
          <p:cNvPicPr/>
          <p:nvPr/>
        </p:nvPicPr>
        <p:blipFill>
          <a:blip r:embed="rId3"/>
          <a:stretch/>
        </p:blipFill>
        <p:spPr>
          <a:xfrm>
            <a:off x="0" y="0"/>
            <a:ext cx="7485120" cy="4957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468360" y="4094280"/>
            <a:ext cx="820728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Sky123.Org</cp:lastModifiedBy>
  <dcterms:modified xsi:type="dcterms:W3CDTF">2015-07-20T02:29:52Z</dcterms:modified>
  <cp:revision>153</cp:revision>
  <dc:subject/>
  <dc:title>PowerPoint Template</dc:title>
</cp:coreProperties>
</file>